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4C9-C540-4F12-B0D1-5EDAC43A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E57-530B-4F67-AF4B-7ECDB989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7FF-777C-4549-A068-C6C2FBEF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53A-815A-4A77-B51A-38C40B34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E0B-BEE9-4A25-9D24-4A943AF5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EF9-84D1-4C8C-9076-7A98D30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8E52-8F01-4205-BE8A-0CF7484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1CAE-0D75-4F04-B5A1-38E333F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A9BF-CCC0-4341-A548-8C11F69B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27A8-8826-4881-B173-48617B84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892-6870-4D70-91F8-4BE41C6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968-485C-4990-B315-11E3E0E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28B-B4A0-4531-BED4-148C5FF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245-7A08-4C41-A95A-2C8FE68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EE78-BBE5-4C76-AB78-2A61AD2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5227-7222-4186-8C09-0F4C821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43F8-71CC-4C78-A370-EED558B1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578-D74B-4D12-842A-73FF3C0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394-E555-4EE1-B3D9-9F282F8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C52-33C8-4E54-B6D8-F1B6CD7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0F9-E919-4149-9AED-2E2E114E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9FA-C8DA-4AFF-AB81-AE4314D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AEA-753F-430F-8DF4-6491C0D6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C23-1AF3-46A4-83F1-6501E62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845-958A-4D93-AF2C-D3D97AAD3E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92B-A6F6-408A-A52F-2E4085CF7D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391520" y="4952880"/>
            <a:ext cx="1523880" cy="169236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Detection and Resolution of Feature Interactions in Telecommunication Systems During Runtim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ave Marp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ommunications Divis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epartment of Electrical &amp; Electronic Enginee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crest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5429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Using the Cocoon to achieve rollback : COMMIT CAS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2133720"/>
            <a:ext cx="17524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12040" y="17524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Sta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28600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9160" y="1981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FOR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2438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66688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22560" y="236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Ev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33360" y="30481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83280" y="27432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276720"/>
            <a:ext cx="0" cy="990360"/>
          </a:xfrm>
          <a:prstGeom prst="line">
            <a:avLst/>
          </a:prstGeom>
          <a:ln w="38160">
            <a:solidFill>
              <a:srgbClr val="6f89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5029200"/>
            <a:ext cx="33526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3360" y="46483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3280" y="43434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42120" y="4724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mmi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0880" y="50292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KIL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78200" y="2133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Process Copy Creat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87560" y="32767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Events/Respon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lt in copy be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odifi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77840" y="5486400"/>
            <a:ext cx="23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Copy now becomes th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aster’ insta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2514600"/>
            <a:ext cx="0" cy="68580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191120"/>
            <a:ext cx="0" cy="129528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Using the Cocoon to achieve rollback : ABORT CAS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2133720"/>
            <a:ext cx="17524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12040" y="17524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Sta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28600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59160" y="1981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FOR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438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66688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2560" y="236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Ev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33360" y="30481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83280" y="27432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3276720"/>
            <a:ext cx="0" cy="990360"/>
          </a:xfrm>
          <a:prstGeom prst="line">
            <a:avLst/>
          </a:prstGeom>
          <a:ln w="38160">
            <a:solidFill>
              <a:srgbClr val="6f89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5029200"/>
            <a:ext cx="33526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33360" y="46483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3280" y="43434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1280" y="47131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bo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1160" y="502920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78200" y="2133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Process Copy Creat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7560" y="32767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Events/Respon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lt in copy be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odifi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35720" y="5486400"/>
            <a:ext cx="326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Copy dies and origin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mes – back to init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state without seeing interven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essag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2860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5257800"/>
            <a:ext cx="2286000" cy="1066680"/>
          </a:xfrm>
          <a:prstGeom prst="wedgeRoundRectCallout">
            <a:avLst>
              <a:gd name="adj1" fmla="val 68333"/>
              <a:gd name="adj2" fmla="val -28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Note: Obvious performance benefit here to be gained by only using the </a:t>
            </a:r>
            <a:r>
              <a:rPr b="0" i="1" lang="en-US" sz="1000" spc="-1" strike="noStrike">
                <a:solidFill>
                  <a:srgbClr val="40458c"/>
                </a:solidFill>
                <a:latin typeface="Tahoma"/>
              </a:rPr>
              <a:t>copy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 when rollback needs to be performed, since rollback is (hopefully) the less common case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2514600"/>
            <a:ext cx="0" cy="68580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4191120"/>
            <a:ext cx="0" cy="129528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5334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647960" y="3048120"/>
            <a:ext cx="1886760" cy="857160"/>
            <a:chOff x="4647960" y="3048120"/>
            <a:chExt cx="1886760" cy="857160"/>
          </a:xfrm>
        </p:grpSpPr>
        <p:sp>
          <p:nvSpPr>
            <p:cNvPr id="321" name=""/>
            <p:cNvSpPr/>
            <p:nvPr/>
          </p:nvSpPr>
          <p:spPr>
            <a:xfrm flipH="1">
              <a:off x="4647600" y="3276720"/>
              <a:ext cx="1522440" cy="628560"/>
            </a:xfrm>
            <a:custGeom>
              <a:avLst/>
              <a:gdLst/>
              <a:ahLst/>
              <a:rect l="l" t="t" r="r" b="b"/>
              <a:pathLst>
                <a:path w="959" h="396">
                  <a:moveTo>
                    <a:pt x="959" y="0"/>
                  </a:moveTo>
                  <a:cubicBezTo>
                    <a:pt x="826" y="16"/>
                    <a:pt x="316" y="33"/>
                    <a:pt x="158" y="99"/>
                  </a:cubicBezTo>
                  <a:cubicBezTo>
                    <a:pt x="0" y="165"/>
                    <a:pt x="44" y="334"/>
                    <a:pt x="14" y="396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19600" y="304812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3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reate tree of possible posterior stat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0" y="3886200"/>
            <a:ext cx="609480" cy="1600200"/>
            <a:chOff x="2286000" y="3886200"/>
            <a:chExt cx="609480" cy="1600200"/>
          </a:xfrm>
        </p:grpSpPr>
        <p:sp>
          <p:nvSpPr>
            <p:cNvPr id="326" name=""/>
            <p:cNvSpPr/>
            <p:nvPr/>
          </p:nvSpPr>
          <p:spPr>
            <a:xfrm>
              <a:off x="2590920" y="4495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88620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487692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867280" y="3886200"/>
            <a:ext cx="609840" cy="2590920"/>
            <a:chOff x="5867280" y="3886200"/>
            <a:chExt cx="609840" cy="2590920"/>
          </a:xfrm>
        </p:grpSpPr>
        <p:sp>
          <p:nvSpPr>
            <p:cNvPr id="330" name=""/>
            <p:cNvSpPr/>
            <p:nvPr/>
          </p:nvSpPr>
          <p:spPr>
            <a:xfrm>
              <a:off x="6172200" y="4495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54864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67280" y="3886200"/>
              <a:ext cx="60984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4876920"/>
              <a:ext cx="60984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5867280"/>
              <a:ext cx="609840" cy="609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14800" y="1981080"/>
            <a:ext cx="3429000" cy="1600200"/>
            <a:chOff x="4114800" y="1981080"/>
            <a:chExt cx="3429000" cy="1600200"/>
          </a:xfrm>
        </p:grpSpPr>
        <p:sp>
          <p:nvSpPr>
            <p:cNvPr id="336" name=""/>
            <p:cNvSpPr/>
            <p:nvPr/>
          </p:nvSpPr>
          <p:spPr>
            <a:xfrm>
              <a:off x="4114800" y="297180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1981080"/>
              <a:ext cx="1600200" cy="838440"/>
            </a:xfrm>
            <a:prstGeom prst="wedgeRoundRectCallout">
              <a:avLst>
                <a:gd name="adj1" fmla="val -123212"/>
                <a:gd name="adj2" fmla="val 91287"/>
                <a:gd name="adj3" fmla="val 16667"/>
              </a:avLst>
            </a:prstGeom>
            <a:solidFill>
              <a:srgbClr val="e53a1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ponses from more than one feature return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408200" y="1676520"/>
            <a:ext cx="877320" cy="304560"/>
            <a:chOff x="4408200" y="1676520"/>
            <a:chExt cx="877320" cy="304560"/>
          </a:xfrm>
        </p:grpSpPr>
        <p:sp>
          <p:nvSpPr>
            <p:cNvPr id="339" name=""/>
            <p:cNvSpPr/>
            <p:nvPr/>
          </p:nvSpPr>
          <p:spPr>
            <a:xfrm>
              <a:off x="4419720" y="16765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08200" y="1676520"/>
              <a:ext cx="87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Initial Ev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401720" y="2590920"/>
            <a:ext cx="756720" cy="380880"/>
            <a:chOff x="4401720" y="2590920"/>
            <a:chExt cx="756720" cy="380880"/>
          </a:xfrm>
        </p:grpSpPr>
        <p:sp>
          <p:nvSpPr>
            <p:cNvPr id="342" name=""/>
            <p:cNvSpPr/>
            <p:nvPr/>
          </p:nvSpPr>
          <p:spPr>
            <a:xfrm>
              <a:off x="4419720" y="259092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01720" y="26668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pon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90920" y="3048120"/>
            <a:ext cx="1522440" cy="857160"/>
            <a:chOff x="2590920" y="3048120"/>
            <a:chExt cx="1522440" cy="857160"/>
          </a:xfrm>
        </p:grpSpPr>
        <p:sp>
          <p:nvSpPr>
            <p:cNvPr id="345" name=""/>
            <p:cNvSpPr/>
            <p:nvPr/>
          </p:nvSpPr>
          <p:spPr>
            <a:xfrm>
              <a:off x="2590920" y="3276720"/>
              <a:ext cx="1522440" cy="628560"/>
            </a:xfrm>
            <a:custGeom>
              <a:avLst/>
              <a:gdLst/>
              <a:ahLst/>
              <a:rect l="l" t="t" r="r" b="b"/>
              <a:pathLst>
                <a:path w="959" h="396">
                  <a:moveTo>
                    <a:pt x="959" y="0"/>
                  </a:moveTo>
                  <a:cubicBezTo>
                    <a:pt x="826" y="16"/>
                    <a:pt x="316" y="33"/>
                    <a:pt x="158" y="99"/>
                  </a:cubicBezTo>
                  <a:cubicBezTo>
                    <a:pt x="0" y="165"/>
                    <a:pt x="44" y="334"/>
                    <a:pt x="14" y="396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00080" y="304812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1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14800" y="3581280"/>
            <a:ext cx="1200600" cy="990720"/>
            <a:chOff x="4114800" y="3581280"/>
            <a:chExt cx="1200600" cy="990720"/>
          </a:xfrm>
        </p:grpSpPr>
        <p:sp>
          <p:nvSpPr>
            <p:cNvPr id="348" name=""/>
            <p:cNvSpPr/>
            <p:nvPr/>
          </p:nvSpPr>
          <p:spPr>
            <a:xfrm>
              <a:off x="4114800" y="396252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9720" y="35812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00280" y="358128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600200" y="1752480"/>
            <a:ext cx="3124080" cy="838440"/>
            <a:chOff x="1600200" y="1752480"/>
            <a:chExt cx="3124080" cy="838440"/>
          </a:xfrm>
        </p:grpSpPr>
        <p:sp>
          <p:nvSpPr>
            <p:cNvPr id="352" name=""/>
            <p:cNvSpPr/>
            <p:nvPr/>
          </p:nvSpPr>
          <p:spPr>
            <a:xfrm>
              <a:off x="4114800" y="1981080"/>
              <a:ext cx="609480" cy="609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1752480"/>
              <a:ext cx="1600200" cy="838440"/>
            </a:xfrm>
            <a:prstGeom prst="wedgeRoundRectCallout">
              <a:avLst>
                <a:gd name="adj1" fmla="val 102379"/>
                <a:gd name="adj2" fmla="val 8902"/>
                <a:gd name="adj3" fmla="val 16667"/>
              </a:avLst>
            </a:prstGeom>
            <a:solidFill>
              <a:srgbClr val="e53a1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ponses from one feature return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Experimental Se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ine Features based around FIW’98 se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Forwarding on Busy Line (CFB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en Line (T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minating Call Screening (TC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Forwarding Unconditional (CF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Waiting (C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Call (R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iginating Call Screening (OC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t Line (H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Call Immediate (RC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Headline Number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8 distinct 2-way (Feature to Feature) interactions identified in the sample s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 these, 31 were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etect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utomatically, 7 were miss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 the 31 that were detected, all could be resolved in some way by the syste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e ‘real’ three feature interactions were detected in the experimental feature s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nalysis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ction cases split into four group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Trigger Interactions (S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quential Action Interactions (SA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oping Interactions (L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ssed Trigger Interactions (M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echnique detected all classes except the seven MTI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 of the three-way interactions were from the STI class – down to the definitions us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 Complex Case – Pg. 153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1 : RCI to 2,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HL t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2 :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CFU to 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D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3 :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CFBL to 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4 : DND and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TCS for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ght features on a single call pa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roximately 250 micro-steps along all potential call path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apabiliti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tection of Interactions at a single point of control between an arbitrary number of features, with no internal knowledge of those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resolution of these interactions with later re-use to provide auto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sion of techniques to multi-way interaction sce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apabilities - Continue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assification of interactions into four classes, with different pathologie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hared Triggers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system may behave unpredictab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quential Action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fe, system is behaving ‘normally’, but stimuli are differ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Looping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A special case of Sequential resulting in busy loo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issed Triggers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system may behave unpredictably since it has missed even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cooning’ of existing code to allow it’s use without modification in this system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imitations and Approaches for addressing them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not detect MT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ed feature specification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 only work at a single point of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sions to network signaling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not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utomatically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solutions to interactions based on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oretical study of the trees to see if such automation is possible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ucture of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onale behind the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Very) Brief review of exist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 to new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ew techniq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pab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mi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Further Study 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c Resolution techniqu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of of correct operation with legacy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ment in the loop detection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TI detection (resolution?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orking across multiple points of control (protocols?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ation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Techniques being used in today’s networks mean that there is more feature functionality then ever befo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feature functionality is increasingly developed by independent agencies that do not coordin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leads to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nteraction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ich have to be resolved when features first meet, in the context of existing (legacy) sys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he Objective : To develop Feature Interaction techniques that can be used i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untim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in the context of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xisting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syst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ationale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ew of Existing Techniq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 Time Approa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 Based Model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 Languages and Specific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ed Feature Specific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mporal Log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ment Approa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havioral Sign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 Suppor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ew of Existing Technique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ontinued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time Techniqu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ture Manag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rect Commun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lem Refor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goti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y ideas from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transactions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allow features to ‘suggest’ responses to an event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them needing to be committed to the hard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the following constraint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al knowledge of feature intern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be used in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sible to more than two fe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 rollback capabilities to existing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 ‘tree’ of possible posterior states from an initial triggering ev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ine the tree for the best re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ord the selected resolution for application next time the scenario occu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dd rollback capabilities to existing features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559520" y="2438280"/>
            <a:ext cx="1639080" cy="2882520"/>
            <a:chOff x="1559520" y="2438280"/>
            <a:chExt cx="1639080" cy="2882520"/>
          </a:xfrm>
        </p:grpSpPr>
        <p:sp>
          <p:nvSpPr>
            <p:cNvPr id="234" name=""/>
            <p:cNvSpPr/>
            <p:nvPr/>
          </p:nvSpPr>
          <p:spPr>
            <a:xfrm>
              <a:off x="1828800" y="2438280"/>
              <a:ext cx="914400" cy="914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9520" y="4800600"/>
              <a:ext cx="163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o/Fro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Switching Syst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3276720"/>
              <a:ext cx="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26600" y="1905120"/>
            <a:ext cx="1639080" cy="3720600"/>
            <a:chOff x="5826600" y="1905120"/>
            <a:chExt cx="1639080" cy="3720600"/>
          </a:xfrm>
        </p:grpSpPr>
        <p:sp>
          <p:nvSpPr>
            <p:cNvPr id="238" name=""/>
            <p:cNvSpPr/>
            <p:nvPr/>
          </p:nvSpPr>
          <p:spPr>
            <a:xfrm>
              <a:off x="5867280" y="1905120"/>
              <a:ext cx="1371600" cy="18288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co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5880" y="2209680"/>
              <a:ext cx="914400" cy="914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26600" y="5105520"/>
              <a:ext cx="163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o/Fro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Switching Syst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3080" y="3657600"/>
              <a:ext cx="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…in the context of a Feature Manag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343400" y="1371600"/>
            <a:ext cx="4191120" cy="4952880"/>
            <a:chOff x="4343400" y="1371600"/>
            <a:chExt cx="4191120" cy="4952880"/>
          </a:xfrm>
        </p:grpSpPr>
        <p:sp>
          <p:nvSpPr>
            <p:cNvPr id="244" name=""/>
            <p:cNvSpPr/>
            <p:nvPr/>
          </p:nvSpPr>
          <p:spPr>
            <a:xfrm>
              <a:off x="5181480" y="3352680"/>
              <a:ext cx="2362320" cy="13716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Manag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1676520"/>
              <a:ext cx="914400" cy="13716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Coco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5680" y="1905120"/>
              <a:ext cx="609840" cy="6858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52880" y="2971800"/>
              <a:ext cx="50004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410080" y="1523880"/>
              <a:ext cx="914400" cy="1371600"/>
              <a:chOff x="5410080" y="1523880"/>
              <a:chExt cx="914400" cy="137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5410080" y="152388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62360" y="175212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553080" y="1676520"/>
              <a:ext cx="914400" cy="1371600"/>
              <a:chOff x="6553080" y="1676520"/>
              <a:chExt cx="914400" cy="1371600"/>
            </a:xfrm>
          </p:grpSpPr>
          <p:sp>
            <p:nvSpPr>
              <p:cNvPr id="252" name=""/>
              <p:cNvSpPr/>
              <p:nvPr/>
            </p:nvSpPr>
            <p:spPr>
              <a:xfrm>
                <a:off x="6553080" y="167652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5360" y="190476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620120" y="1371600"/>
              <a:ext cx="914400" cy="1371600"/>
              <a:chOff x="7620120" y="1371600"/>
              <a:chExt cx="914400" cy="1371600"/>
            </a:xfrm>
          </p:grpSpPr>
          <p:sp>
            <p:nvSpPr>
              <p:cNvPr id="255" name=""/>
              <p:cNvSpPr/>
              <p:nvPr/>
            </p:nvSpPr>
            <p:spPr>
              <a:xfrm>
                <a:off x="7620120" y="137160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72400" y="159984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934240" y="2852640"/>
              <a:ext cx="9972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810120" y="2986200"/>
              <a:ext cx="12852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14840" y="2685960"/>
              <a:ext cx="63324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1480" y="5029200"/>
              <a:ext cx="2362320" cy="12952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witch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yste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67676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47880" y="2362320"/>
            <a:ext cx="2361960" cy="2867040"/>
            <a:chOff x="947880" y="2362320"/>
            <a:chExt cx="2361960" cy="2867040"/>
          </a:xfrm>
        </p:grpSpPr>
        <p:sp>
          <p:nvSpPr>
            <p:cNvPr id="263" name=""/>
            <p:cNvSpPr/>
            <p:nvPr/>
          </p:nvSpPr>
          <p:spPr>
            <a:xfrm>
              <a:off x="947880" y="3933720"/>
              <a:ext cx="2361960" cy="1295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witch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yste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8800" y="2362320"/>
              <a:ext cx="609480" cy="6858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3009960"/>
              <a:ext cx="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200400" y="3505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20:04:33Z</dcterms:created>
  <dc:creator>dmarples</dc:creator>
  <dc:description/>
  <dc:language>en-US</dc:language>
  <cp:lastModifiedBy>dmarples</cp:lastModifiedBy>
  <dcterms:modified xsi:type="dcterms:W3CDTF">2000-12-05T13:21:14Z</dcterms:modified>
  <cp:revision>6</cp:revision>
  <dc:subject/>
  <dc:title>Detection and Resolution of Feature Interactions in Telecommunication Systems During Runtime</dc:title>
</cp:coreProperties>
</file>