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jpeg" ContentType="image/jpeg"/>
  <Override PartName="/ppt/media/image24.wmf" ContentType="image/x-wmf"/>
  <Override PartName="/ppt/media/image23.wmf" ContentType="image/x-wmf"/>
  <Override PartName="/ppt/media/image5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wmf" ContentType="image/x-wmf"/>
  <Override PartName="/ppt/media/image1.png" ContentType="image/png"/>
  <Override PartName="/ppt/media/image31.png" ContentType="image/png"/>
  <Override PartName="/ppt/media/image3.jpeg" ContentType="image/jpeg"/>
  <Override PartName="/ppt/media/image25.wmf" ContentType="image/x-wmf"/>
  <Override PartName="/ppt/media/image5.wmf" ContentType="image/x-wmf"/>
  <Override PartName="/ppt/media/image35.wmf" ContentType="image/x-wmf"/>
  <Override PartName="/ppt/media/image29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15.wmf" ContentType="image/x-wmf"/>
  <Override PartName="/ppt/media/image7.png" ContentType="image/png"/>
  <Override PartName="/ppt/media/image40.wmf" ContentType="image/x-wmf"/>
  <Override PartName="/ppt/media/image37.wmf" ContentType="image/x-wmf"/>
  <Override PartName="/ppt/media/image46.jpeg" ContentType="image/jpeg"/>
  <Override PartName="/ppt/media/image38.wmf" ContentType="image/x-wmf"/>
  <Override PartName="/ppt/media/image54.jpeg" ContentType="image/jpeg"/>
  <Override PartName="/ppt/media/image44.jpeg" ContentType="image/jpeg"/>
  <Override PartName="/ppt/media/image36.wmf" ContentType="image/x-wmf"/>
  <Override PartName="/ppt/media/image47.jpeg" ContentType="image/jpeg"/>
  <Override PartName="/ppt/media/image12.wmf" ContentType="image/x-wmf"/>
  <Override PartName="/ppt/media/image4.png" ContentType="image/png"/>
  <Override PartName="/ppt/media/image42.wmf" ContentType="image/x-wmf"/>
  <Override PartName="/ppt/media/image43.png" ContentType="image/png"/>
  <Override PartName="/ppt/media/image53.jpeg" ContentType="image/jpeg"/>
  <Override PartName="/ppt/media/image52.jpeg" ContentType="image/jpeg"/>
  <Override PartName="/ppt/media/image33.png" ContentType="image/png"/>
  <Override PartName="/ppt/media/image48.jpeg" ContentType="image/jpeg"/>
  <Override PartName="/ppt/media/image49.jpeg" ContentType="image/jpeg"/>
  <Override PartName="/ppt/media/image34.wmf" ContentType="image/x-wmf"/>
  <Override PartName="/ppt/media/image32.png" ContentType="image/png"/>
  <Override PartName="/ppt/media/image30.wmf" ContentType="image/x-wmf"/>
  <Override PartName="/ppt/media/image50.jpeg" ContentType="image/jpeg"/>
  <Override PartName="/ppt/media/image13.wmf" ContentType="image/x-wmf"/>
  <Override PartName="/ppt/media/image28.png" ContentType="image/png"/>
  <Override PartName="/ppt/media/image9.wmf" ContentType="image/x-wmf"/>
  <Override PartName="/ppt/media/image39.wmf" ContentType="image/x-wmf"/>
  <Override PartName="/ppt/media/image8.png" ContentType="image/png"/>
  <Override PartName="/ppt/media/image41.wmf" ContentType="image/x-wmf"/>
  <Override PartName="/ppt/media/image16.wmf" ContentType="image/x-wmf"/>
  <Override PartName="/ppt/media/image45.jpeg" ContentType="image/jpe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8DE9-4456-4BCE-A980-B1369608E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945F-AC41-4828-8FD2-E15D9B3C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CAE2-429B-4806-8C9A-A7C103C1A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59D6-D9CE-40BE-8F20-B07D62068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C65C-831E-4617-9307-FCEAC2CF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F955-E2D3-4490-AF95-B1C8ECF6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D6E1-1F97-46B1-97A7-BF3DDE0C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30D2-9D13-40B1-8457-7470492F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8052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7CAD-77E0-4FA3-891C-A7FEDA63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64B5-612F-4B4C-9B2D-1EE7D563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8C75-21D0-48CD-A5AC-E4F77D43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C7FC-913D-4578-A8C3-81824008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6441-AA97-4726-B771-A24E9AFA34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wmf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4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jpeg"/><Relationship Id="rId9" Type="http://schemas.openxmlformats.org/officeDocument/2006/relationships/image" Target="../media/image26.jpeg"/><Relationship Id="rId10" Type="http://schemas.openxmlformats.org/officeDocument/2006/relationships/image" Target="../media/image24.wmf"/><Relationship Id="rId11" Type="http://schemas.openxmlformats.org/officeDocument/2006/relationships/image" Target="../media/image24.wmf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5.wmf"/><Relationship Id="rId3" Type="http://schemas.openxmlformats.org/officeDocument/2006/relationships/image" Target="../media/image27.wmf"/><Relationship Id="rId4" Type="http://schemas.openxmlformats.org/officeDocument/2006/relationships/image" Target="../media/image24.wmf"/><Relationship Id="rId5" Type="http://schemas.openxmlformats.org/officeDocument/2006/relationships/image" Target="../media/image24.wmf"/><Relationship Id="rId6" Type="http://schemas.openxmlformats.org/officeDocument/2006/relationships/image" Target="../media/image26.jpeg"/><Relationship Id="rId7" Type="http://schemas.openxmlformats.org/officeDocument/2006/relationships/image" Target="../media/image26.jpeg"/><Relationship Id="rId8" Type="http://schemas.openxmlformats.org/officeDocument/2006/relationships/image" Target="../media/image25.wmf"/><Relationship Id="rId9" Type="http://schemas.openxmlformats.org/officeDocument/2006/relationships/image" Target="../media/image24.wmf"/><Relationship Id="rId10" Type="http://schemas.openxmlformats.org/officeDocument/2006/relationships/image" Target="../media/image24.wmf"/><Relationship Id="rId11" Type="http://schemas.openxmlformats.org/officeDocument/2006/relationships/image" Target="../media/image26.jpeg"/><Relationship Id="rId12" Type="http://schemas.openxmlformats.org/officeDocument/2006/relationships/image" Target="../media/image26.jpeg"/><Relationship Id="rId13" Type="http://schemas.openxmlformats.org/officeDocument/2006/relationships/image" Target="../media/image25.wmf"/><Relationship Id="rId14" Type="http://schemas.openxmlformats.org/officeDocument/2006/relationships/image" Target="../media/image24.wmf"/><Relationship Id="rId15" Type="http://schemas.openxmlformats.org/officeDocument/2006/relationships/image" Target="../media/image26.jpeg"/><Relationship Id="rId16" Type="http://schemas.openxmlformats.org/officeDocument/2006/relationships/image" Target="../media/image26.jpeg"/><Relationship Id="rId17" Type="http://schemas.openxmlformats.org/officeDocument/2006/relationships/image" Target="../media/image24.wmf"/><Relationship Id="rId1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14.wmf"/><Relationship Id="rId5" Type="http://schemas.openxmlformats.org/officeDocument/2006/relationships/image" Target="../media/image33.png"/><Relationship Id="rId6" Type="http://schemas.openxmlformats.org/officeDocument/2006/relationships/image" Target="../media/image34.wmf"/><Relationship Id="rId7" Type="http://schemas.openxmlformats.org/officeDocument/2006/relationships/image" Target="../media/image35.wmf"/><Relationship Id="rId8" Type="http://schemas.openxmlformats.org/officeDocument/2006/relationships/image" Target="../media/image36.wmf"/><Relationship Id="rId9" Type="http://schemas.openxmlformats.org/officeDocument/2006/relationships/image" Target="../media/image37.wmf"/><Relationship Id="rId10" Type="http://schemas.openxmlformats.org/officeDocument/2006/relationships/image" Target="../media/image34.wmf"/><Relationship Id="rId11" Type="http://schemas.openxmlformats.org/officeDocument/2006/relationships/image" Target="../media/image30.wmf"/><Relationship Id="rId12" Type="http://schemas.openxmlformats.org/officeDocument/2006/relationships/image" Target="../media/image30.wmf"/><Relationship Id="rId13" Type="http://schemas.openxmlformats.org/officeDocument/2006/relationships/image" Target="../media/image38.wmf"/><Relationship Id="rId14" Type="http://schemas.openxmlformats.org/officeDocument/2006/relationships/image" Target="../media/image39.wmf"/><Relationship Id="rId15" Type="http://schemas.openxmlformats.org/officeDocument/2006/relationships/image" Target="../media/image30.wmf"/><Relationship Id="rId16" Type="http://schemas.openxmlformats.org/officeDocument/2006/relationships/image" Target="../media/image34.wmf"/><Relationship Id="rId17" Type="http://schemas.openxmlformats.org/officeDocument/2006/relationships/image" Target="../media/image40.wmf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15.wmf"/><Relationship Id="rId22" Type="http://schemas.openxmlformats.org/officeDocument/2006/relationships/image" Target="../media/image41.wmf"/><Relationship Id="rId23" Type="http://schemas.openxmlformats.org/officeDocument/2006/relationships/image" Target="../media/image39.wmf"/><Relationship Id="rId24" Type="http://schemas.openxmlformats.org/officeDocument/2006/relationships/image" Target="../media/image42.wmf"/><Relationship Id="rId25" Type="http://schemas.openxmlformats.org/officeDocument/2006/relationships/image" Target="../media/image31.png"/><Relationship Id="rId26" Type="http://schemas.openxmlformats.org/officeDocument/2006/relationships/image" Target="../media/image33.png"/><Relationship Id="rId27" Type="http://schemas.openxmlformats.org/officeDocument/2006/relationships/image" Target="../media/image32.png"/><Relationship Id="rId28" Type="http://schemas.openxmlformats.org/officeDocument/2006/relationships/image" Target="../media/image30.wmf"/><Relationship Id="rId29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Convergence and the benefits to business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Rod Mitch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ales and Marketing Dir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Cisco Revenue Growt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85960" y="2792520"/>
            <a:ext cx="7219800" cy="32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73840" y="1149480"/>
            <a:ext cx="1771560" cy="9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ffffff"/>
                </a:solidFill>
                <a:latin typeface="Times New Roman"/>
              </a:rPr>
              <a:t>$37B</a:t>
            </a:r>
            <a:endParaRPr b="0" lang="en-US" sz="5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187760" y="5608800"/>
            <a:ext cx="10306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17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7785000" y="2246400"/>
            <a:ext cx="0" cy="3147840"/>
          </a:xfrm>
          <a:prstGeom prst="line">
            <a:avLst/>
          </a:prstGeom>
          <a:ln w="7632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67960" y="6229440"/>
            <a:ext cx="1070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FY ‘01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6800" y="76320"/>
            <a:ext cx="762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760920" y="2155680"/>
            <a:ext cx="2660400" cy="2727000"/>
            <a:chOff x="3760920" y="2155680"/>
            <a:chExt cx="2660400" cy="2727000"/>
          </a:xfrm>
        </p:grpSpPr>
        <p:sp>
          <p:nvSpPr>
            <p:cNvPr id="243" name=""/>
            <p:cNvSpPr/>
            <p:nvPr/>
          </p:nvSpPr>
          <p:spPr>
            <a:xfrm>
              <a:off x="3760920" y="2161440"/>
              <a:ext cx="1634400" cy="2721240"/>
            </a:xfrm>
            <a:custGeom>
              <a:avLst/>
              <a:gdLst/>
              <a:ahLst/>
              <a:rect l="l" t="t" r="r" b="b"/>
              <a:pathLst>
                <a:path w="1144" h="1904">
                  <a:moveTo>
                    <a:pt x="0" y="1904"/>
                  </a:moveTo>
                  <a:lnTo>
                    <a:pt x="1144" y="1056"/>
                  </a:lnTo>
                  <a:lnTo>
                    <a:pt x="1144" y="0"/>
                  </a:lnTo>
                  <a:lnTo>
                    <a:pt x="0" y="1672"/>
                  </a:lnTo>
                  <a:lnTo>
                    <a:pt x="0" y="1904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520" rIns="65520" tIns="32760" bIns="3276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81280" y="2155680"/>
              <a:ext cx="1040040" cy="1492200"/>
            </a:xfrm>
            <a:prstGeom prst="bevel">
              <a:avLst>
                <a:gd name="adj" fmla="val 5718"/>
              </a:avLst>
            </a:prstGeom>
            <a:gradFill rotWithShape="0">
              <a:gsLst>
                <a:gs pos="0">
                  <a:srgbClr val="cc0099"/>
                </a:gs>
                <a:gs pos="100000">
                  <a:srgbClr val="5e00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520" rIns="65520" tIns="32760" bIns="3276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432400" y="2650320"/>
              <a:ext cx="94932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2760" bIns="32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$17.6B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76280" y="3767760"/>
              <a:ext cx="101016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2760" bIns="32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Times New Roman"/>
                </a:rPr>
                <a:t>3500%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713040" y="4540320"/>
            <a:ext cx="2728800" cy="1679400"/>
            <a:chOff x="3713040" y="4540320"/>
            <a:chExt cx="2728800" cy="1679400"/>
          </a:xfrm>
        </p:grpSpPr>
        <p:sp>
          <p:nvSpPr>
            <p:cNvPr id="248" name=""/>
            <p:cNvSpPr/>
            <p:nvPr/>
          </p:nvSpPr>
          <p:spPr>
            <a:xfrm>
              <a:off x="3713040" y="4540320"/>
              <a:ext cx="1714680" cy="1669320"/>
            </a:xfrm>
            <a:custGeom>
              <a:avLst/>
              <a:gdLst/>
              <a:ahLst/>
              <a:rect l="l" t="t" r="r" b="b"/>
              <a:pathLst>
                <a:path w="1200" h="1168">
                  <a:moveTo>
                    <a:pt x="0" y="1168"/>
                  </a:moveTo>
                  <a:lnTo>
                    <a:pt x="1200" y="1168"/>
                  </a:lnTo>
                  <a:lnTo>
                    <a:pt x="1200" y="0"/>
                  </a:lnTo>
                  <a:lnTo>
                    <a:pt x="34" y="424"/>
                  </a:lnTo>
                </a:path>
              </a:pathLst>
            </a:custGeom>
            <a:gradFill rotWithShape="0">
              <a:gsLst>
                <a:gs pos="0">
                  <a:srgbClr val="00ff00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520" rIns="65520" tIns="32760" bIns="3276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384880" y="4540320"/>
              <a:ext cx="1056960" cy="1679400"/>
            </a:xfrm>
            <a:prstGeom prst="bevel">
              <a:avLst>
                <a:gd name="adj" fmla="val 5542"/>
              </a:avLst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520" rIns="65520" tIns="32760" bIns="3276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37880" y="5149080"/>
              <a:ext cx="73908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2760" bIns="32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$17B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22800" y="5313240"/>
              <a:ext cx="71784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2760" bIns="32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Times New Roman"/>
                </a:rPr>
                <a:t>15%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635920" y="6229440"/>
            <a:ext cx="1070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FY ‘00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760920" y="3643200"/>
            <a:ext cx="2680920" cy="1501560"/>
            <a:chOff x="3760920" y="3643200"/>
            <a:chExt cx="2680920" cy="1501560"/>
          </a:xfrm>
        </p:grpSpPr>
        <p:sp>
          <p:nvSpPr>
            <p:cNvPr id="254" name=""/>
            <p:cNvSpPr/>
            <p:nvPr/>
          </p:nvSpPr>
          <p:spPr>
            <a:xfrm>
              <a:off x="3760920" y="3659040"/>
              <a:ext cx="1623600" cy="1485720"/>
            </a:xfrm>
            <a:custGeom>
              <a:avLst/>
              <a:gdLst/>
              <a:ahLst/>
              <a:rect l="l" t="t" r="r" b="b"/>
              <a:pathLst>
                <a:path w="1136" h="1040">
                  <a:moveTo>
                    <a:pt x="8" y="1040"/>
                  </a:moveTo>
                  <a:lnTo>
                    <a:pt x="1134" y="632"/>
                  </a:lnTo>
                  <a:lnTo>
                    <a:pt x="1136" y="0"/>
                  </a:lnTo>
                  <a:lnTo>
                    <a:pt x="0" y="856"/>
                  </a:lnTo>
                  <a:lnTo>
                    <a:pt x="8" y="1040"/>
                  </a:lnTo>
                  <a:close/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520" rIns="65520" tIns="32760" bIns="3276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381640" y="3643200"/>
              <a:ext cx="1060200" cy="891720"/>
            </a:xfrm>
            <a:prstGeom prst="bevel">
              <a:avLst>
                <a:gd name="adj" fmla="val 6412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520" rIns="65520" tIns="32760" bIns="3276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66200" y="4441680"/>
              <a:ext cx="102996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2760" bIns="32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Times New Roman"/>
                </a:rPr>
                <a:t>100+%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55800" y="3870360"/>
              <a:ext cx="9021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2760" bIns="32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$1- 2B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749760" y="1343160"/>
            <a:ext cx="2671200" cy="3241080"/>
            <a:chOff x="3749760" y="1343160"/>
            <a:chExt cx="2671200" cy="3241080"/>
          </a:xfrm>
        </p:grpSpPr>
        <p:sp>
          <p:nvSpPr>
            <p:cNvPr id="259" name=""/>
            <p:cNvSpPr/>
            <p:nvPr/>
          </p:nvSpPr>
          <p:spPr>
            <a:xfrm>
              <a:off x="3749760" y="1360080"/>
              <a:ext cx="1645560" cy="3224160"/>
            </a:xfrm>
            <a:custGeom>
              <a:avLst/>
              <a:gdLst/>
              <a:ahLst/>
              <a:rect l="l" t="t" r="r" b="b"/>
              <a:pathLst>
                <a:path w="1152" h="2256">
                  <a:moveTo>
                    <a:pt x="0" y="2256"/>
                  </a:moveTo>
                  <a:lnTo>
                    <a:pt x="1152" y="560"/>
                  </a:lnTo>
                  <a:lnTo>
                    <a:pt x="1152" y="0"/>
                  </a:lnTo>
                  <a:lnTo>
                    <a:pt x="0" y="1832"/>
                  </a:lnTo>
                  <a:lnTo>
                    <a:pt x="0" y="2256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520" rIns="65520" tIns="32760" bIns="3276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381280" y="1343160"/>
              <a:ext cx="1039680" cy="822960"/>
            </a:xfrm>
            <a:prstGeom prst="bevel">
              <a:avLst>
                <a:gd name="adj" fmla="val 7639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520" rIns="65520" tIns="32760" bIns="3276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50040" y="1534680"/>
              <a:ext cx="9255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$1.9B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21000" y="2932560"/>
              <a:ext cx="717120" cy="76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Times New Roman"/>
                </a:rPr>
                <a:t>60%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884960" y="5145120"/>
            <a:ext cx="1889640" cy="1074600"/>
            <a:chOff x="1884960" y="5145120"/>
            <a:chExt cx="1889640" cy="1074600"/>
          </a:xfrm>
        </p:grpSpPr>
        <p:sp>
          <p:nvSpPr>
            <p:cNvPr id="264" name=""/>
            <p:cNvSpPr/>
            <p:nvPr/>
          </p:nvSpPr>
          <p:spPr>
            <a:xfrm>
              <a:off x="1884960" y="5416920"/>
              <a:ext cx="70704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2760" bIns="3276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Data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18000" y="5145120"/>
              <a:ext cx="1056600" cy="1074600"/>
            </a:xfrm>
            <a:prstGeom prst="bevel">
              <a:avLst>
                <a:gd name="adj" fmla="val 5542"/>
              </a:avLst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520" rIns="65520" tIns="32760" bIns="3276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74240" y="548820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2760" bIns="32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$15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274680" y="4809960"/>
            <a:ext cx="3514320" cy="389160"/>
            <a:chOff x="274680" y="4809960"/>
            <a:chExt cx="3514320" cy="389160"/>
          </a:xfrm>
        </p:grpSpPr>
        <p:sp>
          <p:nvSpPr>
            <p:cNvPr id="268" name=""/>
            <p:cNvSpPr/>
            <p:nvPr/>
          </p:nvSpPr>
          <p:spPr>
            <a:xfrm>
              <a:off x="274680" y="4809960"/>
              <a:ext cx="233136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Hosting/Conten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17280" y="4865400"/>
              <a:ext cx="1071720" cy="280800"/>
            </a:xfrm>
            <a:prstGeom prst="bevel">
              <a:avLst>
                <a:gd name="adj" fmla="val 16292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520" rIns="65520" tIns="32760" bIns="3276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53280" y="4828320"/>
              <a:ext cx="928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$300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769040" y="4491000"/>
            <a:ext cx="2000880" cy="401040"/>
            <a:chOff x="1769040" y="4491000"/>
            <a:chExt cx="2000880" cy="401040"/>
          </a:xfrm>
        </p:grpSpPr>
        <p:sp>
          <p:nvSpPr>
            <p:cNvPr id="272" name=""/>
            <p:cNvSpPr/>
            <p:nvPr/>
          </p:nvSpPr>
          <p:spPr>
            <a:xfrm>
              <a:off x="2718000" y="4539600"/>
              <a:ext cx="1051920" cy="331560"/>
            </a:xfrm>
            <a:prstGeom prst="bevel">
              <a:avLst>
                <a:gd name="adj" fmla="val 13361"/>
              </a:avLst>
            </a:prstGeom>
            <a:gradFill rotWithShape="0">
              <a:gsLst>
                <a:gs pos="0">
                  <a:srgbClr val="cc0099"/>
                </a:gs>
                <a:gs pos="100000">
                  <a:srgbClr val="5e00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520" rIns="65520" tIns="32760" bIns="3276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769040" y="4491000"/>
              <a:ext cx="79848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2760" bIns="3276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Voic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88200" y="4499640"/>
              <a:ext cx="856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2760" bIns="32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$500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402920" y="3967200"/>
            <a:ext cx="2354760" cy="568440"/>
            <a:chOff x="1402920" y="3967200"/>
            <a:chExt cx="2354760" cy="568440"/>
          </a:xfrm>
        </p:grpSpPr>
        <p:sp>
          <p:nvSpPr>
            <p:cNvPr id="276" name=""/>
            <p:cNvSpPr/>
            <p:nvPr/>
          </p:nvSpPr>
          <p:spPr>
            <a:xfrm>
              <a:off x="2717280" y="3967200"/>
              <a:ext cx="1040400" cy="568440"/>
            </a:xfrm>
            <a:prstGeom prst="bevel">
              <a:avLst>
                <a:gd name="adj" fmla="val 8495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040" rIns="59040" tIns="29520" bIns="295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02920" y="4046760"/>
              <a:ext cx="11397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040" rIns="59040" tIns="29520" bIns="29520" anchor="ctr">
              <a:spAutoFit/>
            </a:bodyPr>
            <a:p>
              <a:pPr algn="r"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Wireles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847600" y="4077720"/>
              <a:ext cx="73620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040" rIns="59040" tIns="29520" bIns="295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$1.2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mmunication tre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What is converg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Key business benef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convergent technology suppl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Communications Ev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8120" y="1752480"/>
            <a:ext cx="275256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vergence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143000" y="5029200"/>
          <a:ext cx="2057400" cy="590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5029200"/>
                    <a:ext cx="205740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5" name="" descr=""/>
          <p:cNvPicPr/>
          <p:nvPr/>
        </p:nvPicPr>
        <p:blipFill>
          <a:blip r:embed="rId5"/>
          <a:stretch/>
        </p:blipFill>
        <p:spPr>
          <a:xfrm>
            <a:off x="6019920" y="5029200"/>
            <a:ext cx="1828800" cy="6858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3733920" y="2590920"/>
            <a:ext cx="1562040" cy="32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Voice and data</a:t>
            </a:r>
            <a:endParaRPr b="0" lang="en-US" sz="20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8"/>
          <a:stretch/>
        </p:blipFill>
        <p:spPr>
          <a:xfrm>
            <a:off x="3962520" y="5029200"/>
            <a:ext cx="1143000" cy="1014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 flipV="1">
            <a:off x="2133720" y="3124080"/>
            <a:ext cx="1447560" cy="137160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5486040" y="3124080"/>
            <a:ext cx="1219320" cy="144792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495680" y="3276720"/>
            <a:ext cx="0" cy="137160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" y="441864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aditional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63080" y="449460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aditiona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65040" y="4570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rr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595440" y="1523880"/>
            <a:ext cx="79340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62000" indent="-162000">
              <a:lnSpc>
                <a:spcPct val="75000"/>
              </a:lnSpc>
              <a:spcBef>
                <a:spcPts val="1500"/>
              </a:spcBef>
              <a:buClr>
                <a:srgbClr val="35c5ff"/>
              </a:buClr>
              <a:buFont typeface="Times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parate infrastructures for data, voice, and vid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9480" y="1960560"/>
            <a:ext cx="752796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2120" indent="-222120">
              <a:lnSpc>
                <a:spcPct val="75000"/>
              </a:lnSpc>
              <a:spcBef>
                <a:spcPts val="1500"/>
              </a:spcBef>
              <a:buClr>
                <a:srgbClr val="35c5ff"/>
              </a:buClr>
              <a:buFont typeface="Times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2120" indent="-222120">
              <a:lnSpc>
                <a:spcPct val="75000"/>
              </a:lnSpc>
              <a:spcBef>
                <a:spcPts val="1500"/>
              </a:spcBef>
              <a:buClr>
                <a:srgbClr val="35c5ff"/>
              </a:buClr>
              <a:buFont typeface="Times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ice network not designed to handle future converged data, voice, and video dema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1974960"/>
            <a:ext cx="5643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2120" indent="-222120">
              <a:lnSpc>
                <a:spcPct val="75000"/>
              </a:lnSpc>
              <a:spcBef>
                <a:spcPts val="1500"/>
              </a:spcBef>
              <a:buClr>
                <a:srgbClr val="35c5ff"/>
              </a:buClr>
              <a:buFont typeface="Times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pplication integration difficu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6800" y="76320"/>
            <a:ext cx="762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oday’s Network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28600" y="2971800"/>
            <a:ext cx="8610480" cy="3666960"/>
            <a:chOff x="228600" y="2971800"/>
            <a:chExt cx="8610480" cy="3666960"/>
          </a:xfrm>
        </p:grpSpPr>
        <p:pic>
          <p:nvPicPr>
            <p:cNvPr id="299" name="" descr=""/>
            <p:cNvPicPr/>
            <p:nvPr/>
          </p:nvPicPr>
          <p:blipFill>
            <a:blip r:embed="rId1"/>
            <a:stretch/>
          </p:blipFill>
          <p:spPr>
            <a:xfrm>
              <a:off x="228600" y="3048120"/>
              <a:ext cx="487692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2"/>
            <a:stretch/>
          </p:blipFill>
          <p:spPr>
            <a:xfrm>
              <a:off x="5562720" y="2971800"/>
              <a:ext cx="3276360" cy="19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3"/>
            <a:stretch/>
          </p:blipFill>
          <p:spPr>
            <a:xfrm>
              <a:off x="4927680" y="4851360"/>
              <a:ext cx="2971800" cy="17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3415320" y="4233960"/>
              <a:ext cx="109440" cy="1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0520" bIns="20520" anchor="t">
              <a:spAutoFit/>
            </a:bodyPr>
            <a:p>
              <a:pPr>
                <a:tabLst>
                  <a:tab algn="l" pos="0"/>
                  <a:tab algn="l" pos="190440"/>
                  <a:tab algn="l" pos="380880"/>
                  <a:tab algn="l" pos="571680"/>
                  <a:tab algn="l" pos="762120"/>
                  <a:tab algn="l" pos="952560"/>
                  <a:tab algn="l" pos="1143000"/>
                  <a:tab algn="l" pos="1333440"/>
                  <a:tab algn="l" pos="1523880"/>
                  <a:tab algn="l" pos="1714680"/>
                  <a:tab algn="l" pos="1905120"/>
                  <a:tab algn="l" pos="2095560"/>
                  <a:tab algn="l" pos="2286000"/>
                  <a:tab algn="l" pos="2476440"/>
                  <a:tab algn="l" pos="2666880"/>
                  <a:tab algn="l" pos="2857680"/>
                  <a:tab algn="l" pos="3048120"/>
                  <a:tab algn="l" pos="3238560"/>
                  <a:tab algn="l" pos="3429000"/>
                  <a:tab algn="l" pos="3619440"/>
                  <a:tab algn="l" pos="380988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65760" y="5524560"/>
              <a:ext cx="1515960" cy="52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720" rIns="117720" tIns="59040" bIns="59040" anchor="t">
              <a:spAutoFit/>
            </a:bodyPr>
            <a:p>
              <a:pPr algn="ctr">
                <a:spcBef>
                  <a:spcPts val="1687"/>
                </a:spcBef>
                <a:tabLst>
                  <a:tab algn="l" pos="0"/>
                  <a:tab algn="l" pos="1069920"/>
                  <a:tab algn="l" pos="2139840"/>
                  <a:tab algn="l" pos="3209760"/>
                  <a:tab algn="l" pos="4280040"/>
                  <a:tab algn="l" pos="5349960"/>
                  <a:tab algn="l" pos="6419880"/>
                  <a:tab algn="l" pos="7489800"/>
                  <a:tab algn="l" pos="8559720"/>
                  <a:tab algn="l" pos="9629640"/>
                  <a:tab algn="l" pos="1069992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Video 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086600" y="3276720"/>
              <a:ext cx="151596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720" rIns="117720" tIns="59040" bIns="5904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1069920"/>
                  <a:tab algn="l" pos="2139840"/>
                  <a:tab algn="l" pos="3209760"/>
                  <a:tab algn="l" pos="4280040"/>
                  <a:tab algn="l" pos="5349960"/>
                  <a:tab algn="l" pos="6419880"/>
                  <a:tab algn="l" pos="7489800"/>
                  <a:tab algn="l" pos="8559720"/>
                  <a:tab algn="l" pos="9629640"/>
                  <a:tab algn="l" pos="106999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PB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018200" y="4362480"/>
              <a:ext cx="15163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720" rIns="117720" tIns="59040" bIns="5904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1069920"/>
                  <a:tab algn="l" pos="2139840"/>
                  <a:tab algn="l" pos="3209760"/>
                  <a:tab algn="l" pos="4280040"/>
                  <a:tab algn="l" pos="5349960"/>
                  <a:tab algn="l" pos="6419880"/>
                  <a:tab algn="l" pos="7489800"/>
                  <a:tab algn="l" pos="8559720"/>
                  <a:tab algn="l" pos="9629640"/>
                  <a:tab algn="l" pos="106999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D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646600" y="4114800"/>
              <a:ext cx="15163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720" rIns="117720" tIns="59040" bIns="5904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1069920"/>
                  <a:tab algn="l" pos="2139840"/>
                  <a:tab algn="l" pos="3209760"/>
                  <a:tab algn="l" pos="4280040"/>
                  <a:tab algn="l" pos="5349960"/>
                  <a:tab algn="l" pos="6419880"/>
                  <a:tab algn="l" pos="7489800"/>
                  <a:tab algn="l" pos="8559720"/>
                  <a:tab algn="l" pos="9629640"/>
                  <a:tab algn="l" pos="106999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ircui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37320" y="3510000"/>
              <a:ext cx="151596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720" rIns="117720" tIns="59040" bIns="5904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1069920"/>
                  <a:tab algn="l" pos="2139840"/>
                  <a:tab algn="l" pos="3209760"/>
                  <a:tab algn="l" pos="4280040"/>
                  <a:tab algn="l" pos="5349960"/>
                  <a:tab algn="l" pos="6419880"/>
                  <a:tab algn="l" pos="7489800"/>
                  <a:tab algn="l" pos="8559720"/>
                  <a:tab algn="l" pos="9629640"/>
                  <a:tab algn="l" pos="106999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Voice Mai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8" name="" descr=""/>
            <p:cNvPicPr/>
            <p:nvPr/>
          </p:nvPicPr>
          <p:blipFill>
            <a:blip r:embed="rId4"/>
            <a:stretch/>
          </p:blipFill>
          <p:spPr>
            <a:xfrm>
              <a:off x="7064280" y="3328920"/>
              <a:ext cx="395280" cy="3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5"/>
            <a:stretch/>
          </p:blipFill>
          <p:spPr>
            <a:xfrm>
              <a:off x="7924680" y="3848040"/>
              <a:ext cx="3938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6"/>
            <a:stretch/>
          </p:blipFill>
          <p:spPr>
            <a:xfrm>
              <a:off x="6781680" y="4419720"/>
              <a:ext cx="449280" cy="27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7"/>
            <a:stretch/>
          </p:blipFill>
          <p:spPr>
            <a:xfrm>
              <a:off x="8282160" y="4321080"/>
              <a:ext cx="328320" cy="2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2209680" y="4648320"/>
              <a:ext cx="6858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720" rIns="117720" tIns="59040" bIns="5904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1069920"/>
                  <a:tab algn="l" pos="2139840"/>
                  <a:tab algn="l" pos="3209760"/>
                  <a:tab algn="l" pos="4280040"/>
                  <a:tab algn="l" pos="5349960"/>
                  <a:tab algn="l" pos="6419880"/>
                  <a:tab algn="l" pos="7489800"/>
                  <a:tab algn="l" pos="8559720"/>
                  <a:tab algn="l" pos="9629640"/>
                  <a:tab algn="l" pos="106999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3" name="" descr=""/>
            <p:cNvPicPr/>
            <p:nvPr/>
          </p:nvPicPr>
          <p:blipFill>
            <a:blip r:embed="rId8"/>
            <a:stretch/>
          </p:blipFill>
          <p:spPr>
            <a:xfrm>
              <a:off x="990720" y="4267080"/>
              <a:ext cx="63792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9"/>
            <a:stretch/>
          </p:blipFill>
          <p:spPr>
            <a:xfrm>
              <a:off x="2057400" y="4114800"/>
              <a:ext cx="630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10"/>
            <a:stretch/>
          </p:blipFill>
          <p:spPr>
            <a:xfrm>
              <a:off x="3971880" y="4648320"/>
              <a:ext cx="600120" cy="59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3056040" y="3886200"/>
              <a:ext cx="15159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720" rIns="117720" tIns="59040" bIns="5904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1069920"/>
                  <a:tab algn="l" pos="2139840"/>
                  <a:tab algn="l" pos="3209760"/>
                  <a:tab algn="l" pos="4280040"/>
                  <a:tab algn="l" pos="5349960"/>
                  <a:tab algn="l" pos="6419880"/>
                  <a:tab algn="l" pos="7489800"/>
                  <a:tab algn="l" pos="8559720"/>
                  <a:tab algn="l" pos="9629640"/>
                  <a:tab algn="l" pos="106999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285360" y="3352680"/>
              <a:ext cx="7383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S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65320" y="3276720"/>
              <a:ext cx="90900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ab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98280" y="3505320"/>
              <a:ext cx="68940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i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38640" y="5257800"/>
              <a:ext cx="87372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ISD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024560" y="4876920"/>
              <a:ext cx="129888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Extra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96200" y="4114800"/>
              <a:ext cx="187524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E-Commer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032440" y="5216400"/>
              <a:ext cx="151596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720" rIns="117720" tIns="59040" bIns="5904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1069920"/>
                  <a:tab algn="l" pos="2139840"/>
                  <a:tab algn="l" pos="3209760"/>
                  <a:tab algn="l" pos="4280040"/>
                  <a:tab algn="l" pos="5349960"/>
                  <a:tab algn="l" pos="6419880"/>
                  <a:tab algn="l" pos="7489800"/>
                  <a:tab algn="l" pos="8559720"/>
                  <a:tab algn="l" pos="9629640"/>
                  <a:tab algn="l" pos="106999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H.32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537160" y="6070680"/>
              <a:ext cx="21258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720" rIns="117720" tIns="59040" bIns="5904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1069920"/>
                  <a:tab algn="l" pos="2139840"/>
                  <a:tab algn="l" pos="3209760"/>
                  <a:tab algn="l" pos="4280040"/>
                  <a:tab algn="l" pos="5349960"/>
                  <a:tab algn="l" pos="6419880"/>
                  <a:tab algn="l" pos="7489800"/>
                  <a:tab algn="l" pos="8559720"/>
                  <a:tab algn="l" pos="9629640"/>
                  <a:tab algn="l" pos="106999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Room-Bas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25" name="" descr=""/>
            <p:cNvPicPr/>
            <p:nvPr/>
          </p:nvPicPr>
          <p:blipFill>
            <a:blip r:embed="rId11"/>
            <a:stretch/>
          </p:blipFill>
          <p:spPr>
            <a:xfrm>
              <a:off x="6603840" y="5156280"/>
              <a:ext cx="567000" cy="38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2768760" y="4800600"/>
              <a:ext cx="151596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720" rIns="117720" tIns="59040" bIns="5904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1069920"/>
                  <a:tab algn="l" pos="2139840"/>
                  <a:tab algn="l" pos="3209760"/>
                  <a:tab algn="l" pos="4280040"/>
                  <a:tab algn="l" pos="5349960"/>
                  <a:tab algn="l" pos="6419880"/>
                  <a:tab algn="l" pos="7489800"/>
                  <a:tab algn="l" pos="8559720"/>
                  <a:tab algn="l" pos="9629640"/>
                  <a:tab algn="l" pos="106999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H.32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447920" y="3695760"/>
              <a:ext cx="212544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720" rIns="117720" tIns="59040" bIns="5904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1069920"/>
                  <a:tab algn="l" pos="2139840"/>
                  <a:tab algn="l" pos="3209760"/>
                  <a:tab algn="l" pos="4280040"/>
                  <a:tab algn="l" pos="5349960"/>
                  <a:tab algn="l" pos="6419880"/>
                  <a:tab algn="l" pos="7489800"/>
                  <a:tab algn="l" pos="8559720"/>
                  <a:tab algn="l" pos="9629640"/>
                  <a:tab algn="l" pos="106999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esktop Vide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56120" y="3809880"/>
              <a:ext cx="99432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Voic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936360" y="3944880"/>
              <a:ext cx="7563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E-Mai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"/>
          <p:cNvGrpSpPr/>
          <p:nvPr/>
        </p:nvGrpSpPr>
        <p:grpSpPr>
          <a:xfrm>
            <a:off x="420840" y="2622600"/>
            <a:ext cx="8301960" cy="3898440"/>
            <a:chOff x="420840" y="2622600"/>
            <a:chExt cx="8301960" cy="3898440"/>
          </a:xfrm>
        </p:grpSpPr>
        <p:grpSp>
          <p:nvGrpSpPr>
            <p:cNvPr id="331" name=""/>
            <p:cNvGrpSpPr/>
            <p:nvPr/>
          </p:nvGrpSpPr>
          <p:grpSpPr>
            <a:xfrm>
              <a:off x="420840" y="2637000"/>
              <a:ext cx="8281800" cy="3870000"/>
              <a:chOff x="420840" y="2637000"/>
              <a:chExt cx="8281800" cy="3870000"/>
            </a:xfrm>
          </p:grpSpPr>
          <p:sp>
            <p:nvSpPr>
              <p:cNvPr id="332" name=""/>
              <p:cNvSpPr/>
              <p:nvPr/>
            </p:nvSpPr>
            <p:spPr>
              <a:xfrm>
                <a:off x="3247920" y="2637000"/>
                <a:ext cx="3610080" cy="1601640"/>
              </a:xfrm>
              <a:prstGeom prst="ellipse">
                <a:avLst/>
              </a:prstGeom>
              <a:solidFill>
                <a:srgbClr val="b6c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263600" y="3057480"/>
                <a:ext cx="2766960" cy="1600200"/>
              </a:xfrm>
              <a:prstGeom prst="ellipse">
                <a:avLst/>
              </a:prstGeom>
              <a:solidFill>
                <a:srgbClr val="b6c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20840" y="4021200"/>
                <a:ext cx="1865160" cy="1305000"/>
              </a:xfrm>
              <a:prstGeom prst="ellipse">
                <a:avLst/>
              </a:prstGeom>
              <a:solidFill>
                <a:srgbClr val="b6c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982800" y="4595760"/>
                <a:ext cx="2806560" cy="1413000"/>
              </a:xfrm>
              <a:prstGeom prst="ellipse">
                <a:avLst/>
              </a:prstGeom>
              <a:solidFill>
                <a:srgbClr val="b6c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967120" y="4829040"/>
                <a:ext cx="4190760" cy="1677960"/>
              </a:xfrm>
              <a:prstGeom prst="ellipse">
                <a:avLst/>
              </a:prstGeom>
              <a:solidFill>
                <a:srgbClr val="b6c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634000" y="3103560"/>
                <a:ext cx="2687760" cy="1258920"/>
              </a:xfrm>
              <a:prstGeom prst="ellipse">
                <a:avLst/>
              </a:prstGeom>
              <a:solidFill>
                <a:srgbClr val="b6c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035760" y="3911760"/>
                <a:ext cx="2666880" cy="1258560"/>
              </a:xfrm>
              <a:prstGeom prst="ellipse">
                <a:avLst/>
              </a:prstGeom>
              <a:solidFill>
                <a:srgbClr val="b6c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96000" y="4175280"/>
                <a:ext cx="2646360" cy="2066760"/>
              </a:xfrm>
              <a:prstGeom prst="ellipse">
                <a:avLst/>
              </a:prstGeom>
              <a:solidFill>
                <a:srgbClr val="b6c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25640" y="3554280"/>
                <a:ext cx="5373720" cy="2067120"/>
              </a:xfrm>
              <a:prstGeom prst="ellipse">
                <a:avLst/>
              </a:prstGeom>
              <a:solidFill>
                <a:srgbClr val="b6c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420840" y="2622600"/>
              <a:ext cx="8301960" cy="3898440"/>
              <a:chOff x="420840" y="2622600"/>
              <a:chExt cx="8301960" cy="3898440"/>
            </a:xfrm>
          </p:grpSpPr>
          <p:sp>
            <p:nvSpPr>
              <p:cNvPr id="342" name=""/>
              <p:cNvSpPr/>
              <p:nvPr/>
            </p:nvSpPr>
            <p:spPr>
              <a:xfrm>
                <a:off x="3249720" y="2622600"/>
                <a:ext cx="3649680" cy="161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64" y="7356"/>
                    </a:moveTo>
                    <a:arcTo wR="10800" hR="10800" stAng="-9684204" swAng="83750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64" y="7356"/>
                    </a:moveTo>
                    <a:arcTo wR="10800" hR="10800" stAng="-9684204" swAng="8375048"/>
                  </a:path>
                </a:pathLst>
              </a:custGeom>
              <a:solidFill>
                <a:srgbClr val="b6c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267360" y="2641680"/>
                <a:ext cx="3611520" cy="157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78" y="7314"/>
                    </a:moveTo>
                    <a:arcTo wR="10800" hR="10800" stAng="-9670244" swAng="83451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78" y="7314"/>
                    </a:moveTo>
                    <a:arcTo wR="10800" hR="10800" stAng="-9670244" swAng="8345159"/>
                  </a:path>
                </a:pathLst>
              </a:custGeom>
              <a:solidFill>
                <a:srgbClr val="b6c7c9"/>
              </a:solidFill>
              <a:ln w="3960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263600" y="3041640"/>
                <a:ext cx="2787120" cy="1616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49" y="13105"/>
                    </a:moveTo>
                    <a:arcTo wR="10800" hR="10800" stAng="10060740" swAng="80491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49" y="13105"/>
                    </a:moveTo>
                    <a:arcTo wR="10800" hR="10800" stAng="10060740" swAng="8049167"/>
                  </a:path>
                </a:pathLst>
              </a:custGeom>
              <a:solidFill>
                <a:srgbClr val="b6c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282680" y="3060720"/>
                <a:ext cx="2747880" cy="157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4" y="13127"/>
                    </a:moveTo>
                    <a:arcTo wR="10800" hR="10800" stAng="10053472" swAng="80409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4" y="13127"/>
                    </a:moveTo>
                    <a:arcTo wR="10800" hR="10800" stAng="10053472" swAng="8040917"/>
                  </a:path>
                </a:pathLst>
              </a:custGeom>
              <a:solidFill>
                <a:srgbClr val="b6c7c9"/>
              </a:solidFill>
              <a:ln w="3960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961920" y="4564440"/>
                <a:ext cx="2886480" cy="145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72" y="20226"/>
                    </a:moveTo>
                    <a:arcTo wR="10800" hR="10800" stAng="3646895" swAng="73105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72" y="20226"/>
                    </a:moveTo>
                    <a:arcTo wR="10800" hR="10800" stAng="3646895" swAng="7310560"/>
                  </a:path>
                </a:pathLst>
              </a:custGeom>
              <a:solidFill>
                <a:srgbClr val="b6c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981000" y="4582800"/>
                <a:ext cx="2849040" cy="142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19" y="20255"/>
                    </a:moveTo>
                    <a:arcTo wR="10800" hR="10800" stAng="3666090" swAng="72934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19" y="20255"/>
                    </a:moveTo>
                    <a:arcTo wR="10800" hR="10800" stAng="3666090" swAng="7293446"/>
                  </a:path>
                </a:pathLst>
              </a:custGeom>
              <a:solidFill>
                <a:srgbClr val="b6c7c9"/>
              </a:solidFill>
              <a:ln w="3960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655960" y="3087720"/>
                <a:ext cx="2687760" cy="1258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13" y="224"/>
                    </a:moveTo>
                    <a:arcTo wR="10800" hR="10800" stAng="-6101093" swAng="78899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13" y="224"/>
                    </a:moveTo>
                    <a:arcTo wR="10800" hR="10800" stAng="-6101093" swAng="7889930"/>
                  </a:path>
                </a:pathLst>
              </a:custGeom>
              <a:solidFill>
                <a:srgbClr val="b6c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674680" y="3106800"/>
                <a:ext cx="2649960" cy="1220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47" y="217"/>
                    </a:moveTo>
                    <a:arcTo wR="10800" hR="10800" stAng="-6089959" swAng="79032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47" y="217"/>
                    </a:moveTo>
                    <a:arcTo wR="10800" hR="10800" stAng="-6089959" swAng="7903299"/>
                  </a:path>
                </a:pathLst>
              </a:custGeom>
              <a:solidFill>
                <a:srgbClr val="b6c7c9"/>
              </a:solidFill>
              <a:ln w="3960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634360" y="3866040"/>
                <a:ext cx="3088440" cy="1365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66" y="2382"/>
                    </a:moveTo>
                    <a:arcTo wR="10800" hR="10800" stAng="-3072473" swAng="52173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66" y="2382"/>
                    </a:moveTo>
                    <a:arcTo wR="10800" hR="10800" stAng="-3072473" swAng="5217376"/>
                  </a:path>
                </a:pathLst>
              </a:custGeom>
              <a:solidFill>
                <a:srgbClr val="b6c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653080" y="3886200"/>
                <a:ext cx="3051000" cy="132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501" y="2330"/>
                    </a:moveTo>
                    <a:arcTo wR="10800" hR="10800" stAng="-3099052" swAng="526987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501" y="2330"/>
                    </a:moveTo>
                    <a:arcTo wR="10800" hR="10800" stAng="-3099052" swAng="5269872"/>
                  </a:path>
                </a:pathLst>
              </a:custGeom>
              <a:solidFill>
                <a:srgbClr val="b6c7c9"/>
              </a:solidFill>
              <a:ln w="3960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755320" y="4190760"/>
                <a:ext cx="2726280" cy="208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7" y="7706"/>
                    </a:moveTo>
                    <a:arcTo wR="10800" hR="10800" stAng="-998773" swAng="75329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7" y="7706"/>
                    </a:moveTo>
                    <a:arcTo wR="10800" hR="10800" stAng="-998773" swAng="7532926"/>
                  </a:path>
                </a:pathLst>
              </a:custGeom>
              <a:solidFill>
                <a:srgbClr val="b6c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774400" y="4210920"/>
                <a:ext cx="2688120" cy="204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44" y="7694"/>
                    </a:moveTo>
                    <a:arcTo wR="10800" hR="10800" stAng="-1002926" swAng="753245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44" y="7694"/>
                    </a:moveTo>
                    <a:arcTo wR="10800" hR="10800" stAng="-1002926" swAng="7532458"/>
                  </a:path>
                </a:pathLst>
              </a:custGeom>
              <a:solidFill>
                <a:srgbClr val="b6c7c9"/>
              </a:solidFill>
              <a:ln w="3960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20840" y="4005720"/>
                <a:ext cx="1964520" cy="1336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15" y="20670"/>
                    </a:moveTo>
                    <a:arcTo wR="10800" hR="10800" stAng="6837414" swAng="91518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15" y="20670"/>
                    </a:moveTo>
                    <a:arcTo wR="10800" hR="10800" stAng="6837414" swAng="9151810"/>
                  </a:path>
                </a:pathLst>
              </a:custGeom>
              <a:solidFill>
                <a:srgbClr val="b6c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39560" y="4024800"/>
                <a:ext cx="1927080" cy="1298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49" y="20685"/>
                    </a:moveTo>
                    <a:arcTo wR="10800" hR="10800" stAng="6825536" swAng="916564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49" y="20685"/>
                    </a:moveTo>
                    <a:arcTo wR="10800" hR="10800" stAng="6825536" swAng="9165643"/>
                  </a:path>
                </a:pathLst>
              </a:custGeom>
              <a:solidFill>
                <a:srgbClr val="b6c7c9"/>
              </a:solidFill>
              <a:ln w="3960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988360" y="4969080"/>
                <a:ext cx="4111200" cy="155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63" y="16972"/>
                    </a:moveTo>
                    <a:arcTo wR="10800" hR="10800" stAng="2091145" swAng="800890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63" y="16972"/>
                    </a:moveTo>
                    <a:arcTo wR="10800" hR="10800" stAng="2091145" swAng="8008908"/>
                  </a:path>
                </a:pathLst>
              </a:custGeom>
              <a:solidFill>
                <a:srgbClr val="b6c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006360" y="4988160"/>
                <a:ext cx="4072680" cy="151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17" y="17036"/>
                    </a:moveTo>
                    <a:arcTo wR="10800" hR="10800" stAng="2116260" swAng="79731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17" y="17036"/>
                    </a:moveTo>
                    <a:arcTo wR="10800" hR="10800" stAng="2116260" swAng="7973140"/>
                  </a:path>
                </a:pathLst>
              </a:custGeom>
              <a:solidFill>
                <a:srgbClr val="b6c7c9"/>
              </a:solidFill>
              <a:ln w="3960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6127920" y="5021280"/>
              <a:ext cx="213336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720" rIns="117720" tIns="59040" bIns="59040" anchor="t">
              <a:spAutoFit/>
            </a:bodyPr>
            <a:p>
              <a:pPr algn="ctr">
                <a:spcBef>
                  <a:spcPts val="1687"/>
                </a:spcBef>
                <a:tabLst>
                  <a:tab algn="l" pos="0"/>
                  <a:tab algn="l" pos="1069920"/>
                  <a:tab algn="l" pos="2139840"/>
                  <a:tab algn="l" pos="3209760"/>
                  <a:tab algn="l" pos="4280040"/>
                  <a:tab algn="l" pos="5349960"/>
                  <a:tab algn="l" pos="6419880"/>
                  <a:tab algn="l" pos="7489800"/>
                  <a:tab algn="l" pos="8559720"/>
                  <a:tab algn="l" pos="9629640"/>
                  <a:tab algn="l" pos="1069992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imes New Roman"/>
                </a:rPr>
                <a:t>Packetized Voice 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38280" y="4800600"/>
              <a:ext cx="15163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720" rIns="117720" tIns="59040" bIns="5904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1069920"/>
                  <a:tab algn="l" pos="2139840"/>
                  <a:tab algn="l" pos="3209760"/>
                  <a:tab algn="l" pos="4280040"/>
                  <a:tab algn="l" pos="5349960"/>
                  <a:tab algn="l" pos="6419880"/>
                  <a:tab algn="l" pos="7489800"/>
                  <a:tab algn="l" pos="8559720"/>
                  <a:tab algn="l" pos="9629640"/>
                  <a:tab algn="l" pos="106999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60" name="" descr=""/>
            <p:cNvPicPr/>
            <p:nvPr/>
          </p:nvPicPr>
          <p:blipFill>
            <a:blip r:embed="rId1"/>
            <a:stretch/>
          </p:blipFill>
          <p:spPr>
            <a:xfrm>
              <a:off x="1981080" y="4143240"/>
              <a:ext cx="638280" cy="57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3027240" y="3816360"/>
              <a:ext cx="630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" descr=""/>
            <p:cNvPicPr/>
            <p:nvPr/>
          </p:nvPicPr>
          <p:blipFill>
            <a:blip r:embed="rId3"/>
            <a:stretch/>
          </p:blipFill>
          <p:spPr>
            <a:xfrm>
              <a:off x="3809880" y="4340160"/>
              <a:ext cx="60012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3338640" y="3857760"/>
              <a:ext cx="15159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720" rIns="117720" tIns="59040" bIns="5904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1069920"/>
                  <a:tab algn="l" pos="2139840"/>
                  <a:tab algn="l" pos="3209760"/>
                  <a:tab algn="l" pos="4280040"/>
                  <a:tab algn="l" pos="5349960"/>
                  <a:tab algn="l" pos="6419880"/>
                  <a:tab algn="l" pos="7489800"/>
                  <a:tab algn="l" pos="8559720"/>
                  <a:tab algn="l" pos="9629640"/>
                  <a:tab algn="l" pos="106999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00200" y="3825720"/>
              <a:ext cx="151596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720" rIns="117720" tIns="59040" bIns="5904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1069920"/>
                  <a:tab algn="l" pos="2139840"/>
                  <a:tab algn="l" pos="3209760"/>
                  <a:tab algn="l" pos="4280040"/>
                  <a:tab algn="l" pos="5349960"/>
                  <a:tab algn="l" pos="6419880"/>
                  <a:tab algn="l" pos="7489800"/>
                  <a:tab algn="l" pos="8559720"/>
                  <a:tab algn="l" pos="9629640"/>
                  <a:tab algn="l" pos="106999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E-Mai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971160" y="3029040"/>
              <a:ext cx="7383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S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95800" y="3200400"/>
              <a:ext cx="90900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ab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9680" y="4191120"/>
              <a:ext cx="68940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i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97560" y="5334120"/>
              <a:ext cx="87372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ISD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34040" y="5105520"/>
              <a:ext cx="129888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Extra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953600" y="4038480"/>
              <a:ext cx="187524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E-Commer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4768920" y="3043080"/>
              <a:ext cx="2133360" cy="1962000"/>
              <a:chOff x="4768920" y="3043080"/>
              <a:chExt cx="2133360" cy="1962000"/>
            </a:xfrm>
          </p:grpSpPr>
          <p:sp>
            <p:nvSpPr>
              <p:cNvPr id="372" name=""/>
              <p:cNvSpPr/>
              <p:nvPr/>
            </p:nvSpPr>
            <p:spPr>
              <a:xfrm>
                <a:off x="4921200" y="3652920"/>
                <a:ext cx="198108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7720" rIns="117720" tIns="59040" bIns="5904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1069920"/>
                    <a:tab algn="l" pos="2139840"/>
                    <a:tab algn="l" pos="3209760"/>
                    <a:tab algn="l" pos="4280040"/>
                    <a:tab algn="l" pos="5349960"/>
                    <a:tab algn="l" pos="6419880"/>
                    <a:tab algn="l" pos="7489800"/>
                    <a:tab algn="l" pos="8559720"/>
                    <a:tab algn="l" pos="9629640"/>
                    <a:tab algn="l" pos="1069992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IP Phon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68920" y="4643280"/>
                <a:ext cx="198108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7720" rIns="117720" tIns="59040" bIns="5904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1069920"/>
                    <a:tab algn="l" pos="2139840"/>
                    <a:tab algn="l" pos="3209760"/>
                    <a:tab algn="l" pos="4280040"/>
                    <a:tab algn="l" pos="5349960"/>
                    <a:tab algn="l" pos="6419880"/>
                    <a:tab algn="l" pos="7489800"/>
                    <a:tab algn="l" pos="8559720"/>
                    <a:tab algn="l" pos="9629640"/>
                    <a:tab algn="l" pos="1069992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Network PBX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844880" y="3043080"/>
                <a:ext cx="198144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7720" rIns="117720" tIns="59040" bIns="5904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1069920"/>
                    <a:tab algn="l" pos="2139840"/>
                    <a:tab algn="l" pos="3209760"/>
                    <a:tab algn="l" pos="4280040"/>
                    <a:tab algn="l" pos="5349960"/>
                    <a:tab algn="l" pos="6419880"/>
                    <a:tab algn="l" pos="7489800"/>
                    <a:tab algn="l" pos="8559720"/>
                    <a:tab algn="l" pos="9629640"/>
                    <a:tab algn="l" pos="1069992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Internet Call Centr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2473200" y="4160880"/>
              <a:ext cx="1516320" cy="52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720" rIns="117720" tIns="59040" bIns="59040" anchor="t">
              <a:spAutoFit/>
            </a:bodyPr>
            <a:p>
              <a:pPr algn="ctr">
                <a:spcBef>
                  <a:spcPts val="1687"/>
                </a:spcBef>
                <a:tabLst>
                  <a:tab algn="l" pos="0"/>
                  <a:tab algn="l" pos="1069920"/>
                  <a:tab algn="l" pos="2139840"/>
                  <a:tab algn="l" pos="3209760"/>
                  <a:tab algn="l" pos="4280040"/>
                  <a:tab algn="l" pos="5349960"/>
                  <a:tab algn="l" pos="6419880"/>
                  <a:tab algn="l" pos="7489800"/>
                  <a:tab algn="l" pos="8559720"/>
                  <a:tab algn="l" pos="9629640"/>
                  <a:tab algn="l" pos="1069992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imes New Roman"/>
                </a:rPr>
                <a:t>Data 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43400" y="5559480"/>
              <a:ext cx="2133720" cy="52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7720" rIns="117720" tIns="59040" bIns="59040" anchor="t">
              <a:spAutoFit/>
            </a:bodyPr>
            <a:p>
              <a:pPr algn="ctr">
                <a:spcBef>
                  <a:spcPts val="1687"/>
                </a:spcBef>
                <a:tabLst>
                  <a:tab algn="l" pos="0"/>
                  <a:tab algn="l" pos="1069920"/>
                  <a:tab algn="l" pos="2139840"/>
                  <a:tab algn="l" pos="3209760"/>
                  <a:tab algn="l" pos="4280040"/>
                  <a:tab algn="l" pos="5349960"/>
                  <a:tab algn="l" pos="6419880"/>
                  <a:tab algn="l" pos="7489800"/>
                  <a:tab algn="l" pos="8559720"/>
                  <a:tab algn="l" pos="9629640"/>
                  <a:tab algn="l" pos="1069992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Times New Roman"/>
                </a:rPr>
                <a:t>Video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1190520" y="1447920"/>
            <a:ext cx="678528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w World Architecture—Highly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daptive, Open, Scalable, and Un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66800" y="76320"/>
            <a:ext cx="762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rnet Ecosyste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04920" y="456840"/>
            <a:ext cx="922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Solutions &amp; Service Proposi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0" name="NET" descr=""/>
          <p:cNvPicPr/>
          <p:nvPr/>
        </p:nvPicPr>
        <p:blipFill>
          <a:blip r:embed="rId1"/>
          <a:stretch/>
        </p:blipFill>
        <p:spPr>
          <a:xfrm>
            <a:off x="2209680" y="2743200"/>
            <a:ext cx="1366920" cy="1371600"/>
          </a:xfrm>
          <a:prstGeom prst="rect">
            <a:avLst/>
          </a:prstGeom>
          <a:ln w="0">
            <a:noFill/>
          </a:ln>
        </p:spPr>
      </p:pic>
      <p:pic>
        <p:nvPicPr>
          <p:cNvPr id="381" name="VOICE" descr=""/>
          <p:cNvPicPr/>
          <p:nvPr/>
        </p:nvPicPr>
        <p:blipFill>
          <a:blip r:embed="rId2"/>
          <a:stretch/>
        </p:blipFill>
        <p:spPr>
          <a:xfrm>
            <a:off x="3581280" y="27432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82" name="E" descr=""/>
          <p:cNvPicPr/>
          <p:nvPr/>
        </p:nvPicPr>
        <p:blipFill>
          <a:blip r:embed="rId3"/>
          <a:stretch/>
        </p:blipFill>
        <p:spPr>
          <a:xfrm>
            <a:off x="4952880" y="2743200"/>
            <a:ext cx="1405080" cy="1371600"/>
          </a:xfrm>
          <a:prstGeom prst="rect">
            <a:avLst/>
          </a:prstGeom>
          <a:ln w="0">
            <a:noFill/>
          </a:ln>
        </p:spPr>
      </p:pic>
      <p:pic>
        <p:nvPicPr>
          <p:cNvPr id="383" name="DESK" descr=""/>
          <p:cNvPicPr/>
          <p:nvPr/>
        </p:nvPicPr>
        <p:blipFill>
          <a:blip r:embed="rId4"/>
          <a:stretch/>
        </p:blipFill>
        <p:spPr>
          <a:xfrm>
            <a:off x="6324480" y="2743200"/>
            <a:ext cx="1362240" cy="1371600"/>
          </a:xfrm>
          <a:prstGeom prst="rect">
            <a:avLst/>
          </a:prstGeom>
          <a:ln w="0">
            <a:noFill/>
          </a:ln>
        </p:spPr>
      </p:pic>
      <p:pic>
        <p:nvPicPr>
          <p:cNvPr id="384" name="LOGO" descr=""/>
          <p:cNvPicPr/>
          <p:nvPr/>
        </p:nvPicPr>
        <p:blipFill>
          <a:blip r:embed="rId5"/>
          <a:stretch/>
        </p:blipFill>
        <p:spPr>
          <a:xfrm>
            <a:off x="7697880" y="2743200"/>
            <a:ext cx="135576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5" name=""/>
          <p:cNvGraphicFramePr/>
          <p:nvPr/>
        </p:nvGraphicFramePr>
        <p:xfrm>
          <a:off x="857160" y="2743200"/>
          <a:ext cx="1352520" cy="1371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57160" y="2743200"/>
                    <a:ext cx="13525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Our Mark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3520" y="3429000"/>
            <a:ext cx="3429000" cy="990720"/>
          </a:xfrm>
          <a:prstGeom prst="rightArrow">
            <a:avLst>
              <a:gd name="adj1" fmla="val 50000"/>
              <a:gd name="adj2" fmla="val 86528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lueSk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590920" y="1600200"/>
            <a:ext cx="6095880" cy="44956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c00"/>
              </a:gs>
              <a:gs pos="50000">
                <a:srgbClr val="d0a6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579200" y="2269080"/>
            <a:ext cx="2199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tion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gt;1000 employ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42880" y="3824280"/>
            <a:ext cx="309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um Enterpr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-1000 employe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93280" y="5105160"/>
            <a:ext cx="318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mall Enterpr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50 employ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Typical Customer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munications Partn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ndependent market assess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sultancy s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ll voice and data requi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ingle point of cont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ingle Support contr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Emerging Communications Infrastructure - Case Study </a:t>
            </a: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351000" cy="598320"/>
          </a:xfrm>
          <a:prstGeom prst="rect">
            <a:avLst/>
          </a:prstGeom>
          <a:ln w="0">
            <a:noFill/>
          </a:ln>
        </p:spPr>
      </p:pic>
      <p:grpSp>
        <p:nvGrpSpPr>
          <p:cNvPr id="397" name=""/>
          <p:cNvGrpSpPr/>
          <p:nvPr/>
        </p:nvGrpSpPr>
        <p:grpSpPr>
          <a:xfrm>
            <a:off x="2819520" y="3875040"/>
            <a:ext cx="540720" cy="696600"/>
            <a:chOff x="2819520" y="3875040"/>
            <a:chExt cx="540720" cy="696600"/>
          </a:xfrm>
        </p:grpSpPr>
        <p:grpSp>
          <p:nvGrpSpPr>
            <p:cNvPr id="398" name=""/>
            <p:cNvGrpSpPr/>
            <p:nvPr/>
          </p:nvGrpSpPr>
          <p:grpSpPr>
            <a:xfrm>
              <a:off x="2819520" y="3875040"/>
              <a:ext cx="540720" cy="696600"/>
              <a:chOff x="2819520" y="3875040"/>
              <a:chExt cx="540720" cy="696600"/>
            </a:xfrm>
          </p:grpSpPr>
          <p:sp>
            <p:nvSpPr>
              <p:cNvPr id="399" name=""/>
              <p:cNvSpPr/>
              <p:nvPr/>
            </p:nvSpPr>
            <p:spPr>
              <a:xfrm>
                <a:off x="2819520" y="3997440"/>
                <a:ext cx="441360" cy="574200"/>
              </a:xfrm>
              <a:custGeom>
                <a:avLst/>
                <a:gdLst/>
                <a:ahLst/>
                <a:rect l="l" t="t" r="r" b="b"/>
                <a:pathLst>
                  <a:path w="519" h="548">
                    <a:moveTo>
                      <a:pt x="0" y="0"/>
                    </a:moveTo>
                    <a:lnTo>
                      <a:pt x="518" y="0"/>
                    </a:lnTo>
                    <a:lnTo>
                      <a:pt x="518" y="547"/>
                    </a:lnTo>
                    <a:lnTo>
                      <a:pt x="0" y="54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75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819520" y="3876840"/>
                <a:ext cx="539280" cy="119520"/>
              </a:xfrm>
              <a:custGeom>
                <a:avLst/>
                <a:gdLst/>
                <a:ahLst/>
                <a:rect l="l" t="t" r="r" b="b"/>
                <a:pathLst>
                  <a:path w="634" h="114">
                    <a:moveTo>
                      <a:pt x="517" y="113"/>
                    </a:moveTo>
                    <a:lnTo>
                      <a:pt x="633" y="0"/>
                    </a:lnTo>
                    <a:lnTo>
                      <a:pt x="114" y="0"/>
                    </a:lnTo>
                    <a:lnTo>
                      <a:pt x="0" y="113"/>
                    </a:lnTo>
                    <a:lnTo>
                      <a:pt x="517" y="113"/>
                    </a:lnTo>
                  </a:path>
                </a:pathLst>
              </a:custGeom>
              <a:solidFill>
                <a:srgbClr val="6f7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260880" y="3875040"/>
                <a:ext cx="99360" cy="693720"/>
              </a:xfrm>
              <a:custGeom>
                <a:avLst/>
                <a:gdLst/>
                <a:ahLst/>
                <a:rect l="l" t="t" r="r" b="b"/>
                <a:pathLst>
                  <a:path w="117" h="662">
                    <a:moveTo>
                      <a:pt x="0" y="117"/>
                    </a:moveTo>
                    <a:lnTo>
                      <a:pt x="0" y="661"/>
                    </a:lnTo>
                    <a:lnTo>
                      <a:pt x="116" y="544"/>
                    </a:lnTo>
                    <a:lnTo>
                      <a:pt x="116" y="0"/>
                    </a:lnTo>
                    <a:lnTo>
                      <a:pt x="0" y="117"/>
                    </a:lnTo>
                  </a:path>
                </a:pathLst>
              </a:custGeom>
              <a:solidFill>
                <a:srgbClr val="232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2842920" y="4028760"/>
              <a:ext cx="392760" cy="492120"/>
              <a:chOff x="2842920" y="4028760"/>
              <a:chExt cx="392760" cy="492120"/>
            </a:xfrm>
          </p:grpSpPr>
          <p:sp>
            <p:nvSpPr>
              <p:cNvPr id="403" name=""/>
              <p:cNvSpPr/>
              <p:nvPr/>
            </p:nvSpPr>
            <p:spPr>
              <a:xfrm>
                <a:off x="3056400" y="4372560"/>
                <a:ext cx="13320" cy="37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843640" y="4032720"/>
                <a:ext cx="262800" cy="478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871720" y="4028760"/>
                <a:ext cx="0" cy="4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900520" y="4028760"/>
                <a:ext cx="0" cy="4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928600" y="4028760"/>
                <a:ext cx="0" cy="4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960280" y="4028760"/>
                <a:ext cx="0" cy="4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989080" y="4028760"/>
                <a:ext cx="0" cy="4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020760" y="4028760"/>
                <a:ext cx="0" cy="4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049560" y="4028760"/>
                <a:ext cx="0" cy="4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79440" y="4028760"/>
                <a:ext cx="0" cy="4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861640" y="4501080"/>
                <a:ext cx="1368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891160" y="4501080"/>
                <a:ext cx="1368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920320" y="4501080"/>
                <a:ext cx="1368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950920" y="4501080"/>
                <a:ext cx="1368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980440" y="4502520"/>
                <a:ext cx="1368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008880" y="4502520"/>
                <a:ext cx="1332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039480" y="4502520"/>
                <a:ext cx="1332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069360" y="4502520"/>
                <a:ext cx="1368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097440" y="4502520"/>
                <a:ext cx="1332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861640" y="4029840"/>
                <a:ext cx="1368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890440" y="4029840"/>
                <a:ext cx="1368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920320" y="4029840"/>
                <a:ext cx="1368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950200" y="4029840"/>
                <a:ext cx="1332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980440" y="4029840"/>
                <a:ext cx="1368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09600" y="4029840"/>
                <a:ext cx="1368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039480" y="4029840"/>
                <a:ext cx="1332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69360" y="4029840"/>
                <a:ext cx="1368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097440" y="4029840"/>
                <a:ext cx="1332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056400" y="4310640"/>
                <a:ext cx="13320" cy="3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56400" y="4170240"/>
                <a:ext cx="14400" cy="41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056400" y="4114440"/>
                <a:ext cx="14400" cy="3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057120" y="4419360"/>
                <a:ext cx="1368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050640" y="4029840"/>
                <a:ext cx="14400" cy="8028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080160" y="4029840"/>
                <a:ext cx="14400" cy="8028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560" y="4029840"/>
                <a:ext cx="14400" cy="8028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020760" y="4029840"/>
                <a:ext cx="14400" cy="8028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992680" y="4029840"/>
                <a:ext cx="14400" cy="8028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961720" y="4029840"/>
                <a:ext cx="14400" cy="8028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928600" y="4029840"/>
                <a:ext cx="14400" cy="8028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902320" y="4029840"/>
                <a:ext cx="14400" cy="8028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872440" y="4029840"/>
                <a:ext cx="14400" cy="8028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080160" y="4436280"/>
                <a:ext cx="14400" cy="7812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49560" y="4436280"/>
                <a:ext cx="14400" cy="7812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20760" y="4436280"/>
                <a:ext cx="14400" cy="7812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992680" y="4436280"/>
                <a:ext cx="14400" cy="7812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961720" y="4436280"/>
                <a:ext cx="14400" cy="7812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928600" y="4436280"/>
                <a:ext cx="14400" cy="7812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902320" y="4436280"/>
                <a:ext cx="14400" cy="7812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872440" y="4436280"/>
                <a:ext cx="14400" cy="7812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967840" y="4276800"/>
                <a:ext cx="14400" cy="143640"/>
              </a:xfrm>
              <a:custGeom>
                <a:avLst/>
                <a:gdLst/>
                <a:ahLst/>
                <a:rect l="l" t="t" r="r" b="b"/>
                <a:pathLst>
                  <a:path w="17" h="137">
                    <a:moveTo>
                      <a:pt x="16" y="13"/>
                    </a:moveTo>
                    <a:lnTo>
                      <a:pt x="16" y="136"/>
                    </a:lnTo>
                    <a:lnTo>
                      <a:pt x="0" y="13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37"/>
                    </a:lnTo>
                    <a:lnTo>
                      <a:pt x="16" y="13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3" name=""/>
              <p:cNvGrpSpPr/>
              <p:nvPr/>
            </p:nvGrpSpPr>
            <p:grpSpPr>
              <a:xfrm>
                <a:off x="2969640" y="4276800"/>
                <a:ext cx="14400" cy="143280"/>
                <a:chOff x="2969640" y="4276800"/>
                <a:chExt cx="14400" cy="14328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2969640" y="427680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2969640" y="429552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2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969640" y="431568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2969640" y="433008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969640" y="434916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2969640" y="436788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2969640" y="438264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2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2969640" y="440244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2" name=""/>
              <p:cNvSpPr/>
              <p:nvPr/>
            </p:nvSpPr>
            <p:spPr>
              <a:xfrm>
                <a:off x="2939040" y="4312440"/>
                <a:ext cx="14400" cy="10800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9"/>
                    </a:moveTo>
                    <a:lnTo>
                      <a:pt x="16" y="102"/>
                    </a:lnTo>
                    <a:lnTo>
                      <a:pt x="0" y="10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7"/>
                    </a:lnTo>
                    <a:lnTo>
                      <a:pt x="16" y="9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941560" y="431604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941560" y="433152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2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941560" y="435168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941560" y="437040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941560" y="438804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941560" y="440460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089520" y="4203720"/>
                <a:ext cx="14400" cy="40680"/>
              </a:xfrm>
              <a:custGeom>
                <a:avLst/>
                <a:gdLst/>
                <a:ahLst/>
                <a:rect l="l" t="t" r="r" b="b"/>
                <a:pathLst>
                  <a:path w="17" h="39">
                    <a:moveTo>
                      <a:pt x="16" y="3"/>
                    </a:moveTo>
                    <a:lnTo>
                      <a:pt x="16" y="38"/>
                    </a:lnTo>
                    <a:lnTo>
                      <a:pt x="0" y="3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1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089520" y="438156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6" y="3"/>
                    </a:moveTo>
                    <a:lnTo>
                      <a:pt x="16" y="37"/>
                    </a:lnTo>
                    <a:lnTo>
                      <a:pt x="0" y="3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9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97720" y="4276800"/>
                <a:ext cx="15840" cy="143640"/>
              </a:xfrm>
              <a:custGeom>
                <a:avLst/>
                <a:gdLst/>
                <a:ahLst/>
                <a:rect l="l" t="t" r="r" b="b"/>
                <a:pathLst>
                  <a:path w="19" h="137">
                    <a:moveTo>
                      <a:pt x="18" y="13"/>
                    </a:moveTo>
                    <a:lnTo>
                      <a:pt x="18" y="136"/>
                    </a:lnTo>
                    <a:lnTo>
                      <a:pt x="0" y="13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37"/>
                    </a:lnTo>
                    <a:lnTo>
                      <a:pt x="18" y="13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72" name=""/>
              <p:cNvGrpSpPr/>
              <p:nvPr/>
            </p:nvGrpSpPr>
            <p:grpSpPr>
              <a:xfrm>
                <a:off x="3000240" y="4276800"/>
                <a:ext cx="14400" cy="143280"/>
                <a:chOff x="3000240" y="4276800"/>
                <a:chExt cx="14400" cy="14328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3000240" y="427680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3000240" y="429552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2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3000240" y="431568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000240" y="433008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3000240" y="434916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000240" y="436788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3000240" y="438264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2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000240" y="440244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1" name=""/>
              <p:cNvSpPr/>
              <p:nvPr/>
            </p:nvSpPr>
            <p:spPr>
              <a:xfrm>
                <a:off x="3026880" y="4276800"/>
                <a:ext cx="16920" cy="143640"/>
              </a:xfrm>
              <a:custGeom>
                <a:avLst/>
                <a:gdLst/>
                <a:ahLst/>
                <a:rect l="l" t="t" r="r" b="b"/>
                <a:pathLst>
                  <a:path w="20" h="137">
                    <a:moveTo>
                      <a:pt x="19" y="13"/>
                    </a:moveTo>
                    <a:lnTo>
                      <a:pt x="19" y="136"/>
                    </a:lnTo>
                    <a:lnTo>
                      <a:pt x="0" y="13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37"/>
                    </a:lnTo>
                    <a:lnTo>
                      <a:pt x="19" y="13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82" name=""/>
              <p:cNvGrpSpPr/>
              <p:nvPr/>
            </p:nvGrpSpPr>
            <p:grpSpPr>
              <a:xfrm>
                <a:off x="3028320" y="4276800"/>
                <a:ext cx="14400" cy="143280"/>
                <a:chOff x="3028320" y="4276800"/>
                <a:chExt cx="14400" cy="14328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3028320" y="427680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3028320" y="429552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2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3028320" y="431568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3028320" y="433008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3028320" y="434916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3028320" y="436788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028320" y="438264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2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028320" y="440244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1" name=""/>
              <p:cNvSpPr/>
              <p:nvPr/>
            </p:nvSpPr>
            <p:spPr>
              <a:xfrm>
                <a:off x="2909160" y="4312440"/>
                <a:ext cx="14400" cy="10800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9"/>
                    </a:moveTo>
                    <a:lnTo>
                      <a:pt x="16" y="102"/>
                    </a:lnTo>
                    <a:lnTo>
                      <a:pt x="0" y="10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7"/>
                    </a:lnTo>
                    <a:lnTo>
                      <a:pt x="16" y="9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912760" y="431604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912760" y="433152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2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912760" y="435168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912760" y="437040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912760" y="438804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912760" y="440460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057120" y="4217400"/>
                <a:ext cx="1368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939040" y="4148280"/>
                <a:ext cx="14400" cy="10980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9"/>
                    </a:moveTo>
                    <a:lnTo>
                      <a:pt x="16" y="104"/>
                    </a:lnTo>
                    <a:lnTo>
                      <a:pt x="0" y="10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8"/>
                    </a:lnTo>
                    <a:lnTo>
                      <a:pt x="16" y="9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941560" y="415116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941560" y="416592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2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941560" y="418464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941560" y="420156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941560" y="422028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941560" y="423936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909160" y="4148280"/>
                <a:ext cx="14400" cy="10980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9"/>
                    </a:moveTo>
                    <a:lnTo>
                      <a:pt x="16" y="104"/>
                    </a:lnTo>
                    <a:lnTo>
                      <a:pt x="0" y="10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8"/>
                    </a:lnTo>
                    <a:lnTo>
                      <a:pt x="16" y="9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912760" y="415116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912760" y="416592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2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912760" y="418464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912760" y="420156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912760" y="422028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912760" y="423936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881080" y="429156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6" y="3"/>
                    </a:moveTo>
                    <a:lnTo>
                      <a:pt x="16" y="37"/>
                    </a:lnTo>
                    <a:lnTo>
                      <a:pt x="0" y="3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9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881080" y="437976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6" y="3"/>
                    </a:moveTo>
                    <a:lnTo>
                      <a:pt x="16" y="37"/>
                    </a:lnTo>
                    <a:lnTo>
                      <a:pt x="0" y="3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1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851200" y="429156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6" y="3"/>
                    </a:moveTo>
                    <a:lnTo>
                      <a:pt x="16" y="37"/>
                    </a:lnTo>
                    <a:lnTo>
                      <a:pt x="0" y="3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9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851200" y="437976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6" y="3"/>
                    </a:moveTo>
                    <a:lnTo>
                      <a:pt x="16" y="37"/>
                    </a:lnTo>
                    <a:lnTo>
                      <a:pt x="0" y="3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1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842920" y="4029840"/>
                <a:ext cx="14400" cy="8028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842920" y="4436280"/>
                <a:ext cx="14400" cy="7812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186000" y="4143960"/>
                <a:ext cx="0" cy="37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133080" y="4143960"/>
                <a:ext cx="101880" cy="370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129480" y="4504320"/>
                <a:ext cx="1368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129480" y="4146120"/>
                <a:ext cx="1368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186000" y="4146120"/>
                <a:ext cx="1368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186000" y="4502520"/>
                <a:ext cx="1368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142440" y="4404600"/>
                <a:ext cx="33840" cy="80640"/>
              </a:xfrm>
              <a:custGeom>
                <a:avLst/>
                <a:gdLst/>
                <a:ahLst/>
                <a:rect l="l" t="t" r="r" b="b"/>
                <a:pathLst>
                  <a:path w="40" h="77">
                    <a:moveTo>
                      <a:pt x="39" y="0"/>
                    </a:moveTo>
                    <a:lnTo>
                      <a:pt x="39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232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149280" y="4416480"/>
                <a:ext cx="18720" cy="2808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21" y="0"/>
                    </a:moveTo>
                    <a:lnTo>
                      <a:pt x="21" y="26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149280" y="4456440"/>
                <a:ext cx="18720" cy="1764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1" y="0"/>
                    </a:moveTo>
                    <a:lnTo>
                      <a:pt x="21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196800" y="4404600"/>
                <a:ext cx="33840" cy="80640"/>
              </a:xfrm>
              <a:custGeom>
                <a:avLst/>
                <a:gdLst/>
                <a:ahLst/>
                <a:rect l="l" t="t" r="r" b="b"/>
                <a:pathLst>
                  <a:path w="40" h="77">
                    <a:moveTo>
                      <a:pt x="39" y="0"/>
                    </a:moveTo>
                    <a:lnTo>
                      <a:pt x="39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232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202920" y="4416480"/>
                <a:ext cx="21240" cy="2808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4" y="0"/>
                    </a:moveTo>
                    <a:lnTo>
                      <a:pt x="24" y="26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202920" y="4456440"/>
                <a:ext cx="21240" cy="1764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24" y="0"/>
                    </a:moveTo>
                    <a:lnTo>
                      <a:pt x="24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093840" y="4041000"/>
                <a:ext cx="14400" cy="6696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481b08"/>
                  </a:gs>
                  <a:gs pos="100000">
                    <a:srgbClr val="f35b1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064320" y="4041000"/>
                <a:ext cx="14400" cy="6696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4b4703"/>
                  </a:gs>
                  <a:gs pos="100000">
                    <a:srgbClr val="fdf10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033360" y="4041000"/>
                <a:ext cx="14400" cy="6696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003300"/>
                  </a:gs>
                  <a:gs pos="100000">
                    <a:srgbClr val="00a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005280" y="4041000"/>
                <a:ext cx="14400" cy="6696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003300"/>
                  </a:gs>
                  <a:gs pos="100000">
                    <a:srgbClr val="00a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975400" y="4041000"/>
                <a:ext cx="14400" cy="6696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003300"/>
                  </a:gs>
                  <a:gs pos="100000">
                    <a:srgbClr val="00a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944080" y="4041000"/>
                <a:ext cx="14400" cy="6696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0f1d4a"/>
                  </a:gs>
                  <a:gs pos="100000">
                    <a:srgbClr val="3365f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916000" y="4041000"/>
                <a:ext cx="14400" cy="6696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0f1d4a"/>
                  </a:gs>
                  <a:gs pos="100000">
                    <a:srgbClr val="3365f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885400" y="4041000"/>
                <a:ext cx="14040" cy="6696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3d040e"/>
                  </a:gs>
                  <a:gs pos="100000">
                    <a:srgbClr val="cf0e3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855520" y="4041000"/>
                <a:ext cx="14400" cy="6696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3d040e"/>
                  </a:gs>
                  <a:gs pos="100000">
                    <a:srgbClr val="cf0e3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0" name=""/>
              <p:cNvGrpSpPr/>
              <p:nvPr/>
            </p:nvGrpSpPr>
            <p:grpSpPr>
              <a:xfrm>
                <a:off x="3198600" y="4041000"/>
                <a:ext cx="33840" cy="38160"/>
                <a:chOff x="3198600" y="4041000"/>
                <a:chExt cx="33840" cy="381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3208680" y="406152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8" y="16"/>
                      </a:move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16" y="8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211200" y="404280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" y="16"/>
                      </a:moveTo>
                      <a:lnTo>
                        <a:pt x="1" y="14"/>
                      </a:lnTo>
                      <a:lnTo>
                        <a:pt x="0" y="12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1" y="9"/>
                      </a:lnTo>
                      <a:lnTo>
                        <a:pt x="2" y="8"/>
                      </a:lnTo>
                      <a:lnTo>
                        <a:pt x="8" y="0"/>
                      </a:lnTo>
                      <a:lnTo>
                        <a:pt x="16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7" y="14"/>
                      </a:lnTo>
                      <a:lnTo>
                        <a:pt x="5" y="14"/>
                      </a:lnTo>
                      <a:lnTo>
                        <a:pt x="4" y="14"/>
                      </a:lnTo>
                      <a:lnTo>
                        <a:pt x="3" y="14"/>
                      </a:lnTo>
                      <a:lnTo>
                        <a:pt x="2" y="14"/>
                      </a:lnTo>
                      <a:lnTo>
                        <a:pt x="1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3218040" y="405036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8" y="16"/>
                      </a:move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16" y="8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198600" y="405036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8" y="16"/>
                      </a:move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16" y="8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3208680" y="404100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8" y="0"/>
                      </a:moveTo>
                      <a:lnTo>
                        <a:pt x="16" y="8"/>
                      </a:lnTo>
                      <a:lnTo>
                        <a:pt x="8" y="16"/>
                      </a:lnTo>
                      <a:lnTo>
                        <a:pt x="0" y="8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202560" y="405756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4" y="0"/>
                      </a:moveTo>
                      <a:lnTo>
                        <a:pt x="16" y="1"/>
                      </a:lnTo>
                      <a:lnTo>
                        <a:pt x="16" y="4"/>
                      </a:lnTo>
                      <a:lnTo>
                        <a:pt x="16" y="5"/>
                      </a:lnTo>
                      <a:lnTo>
                        <a:pt x="16" y="5"/>
                      </a:lnTo>
                      <a:lnTo>
                        <a:pt x="14" y="6"/>
                      </a:lnTo>
                      <a:lnTo>
                        <a:pt x="14" y="8"/>
                      </a:lnTo>
                      <a:lnTo>
                        <a:pt x="8" y="16"/>
                      </a:ln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10" y="1"/>
                      </a:lnTo>
                      <a:lnTo>
                        <a:pt x="11" y="1"/>
                      </a:lnTo>
                      <a:lnTo>
                        <a:pt x="12" y="1"/>
                      </a:lnTo>
                      <a:lnTo>
                        <a:pt x="13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213000" y="405648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16" y="8"/>
                      </a:lnTo>
                      <a:lnTo>
                        <a:pt x="7" y="1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" y="7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202560" y="404280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4"/>
                      </a:moveTo>
                      <a:lnTo>
                        <a:pt x="14" y="16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8" y="14"/>
                      </a:ln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4" y="8"/>
                      </a:lnTo>
                      <a:lnTo>
                        <a:pt x="14" y="10"/>
                      </a:lnTo>
                      <a:lnTo>
                        <a:pt x="14" y="11"/>
                      </a:lnTo>
                      <a:lnTo>
                        <a:pt x="14" y="12"/>
                      </a:lnTo>
                      <a:lnTo>
                        <a:pt x="14" y="13"/>
                      </a:lnTo>
                      <a:lnTo>
                        <a:pt x="16" y="14"/>
                      </a:lnTo>
                    </a:path>
                  </a:pathLst>
                </a:cu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9" name=""/>
              <p:cNvSpPr/>
              <p:nvPr/>
            </p:nvSpPr>
            <p:spPr>
              <a:xfrm>
                <a:off x="3189960" y="4028760"/>
                <a:ext cx="45720" cy="17640"/>
              </a:xfrm>
              <a:custGeom>
                <a:avLst/>
                <a:gdLst/>
                <a:ahLst/>
                <a:rect l="l" t="t" r="r" b="b"/>
                <a:pathLst>
                  <a:path w="54" h="17">
                    <a:moveTo>
                      <a:pt x="53" y="0"/>
                    </a:moveTo>
                    <a:lnTo>
                      <a:pt x="53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53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198600" y="4079880"/>
                <a:ext cx="28080" cy="1764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32" y="0"/>
                    </a:moveTo>
                    <a:lnTo>
                      <a:pt x="32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1" name=""/>
          <p:cNvSpPr/>
          <p:nvPr/>
        </p:nvSpPr>
        <p:spPr>
          <a:xfrm>
            <a:off x="6019920" y="1981080"/>
            <a:ext cx="1523880" cy="35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Mancheste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3048120" y="3200400"/>
            <a:ext cx="609480" cy="53352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1981080" y="1981080"/>
            <a:ext cx="1371600" cy="35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lasgo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733920" y="1892520"/>
            <a:ext cx="1755720" cy="1251000"/>
            <a:chOff x="3733920" y="1892520"/>
            <a:chExt cx="1755720" cy="1251000"/>
          </a:xfrm>
        </p:grpSpPr>
        <p:sp>
          <p:nvSpPr>
            <p:cNvPr id="555" name=""/>
            <p:cNvSpPr/>
            <p:nvPr/>
          </p:nvSpPr>
          <p:spPr>
            <a:xfrm>
              <a:off x="3733920" y="2181240"/>
              <a:ext cx="810720" cy="65052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2988000">
              <a:off x="3948840" y="2130840"/>
              <a:ext cx="951120" cy="70272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5196600">
              <a:off x="4088520" y="2112480"/>
              <a:ext cx="951120" cy="68832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8173800">
              <a:off x="4158720" y="2237040"/>
              <a:ext cx="1027080" cy="6368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3256800">
              <a:off x="4358880" y="2212200"/>
              <a:ext cx="951120" cy="68796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9538800">
              <a:off x="4382280" y="2231280"/>
              <a:ext cx="1027080" cy="63720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221720" y="2332440"/>
              <a:ext cx="700560" cy="274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657600" y="4295880"/>
            <a:ext cx="1590480" cy="1301040"/>
            <a:chOff x="3657600" y="4295880"/>
            <a:chExt cx="1590480" cy="1301040"/>
          </a:xfrm>
        </p:grpSpPr>
        <p:sp>
          <p:nvSpPr>
            <p:cNvPr id="563" name=""/>
            <p:cNvSpPr/>
            <p:nvPr/>
          </p:nvSpPr>
          <p:spPr>
            <a:xfrm>
              <a:off x="3657600" y="4566960"/>
              <a:ext cx="722880" cy="72684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2988000">
              <a:off x="3740760" y="4590720"/>
              <a:ext cx="1062720" cy="62604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5196600">
              <a:off x="3866040" y="4567680"/>
              <a:ext cx="1062720" cy="61344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8173800">
              <a:off x="4036320" y="4629600"/>
              <a:ext cx="915480" cy="71172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3256800">
              <a:off x="4106880" y="4679640"/>
              <a:ext cx="1062720" cy="61308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9538800">
              <a:off x="4235040" y="4622400"/>
              <a:ext cx="915480" cy="71208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091040" y="4735080"/>
              <a:ext cx="626400" cy="229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 txBox="1"/>
          <p:nvPr/>
        </p:nvSpPr>
        <p:spPr>
          <a:xfrm>
            <a:off x="3809880" y="4724280"/>
            <a:ext cx="1219320" cy="3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UBLIC NETWORK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3733920" y="3138120"/>
            <a:ext cx="1694880" cy="1327680"/>
            <a:chOff x="3733920" y="3138120"/>
            <a:chExt cx="1694880" cy="1327680"/>
          </a:xfrm>
        </p:grpSpPr>
        <p:sp>
          <p:nvSpPr>
            <p:cNvPr id="572" name=""/>
            <p:cNvSpPr/>
            <p:nvPr/>
          </p:nvSpPr>
          <p:spPr>
            <a:xfrm>
              <a:off x="3733920" y="3423960"/>
              <a:ext cx="774000" cy="72612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2988000">
              <a:off x="3861720" y="3424320"/>
              <a:ext cx="1061640" cy="6706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5196600">
              <a:off x="3995280" y="3402720"/>
              <a:ext cx="1061640" cy="65700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8173800">
              <a:off x="4140000" y="3486240"/>
              <a:ext cx="980640" cy="71100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3256800">
              <a:off x="4253760" y="3514320"/>
              <a:ext cx="1061640" cy="65700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9538800">
              <a:off x="4353120" y="3479400"/>
              <a:ext cx="980640" cy="71136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197240" y="3591360"/>
              <a:ext cx="672840" cy="274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3505320" y="3657600"/>
            <a:ext cx="274680" cy="92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809880" y="3581280"/>
            <a:ext cx="1371600" cy="4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IVATE NETWORK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038480" y="2362320"/>
            <a:ext cx="1173240" cy="44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TERNET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582" name="4424" descr=""/>
          <p:cNvPicPr/>
          <p:nvPr/>
        </p:nvPicPr>
        <p:blipFill>
          <a:blip r:embed="rId3"/>
          <a:stretch/>
        </p:blipFill>
        <p:spPr>
          <a:xfrm>
            <a:off x="1371600" y="3962520"/>
            <a:ext cx="533520" cy="365040"/>
          </a:xfrm>
          <a:prstGeom prst="rect">
            <a:avLst/>
          </a:prstGeom>
          <a:ln w="0">
            <a:noFill/>
          </a:ln>
        </p:spPr>
      </p:pic>
      <p:pic>
        <p:nvPicPr>
          <p:cNvPr id="583" name="4424" descr=""/>
          <p:cNvPicPr/>
          <p:nvPr/>
        </p:nvPicPr>
        <p:blipFill>
          <a:blip r:embed="rId4"/>
          <a:stretch/>
        </p:blipFill>
        <p:spPr>
          <a:xfrm>
            <a:off x="2133720" y="3962520"/>
            <a:ext cx="533160" cy="36504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5"/>
          <a:stretch/>
        </p:blipFill>
        <p:spPr>
          <a:xfrm>
            <a:off x="2438280" y="2895480"/>
            <a:ext cx="533520" cy="4860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6"/>
          <a:stretch/>
        </p:blipFill>
        <p:spPr>
          <a:xfrm>
            <a:off x="1600200" y="2895480"/>
            <a:ext cx="533520" cy="486000"/>
          </a:xfrm>
          <a:prstGeom prst="rect">
            <a:avLst/>
          </a:prstGeom>
          <a:ln w="0">
            <a:noFill/>
          </a:ln>
        </p:spPr>
      </p:pic>
      <p:grpSp>
        <p:nvGrpSpPr>
          <p:cNvPr id="586" name=""/>
          <p:cNvGrpSpPr/>
          <p:nvPr/>
        </p:nvGrpSpPr>
        <p:grpSpPr>
          <a:xfrm>
            <a:off x="5486400" y="3809880"/>
            <a:ext cx="541080" cy="696600"/>
            <a:chOff x="5486400" y="3809880"/>
            <a:chExt cx="541080" cy="696600"/>
          </a:xfrm>
        </p:grpSpPr>
        <p:grpSp>
          <p:nvGrpSpPr>
            <p:cNvPr id="587" name=""/>
            <p:cNvGrpSpPr/>
            <p:nvPr/>
          </p:nvGrpSpPr>
          <p:grpSpPr>
            <a:xfrm>
              <a:off x="5486400" y="3809880"/>
              <a:ext cx="541080" cy="696600"/>
              <a:chOff x="5486400" y="3809880"/>
              <a:chExt cx="541080" cy="696600"/>
            </a:xfrm>
          </p:grpSpPr>
          <p:sp>
            <p:nvSpPr>
              <p:cNvPr id="588" name=""/>
              <p:cNvSpPr/>
              <p:nvPr/>
            </p:nvSpPr>
            <p:spPr>
              <a:xfrm>
                <a:off x="5486400" y="3932280"/>
                <a:ext cx="441720" cy="574200"/>
              </a:xfrm>
              <a:custGeom>
                <a:avLst/>
                <a:gdLst/>
                <a:ahLst/>
                <a:rect l="l" t="t" r="r" b="b"/>
                <a:pathLst>
                  <a:path w="519" h="548">
                    <a:moveTo>
                      <a:pt x="0" y="0"/>
                    </a:moveTo>
                    <a:lnTo>
                      <a:pt x="518" y="0"/>
                    </a:lnTo>
                    <a:lnTo>
                      <a:pt x="518" y="547"/>
                    </a:lnTo>
                    <a:lnTo>
                      <a:pt x="0" y="54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75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486400" y="3811680"/>
                <a:ext cx="539640" cy="119520"/>
              </a:xfrm>
              <a:custGeom>
                <a:avLst/>
                <a:gdLst/>
                <a:ahLst/>
                <a:rect l="l" t="t" r="r" b="b"/>
                <a:pathLst>
                  <a:path w="634" h="114">
                    <a:moveTo>
                      <a:pt x="517" y="113"/>
                    </a:moveTo>
                    <a:lnTo>
                      <a:pt x="633" y="0"/>
                    </a:lnTo>
                    <a:lnTo>
                      <a:pt x="114" y="0"/>
                    </a:lnTo>
                    <a:lnTo>
                      <a:pt x="0" y="113"/>
                    </a:lnTo>
                    <a:lnTo>
                      <a:pt x="517" y="113"/>
                    </a:lnTo>
                  </a:path>
                </a:pathLst>
              </a:custGeom>
              <a:solidFill>
                <a:srgbClr val="6f7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928120" y="3809880"/>
                <a:ext cx="99360" cy="693720"/>
              </a:xfrm>
              <a:custGeom>
                <a:avLst/>
                <a:gdLst/>
                <a:ahLst/>
                <a:rect l="l" t="t" r="r" b="b"/>
                <a:pathLst>
                  <a:path w="117" h="662">
                    <a:moveTo>
                      <a:pt x="0" y="117"/>
                    </a:moveTo>
                    <a:lnTo>
                      <a:pt x="0" y="661"/>
                    </a:lnTo>
                    <a:lnTo>
                      <a:pt x="116" y="544"/>
                    </a:lnTo>
                    <a:lnTo>
                      <a:pt x="116" y="0"/>
                    </a:lnTo>
                    <a:lnTo>
                      <a:pt x="0" y="117"/>
                    </a:lnTo>
                  </a:path>
                </a:pathLst>
              </a:custGeom>
              <a:solidFill>
                <a:srgbClr val="232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5509800" y="3963600"/>
              <a:ext cx="392760" cy="492120"/>
              <a:chOff x="5509800" y="3963600"/>
              <a:chExt cx="392760" cy="492120"/>
            </a:xfrm>
          </p:grpSpPr>
          <p:sp>
            <p:nvSpPr>
              <p:cNvPr id="592" name=""/>
              <p:cNvSpPr/>
              <p:nvPr/>
            </p:nvSpPr>
            <p:spPr>
              <a:xfrm>
                <a:off x="5723280" y="4307400"/>
                <a:ext cx="13320" cy="37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510520" y="3967560"/>
                <a:ext cx="262800" cy="478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538600" y="3963600"/>
                <a:ext cx="0" cy="4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567400" y="3963600"/>
                <a:ext cx="0" cy="4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595480" y="3963600"/>
                <a:ext cx="0" cy="4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627160" y="3963600"/>
                <a:ext cx="0" cy="4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655960" y="3963600"/>
                <a:ext cx="0" cy="4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687640" y="3963600"/>
                <a:ext cx="0" cy="4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16440" y="3963600"/>
                <a:ext cx="0" cy="4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746320" y="3963600"/>
                <a:ext cx="0" cy="4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528520" y="4435920"/>
                <a:ext cx="1368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558040" y="4435920"/>
                <a:ext cx="1368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587200" y="4435920"/>
                <a:ext cx="1368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617800" y="4435920"/>
                <a:ext cx="1368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647320" y="4437360"/>
                <a:ext cx="1368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675760" y="4437360"/>
                <a:ext cx="1332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706360" y="4437360"/>
                <a:ext cx="1332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736240" y="4437360"/>
                <a:ext cx="1368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764320" y="4437360"/>
                <a:ext cx="1332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528520" y="3964680"/>
                <a:ext cx="1368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557320" y="3964680"/>
                <a:ext cx="1368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587200" y="3964680"/>
                <a:ext cx="1368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617080" y="3964680"/>
                <a:ext cx="1332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647320" y="3964680"/>
                <a:ext cx="1368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676480" y="3964680"/>
                <a:ext cx="1368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706360" y="3964680"/>
                <a:ext cx="1332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736240" y="3964680"/>
                <a:ext cx="1368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764320" y="3964680"/>
                <a:ext cx="1332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723280" y="4245480"/>
                <a:ext cx="13320" cy="3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723280" y="4105080"/>
                <a:ext cx="14400" cy="41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723280" y="4049280"/>
                <a:ext cx="14400" cy="3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724000" y="4354200"/>
                <a:ext cx="1368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717520" y="3964680"/>
                <a:ext cx="14400" cy="8028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747040" y="3964680"/>
                <a:ext cx="14400" cy="8028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716440" y="3964680"/>
                <a:ext cx="14400" cy="8028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687640" y="3964680"/>
                <a:ext cx="14400" cy="8028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659560" y="3964680"/>
                <a:ext cx="14400" cy="8028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628600" y="3964680"/>
                <a:ext cx="14400" cy="8028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595480" y="3964680"/>
                <a:ext cx="14400" cy="8028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569200" y="3964680"/>
                <a:ext cx="14400" cy="8028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9320" y="3964680"/>
                <a:ext cx="14400" cy="8028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747040" y="4371120"/>
                <a:ext cx="14400" cy="7812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716440" y="4371120"/>
                <a:ext cx="14400" cy="7812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687640" y="4371120"/>
                <a:ext cx="14400" cy="7812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659560" y="4371120"/>
                <a:ext cx="14400" cy="7812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628600" y="4371120"/>
                <a:ext cx="14400" cy="7812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595480" y="4371120"/>
                <a:ext cx="14400" cy="7812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569200" y="4371120"/>
                <a:ext cx="14400" cy="7812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539320" y="4371120"/>
                <a:ext cx="14400" cy="7812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634720" y="4211640"/>
                <a:ext cx="14400" cy="143640"/>
              </a:xfrm>
              <a:custGeom>
                <a:avLst/>
                <a:gdLst/>
                <a:ahLst/>
                <a:rect l="l" t="t" r="r" b="b"/>
                <a:pathLst>
                  <a:path w="17" h="137">
                    <a:moveTo>
                      <a:pt x="16" y="13"/>
                    </a:moveTo>
                    <a:lnTo>
                      <a:pt x="16" y="136"/>
                    </a:lnTo>
                    <a:lnTo>
                      <a:pt x="0" y="13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37"/>
                    </a:lnTo>
                    <a:lnTo>
                      <a:pt x="16" y="13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42" name=""/>
              <p:cNvGrpSpPr/>
              <p:nvPr/>
            </p:nvGrpSpPr>
            <p:grpSpPr>
              <a:xfrm>
                <a:off x="5636520" y="4211640"/>
                <a:ext cx="14400" cy="143280"/>
                <a:chOff x="5636520" y="4211640"/>
                <a:chExt cx="14400" cy="14328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5636520" y="421164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636520" y="423036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2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5636520" y="425052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636520" y="426492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5636520" y="428400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5636520" y="430272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636520" y="431748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2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5636520" y="433728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1" name=""/>
              <p:cNvSpPr/>
              <p:nvPr/>
            </p:nvSpPr>
            <p:spPr>
              <a:xfrm>
                <a:off x="5605920" y="4247280"/>
                <a:ext cx="14400" cy="10800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9"/>
                    </a:moveTo>
                    <a:lnTo>
                      <a:pt x="16" y="102"/>
                    </a:lnTo>
                    <a:lnTo>
                      <a:pt x="0" y="10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7"/>
                    </a:lnTo>
                    <a:lnTo>
                      <a:pt x="16" y="9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608440" y="425088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608440" y="426636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2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608440" y="428652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608440" y="430524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608440" y="432288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608440" y="433944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756400" y="4138560"/>
                <a:ext cx="14400" cy="40680"/>
              </a:xfrm>
              <a:custGeom>
                <a:avLst/>
                <a:gdLst/>
                <a:ahLst/>
                <a:rect l="l" t="t" r="r" b="b"/>
                <a:pathLst>
                  <a:path w="17" h="39">
                    <a:moveTo>
                      <a:pt x="16" y="3"/>
                    </a:moveTo>
                    <a:lnTo>
                      <a:pt x="16" y="38"/>
                    </a:lnTo>
                    <a:lnTo>
                      <a:pt x="0" y="3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1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756400" y="431640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6" y="3"/>
                    </a:moveTo>
                    <a:lnTo>
                      <a:pt x="16" y="37"/>
                    </a:lnTo>
                    <a:lnTo>
                      <a:pt x="0" y="3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9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664600" y="4211640"/>
                <a:ext cx="15840" cy="143640"/>
              </a:xfrm>
              <a:custGeom>
                <a:avLst/>
                <a:gdLst/>
                <a:ahLst/>
                <a:rect l="l" t="t" r="r" b="b"/>
                <a:pathLst>
                  <a:path w="19" h="137">
                    <a:moveTo>
                      <a:pt x="18" y="13"/>
                    </a:moveTo>
                    <a:lnTo>
                      <a:pt x="18" y="136"/>
                    </a:lnTo>
                    <a:lnTo>
                      <a:pt x="0" y="13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37"/>
                    </a:lnTo>
                    <a:lnTo>
                      <a:pt x="18" y="13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61" name=""/>
              <p:cNvGrpSpPr/>
              <p:nvPr/>
            </p:nvGrpSpPr>
            <p:grpSpPr>
              <a:xfrm>
                <a:off x="5667120" y="4211640"/>
                <a:ext cx="14400" cy="143280"/>
                <a:chOff x="5667120" y="4211640"/>
                <a:chExt cx="14400" cy="14328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5667120" y="421164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667120" y="423036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2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667120" y="425052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5667120" y="426492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5667120" y="428400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667120" y="430272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5667120" y="431748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2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667120" y="433728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0" name=""/>
              <p:cNvSpPr/>
              <p:nvPr/>
            </p:nvSpPr>
            <p:spPr>
              <a:xfrm>
                <a:off x="5693760" y="4211640"/>
                <a:ext cx="16920" cy="143640"/>
              </a:xfrm>
              <a:custGeom>
                <a:avLst/>
                <a:gdLst/>
                <a:ahLst/>
                <a:rect l="l" t="t" r="r" b="b"/>
                <a:pathLst>
                  <a:path w="20" h="137">
                    <a:moveTo>
                      <a:pt x="19" y="13"/>
                    </a:moveTo>
                    <a:lnTo>
                      <a:pt x="19" y="136"/>
                    </a:lnTo>
                    <a:lnTo>
                      <a:pt x="0" y="13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37"/>
                    </a:lnTo>
                    <a:lnTo>
                      <a:pt x="19" y="13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71" name=""/>
              <p:cNvGrpSpPr/>
              <p:nvPr/>
            </p:nvGrpSpPr>
            <p:grpSpPr>
              <a:xfrm>
                <a:off x="5695200" y="4211640"/>
                <a:ext cx="14400" cy="143280"/>
                <a:chOff x="5695200" y="4211640"/>
                <a:chExt cx="14400" cy="14328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5695200" y="421164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695200" y="423036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2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695200" y="425052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5695200" y="426492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5695200" y="428400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695200" y="430272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695200" y="431748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2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5695200" y="433728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0" name=""/>
              <p:cNvSpPr/>
              <p:nvPr/>
            </p:nvSpPr>
            <p:spPr>
              <a:xfrm>
                <a:off x="5576040" y="4247280"/>
                <a:ext cx="14400" cy="10800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9"/>
                    </a:moveTo>
                    <a:lnTo>
                      <a:pt x="16" y="102"/>
                    </a:lnTo>
                    <a:lnTo>
                      <a:pt x="0" y="10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7"/>
                    </a:lnTo>
                    <a:lnTo>
                      <a:pt x="16" y="9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579640" y="425088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79640" y="426636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2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579640" y="428652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579640" y="430524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579640" y="432288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579640" y="433944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724000" y="4152240"/>
                <a:ext cx="1368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605920" y="4083120"/>
                <a:ext cx="14400" cy="10980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9"/>
                    </a:moveTo>
                    <a:lnTo>
                      <a:pt x="16" y="104"/>
                    </a:lnTo>
                    <a:lnTo>
                      <a:pt x="0" y="10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8"/>
                    </a:lnTo>
                    <a:lnTo>
                      <a:pt x="16" y="9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608440" y="408600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608440" y="410076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2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608440" y="411948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608440" y="413640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608440" y="415512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608440" y="417420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576040" y="4083120"/>
                <a:ext cx="14400" cy="10980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9"/>
                    </a:moveTo>
                    <a:lnTo>
                      <a:pt x="16" y="104"/>
                    </a:lnTo>
                    <a:lnTo>
                      <a:pt x="0" y="10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8"/>
                    </a:lnTo>
                    <a:lnTo>
                      <a:pt x="16" y="9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579640" y="408600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579640" y="410076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2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579640" y="411948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579640" y="413640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79640" y="415512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579640" y="417420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547960" y="422640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6" y="3"/>
                    </a:moveTo>
                    <a:lnTo>
                      <a:pt x="16" y="37"/>
                    </a:lnTo>
                    <a:lnTo>
                      <a:pt x="0" y="3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9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547960" y="431460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6" y="3"/>
                    </a:moveTo>
                    <a:lnTo>
                      <a:pt x="16" y="37"/>
                    </a:lnTo>
                    <a:lnTo>
                      <a:pt x="0" y="3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1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518080" y="422640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6" y="3"/>
                    </a:moveTo>
                    <a:lnTo>
                      <a:pt x="16" y="37"/>
                    </a:lnTo>
                    <a:lnTo>
                      <a:pt x="0" y="3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9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518080" y="431460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6" y="3"/>
                    </a:moveTo>
                    <a:lnTo>
                      <a:pt x="16" y="37"/>
                    </a:lnTo>
                    <a:lnTo>
                      <a:pt x="0" y="3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1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509800" y="3964680"/>
                <a:ext cx="14400" cy="8028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509800" y="4371120"/>
                <a:ext cx="14400" cy="7812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852880" y="4078800"/>
                <a:ext cx="0" cy="37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799960" y="4078800"/>
                <a:ext cx="101880" cy="370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796360" y="4439160"/>
                <a:ext cx="1368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796360" y="4080960"/>
                <a:ext cx="1368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852880" y="4080960"/>
                <a:ext cx="1368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852880" y="4437360"/>
                <a:ext cx="13680" cy="1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809320" y="4339440"/>
                <a:ext cx="33840" cy="80640"/>
              </a:xfrm>
              <a:custGeom>
                <a:avLst/>
                <a:gdLst/>
                <a:ahLst/>
                <a:rect l="l" t="t" r="r" b="b"/>
                <a:pathLst>
                  <a:path w="40" h="77">
                    <a:moveTo>
                      <a:pt x="39" y="0"/>
                    </a:moveTo>
                    <a:lnTo>
                      <a:pt x="39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232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816160" y="4351320"/>
                <a:ext cx="18720" cy="2808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21" y="0"/>
                    </a:moveTo>
                    <a:lnTo>
                      <a:pt x="21" y="26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816160" y="4391280"/>
                <a:ext cx="18720" cy="1764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1" y="0"/>
                    </a:moveTo>
                    <a:lnTo>
                      <a:pt x="21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863680" y="4339440"/>
                <a:ext cx="33840" cy="80640"/>
              </a:xfrm>
              <a:custGeom>
                <a:avLst/>
                <a:gdLst/>
                <a:ahLst/>
                <a:rect l="l" t="t" r="r" b="b"/>
                <a:pathLst>
                  <a:path w="40" h="77">
                    <a:moveTo>
                      <a:pt x="39" y="0"/>
                    </a:moveTo>
                    <a:lnTo>
                      <a:pt x="39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232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869800" y="4351320"/>
                <a:ext cx="21240" cy="2808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4" y="0"/>
                    </a:moveTo>
                    <a:lnTo>
                      <a:pt x="24" y="26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869800" y="4391280"/>
                <a:ext cx="21240" cy="1764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24" y="0"/>
                    </a:moveTo>
                    <a:lnTo>
                      <a:pt x="24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760720" y="3975840"/>
                <a:ext cx="14400" cy="6696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481b08"/>
                  </a:gs>
                  <a:gs pos="100000">
                    <a:srgbClr val="f35b1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731200" y="3975840"/>
                <a:ext cx="14400" cy="6696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4b4703"/>
                  </a:gs>
                  <a:gs pos="100000">
                    <a:srgbClr val="fdf10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700240" y="3975840"/>
                <a:ext cx="14400" cy="6696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003300"/>
                  </a:gs>
                  <a:gs pos="100000">
                    <a:srgbClr val="00a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672160" y="3975840"/>
                <a:ext cx="14400" cy="6696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003300"/>
                  </a:gs>
                  <a:gs pos="100000">
                    <a:srgbClr val="00a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642280" y="3975840"/>
                <a:ext cx="14400" cy="6696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003300"/>
                  </a:gs>
                  <a:gs pos="100000">
                    <a:srgbClr val="00a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610960" y="3975840"/>
                <a:ext cx="14400" cy="6696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0f1d4a"/>
                  </a:gs>
                  <a:gs pos="100000">
                    <a:srgbClr val="3365f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582880" y="3975840"/>
                <a:ext cx="14400" cy="6696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0f1d4a"/>
                  </a:gs>
                  <a:gs pos="100000">
                    <a:srgbClr val="3365f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552280" y="3975840"/>
                <a:ext cx="14040" cy="6696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3d040e"/>
                  </a:gs>
                  <a:gs pos="100000">
                    <a:srgbClr val="cf0e3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522400" y="3975840"/>
                <a:ext cx="14400" cy="6696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3d040e"/>
                  </a:gs>
                  <a:gs pos="100000">
                    <a:srgbClr val="cf0e3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29" name=""/>
              <p:cNvGrpSpPr/>
              <p:nvPr/>
            </p:nvGrpSpPr>
            <p:grpSpPr>
              <a:xfrm>
                <a:off x="5865480" y="3975840"/>
                <a:ext cx="33840" cy="38160"/>
                <a:chOff x="5865480" y="3975840"/>
                <a:chExt cx="33840" cy="3816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5875560" y="399636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8" y="16"/>
                      </a:move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16" y="8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5878080" y="397764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" y="16"/>
                      </a:moveTo>
                      <a:lnTo>
                        <a:pt x="1" y="14"/>
                      </a:lnTo>
                      <a:lnTo>
                        <a:pt x="0" y="12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1" y="9"/>
                      </a:lnTo>
                      <a:lnTo>
                        <a:pt x="2" y="8"/>
                      </a:lnTo>
                      <a:lnTo>
                        <a:pt x="8" y="0"/>
                      </a:lnTo>
                      <a:lnTo>
                        <a:pt x="16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7" y="14"/>
                      </a:lnTo>
                      <a:lnTo>
                        <a:pt x="5" y="14"/>
                      </a:lnTo>
                      <a:lnTo>
                        <a:pt x="4" y="14"/>
                      </a:lnTo>
                      <a:lnTo>
                        <a:pt x="3" y="14"/>
                      </a:lnTo>
                      <a:lnTo>
                        <a:pt x="2" y="14"/>
                      </a:lnTo>
                      <a:lnTo>
                        <a:pt x="1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884920" y="398520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8" y="16"/>
                      </a:move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16" y="8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5865480" y="398520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8" y="16"/>
                      </a:move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16" y="8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5875560" y="397584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8" y="0"/>
                      </a:moveTo>
                      <a:lnTo>
                        <a:pt x="16" y="8"/>
                      </a:lnTo>
                      <a:lnTo>
                        <a:pt x="8" y="16"/>
                      </a:lnTo>
                      <a:lnTo>
                        <a:pt x="0" y="8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5869440" y="399240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4" y="0"/>
                      </a:moveTo>
                      <a:lnTo>
                        <a:pt x="16" y="1"/>
                      </a:lnTo>
                      <a:lnTo>
                        <a:pt x="16" y="4"/>
                      </a:lnTo>
                      <a:lnTo>
                        <a:pt x="16" y="5"/>
                      </a:lnTo>
                      <a:lnTo>
                        <a:pt x="16" y="5"/>
                      </a:lnTo>
                      <a:lnTo>
                        <a:pt x="14" y="6"/>
                      </a:lnTo>
                      <a:lnTo>
                        <a:pt x="14" y="8"/>
                      </a:lnTo>
                      <a:lnTo>
                        <a:pt x="8" y="16"/>
                      </a:ln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10" y="1"/>
                      </a:lnTo>
                      <a:lnTo>
                        <a:pt x="11" y="1"/>
                      </a:lnTo>
                      <a:lnTo>
                        <a:pt x="12" y="1"/>
                      </a:lnTo>
                      <a:lnTo>
                        <a:pt x="13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5879880" y="399132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16" y="8"/>
                      </a:lnTo>
                      <a:lnTo>
                        <a:pt x="7" y="1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" y="7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5869440" y="3977640"/>
                  <a:ext cx="14400" cy="17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4"/>
                      </a:moveTo>
                      <a:lnTo>
                        <a:pt x="14" y="16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8" y="14"/>
                      </a:ln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4" y="8"/>
                      </a:lnTo>
                      <a:lnTo>
                        <a:pt x="14" y="10"/>
                      </a:lnTo>
                      <a:lnTo>
                        <a:pt x="14" y="11"/>
                      </a:lnTo>
                      <a:lnTo>
                        <a:pt x="14" y="12"/>
                      </a:lnTo>
                      <a:lnTo>
                        <a:pt x="14" y="13"/>
                      </a:lnTo>
                      <a:lnTo>
                        <a:pt x="16" y="14"/>
                      </a:lnTo>
                    </a:path>
                  </a:pathLst>
                </a:cu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8" name=""/>
              <p:cNvSpPr/>
              <p:nvPr/>
            </p:nvSpPr>
            <p:spPr>
              <a:xfrm>
                <a:off x="5856840" y="3963600"/>
                <a:ext cx="45720" cy="17640"/>
              </a:xfrm>
              <a:custGeom>
                <a:avLst/>
                <a:gdLst/>
                <a:ahLst/>
                <a:rect l="l" t="t" r="r" b="b"/>
                <a:pathLst>
                  <a:path w="54" h="17">
                    <a:moveTo>
                      <a:pt x="53" y="0"/>
                    </a:moveTo>
                    <a:lnTo>
                      <a:pt x="53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53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865480" y="4014720"/>
                <a:ext cx="28080" cy="1764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32" y="0"/>
                    </a:moveTo>
                    <a:lnTo>
                      <a:pt x="32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40" name="" descr=""/>
          <p:cNvPicPr/>
          <p:nvPr/>
        </p:nvPicPr>
        <p:blipFill>
          <a:blip r:embed="rId7"/>
          <a:stretch/>
        </p:blipFill>
        <p:spPr>
          <a:xfrm>
            <a:off x="5334120" y="3200400"/>
            <a:ext cx="609480" cy="533520"/>
          </a:xfrm>
          <a:prstGeom prst="rect">
            <a:avLst/>
          </a:prstGeom>
          <a:ln w="0">
            <a:noFill/>
          </a:ln>
        </p:spPr>
      </p:pic>
      <p:pic>
        <p:nvPicPr>
          <p:cNvPr id="741" name="4424" descr=""/>
          <p:cNvPicPr/>
          <p:nvPr/>
        </p:nvPicPr>
        <p:blipFill>
          <a:blip r:embed="rId8"/>
          <a:stretch/>
        </p:blipFill>
        <p:spPr>
          <a:xfrm>
            <a:off x="7848720" y="3962520"/>
            <a:ext cx="533160" cy="365040"/>
          </a:xfrm>
          <a:prstGeom prst="rect">
            <a:avLst/>
          </a:prstGeom>
          <a:ln w="0">
            <a:noFill/>
          </a:ln>
        </p:spPr>
      </p:pic>
      <p:pic>
        <p:nvPicPr>
          <p:cNvPr id="742" name="4424" descr=""/>
          <p:cNvPicPr/>
          <p:nvPr/>
        </p:nvPicPr>
        <p:blipFill>
          <a:blip r:embed="rId9"/>
          <a:stretch/>
        </p:blipFill>
        <p:spPr>
          <a:xfrm>
            <a:off x="6705720" y="3962520"/>
            <a:ext cx="533160" cy="36504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10"/>
          <a:stretch/>
        </p:blipFill>
        <p:spPr>
          <a:xfrm>
            <a:off x="6705720" y="2819520"/>
            <a:ext cx="533160" cy="48564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11"/>
          <a:stretch/>
        </p:blipFill>
        <p:spPr>
          <a:xfrm>
            <a:off x="7848720" y="2819520"/>
            <a:ext cx="533160" cy="48564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 flipV="1">
            <a:off x="5181480" y="35812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019920" y="365760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93432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93432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815328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001000" y="28195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15328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0199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 flipV="1">
            <a:off x="5867280" y="358128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352680" y="4419720"/>
            <a:ext cx="38124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5029200" y="44956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12"/>
          <a:stretch/>
        </p:blipFill>
        <p:spPr>
          <a:xfrm>
            <a:off x="685800" y="3733920"/>
            <a:ext cx="351000" cy="598320"/>
          </a:xfrm>
          <a:prstGeom prst="rect">
            <a:avLst/>
          </a:prstGeom>
          <a:ln w="0">
            <a:noFill/>
          </a:ln>
        </p:spPr>
      </p:pic>
      <p:sp>
        <p:nvSpPr>
          <p:cNvPr id="757" name=""/>
          <p:cNvSpPr/>
          <p:nvPr/>
        </p:nvSpPr>
        <p:spPr>
          <a:xfrm>
            <a:off x="838080" y="35812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7524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668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43828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60020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838080" y="335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83808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89548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2895480" y="3504960"/>
            <a:ext cx="1526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572000" y="2971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990360" y="-152388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304560" cy="69840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2"/>
          <a:stretch/>
        </p:blipFill>
        <p:spPr>
          <a:xfrm>
            <a:off x="3048120" y="3581280"/>
            <a:ext cx="761760" cy="43992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3"/>
          <a:stretch/>
        </p:blipFill>
        <p:spPr>
          <a:xfrm>
            <a:off x="990720" y="3352680"/>
            <a:ext cx="304560" cy="714600"/>
          </a:xfrm>
          <a:prstGeom prst="rect">
            <a:avLst/>
          </a:prstGeom>
          <a:ln w="0">
            <a:noFill/>
          </a:ln>
        </p:spPr>
      </p:pic>
      <p:grpSp>
        <p:nvGrpSpPr>
          <p:cNvPr id="771" name=""/>
          <p:cNvGrpSpPr/>
          <p:nvPr/>
        </p:nvGrpSpPr>
        <p:grpSpPr>
          <a:xfrm>
            <a:off x="2438280" y="4038480"/>
            <a:ext cx="587520" cy="673200"/>
            <a:chOff x="2438280" y="4038480"/>
            <a:chExt cx="587520" cy="673200"/>
          </a:xfrm>
        </p:grpSpPr>
        <p:grpSp>
          <p:nvGrpSpPr>
            <p:cNvPr id="772" name=""/>
            <p:cNvGrpSpPr/>
            <p:nvPr/>
          </p:nvGrpSpPr>
          <p:grpSpPr>
            <a:xfrm>
              <a:off x="2438280" y="4038480"/>
              <a:ext cx="587520" cy="673200"/>
              <a:chOff x="2438280" y="4038480"/>
              <a:chExt cx="587520" cy="673200"/>
            </a:xfrm>
          </p:grpSpPr>
          <p:sp>
            <p:nvSpPr>
              <p:cNvPr id="773" name=""/>
              <p:cNvSpPr/>
              <p:nvPr/>
            </p:nvSpPr>
            <p:spPr>
              <a:xfrm>
                <a:off x="2438280" y="4156920"/>
                <a:ext cx="479520" cy="554760"/>
              </a:xfrm>
              <a:custGeom>
                <a:avLst/>
                <a:gdLst/>
                <a:ahLst/>
                <a:rect l="l" t="t" r="r" b="b"/>
                <a:pathLst>
                  <a:path w="519" h="548">
                    <a:moveTo>
                      <a:pt x="0" y="0"/>
                    </a:moveTo>
                    <a:lnTo>
                      <a:pt x="518" y="0"/>
                    </a:lnTo>
                    <a:lnTo>
                      <a:pt x="518" y="547"/>
                    </a:lnTo>
                    <a:lnTo>
                      <a:pt x="0" y="54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75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438280" y="4040280"/>
                <a:ext cx="585720" cy="115200"/>
              </a:xfrm>
              <a:custGeom>
                <a:avLst/>
                <a:gdLst/>
                <a:ahLst/>
                <a:rect l="l" t="t" r="r" b="b"/>
                <a:pathLst>
                  <a:path w="634" h="114">
                    <a:moveTo>
                      <a:pt x="517" y="113"/>
                    </a:moveTo>
                    <a:lnTo>
                      <a:pt x="633" y="0"/>
                    </a:lnTo>
                    <a:lnTo>
                      <a:pt x="114" y="0"/>
                    </a:lnTo>
                    <a:lnTo>
                      <a:pt x="0" y="113"/>
                    </a:lnTo>
                    <a:lnTo>
                      <a:pt x="517" y="113"/>
                    </a:lnTo>
                  </a:path>
                </a:pathLst>
              </a:custGeom>
              <a:solidFill>
                <a:srgbClr val="6f7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917800" y="4038480"/>
                <a:ext cx="108000" cy="669960"/>
              </a:xfrm>
              <a:custGeom>
                <a:avLst/>
                <a:gdLst/>
                <a:ahLst/>
                <a:rect l="l" t="t" r="r" b="b"/>
                <a:pathLst>
                  <a:path w="117" h="662">
                    <a:moveTo>
                      <a:pt x="0" y="117"/>
                    </a:moveTo>
                    <a:lnTo>
                      <a:pt x="0" y="661"/>
                    </a:lnTo>
                    <a:lnTo>
                      <a:pt x="116" y="544"/>
                    </a:lnTo>
                    <a:lnTo>
                      <a:pt x="116" y="0"/>
                    </a:lnTo>
                    <a:lnTo>
                      <a:pt x="0" y="117"/>
                    </a:lnTo>
                  </a:path>
                </a:pathLst>
              </a:custGeom>
              <a:solidFill>
                <a:srgbClr val="232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2463840" y="4187160"/>
              <a:ext cx="426240" cy="475560"/>
              <a:chOff x="2463840" y="4187160"/>
              <a:chExt cx="426240" cy="475560"/>
            </a:xfrm>
          </p:grpSpPr>
          <p:sp>
            <p:nvSpPr>
              <p:cNvPr id="777" name=""/>
              <p:cNvSpPr/>
              <p:nvPr/>
            </p:nvSpPr>
            <p:spPr>
              <a:xfrm>
                <a:off x="2695680" y="4519080"/>
                <a:ext cx="14400" cy="3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464560" y="4191120"/>
                <a:ext cx="285480" cy="462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495160" y="4187160"/>
                <a:ext cx="0" cy="46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526480" y="4187160"/>
                <a:ext cx="0" cy="46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556720" y="4187160"/>
                <a:ext cx="0" cy="46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591280" y="4187160"/>
                <a:ext cx="0" cy="46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622600" y="4187160"/>
                <a:ext cx="0" cy="46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656800" y="4187160"/>
                <a:ext cx="0" cy="46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2688120" y="4187160"/>
                <a:ext cx="0" cy="46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2720520" y="4187160"/>
                <a:ext cx="0" cy="46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484000" y="4643280"/>
                <a:ext cx="14760" cy="16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516400" y="4643280"/>
                <a:ext cx="14760" cy="16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547720" y="4643280"/>
                <a:ext cx="14760" cy="16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580840" y="4643280"/>
                <a:ext cx="14760" cy="16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2613240" y="4644720"/>
                <a:ext cx="1476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2643840" y="4644720"/>
                <a:ext cx="1440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677320" y="4644720"/>
                <a:ext cx="1440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709360" y="4644720"/>
                <a:ext cx="1476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739960" y="4644720"/>
                <a:ext cx="1440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2484000" y="4188240"/>
                <a:ext cx="1476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515320" y="4188240"/>
                <a:ext cx="1476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547720" y="4188240"/>
                <a:ext cx="1476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580120" y="4188240"/>
                <a:ext cx="1440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613240" y="4188240"/>
                <a:ext cx="1476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644560" y="4188240"/>
                <a:ext cx="1476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677320" y="4188240"/>
                <a:ext cx="1440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709360" y="4188240"/>
                <a:ext cx="1476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739960" y="4188240"/>
                <a:ext cx="1440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695680" y="4459320"/>
                <a:ext cx="14400" cy="37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695680" y="4323600"/>
                <a:ext cx="15480" cy="40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695680" y="4269960"/>
                <a:ext cx="1548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696400" y="4564440"/>
                <a:ext cx="14760" cy="16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689200" y="4188240"/>
                <a:ext cx="15480" cy="7776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721240" y="4188240"/>
                <a:ext cx="15480" cy="7776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688120" y="4188240"/>
                <a:ext cx="15480" cy="7776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656800" y="4188240"/>
                <a:ext cx="15480" cy="7776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626200" y="4188240"/>
                <a:ext cx="15480" cy="7776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593080" y="4188240"/>
                <a:ext cx="15480" cy="7776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556720" y="4188240"/>
                <a:ext cx="15480" cy="7776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528280" y="4188240"/>
                <a:ext cx="15480" cy="7776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495880" y="4188240"/>
                <a:ext cx="15480" cy="7776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721240" y="4580640"/>
                <a:ext cx="15480" cy="7560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688120" y="4580640"/>
                <a:ext cx="15480" cy="7560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656800" y="4580640"/>
                <a:ext cx="15480" cy="7560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626200" y="4580640"/>
                <a:ext cx="15480" cy="7560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593080" y="4580640"/>
                <a:ext cx="15480" cy="7560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556720" y="4580640"/>
                <a:ext cx="15480" cy="7560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528280" y="4580640"/>
                <a:ext cx="15480" cy="7560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495880" y="4580640"/>
                <a:ext cx="15480" cy="7560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599560" y="4426920"/>
                <a:ext cx="15480" cy="138600"/>
              </a:xfrm>
              <a:custGeom>
                <a:avLst/>
                <a:gdLst/>
                <a:ahLst/>
                <a:rect l="l" t="t" r="r" b="b"/>
                <a:pathLst>
                  <a:path w="17" h="137">
                    <a:moveTo>
                      <a:pt x="16" y="13"/>
                    </a:moveTo>
                    <a:lnTo>
                      <a:pt x="16" y="136"/>
                    </a:lnTo>
                    <a:lnTo>
                      <a:pt x="0" y="13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37"/>
                    </a:lnTo>
                    <a:lnTo>
                      <a:pt x="16" y="13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27" name=""/>
              <p:cNvGrpSpPr/>
              <p:nvPr/>
            </p:nvGrpSpPr>
            <p:grpSpPr>
              <a:xfrm>
                <a:off x="2601360" y="4426920"/>
                <a:ext cx="15480" cy="138240"/>
                <a:chOff x="2601360" y="4426920"/>
                <a:chExt cx="15480" cy="13824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2601360" y="442692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2601360" y="444492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2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2601360" y="446436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601360" y="447840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2601360" y="449676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2601360" y="451476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2601360" y="452916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2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2601360" y="454824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6" name=""/>
              <p:cNvSpPr/>
              <p:nvPr/>
            </p:nvSpPr>
            <p:spPr>
              <a:xfrm>
                <a:off x="2567880" y="4461120"/>
                <a:ext cx="15480" cy="10440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9"/>
                    </a:moveTo>
                    <a:lnTo>
                      <a:pt x="16" y="102"/>
                    </a:lnTo>
                    <a:lnTo>
                      <a:pt x="0" y="10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7"/>
                    </a:lnTo>
                    <a:lnTo>
                      <a:pt x="16" y="9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2570760" y="446436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570760" y="447948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2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570760" y="449892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570760" y="451692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570760" y="453420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570760" y="455040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731680" y="435600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17" h="39">
                    <a:moveTo>
                      <a:pt x="16" y="3"/>
                    </a:moveTo>
                    <a:lnTo>
                      <a:pt x="16" y="38"/>
                    </a:lnTo>
                    <a:lnTo>
                      <a:pt x="0" y="3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1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731680" y="4528080"/>
                <a:ext cx="15480" cy="3852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6" y="3"/>
                    </a:moveTo>
                    <a:lnTo>
                      <a:pt x="16" y="37"/>
                    </a:lnTo>
                    <a:lnTo>
                      <a:pt x="0" y="3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9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631960" y="4426920"/>
                <a:ext cx="17280" cy="138600"/>
              </a:xfrm>
              <a:custGeom>
                <a:avLst/>
                <a:gdLst/>
                <a:ahLst/>
                <a:rect l="l" t="t" r="r" b="b"/>
                <a:pathLst>
                  <a:path w="19" h="137">
                    <a:moveTo>
                      <a:pt x="18" y="13"/>
                    </a:moveTo>
                    <a:lnTo>
                      <a:pt x="18" y="136"/>
                    </a:lnTo>
                    <a:lnTo>
                      <a:pt x="0" y="13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37"/>
                    </a:lnTo>
                    <a:lnTo>
                      <a:pt x="18" y="13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46" name=""/>
              <p:cNvGrpSpPr/>
              <p:nvPr/>
            </p:nvGrpSpPr>
            <p:grpSpPr>
              <a:xfrm>
                <a:off x="2634480" y="4426920"/>
                <a:ext cx="15480" cy="138240"/>
                <a:chOff x="2634480" y="4426920"/>
                <a:chExt cx="15480" cy="138240"/>
              </a:xfrm>
            </p:grpSpPr>
            <p:sp>
              <p:nvSpPr>
                <p:cNvPr id="847" name=""/>
                <p:cNvSpPr/>
                <p:nvPr/>
              </p:nvSpPr>
              <p:spPr>
                <a:xfrm>
                  <a:off x="2634480" y="442692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2634480" y="444492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2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634480" y="446436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2634480" y="447840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2634480" y="449676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2634480" y="451476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2634480" y="452916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2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2634480" y="454824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5" name=""/>
              <p:cNvSpPr/>
              <p:nvPr/>
            </p:nvSpPr>
            <p:spPr>
              <a:xfrm>
                <a:off x="2663280" y="4426920"/>
                <a:ext cx="18360" cy="138600"/>
              </a:xfrm>
              <a:custGeom>
                <a:avLst/>
                <a:gdLst/>
                <a:ahLst/>
                <a:rect l="l" t="t" r="r" b="b"/>
                <a:pathLst>
                  <a:path w="20" h="137">
                    <a:moveTo>
                      <a:pt x="19" y="13"/>
                    </a:moveTo>
                    <a:lnTo>
                      <a:pt x="19" y="136"/>
                    </a:lnTo>
                    <a:lnTo>
                      <a:pt x="0" y="13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37"/>
                    </a:lnTo>
                    <a:lnTo>
                      <a:pt x="19" y="13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56" name=""/>
              <p:cNvGrpSpPr/>
              <p:nvPr/>
            </p:nvGrpSpPr>
            <p:grpSpPr>
              <a:xfrm>
                <a:off x="2665080" y="4426920"/>
                <a:ext cx="15480" cy="138240"/>
                <a:chOff x="2665080" y="4426920"/>
                <a:chExt cx="15480" cy="13824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2665080" y="442692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2665080" y="444492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2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2665080" y="446436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2665080" y="447840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2665080" y="449676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2665080" y="451476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2665080" y="452916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2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665080" y="454824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5" name=""/>
              <p:cNvSpPr/>
              <p:nvPr/>
            </p:nvSpPr>
            <p:spPr>
              <a:xfrm>
                <a:off x="2535840" y="4461120"/>
                <a:ext cx="15480" cy="10440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9"/>
                    </a:moveTo>
                    <a:lnTo>
                      <a:pt x="16" y="102"/>
                    </a:lnTo>
                    <a:lnTo>
                      <a:pt x="0" y="10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7"/>
                    </a:lnTo>
                    <a:lnTo>
                      <a:pt x="16" y="9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539440" y="446436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539440" y="447948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2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539440" y="449892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539440" y="451692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539440" y="453420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539440" y="455040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696400" y="4369320"/>
                <a:ext cx="14760" cy="16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567880" y="4302360"/>
                <a:ext cx="15480" cy="10620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9"/>
                    </a:moveTo>
                    <a:lnTo>
                      <a:pt x="16" y="104"/>
                    </a:lnTo>
                    <a:lnTo>
                      <a:pt x="0" y="10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8"/>
                    </a:lnTo>
                    <a:lnTo>
                      <a:pt x="16" y="9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570760" y="430524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570760" y="431964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2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570760" y="433764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570760" y="435420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570760" y="437220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570760" y="439056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535840" y="4302360"/>
                <a:ext cx="15480" cy="10620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9"/>
                    </a:moveTo>
                    <a:lnTo>
                      <a:pt x="16" y="104"/>
                    </a:lnTo>
                    <a:lnTo>
                      <a:pt x="0" y="10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8"/>
                    </a:lnTo>
                    <a:lnTo>
                      <a:pt x="16" y="9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539440" y="430524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539440" y="431964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2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539440" y="433764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539440" y="435420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539440" y="437220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539440" y="439056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505240" y="4440960"/>
                <a:ext cx="15480" cy="3852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6" y="3"/>
                    </a:moveTo>
                    <a:lnTo>
                      <a:pt x="16" y="37"/>
                    </a:lnTo>
                    <a:lnTo>
                      <a:pt x="0" y="3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9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505240" y="4526280"/>
                <a:ext cx="15480" cy="3816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6" y="3"/>
                    </a:moveTo>
                    <a:lnTo>
                      <a:pt x="16" y="37"/>
                    </a:lnTo>
                    <a:lnTo>
                      <a:pt x="0" y="3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1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472840" y="4440960"/>
                <a:ext cx="15480" cy="3852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6" y="3"/>
                    </a:moveTo>
                    <a:lnTo>
                      <a:pt x="16" y="37"/>
                    </a:lnTo>
                    <a:lnTo>
                      <a:pt x="0" y="3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9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472840" y="4526280"/>
                <a:ext cx="15480" cy="3816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6" y="3"/>
                    </a:moveTo>
                    <a:lnTo>
                      <a:pt x="16" y="37"/>
                    </a:lnTo>
                    <a:lnTo>
                      <a:pt x="0" y="3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1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463840" y="4188240"/>
                <a:ext cx="15480" cy="7776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463840" y="4580640"/>
                <a:ext cx="15480" cy="7560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836080" y="4298400"/>
                <a:ext cx="0" cy="36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778840" y="4298400"/>
                <a:ext cx="110520" cy="358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774880" y="4646520"/>
                <a:ext cx="14760" cy="16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774880" y="4300200"/>
                <a:ext cx="14760" cy="16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836080" y="4300200"/>
                <a:ext cx="14760" cy="16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836080" y="4644720"/>
                <a:ext cx="1476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788920" y="4550400"/>
                <a:ext cx="37080" cy="77760"/>
              </a:xfrm>
              <a:custGeom>
                <a:avLst/>
                <a:gdLst/>
                <a:ahLst/>
                <a:rect l="l" t="t" r="r" b="b"/>
                <a:pathLst>
                  <a:path w="40" h="77">
                    <a:moveTo>
                      <a:pt x="39" y="0"/>
                    </a:moveTo>
                    <a:lnTo>
                      <a:pt x="39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232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796480" y="4561560"/>
                <a:ext cx="20160" cy="2700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21" y="0"/>
                    </a:moveTo>
                    <a:lnTo>
                      <a:pt x="21" y="26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796480" y="4600080"/>
                <a:ext cx="20160" cy="1692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1" y="0"/>
                    </a:moveTo>
                    <a:lnTo>
                      <a:pt x="21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2847960" y="4550400"/>
                <a:ext cx="37080" cy="77760"/>
              </a:xfrm>
              <a:custGeom>
                <a:avLst/>
                <a:gdLst/>
                <a:ahLst/>
                <a:rect l="l" t="t" r="r" b="b"/>
                <a:pathLst>
                  <a:path w="40" h="77">
                    <a:moveTo>
                      <a:pt x="39" y="0"/>
                    </a:moveTo>
                    <a:lnTo>
                      <a:pt x="39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232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2854440" y="4561560"/>
                <a:ext cx="23040" cy="2700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4" y="0"/>
                    </a:moveTo>
                    <a:lnTo>
                      <a:pt x="24" y="26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2854440" y="4600080"/>
                <a:ext cx="23040" cy="1692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24" y="0"/>
                    </a:moveTo>
                    <a:lnTo>
                      <a:pt x="24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2736360" y="4199040"/>
                <a:ext cx="15480" cy="6480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481b08"/>
                  </a:gs>
                  <a:gs pos="100000">
                    <a:srgbClr val="f35b1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2703960" y="4199040"/>
                <a:ext cx="15480" cy="6480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4b4703"/>
                  </a:gs>
                  <a:gs pos="100000">
                    <a:srgbClr val="fdf10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670480" y="4199040"/>
                <a:ext cx="15480" cy="6480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003300"/>
                  </a:gs>
                  <a:gs pos="100000">
                    <a:srgbClr val="00a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2639880" y="4199040"/>
                <a:ext cx="15480" cy="6480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003300"/>
                  </a:gs>
                  <a:gs pos="100000">
                    <a:srgbClr val="00a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607840" y="4199040"/>
                <a:ext cx="15480" cy="6480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003300"/>
                  </a:gs>
                  <a:gs pos="100000">
                    <a:srgbClr val="00a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2573640" y="4199040"/>
                <a:ext cx="15480" cy="6480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0f1d4a"/>
                  </a:gs>
                  <a:gs pos="100000">
                    <a:srgbClr val="3365f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2543040" y="4199040"/>
                <a:ext cx="15480" cy="6480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0f1d4a"/>
                  </a:gs>
                  <a:gs pos="100000">
                    <a:srgbClr val="3365f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509920" y="4199040"/>
                <a:ext cx="15480" cy="6480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3d040e"/>
                  </a:gs>
                  <a:gs pos="100000">
                    <a:srgbClr val="cf0e3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2477520" y="4199040"/>
                <a:ext cx="15480" cy="6480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3d040e"/>
                  </a:gs>
                  <a:gs pos="100000">
                    <a:srgbClr val="cf0e3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14" name=""/>
              <p:cNvGrpSpPr/>
              <p:nvPr/>
            </p:nvGrpSpPr>
            <p:grpSpPr>
              <a:xfrm>
                <a:off x="2849760" y="4199040"/>
                <a:ext cx="36720" cy="36720"/>
                <a:chOff x="2849760" y="4199040"/>
                <a:chExt cx="36720" cy="36720"/>
              </a:xfrm>
            </p:grpSpPr>
            <p:sp>
              <p:nvSpPr>
                <p:cNvPr id="915" name=""/>
                <p:cNvSpPr/>
                <p:nvPr/>
              </p:nvSpPr>
              <p:spPr>
                <a:xfrm>
                  <a:off x="2860560" y="421884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8" y="16"/>
                      </a:move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16" y="8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2863440" y="420084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" y="16"/>
                      </a:moveTo>
                      <a:lnTo>
                        <a:pt x="1" y="14"/>
                      </a:lnTo>
                      <a:lnTo>
                        <a:pt x="0" y="12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1" y="9"/>
                      </a:lnTo>
                      <a:lnTo>
                        <a:pt x="2" y="8"/>
                      </a:lnTo>
                      <a:lnTo>
                        <a:pt x="8" y="0"/>
                      </a:lnTo>
                      <a:lnTo>
                        <a:pt x="16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7" y="14"/>
                      </a:lnTo>
                      <a:lnTo>
                        <a:pt x="5" y="14"/>
                      </a:lnTo>
                      <a:lnTo>
                        <a:pt x="4" y="14"/>
                      </a:lnTo>
                      <a:lnTo>
                        <a:pt x="3" y="14"/>
                      </a:lnTo>
                      <a:lnTo>
                        <a:pt x="2" y="14"/>
                      </a:lnTo>
                      <a:lnTo>
                        <a:pt x="1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2871000" y="420804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8" y="16"/>
                      </a:move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16" y="8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2849760" y="420804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8" y="16"/>
                      </a:move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16" y="8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2860560" y="419904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8" y="0"/>
                      </a:moveTo>
                      <a:lnTo>
                        <a:pt x="16" y="8"/>
                      </a:lnTo>
                      <a:lnTo>
                        <a:pt x="8" y="16"/>
                      </a:lnTo>
                      <a:lnTo>
                        <a:pt x="0" y="8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2854080" y="421524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4" y="0"/>
                      </a:moveTo>
                      <a:lnTo>
                        <a:pt x="16" y="1"/>
                      </a:lnTo>
                      <a:lnTo>
                        <a:pt x="16" y="4"/>
                      </a:lnTo>
                      <a:lnTo>
                        <a:pt x="16" y="5"/>
                      </a:lnTo>
                      <a:lnTo>
                        <a:pt x="16" y="5"/>
                      </a:lnTo>
                      <a:lnTo>
                        <a:pt x="14" y="6"/>
                      </a:lnTo>
                      <a:lnTo>
                        <a:pt x="14" y="8"/>
                      </a:lnTo>
                      <a:lnTo>
                        <a:pt x="8" y="16"/>
                      </a:ln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10" y="1"/>
                      </a:lnTo>
                      <a:lnTo>
                        <a:pt x="11" y="1"/>
                      </a:lnTo>
                      <a:lnTo>
                        <a:pt x="12" y="1"/>
                      </a:lnTo>
                      <a:lnTo>
                        <a:pt x="13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2865240" y="421380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16" y="8"/>
                      </a:lnTo>
                      <a:lnTo>
                        <a:pt x="7" y="1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" y="7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2854080" y="420084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4"/>
                      </a:moveTo>
                      <a:lnTo>
                        <a:pt x="14" y="16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8" y="14"/>
                      </a:ln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4" y="8"/>
                      </a:lnTo>
                      <a:lnTo>
                        <a:pt x="14" y="10"/>
                      </a:lnTo>
                      <a:lnTo>
                        <a:pt x="14" y="11"/>
                      </a:lnTo>
                      <a:lnTo>
                        <a:pt x="14" y="12"/>
                      </a:lnTo>
                      <a:lnTo>
                        <a:pt x="14" y="13"/>
                      </a:lnTo>
                      <a:lnTo>
                        <a:pt x="16" y="14"/>
                      </a:lnTo>
                    </a:path>
                  </a:pathLst>
                </a:cu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3" name=""/>
              <p:cNvSpPr/>
              <p:nvPr/>
            </p:nvSpPr>
            <p:spPr>
              <a:xfrm>
                <a:off x="2840400" y="4187160"/>
                <a:ext cx="49680" cy="16920"/>
              </a:xfrm>
              <a:custGeom>
                <a:avLst/>
                <a:gdLst/>
                <a:ahLst/>
                <a:rect l="l" t="t" r="r" b="b"/>
                <a:pathLst>
                  <a:path w="54" h="17">
                    <a:moveTo>
                      <a:pt x="53" y="0"/>
                    </a:moveTo>
                    <a:lnTo>
                      <a:pt x="53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53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849760" y="4236480"/>
                <a:ext cx="30240" cy="1692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32" y="0"/>
                    </a:moveTo>
                    <a:lnTo>
                      <a:pt x="32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925" name="" descr=""/>
          <p:cNvPicPr/>
          <p:nvPr/>
        </p:nvPicPr>
        <p:blipFill>
          <a:blip r:embed="rId4"/>
          <a:stretch/>
        </p:blipFill>
        <p:spPr>
          <a:xfrm>
            <a:off x="1752480" y="3429000"/>
            <a:ext cx="487440" cy="45396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5"/>
          <a:stretch/>
        </p:blipFill>
        <p:spPr>
          <a:xfrm>
            <a:off x="1828800" y="2362320"/>
            <a:ext cx="487440" cy="485640"/>
          </a:xfrm>
          <a:prstGeom prst="rect">
            <a:avLst/>
          </a:prstGeom>
          <a:ln w="0">
            <a:noFill/>
          </a:ln>
        </p:spPr>
      </p:pic>
      <p:pic>
        <p:nvPicPr>
          <p:cNvPr id="927" name="4424" descr=""/>
          <p:cNvPicPr/>
          <p:nvPr/>
        </p:nvPicPr>
        <p:blipFill>
          <a:blip r:embed="rId6"/>
          <a:stretch/>
        </p:blipFill>
        <p:spPr>
          <a:xfrm>
            <a:off x="1447920" y="4038480"/>
            <a:ext cx="533160" cy="365400"/>
          </a:xfrm>
          <a:prstGeom prst="rect">
            <a:avLst/>
          </a:prstGeom>
          <a:ln w="0">
            <a:noFill/>
          </a:ln>
        </p:spPr>
      </p:pic>
      <p:pic>
        <p:nvPicPr>
          <p:cNvPr id="928" name="4424" descr=""/>
          <p:cNvPicPr/>
          <p:nvPr/>
        </p:nvPicPr>
        <p:blipFill>
          <a:blip r:embed="rId7"/>
          <a:stretch/>
        </p:blipFill>
        <p:spPr>
          <a:xfrm>
            <a:off x="1447920" y="4495680"/>
            <a:ext cx="533160" cy="36684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/>
          <p:cNvPicPr/>
          <p:nvPr/>
        </p:nvPicPr>
        <p:blipFill>
          <a:blip r:embed="rId8"/>
          <a:stretch/>
        </p:blipFill>
        <p:spPr>
          <a:xfrm>
            <a:off x="6324480" y="1828800"/>
            <a:ext cx="762120" cy="439560"/>
          </a:xfrm>
          <a:prstGeom prst="rect">
            <a:avLst/>
          </a:prstGeom>
          <a:ln w="0">
            <a:noFill/>
          </a:ln>
        </p:spPr>
      </p:pic>
      <p:sp>
        <p:nvSpPr>
          <p:cNvPr id="930" name=""/>
          <p:cNvSpPr/>
          <p:nvPr/>
        </p:nvSpPr>
        <p:spPr>
          <a:xfrm>
            <a:off x="1981080" y="41911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981080" y="44956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3733920" y="2202840"/>
            <a:ext cx="2528640" cy="1668600"/>
            <a:chOff x="3733920" y="2202840"/>
            <a:chExt cx="2528640" cy="1668600"/>
          </a:xfrm>
        </p:grpSpPr>
        <p:sp>
          <p:nvSpPr>
            <p:cNvPr id="933" name=""/>
            <p:cNvSpPr/>
            <p:nvPr/>
          </p:nvSpPr>
          <p:spPr>
            <a:xfrm>
              <a:off x="3733920" y="2608920"/>
              <a:ext cx="1179720" cy="80136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rot="2988000">
              <a:off x="4151880" y="2468880"/>
              <a:ext cx="1171800" cy="10220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rot="5196600">
              <a:off x="4355640" y="2447640"/>
              <a:ext cx="1171800" cy="100116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rot="8173800">
              <a:off x="4352400" y="2678400"/>
              <a:ext cx="1494360" cy="78480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rot="3256800">
              <a:off x="4749840" y="2570760"/>
              <a:ext cx="1171800" cy="100080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rot="9538800">
              <a:off x="4676760" y="2670120"/>
              <a:ext cx="1494360" cy="78516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40240" y="2793960"/>
              <a:ext cx="1025280" cy="24408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0" name=""/>
          <p:cNvSpPr/>
          <p:nvPr/>
        </p:nvSpPr>
        <p:spPr>
          <a:xfrm>
            <a:off x="3048120" y="42670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3352680" y="3962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143000" y="2971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143000" y="31240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981080" y="2819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981080" y="31240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276720" y="31240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048920" y="278028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Tnet Equ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298880" y="514260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asg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9"/>
          <a:stretch/>
        </p:blipFill>
        <p:spPr>
          <a:xfrm>
            <a:off x="8153280" y="1371600"/>
            <a:ext cx="487440" cy="485640"/>
          </a:xfrm>
          <a:prstGeom prst="rect">
            <a:avLst/>
          </a:prstGeom>
          <a:ln w="0">
            <a:noFill/>
          </a:ln>
        </p:spPr>
      </p:pic>
      <p:pic>
        <p:nvPicPr>
          <p:cNvPr id="950" name="" descr=""/>
          <p:cNvPicPr/>
          <p:nvPr/>
        </p:nvPicPr>
        <p:blipFill>
          <a:blip r:embed="rId10"/>
          <a:stretch/>
        </p:blipFill>
        <p:spPr>
          <a:xfrm>
            <a:off x="7467480" y="1371600"/>
            <a:ext cx="487440" cy="485640"/>
          </a:xfrm>
          <a:prstGeom prst="rect">
            <a:avLst/>
          </a:prstGeom>
          <a:ln w="0">
            <a:noFill/>
          </a:ln>
        </p:spPr>
      </p:pic>
      <p:pic>
        <p:nvPicPr>
          <p:cNvPr id="951" name="4424" descr=""/>
          <p:cNvPicPr/>
          <p:nvPr/>
        </p:nvPicPr>
        <p:blipFill>
          <a:blip r:embed="rId11"/>
          <a:stretch/>
        </p:blipFill>
        <p:spPr>
          <a:xfrm>
            <a:off x="7543800" y="4648320"/>
            <a:ext cx="533520" cy="365040"/>
          </a:xfrm>
          <a:prstGeom prst="rect">
            <a:avLst/>
          </a:prstGeom>
          <a:ln w="0">
            <a:noFill/>
          </a:ln>
        </p:spPr>
      </p:pic>
      <p:pic>
        <p:nvPicPr>
          <p:cNvPr id="952" name="4424" descr=""/>
          <p:cNvPicPr/>
          <p:nvPr/>
        </p:nvPicPr>
        <p:blipFill>
          <a:blip r:embed="rId12"/>
          <a:stretch/>
        </p:blipFill>
        <p:spPr>
          <a:xfrm>
            <a:off x="8305920" y="4572000"/>
            <a:ext cx="533160" cy="365040"/>
          </a:xfrm>
          <a:prstGeom prst="rect">
            <a:avLst/>
          </a:prstGeom>
          <a:ln w="0">
            <a:noFill/>
          </a:ln>
        </p:spPr>
      </p:pic>
      <p:sp>
        <p:nvSpPr>
          <p:cNvPr id="953" name=""/>
          <p:cNvSpPr/>
          <p:nvPr/>
        </p:nvSpPr>
        <p:spPr>
          <a:xfrm flipV="1">
            <a:off x="6095880" y="2209680"/>
            <a:ext cx="381240" cy="60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010280" y="198108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696080" y="1981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7696080" y="18284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8381880" y="1981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8381880" y="1828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9" name="" descr=""/>
          <p:cNvPicPr/>
          <p:nvPr/>
        </p:nvPicPr>
        <p:blipFill>
          <a:blip r:embed="rId13"/>
          <a:stretch/>
        </p:blipFill>
        <p:spPr>
          <a:xfrm>
            <a:off x="6553080" y="4191120"/>
            <a:ext cx="762120" cy="439560"/>
          </a:xfrm>
          <a:prstGeom prst="rect">
            <a:avLst/>
          </a:prstGeom>
          <a:ln w="0">
            <a:noFill/>
          </a:ln>
        </p:spPr>
      </p:pic>
      <p:pic>
        <p:nvPicPr>
          <p:cNvPr id="960" name="" descr=""/>
          <p:cNvPicPr/>
          <p:nvPr/>
        </p:nvPicPr>
        <p:blipFill>
          <a:blip r:embed="rId14"/>
          <a:stretch/>
        </p:blipFill>
        <p:spPr>
          <a:xfrm>
            <a:off x="7543800" y="3733920"/>
            <a:ext cx="487440" cy="485640"/>
          </a:xfrm>
          <a:prstGeom prst="rect">
            <a:avLst/>
          </a:prstGeom>
          <a:ln w="0">
            <a:noFill/>
          </a:ln>
        </p:spPr>
      </p:pic>
      <p:pic>
        <p:nvPicPr>
          <p:cNvPr id="961" name="4424" descr=""/>
          <p:cNvPicPr/>
          <p:nvPr/>
        </p:nvPicPr>
        <p:blipFill>
          <a:blip r:embed="rId15"/>
          <a:stretch/>
        </p:blipFill>
        <p:spPr>
          <a:xfrm>
            <a:off x="7467480" y="2209680"/>
            <a:ext cx="533520" cy="365400"/>
          </a:xfrm>
          <a:prstGeom prst="rect">
            <a:avLst/>
          </a:prstGeom>
          <a:ln w="0">
            <a:noFill/>
          </a:ln>
        </p:spPr>
      </p:pic>
      <p:sp>
        <p:nvSpPr>
          <p:cNvPr id="962" name=""/>
          <p:cNvSpPr/>
          <p:nvPr/>
        </p:nvSpPr>
        <p:spPr>
          <a:xfrm>
            <a:off x="7238880" y="43434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3" name="4424" descr=""/>
          <p:cNvPicPr/>
          <p:nvPr/>
        </p:nvPicPr>
        <p:blipFill>
          <a:blip r:embed="rId16"/>
          <a:stretch/>
        </p:blipFill>
        <p:spPr>
          <a:xfrm>
            <a:off x="8077320" y="2209680"/>
            <a:ext cx="533160" cy="365400"/>
          </a:xfrm>
          <a:prstGeom prst="rect">
            <a:avLst/>
          </a:prstGeom>
          <a:ln w="0">
            <a:noFill/>
          </a:ln>
        </p:spPr>
      </p:pic>
      <p:pic>
        <p:nvPicPr>
          <p:cNvPr id="964" name="" descr=""/>
          <p:cNvPicPr/>
          <p:nvPr/>
        </p:nvPicPr>
        <p:blipFill>
          <a:blip r:embed="rId17"/>
          <a:stretch/>
        </p:blipFill>
        <p:spPr>
          <a:xfrm>
            <a:off x="8305920" y="3733920"/>
            <a:ext cx="487080" cy="485640"/>
          </a:xfrm>
          <a:prstGeom prst="rect">
            <a:avLst/>
          </a:prstGeom>
          <a:ln w="0">
            <a:noFill/>
          </a:ln>
        </p:spPr>
      </p:pic>
      <p:sp>
        <p:nvSpPr>
          <p:cNvPr id="965" name=""/>
          <p:cNvSpPr/>
          <p:nvPr/>
        </p:nvSpPr>
        <p:spPr>
          <a:xfrm>
            <a:off x="8610480" y="43434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772400" y="43434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772400" y="41911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8610480" y="41911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004760" y="227880"/>
            <a:ext cx="627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Emerging Communica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Infrastructure - Case Stud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791320" y="3505320"/>
            <a:ext cx="76176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468920" y="29707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0 sit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990720" y="3335040"/>
            <a:ext cx="754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6553080" y="2286000"/>
            <a:ext cx="587520" cy="673200"/>
            <a:chOff x="6553080" y="2286000"/>
            <a:chExt cx="587520" cy="673200"/>
          </a:xfrm>
        </p:grpSpPr>
        <p:grpSp>
          <p:nvGrpSpPr>
            <p:cNvPr id="974" name=""/>
            <p:cNvGrpSpPr/>
            <p:nvPr/>
          </p:nvGrpSpPr>
          <p:grpSpPr>
            <a:xfrm>
              <a:off x="6553080" y="2286000"/>
              <a:ext cx="587520" cy="673200"/>
              <a:chOff x="6553080" y="2286000"/>
              <a:chExt cx="587520" cy="673200"/>
            </a:xfrm>
          </p:grpSpPr>
          <p:sp>
            <p:nvSpPr>
              <p:cNvPr id="975" name=""/>
              <p:cNvSpPr/>
              <p:nvPr/>
            </p:nvSpPr>
            <p:spPr>
              <a:xfrm>
                <a:off x="6553080" y="2404440"/>
                <a:ext cx="479520" cy="554760"/>
              </a:xfrm>
              <a:custGeom>
                <a:avLst/>
                <a:gdLst/>
                <a:ahLst/>
                <a:rect l="l" t="t" r="r" b="b"/>
                <a:pathLst>
                  <a:path w="519" h="548">
                    <a:moveTo>
                      <a:pt x="0" y="0"/>
                    </a:moveTo>
                    <a:lnTo>
                      <a:pt x="518" y="0"/>
                    </a:lnTo>
                    <a:lnTo>
                      <a:pt x="518" y="547"/>
                    </a:lnTo>
                    <a:lnTo>
                      <a:pt x="0" y="54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75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553080" y="2287800"/>
                <a:ext cx="585720" cy="115200"/>
              </a:xfrm>
              <a:custGeom>
                <a:avLst/>
                <a:gdLst/>
                <a:ahLst/>
                <a:rect l="l" t="t" r="r" b="b"/>
                <a:pathLst>
                  <a:path w="634" h="114">
                    <a:moveTo>
                      <a:pt x="517" y="113"/>
                    </a:moveTo>
                    <a:lnTo>
                      <a:pt x="633" y="0"/>
                    </a:lnTo>
                    <a:lnTo>
                      <a:pt x="114" y="0"/>
                    </a:lnTo>
                    <a:lnTo>
                      <a:pt x="0" y="113"/>
                    </a:lnTo>
                    <a:lnTo>
                      <a:pt x="517" y="113"/>
                    </a:lnTo>
                  </a:path>
                </a:pathLst>
              </a:custGeom>
              <a:solidFill>
                <a:srgbClr val="6f7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032600" y="2286000"/>
                <a:ext cx="108000" cy="669960"/>
              </a:xfrm>
              <a:custGeom>
                <a:avLst/>
                <a:gdLst/>
                <a:ahLst/>
                <a:rect l="l" t="t" r="r" b="b"/>
                <a:pathLst>
                  <a:path w="117" h="662">
                    <a:moveTo>
                      <a:pt x="0" y="117"/>
                    </a:moveTo>
                    <a:lnTo>
                      <a:pt x="0" y="661"/>
                    </a:lnTo>
                    <a:lnTo>
                      <a:pt x="116" y="544"/>
                    </a:lnTo>
                    <a:lnTo>
                      <a:pt x="116" y="0"/>
                    </a:lnTo>
                    <a:lnTo>
                      <a:pt x="0" y="117"/>
                    </a:lnTo>
                  </a:path>
                </a:pathLst>
              </a:custGeom>
              <a:solidFill>
                <a:srgbClr val="232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8" name=""/>
            <p:cNvGrpSpPr/>
            <p:nvPr/>
          </p:nvGrpSpPr>
          <p:grpSpPr>
            <a:xfrm>
              <a:off x="6578640" y="2434680"/>
              <a:ext cx="426240" cy="475560"/>
              <a:chOff x="6578640" y="2434680"/>
              <a:chExt cx="426240" cy="475560"/>
            </a:xfrm>
          </p:grpSpPr>
          <p:sp>
            <p:nvSpPr>
              <p:cNvPr id="979" name=""/>
              <p:cNvSpPr/>
              <p:nvPr/>
            </p:nvSpPr>
            <p:spPr>
              <a:xfrm>
                <a:off x="6810480" y="2766600"/>
                <a:ext cx="14400" cy="3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579360" y="2438640"/>
                <a:ext cx="285480" cy="462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609960" y="2434680"/>
                <a:ext cx="0" cy="46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641280" y="2434680"/>
                <a:ext cx="0" cy="46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671520" y="2434680"/>
                <a:ext cx="0" cy="46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706080" y="2434680"/>
                <a:ext cx="0" cy="46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737400" y="2434680"/>
                <a:ext cx="0" cy="46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771600" y="2434680"/>
                <a:ext cx="0" cy="46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802920" y="2434680"/>
                <a:ext cx="0" cy="46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835320" y="2434680"/>
                <a:ext cx="0" cy="46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598800" y="2890800"/>
                <a:ext cx="14760" cy="16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631200" y="2890800"/>
                <a:ext cx="14760" cy="16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662520" y="2890800"/>
                <a:ext cx="14760" cy="16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695640" y="2890800"/>
                <a:ext cx="14760" cy="16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728040" y="2892240"/>
                <a:ext cx="1476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758640" y="2892240"/>
                <a:ext cx="1440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792120" y="2892240"/>
                <a:ext cx="1440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824160" y="2892240"/>
                <a:ext cx="1476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854760" y="2892240"/>
                <a:ext cx="1440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598800" y="2435760"/>
                <a:ext cx="1476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630120" y="2435760"/>
                <a:ext cx="1476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662520" y="2435760"/>
                <a:ext cx="1476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694920" y="2435760"/>
                <a:ext cx="1440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728040" y="2435760"/>
                <a:ext cx="1476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759360" y="2435760"/>
                <a:ext cx="1476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792120" y="2435760"/>
                <a:ext cx="1440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6824160" y="2435760"/>
                <a:ext cx="1476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6854760" y="2435760"/>
                <a:ext cx="1440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6810480" y="2706840"/>
                <a:ext cx="14400" cy="37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6810480" y="2571120"/>
                <a:ext cx="15480" cy="40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810480" y="2517480"/>
                <a:ext cx="1548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811200" y="2811960"/>
                <a:ext cx="14760" cy="16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804000" y="2435760"/>
                <a:ext cx="15480" cy="7776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836040" y="2435760"/>
                <a:ext cx="15480" cy="7776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6802920" y="2435760"/>
                <a:ext cx="15480" cy="7776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6771600" y="2435760"/>
                <a:ext cx="15480" cy="7776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741000" y="2435760"/>
                <a:ext cx="15480" cy="7776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6707880" y="2435760"/>
                <a:ext cx="15480" cy="7776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671520" y="2435760"/>
                <a:ext cx="15480" cy="7776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643080" y="2435760"/>
                <a:ext cx="15480" cy="7776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610680" y="2435760"/>
                <a:ext cx="15480" cy="7776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6836040" y="2828160"/>
                <a:ext cx="15480" cy="7560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6802920" y="2828160"/>
                <a:ext cx="15480" cy="7560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6771600" y="2828160"/>
                <a:ext cx="15480" cy="7560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6741000" y="2828160"/>
                <a:ext cx="15480" cy="7560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6707880" y="2828160"/>
                <a:ext cx="15480" cy="7560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671520" y="2828160"/>
                <a:ext cx="15480" cy="7560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643080" y="2828160"/>
                <a:ext cx="15480" cy="7560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610680" y="2828160"/>
                <a:ext cx="15480" cy="7560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6714360" y="2674440"/>
                <a:ext cx="15480" cy="138600"/>
              </a:xfrm>
              <a:custGeom>
                <a:avLst/>
                <a:gdLst/>
                <a:ahLst/>
                <a:rect l="l" t="t" r="r" b="b"/>
                <a:pathLst>
                  <a:path w="17" h="137">
                    <a:moveTo>
                      <a:pt x="16" y="13"/>
                    </a:moveTo>
                    <a:lnTo>
                      <a:pt x="16" y="136"/>
                    </a:lnTo>
                    <a:lnTo>
                      <a:pt x="0" y="13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37"/>
                    </a:lnTo>
                    <a:lnTo>
                      <a:pt x="16" y="13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29" name=""/>
              <p:cNvGrpSpPr/>
              <p:nvPr/>
            </p:nvGrpSpPr>
            <p:grpSpPr>
              <a:xfrm>
                <a:off x="6716160" y="2674440"/>
                <a:ext cx="15480" cy="138240"/>
                <a:chOff x="6716160" y="2674440"/>
                <a:chExt cx="15480" cy="13824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6716160" y="267444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6716160" y="269244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2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6716160" y="271188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6716160" y="272592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716160" y="274428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6716160" y="276228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6716160" y="277668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2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6716160" y="279576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8" name=""/>
              <p:cNvSpPr/>
              <p:nvPr/>
            </p:nvSpPr>
            <p:spPr>
              <a:xfrm>
                <a:off x="6682680" y="2708640"/>
                <a:ext cx="15480" cy="10440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9"/>
                    </a:moveTo>
                    <a:lnTo>
                      <a:pt x="16" y="102"/>
                    </a:lnTo>
                    <a:lnTo>
                      <a:pt x="0" y="10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7"/>
                    </a:lnTo>
                    <a:lnTo>
                      <a:pt x="16" y="9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6685560" y="271188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685560" y="272700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2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685560" y="274644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685560" y="276444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685560" y="278172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685560" y="279792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846480" y="260352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17" h="39">
                    <a:moveTo>
                      <a:pt x="16" y="3"/>
                    </a:moveTo>
                    <a:lnTo>
                      <a:pt x="16" y="38"/>
                    </a:lnTo>
                    <a:lnTo>
                      <a:pt x="0" y="3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1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846480" y="2775600"/>
                <a:ext cx="15480" cy="3852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6" y="3"/>
                    </a:moveTo>
                    <a:lnTo>
                      <a:pt x="16" y="37"/>
                    </a:lnTo>
                    <a:lnTo>
                      <a:pt x="0" y="3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9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746760" y="2674440"/>
                <a:ext cx="17280" cy="138600"/>
              </a:xfrm>
              <a:custGeom>
                <a:avLst/>
                <a:gdLst/>
                <a:ahLst/>
                <a:rect l="l" t="t" r="r" b="b"/>
                <a:pathLst>
                  <a:path w="19" h="137">
                    <a:moveTo>
                      <a:pt x="18" y="13"/>
                    </a:moveTo>
                    <a:lnTo>
                      <a:pt x="18" y="136"/>
                    </a:lnTo>
                    <a:lnTo>
                      <a:pt x="0" y="13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37"/>
                    </a:lnTo>
                    <a:lnTo>
                      <a:pt x="18" y="13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48" name=""/>
              <p:cNvGrpSpPr/>
              <p:nvPr/>
            </p:nvGrpSpPr>
            <p:grpSpPr>
              <a:xfrm>
                <a:off x="6749280" y="2674440"/>
                <a:ext cx="15480" cy="138240"/>
                <a:chOff x="6749280" y="2674440"/>
                <a:chExt cx="15480" cy="138240"/>
              </a:xfrm>
            </p:grpSpPr>
            <p:sp>
              <p:nvSpPr>
                <p:cNvPr id="1049" name=""/>
                <p:cNvSpPr/>
                <p:nvPr/>
              </p:nvSpPr>
              <p:spPr>
                <a:xfrm>
                  <a:off x="6749280" y="267444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6749280" y="269244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2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6749280" y="271188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749280" y="272592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6749280" y="274428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6749280" y="276228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6749280" y="277668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2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6749280" y="279576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7" name=""/>
              <p:cNvSpPr/>
              <p:nvPr/>
            </p:nvSpPr>
            <p:spPr>
              <a:xfrm>
                <a:off x="6778080" y="2674440"/>
                <a:ext cx="18360" cy="138600"/>
              </a:xfrm>
              <a:custGeom>
                <a:avLst/>
                <a:gdLst/>
                <a:ahLst/>
                <a:rect l="l" t="t" r="r" b="b"/>
                <a:pathLst>
                  <a:path w="20" h="137">
                    <a:moveTo>
                      <a:pt x="19" y="13"/>
                    </a:moveTo>
                    <a:lnTo>
                      <a:pt x="19" y="136"/>
                    </a:lnTo>
                    <a:lnTo>
                      <a:pt x="0" y="13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37"/>
                    </a:lnTo>
                    <a:lnTo>
                      <a:pt x="19" y="13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58" name=""/>
              <p:cNvGrpSpPr/>
              <p:nvPr/>
            </p:nvGrpSpPr>
            <p:grpSpPr>
              <a:xfrm>
                <a:off x="6779880" y="2674440"/>
                <a:ext cx="15480" cy="138240"/>
                <a:chOff x="6779880" y="2674440"/>
                <a:chExt cx="15480" cy="138240"/>
              </a:xfrm>
            </p:grpSpPr>
            <p:sp>
              <p:nvSpPr>
                <p:cNvPr id="1059" name=""/>
                <p:cNvSpPr/>
                <p:nvPr/>
              </p:nvSpPr>
              <p:spPr>
                <a:xfrm>
                  <a:off x="6779880" y="267444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6779880" y="269244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2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6779880" y="271188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6779880" y="272592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6779880" y="274428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6779880" y="276228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6779880" y="277668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2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6779880" y="279576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7" name=""/>
              <p:cNvSpPr/>
              <p:nvPr/>
            </p:nvSpPr>
            <p:spPr>
              <a:xfrm>
                <a:off x="6650640" y="2708640"/>
                <a:ext cx="15480" cy="10440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9"/>
                    </a:moveTo>
                    <a:lnTo>
                      <a:pt x="16" y="102"/>
                    </a:lnTo>
                    <a:lnTo>
                      <a:pt x="0" y="10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7"/>
                    </a:lnTo>
                    <a:lnTo>
                      <a:pt x="16" y="9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654240" y="271188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654240" y="272700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2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654240" y="274644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654240" y="276444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6654240" y="278172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6654240" y="279792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6811200" y="2616840"/>
                <a:ext cx="14760" cy="16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682680" y="2549880"/>
                <a:ext cx="15480" cy="10620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9"/>
                    </a:moveTo>
                    <a:lnTo>
                      <a:pt x="16" y="104"/>
                    </a:lnTo>
                    <a:lnTo>
                      <a:pt x="0" y="10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8"/>
                    </a:lnTo>
                    <a:lnTo>
                      <a:pt x="16" y="9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6685560" y="255276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6685560" y="256716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2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685560" y="258516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685560" y="260172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685560" y="261972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685560" y="263808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650640" y="2549880"/>
                <a:ext cx="15480" cy="10620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9"/>
                    </a:moveTo>
                    <a:lnTo>
                      <a:pt x="16" y="104"/>
                    </a:lnTo>
                    <a:lnTo>
                      <a:pt x="0" y="10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8"/>
                    </a:lnTo>
                    <a:lnTo>
                      <a:pt x="16" y="9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654240" y="255276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654240" y="256716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2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6654240" y="258516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654240" y="260172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6654240" y="261972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654240" y="263808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6620040" y="2688480"/>
                <a:ext cx="15480" cy="3852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6" y="3"/>
                    </a:moveTo>
                    <a:lnTo>
                      <a:pt x="16" y="37"/>
                    </a:lnTo>
                    <a:lnTo>
                      <a:pt x="0" y="3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9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620040" y="2773800"/>
                <a:ext cx="15480" cy="3816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6" y="3"/>
                    </a:moveTo>
                    <a:lnTo>
                      <a:pt x="16" y="37"/>
                    </a:lnTo>
                    <a:lnTo>
                      <a:pt x="0" y="3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1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587640" y="2688480"/>
                <a:ext cx="15480" cy="3852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6" y="3"/>
                    </a:moveTo>
                    <a:lnTo>
                      <a:pt x="16" y="37"/>
                    </a:lnTo>
                    <a:lnTo>
                      <a:pt x="0" y="3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9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587640" y="2773800"/>
                <a:ext cx="15480" cy="3816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6" y="3"/>
                    </a:moveTo>
                    <a:lnTo>
                      <a:pt x="16" y="37"/>
                    </a:lnTo>
                    <a:lnTo>
                      <a:pt x="0" y="3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1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578640" y="2435760"/>
                <a:ext cx="15480" cy="7776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578640" y="2828160"/>
                <a:ext cx="15480" cy="7560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950880" y="2545920"/>
                <a:ext cx="0" cy="36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893640" y="2545920"/>
                <a:ext cx="110520" cy="358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889680" y="2894040"/>
                <a:ext cx="14760" cy="16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889680" y="2547720"/>
                <a:ext cx="14760" cy="16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950880" y="2547720"/>
                <a:ext cx="14760" cy="16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6950880" y="2892240"/>
                <a:ext cx="1476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903720" y="2797920"/>
                <a:ext cx="37080" cy="77760"/>
              </a:xfrm>
              <a:custGeom>
                <a:avLst/>
                <a:gdLst/>
                <a:ahLst/>
                <a:rect l="l" t="t" r="r" b="b"/>
                <a:pathLst>
                  <a:path w="40" h="77">
                    <a:moveTo>
                      <a:pt x="39" y="0"/>
                    </a:moveTo>
                    <a:lnTo>
                      <a:pt x="39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232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911280" y="2809080"/>
                <a:ext cx="20160" cy="2700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21" y="0"/>
                    </a:moveTo>
                    <a:lnTo>
                      <a:pt x="21" y="26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911280" y="2847600"/>
                <a:ext cx="20160" cy="1692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1" y="0"/>
                    </a:moveTo>
                    <a:lnTo>
                      <a:pt x="21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962760" y="2797920"/>
                <a:ext cx="37080" cy="77760"/>
              </a:xfrm>
              <a:custGeom>
                <a:avLst/>
                <a:gdLst/>
                <a:ahLst/>
                <a:rect l="l" t="t" r="r" b="b"/>
                <a:pathLst>
                  <a:path w="40" h="77">
                    <a:moveTo>
                      <a:pt x="39" y="0"/>
                    </a:moveTo>
                    <a:lnTo>
                      <a:pt x="39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232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6969240" y="2809080"/>
                <a:ext cx="23040" cy="2700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4" y="0"/>
                    </a:moveTo>
                    <a:lnTo>
                      <a:pt x="24" y="26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6969240" y="2847600"/>
                <a:ext cx="23040" cy="1692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24" y="0"/>
                    </a:moveTo>
                    <a:lnTo>
                      <a:pt x="24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851160" y="2446560"/>
                <a:ext cx="15480" cy="6480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481b08"/>
                  </a:gs>
                  <a:gs pos="100000">
                    <a:srgbClr val="f35b1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6818760" y="2446560"/>
                <a:ext cx="15480" cy="6480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4b4703"/>
                  </a:gs>
                  <a:gs pos="100000">
                    <a:srgbClr val="fdf10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785280" y="2446560"/>
                <a:ext cx="15480" cy="6480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003300"/>
                  </a:gs>
                  <a:gs pos="100000">
                    <a:srgbClr val="00a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754680" y="2446560"/>
                <a:ext cx="15480" cy="6480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003300"/>
                  </a:gs>
                  <a:gs pos="100000">
                    <a:srgbClr val="00a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722640" y="2446560"/>
                <a:ext cx="15480" cy="6480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003300"/>
                  </a:gs>
                  <a:gs pos="100000">
                    <a:srgbClr val="00a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688440" y="2446560"/>
                <a:ext cx="15480" cy="6480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0f1d4a"/>
                  </a:gs>
                  <a:gs pos="100000">
                    <a:srgbClr val="3365f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657840" y="2446560"/>
                <a:ext cx="15480" cy="6480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0f1d4a"/>
                  </a:gs>
                  <a:gs pos="100000">
                    <a:srgbClr val="3365f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624720" y="2446560"/>
                <a:ext cx="15480" cy="6480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3d040e"/>
                  </a:gs>
                  <a:gs pos="100000">
                    <a:srgbClr val="cf0e3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592320" y="2446560"/>
                <a:ext cx="15480" cy="6480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3d040e"/>
                  </a:gs>
                  <a:gs pos="100000">
                    <a:srgbClr val="cf0e3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16" name=""/>
              <p:cNvGrpSpPr/>
              <p:nvPr/>
            </p:nvGrpSpPr>
            <p:grpSpPr>
              <a:xfrm>
                <a:off x="6964560" y="2446560"/>
                <a:ext cx="36720" cy="36720"/>
                <a:chOff x="6964560" y="2446560"/>
                <a:chExt cx="36720" cy="3672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6975360" y="246636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8" y="16"/>
                      </a:move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16" y="8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6978240" y="244836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" y="16"/>
                      </a:moveTo>
                      <a:lnTo>
                        <a:pt x="1" y="14"/>
                      </a:lnTo>
                      <a:lnTo>
                        <a:pt x="0" y="12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1" y="9"/>
                      </a:lnTo>
                      <a:lnTo>
                        <a:pt x="2" y="8"/>
                      </a:lnTo>
                      <a:lnTo>
                        <a:pt x="8" y="0"/>
                      </a:lnTo>
                      <a:lnTo>
                        <a:pt x="16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7" y="14"/>
                      </a:lnTo>
                      <a:lnTo>
                        <a:pt x="5" y="14"/>
                      </a:lnTo>
                      <a:lnTo>
                        <a:pt x="4" y="14"/>
                      </a:lnTo>
                      <a:lnTo>
                        <a:pt x="3" y="14"/>
                      </a:lnTo>
                      <a:lnTo>
                        <a:pt x="2" y="14"/>
                      </a:lnTo>
                      <a:lnTo>
                        <a:pt x="1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6985800" y="245556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8" y="16"/>
                      </a:move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16" y="8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6964560" y="245556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8" y="16"/>
                      </a:move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16" y="8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6975360" y="244656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8" y="0"/>
                      </a:moveTo>
                      <a:lnTo>
                        <a:pt x="16" y="8"/>
                      </a:lnTo>
                      <a:lnTo>
                        <a:pt x="8" y="16"/>
                      </a:lnTo>
                      <a:lnTo>
                        <a:pt x="0" y="8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6968880" y="246276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4" y="0"/>
                      </a:moveTo>
                      <a:lnTo>
                        <a:pt x="16" y="1"/>
                      </a:lnTo>
                      <a:lnTo>
                        <a:pt x="16" y="4"/>
                      </a:lnTo>
                      <a:lnTo>
                        <a:pt x="16" y="5"/>
                      </a:lnTo>
                      <a:lnTo>
                        <a:pt x="16" y="5"/>
                      </a:lnTo>
                      <a:lnTo>
                        <a:pt x="14" y="6"/>
                      </a:lnTo>
                      <a:lnTo>
                        <a:pt x="14" y="8"/>
                      </a:lnTo>
                      <a:lnTo>
                        <a:pt x="8" y="16"/>
                      </a:ln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10" y="1"/>
                      </a:lnTo>
                      <a:lnTo>
                        <a:pt x="11" y="1"/>
                      </a:lnTo>
                      <a:lnTo>
                        <a:pt x="12" y="1"/>
                      </a:lnTo>
                      <a:lnTo>
                        <a:pt x="13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6980040" y="246132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16" y="8"/>
                      </a:lnTo>
                      <a:lnTo>
                        <a:pt x="7" y="1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" y="7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6968880" y="244836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4"/>
                      </a:moveTo>
                      <a:lnTo>
                        <a:pt x="14" y="16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8" y="14"/>
                      </a:ln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4" y="8"/>
                      </a:lnTo>
                      <a:lnTo>
                        <a:pt x="14" y="10"/>
                      </a:lnTo>
                      <a:lnTo>
                        <a:pt x="14" y="11"/>
                      </a:lnTo>
                      <a:lnTo>
                        <a:pt x="14" y="12"/>
                      </a:lnTo>
                      <a:lnTo>
                        <a:pt x="14" y="13"/>
                      </a:lnTo>
                      <a:lnTo>
                        <a:pt x="16" y="14"/>
                      </a:lnTo>
                    </a:path>
                  </a:pathLst>
                </a:cu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5" name=""/>
              <p:cNvSpPr/>
              <p:nvPr/>
            </p:nvSpPr>
            <p:spPr>
              <a:xfrm>
                <a:off x="6955200" y="2434680"/>
                <a:ext cx="49680" cy="16920"/>
              </a:xfrm>
              <a:custGeom>
                <a:avLst/>
                <a:gdLst/>
                <a:ahLst/>
                <a:rect l="l" t="t" r="r" b="b"/>
                <a:pathLst>
                  <a:path w="54" h="17">
                    <a:moveTo>
                      <a:pt x="53" y="0"/>
                    </a:moveTo>
                    <a:lnTo>
                      <a:pt x="53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53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964560" y="2484000"/>
                <a:ext cx="30240" cy="1692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32" y="0"/>
                    </a:moveTo>
                    <a:lnTo>
                      <a:pt x="32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7" name=""/>
          <p:cNvGrpSpPr/>
          <p:nvPr/>
        </p:nvGrpSpPr>
        <p:grpSpPr>
          <a:xfrm>
            <a:off x="6553080" y="4800600"/>
            <a:ext cx="587520" cy="673200"/>
            <a:chOff x="6553080" y="4800600"/>
            <a:chExt cx="587520" cy="673200"/>
          </a:xfrm>
        </p:grpSpPr>
        <p:grpSp>
          <p:nvGrpSpPr>
            <p:cNvPr id="1128" name=""/>
            <p:cNvGrpSpPr/>
            <p:nvPr/>
          </p:nvGrpSpPr>
          <p:grpSpPr>
            <a:xfrm>
              <a:off x="6553080" y="4800600"/>
              <a:ext cx="587520" cy="673200"/>
              <a:chOff x="6553080" y="4800600"/>
              <a:chExt cx="587520" cy="673200"/>
            </a:xfrm>
          </p:grpSpPr>
          <p:sp>
            <p:nvSpPr>
              <p:cNvPr id="1129" name=""/>
              <p:cNvSpPr/>
              <p:nvPr/>
            </p:nvSpPr>
            <p:spPr>
              <a:xfrm>
                <a:off x="6553080" y="4919040"/>
                <a:ext cx="479520" cy="554760"/>
              </a:xfrm>
              <a:custGeom>
                <a:avLst/>
                <a:gdLst/>
                <a:ahLst/>
                <a:rect l="l" t="t" r="r" b="b"/>
                <a:pathLst>
                  <a:path w="519" h="548">
                    <a:moveTo>
                      <a:pt x="0" y="0"/>
                    </a:moveTo>
                    <a:lnTo>
                      <a:pt x="518" y="0"/>
                    </a:lnTo>
                    <a:lnTo>
                      <a:pt x="518" y="547"/>
                    </a:lnTo>
                    <a:lnTo>
                      <a:pt x="0" y="54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75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553080" y="4802400"/>
                <a:ext cx="585720" cy="115200"/>
              </a:xfrm>
              <a:custGeom>
                <a:avLst/>
                <a:gdLst/>
                <a:ahLst/>
                <a:rect l="l" t="t" r="r" b="b"/>
                <a:pathLst>
                  <a:path w="634" h="114">
                    <a:moveTo>
                      <a:pt x="517" y="113"/>
                    </a:moveTo>
                    <a:lnTo>
                      <a:pt x="633" y="0"/>
                    </a:lnTo>
                    <a:lnTo>
                      <a:pt x="114" y="0"/>
                    </a:lnTo>
                    <a:lnTo>
                      <a:pt x="0" y="113"/>
                    </a:lnTo>
                    <a:lnTo>
                      <a:pt x="517" y="113"/>
                    </a:lnTo>
                  </a:path>
                </a:pathLst>
              </a:custGeom>
              <a:solidFill>
                <a:srgbClr val="6f7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032600" y="4800600"/>
                <a:ext cx="108000" cy="669960"/>
              </a:xfrm>
              <a:custGeom>
                <a:avLst/>
                <a:gdLst/>
                <a:ahLst/>
                <a:rect l="l" t="t" r="r" b="b"/>
                <a:pathLst>
                  <a:path w="117" h="662">
                    <a:moveTo>
                      <a:pt x="0" y="117"/>
                    </a:moveTo>
                    <a:lnTo>
                      <a:pt x="0" y="661"/>
                    </a:lnTo>
                    <a:lnTo>
                      <a:pt x="116" y="544"/>
                    </a:lnTo>
                    <a:lnTo>
                      <a:pt x="116" y="0"/>
                    </a:lnTo>
                    <a:lnTo>
                      <a:pt x="0" y="117"/>
                    </a:lnTo>
                  </a:path>
                </a:pathLst>
              </a:custGeom>
              <a:solidFill>
                <a:srgbClr val="232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32" name=""/>
            <p:cNvGrpSpPr/>
            <p:nvPr/>
          </p:nvGrpSpPr>
          <p:grpSpPr>
            <a:xfrm>
              <a:off x="6578640" y="4949280"/>
              <a:ext cx="426240" cy="475560"/>
              <a:chOff x="6578640" y="4949280"/>
              <a:chExt cx="426240" cy="475560"/>
            </a:xfrm>
          </p:grpSpPr>
          <p:sp>
            <p:nvSpPr>
              <p:cNvPr id="1133" name=""/>
              <p:cNvSpPr/>
              <p:nvPr/>
            </p:nvSpPr>
            <p:spPr>
              <a:xfrm>
                <a:off x="6810480" y="5281200"/>
                <a:ext cx="14400" cy="3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579360" y="4953240"/>
                <a:ext cx="285480" cy="462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609960" y="4949280"/>
                <a:ext cx="0" cy="46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641280" y="4949280"/>
                <a:ext cx="0" cy="46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671520" y="4949280"/>
                <a:ext cx="0" cy="46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706080" y="4949280"/>
                <a:ext cx="0" cy="46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6737400" y="4949280"/>
                <a:ext cx="0" cy="46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771600" y="4949280"/>
                <a:ext cx="0" cy="46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802920" y="4949280"/>
                <a:ext cx="0" cy="46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835320" y="4949280"/>
                <a:ext cx="0" cy="46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598800" y="5405400"/>
                <a:ext cx="14760" cy="16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631200" y="5405400"/>
                <a:ext cx="14760" cy="16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662520" y="5405400"/>
                <a:ext cx="14760" cy="16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695640" y="5405400"/>
                <a:ext cx="14760" cy="16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728040" y="5406840"/>
                <a:ext cx="1476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6758640" y="5406840"/>
                <a:ext cx="1440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792120" y="5406840"/>
                <a:ext cx="1440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824160" y="5406840"/>
                <a:ext cx="1476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854760" y="5406840"/>
                <a:ext cx="1440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598800" y="4950360"/>
                <a:ext cx="1476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630120" y="4950360"/>
                <a:ext cx="1476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662520" y="4950360"/>
                <a:ext cx="1476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694920" y="4950360"/>
                <a:ext cx="1440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728040" y="4950360"/>
                <a:ext cx="1476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759360" y="4950360"/>
                <a:ext cx="1476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792120" y="4950360"/>
                <a:ext cx="1440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6824160" y="4950360"/>
                <a:ext cx="1476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854760" y="4950360"/>
                <a:ext cx="1440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810480" y="5221440"/>
                <a:ext cx="14400" cy="37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810480" y="5085720"/>
                <a:ext cx="15480" cy="40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810480" y="5032080"/>
                <a:ext cx="1548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811200" y="5326560"/>
                <a:ext cx="14760" cy="16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804000" y="4950360"/>
                <a:ext cx="15480" cy="7776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836040" y="4950360"/>
                <a:ext cx="15480" cy="7776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6802920" y="4950360"/>
                <a:ext cx="15480" cy="7776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771600" y="4950360"/>
                <a:ext cx="15480" cy="7776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6741000" y="4950360"/>
                <a:ext cx="15480" cy="7776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707880" y="4950360"/>
                <a:ext cx="15480" cy="7776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671520" y="4950360"/>
                <a:ext cx="15480" cy="7776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643080" y="4950360"/>
                <a:ext cx="15480" cy="7776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610680" y="4950360"/>
                <a:ext cx="15480" cy="7776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836040" y="5342760"/>
                <a:ext cx="15480" cy="7560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802920" y="5342760"/>
                <a:ext cx="15480" cy="7560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771600" y="5342760"/>
                <a:ext cx="15480" cy="7560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6741000" y="5342760"/>
                <a:ext cx="15480" cy="7560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6707880" y="5342760"/>
                <a:ext cx="15480" cy="7560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6671520" y="5342760"/>
                <a:ext cx="15480" cy="7560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643080" y="5342760"/>
                <a:ext cx="15480" cy="7560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610680" y="5342760"/>
                <a:ext cx="15480" cy="7560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714360" y="5189040"/>
                <a:ext cx="15480" cy="138600"/>
              </a:xfrm>
              <a:custGeom>
                <a:avLst/>
                <a:gdLst/>
                <a:ahLst/>
                <a:rect l="l" t="t" r="r" b="b"/>
                <a:pathLst>
                  <a:path w="17" h="137">
                    <a:moveTo>
                      <a:pt x="16" y="13"/>
                    </a:moveTo>
                    <a:lnTo>
                      <a:pt x="16" y="136"/>
                    </a:lnTo>
                    <a:lnTo>
                      <a:pt x="0" y="13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37"/>
                    </a:lnTo>
                    <a:lnTo>
                      <a:pt x="16" y="13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83" name=""/>
              <p:cNvGrpSpPr/>
              <p:nvPr/>
            </p:nvGrpSpPr>
            <p:grpSpPr>
              <a:xfrm>
                <a:off x="6716160" y="5189040"/>
                <a:ext cx="15480" cy="138240"/>
                <a:chOff x="6716160" y="5189040"/>
                <a:chExt cx="15480" cy="138240"/>
              </a:xfrm>
            </p:grpSpPr>
            <p:sp>
              <p:nvSpPr>
                <p:cNvPr id="1184" name=""/>
                <p:cNvSpPr/>
                <p:nvPr/>
              </p:nvSpPr>
              <p:spPr>
                <a:xfrm>
                  <a:off x="6716160" y="518904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6716160" y="520704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2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6716160" y="522648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6716160" y="524052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6716160" y="525888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6716160" y="527688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6716160" y="529128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2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6716160" y="531036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2" name=""/>
              <p:cNvSpPr/>
              <p:nvPr/>
            </p:nvSpPr>
            <p:spPr>
              <a:xfrm>
                <a:off x="6682680" y="5223240"/>
                <a:ext cx="15480" cy="10440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9"/>
                    </a:moveTo>
                    <a:lnTo>
                      <a:pt x="16" y="102"/>
                    </a:lnTo>
                    <a:lnTo>
                      <a:pt x="0" y="10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7"/>
                    </a:lnTo>
                    <a:lnTo>
                      <a:pt x="16" y="9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685560" y="522648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685560" y="524160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2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685560" y="526104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85560" y="527904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685560" y="529632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685560" y="531252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846480" y="5118120"/>
                <a:ext cx="15480" cy="39240"/>
              </a:xfrm>
              <a:custGeom>
                <a:avLst/>
                <a:gdLst/>
                <a:ahLst/>
                <a:rect l="l" t="t" r="r" b="b"/>
                <a:pathLst>
                  <a:path w="17" h="39">
                    <a:moveTo>
                      <a:pt x="16" y="3"/>
                    </a:moveTo>
                    <a:lnTo>
                      <a:pt x="16" y="38"/>
                    </a:lnTo>
                    <a:lnTo>
                      <a:pt x="0" y="3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1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846480" y="5290200"/>
                <a:ext cx="15480" cy="3852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6" y="3"/>
                    </a:moveTo>
                    <a:lnTo>
                      <a:pt x="16" y="37"/>
                    </a:lnTo>
                    <a:lnTo>
                      <a:pt x="0" y="3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9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746760" y="5189040"/>
                <a:ext cx="17280" cy="138600"/>
              </a:xfrm>
              <a:custGeom>
                <a:avLst/>
                <a:gdLst/>
                <a:ahLst/>
                <a:rect l="l" t="t" r="r" b="b"/>
                <a:pathLst>
                  <a:path w="19" h="137">
                    <a:moveTo>
                      <a:pt x="18" y="13"/>
                    </a:moveTo>
                    <a:lnTo>
                      <a:pt x="18" y="136"/>
                    </a:lnTo>
                    <a:lnTo>
                      <a:pt x="0" y="13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37"/>
                    </a:lnTo>
                    <a:lnTo>
                      <a:pt x="18" y="13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02" name=""/>
              <p:cNvGrpSpPr/>
              <p:nvPr/>
            </p:nvGrpSpPr>
            <p:grpSpPr>
              <a:xfrm>
                <a:off x="6749280" y="5189040"/>
                <a:ext cx="15480" cy="138240"/>
                <a:chOff x="6749280" y="5189040"/>
                <a:chExt cx="15480" cy="138240"/>
              </a:xfrm>
            </p:grpSpPr>
            <p:sp>
              <p:nvSpPr>
                <p:cNvPr id="1203" name=""/>
                <p:cNvSpPr/>
                <p:nvPr/>
              </p:nvSpPr>
              <p:spPr>
                <a:xfrm>
                  <a:off x="6749280" y="518904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6749280" y="520704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2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6749280" y="522648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6749280" y="524052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6749280" y="525888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6749280" y="527688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6749280" y="529128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2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6749280" y="531036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1" name=""/>
              <p:cNvSpPr/>
              <p:nvPr/>
            </p:nvSpPr>
            <p:spPr>
              <a:xfrm>
                <a:off x="6778080" y="5189040"/>
                <a:ext cx="18360" cy="138600"/>
              </a:xfrm>
              <a:custGeom>
                <a:avLst/>
                <a:gdLst/>
                <a:ahLst/>
                <a:rect l="l" t="t" r="r" b="b"/>
                <a:pathLst>
                  <a:path w="20" h="137">
                    <a:moveTo>
                      <a:pt x="19" y="13"/>
                    </a:moveTo>
                    <a:lnTo>
                      <a:pt x="19" y="136"/>
                    </a:lnTo>
                    <a:lnTo>
                      <a:pt x="0" y="13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37"/>
                    </a:lnTo>
                    <a:lnTo>
                      <a:pt x="19" y="13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12" name=""/>
              <p:cNvGrpSpPr/>
              <p:nvPr/>
            </p:nvGrpSpPr>
            <p:grpSpPr>
              <a:xfrm>
                <a:off x="6779880" y="5189040"/>
                <a:ext cx="15480" cy="138240"/>
                <a:chOff x="6779880" y="5189040"/>
                <a:chExt cx="15480" cy="138240"/>
              </a:xfrm>
            </p:grpSpPr>
            <p:sp>
              <p:nvSpPr>
                <p:cNvPr id="1213" name=""/>
                <p:cNvSpPr/>
                <p:nvPr/>
              </p:nvSpPr>
              <p:spPr>
                <a:xfrm>
                  <a:off x="6779880" y="518904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6779880" y="520704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2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6779880" y="522648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6779880" y="524052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6779880" y="525888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6779880" y="527688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6779880" y="529128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2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6779880" y="531036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"/>
                      </a:moveTo>
                      <a:lnTo>
                        <a:pt x="16" y="16"/>
                      </a:lnTo>
                      <a:lnTo>
                        <a:pt x="0" y="16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1" name=""/>
              <p:cNvSpPr/>
              <p:nvPr/>
            </p:nvSpPr>
            <p:spPr>
              <a:xfrm>
                <a:off x="6650640" y="5223240"/>
                <a:ext cx="15480" cy="10440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9"/>
                    </a:moveTo>
                    <a:lnTo>
                      <a:pt x="16" y="102"/>
                    </a:lnTo>
                    <a:lnTo>
                      <a:pt x="0" y="10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7"/>
                    </a:lnTo>
                    <a:lnTo>
                      <a:pt x="16" y="9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654240" y="522648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654240" y="524160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2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654240" y="526104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654240" y="527904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654240" y="529632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654240" y="531252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811200" y="5131440"/>
                <a:ext cx="14760" cy="16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682680" y="5064480"/>
                <a:ext cx="15480" cy="10620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9"/>
                    </a:moveTo>
                    <a:lnTo>
                      <a:pt x="16" y="104"/>
                    </a:lnTo>
                    <a:lnTo>
                      <a:pt x="0" y="10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8"/>
                    </a:lnTo>
                    <a:lnTo>
                      <a:pt x="16" y="9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685560" y="506736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685560" y="508176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2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685560" y="509976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685560" y="511632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6685560" y="513432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6685560" y="515268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6650640" y="5064480"/>
                <a:ext cx="15480" cy="10620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9"/>
                    </a:moveTo>
                    <a:lnTo>
                      <a:pt x="16" y="104"/>
                    </a:lnTo>
                    <a:lnTo>
                      <a:pt x="0" y="10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8"/>
                    </a:lnTo>
                    <a:lnTo>
                      <a:pt x="16" y="9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654240" y="506736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6654240" y="508176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2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6654240" y="509976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6654240" y="511632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6654240" y="513432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654240" y="515268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"/>
                    </a:moveTo>
                    <a:lnTo>
                      <a:pt x="16" y="16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16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6620040" y="5203080"/>
                <a:ext cx="15480" cy="3852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6" y="3"/>
                    </a:moveTo>
                    <a:lnTo>
                      <a:pt x="16" y="37"/>
                    </a:lnTo>
                    <a:lnTo>
                      <a:pt x="0" y="3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9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6620040" y="5288400"/>
                <a:ext cx="15480" cy="3816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6" y="3"/>
                    </a:moveTo>
                    <a:lnTo>
                      <a:pt x="16" y="37"/>
                    </a:lnTo>
                    <a:lnTo>
                      <a:pt x="0" y="3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1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6587640" y="5203080"/>
                <a:ext cx="15480" cy="3852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6" y="3"/>
                    </a:moveTo>
                    <a:lnTo>
                      <a:pt x="16" y="37"/>
                    </a:lnTo>
                    <a:lnTo>
                      <a:pt x="0" y="3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9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6587640" y="5288400"/>
                <a:ext cx="15480" cy="3816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6" y="3"/>
                    </a:moveTo>
                    <a:lnTo>
                      <a:pt x="16" y="37"/>
                    </a:lnTo>
                    <a:lnTo>
                      <a:pt x="0" y="3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1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6578640" y="4950360"/>
                <a:ext cx="15480" cy="77760"/>
              </a:xfrm>
              <a:custGeom>
                <a:avLst/>
                <a:gdLst/>
                <a:ahLst/>
                <a:rect l="l" t="t" r="r" b="b"/>
                <a:pathLst>
                  <a:path w="17" h="77">
                    <a:moveTo>
                      <a:pt x="16" y="8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6578640" y="5342760"/>
                <a:ext cx="15480" cy="7560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16" y="8"/>
                    </a:moveTo>
                    <a:lnTo>
                      <a:pt x="16" y="74"/>
                    </a:lnTo>
                    <a:lnTo>
                      <a:pt x="0" y="7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950880" y="5060520"/>
                <a:ext cx="0" cy="36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6893640" y="5060520"/>
                <a:ext cx="110520" cy="358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889680" y="5408640"/>
                <a:ext cx="14760" cy="16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889680" y="5062320"/>
                <a:ext cx="14760" cy="16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950880" y="5062320"/>
                <a:ext cx="14760" cy="16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950880" y="5406840"/>
                <a:ext cx="14760" cy="1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903720" y="5312520"/>
                <a:ext cx="37080" cy="77760"/>
              </a:xfrm>
              <a:custGeom>
                <a:avLst/>
                <a:gdLst/>
                <a:ahLst/>
                <a:rect l="l" t="t" r="r" b="b"/>
                <a:pathLst>
                  <a:path w="40" h="77">
                    <a:moveTo>
                      <a:pt x="39" y="0"/>
                    </a:moveTo>
                    <a:lnTo>
                      <a:pt x="39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232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911280" y="5323680"/>
                <a:ext cx="20160" cy="2700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21" y="0"/>
                    </a:moveTo>
                    <a:lnTo>
                      <a:pt x="21" y="26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6911280" y="5362200"/>
                <a:ext cx="20160" cy="1692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1" y="0"/>
                    </a:moveTo>
                    <a:lnTo>
                      <a:pt x="21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6962760" y="5312520"/>
                <a:ext cx="37080" cy="77760"/>
              </a:xfrm>
              <a:custGeom>
                <a:avLst/>
                <a:gdLst/>
                <a:ahLst/>
                <a:rect l="l" t="t" r="r" b="b"/>
                <a:pathLst>
                  <a:path w="40" h="77">
                    <a:moveTo>
                      <a:pt x="39" y="0"/>
                    </a:moveTo>
                    <a:lnTo>
                      <a:pt x="39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232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6969240" y="5323680"/>
                <a:ext cx="23040" cy="2700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4" y="0"/>
                    </a:moveTo>
                    <a:lnTo>
                      <a:pt x="24" y="26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969240" y="5362200"/>
                <a:ext cx="23040" cy="1692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24" y="0"/>
                    </a:moveTo>
                    <a:lnTo>
                      <a:pt x="24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851160" y="4961160"/>
                <a:ext cx="15480" cy="6480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481b08"/>
                  </a:gs>
                  <a:gs pos="100000">
                    <a:srgbClr val="f35b1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818760" y="4961160"/>
                <a:ext cx="15480" cy="6480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4b4703"/>
                  </a:gs>
                  <a:gs pos="100000">
                    <a:srgbClr val="fdf10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785280" y="4961160"/>
                <a:ext cx="15480" cy="6480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003300"/>
                  </a:gs>
                  <a:gs pos="100000">
                    <a:srgbClr val="00a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754680" y="4961160"/>
                <a:ext cx="15480" cy="6480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003300"/>
                  </a:gs>
                  <a:gs pos="100000">
                    <a:srgbClr val="00a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722640" y="4961160"/>
                <a:ext cx="15480" cy="6480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003300"/>
                  </a:gs>
                  <a:gs pos="100000">
                    <a:srgbClr val="00a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688440" y="4961160"/>
                <a:ext cx="15480" cy="6480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0f1d4a"/>
                  </a:gs>
                  <a:gs pos="100000">
                    <a:srgbClr val="3365f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657840" y="4961160"/>
                <a:ext cx="15480" cy="6480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0f1d4a"/>
                  </a:gs>
                  <a:gs pos="100000">
                    <a:srgbClr val="3365f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624720" y="4961160"/>
                <a:ext cx="15480" cy="6480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3d040e"/>
                  </a:gs>
                  <a:gs pos="100000">
                    <a:srgbClr val="cf0e3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592320" y="4961160"/>
                <a:ext cx="15480" cy="6480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16" y="6"/>
                    </a:moveTo>
                    <a:lnTo>
                      <a:pt x="16" y="63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</a:path>
                </a:pathLst>
              </a:custGeom>
              <a:gradFill rotWithShape="0">
                <a:gsLst>
                  <a:gs pos="0">
                    <a:srgbClr val="3d040e"/>
                  </a:gs>
                  <a:gs pos="100000">
                    <a:srgbClr val="cf0e3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70" name=""/>
              <p:cNvGrpSpPr/>
              <p:nvPr/>
            </p:nvGrpSpPr>
            <p:grpSpPr>
              <a:xfrm>
                <a:off x="6964560" y="4961160"/>
                <a:ext cx="36720" cy="36720"/>
                <a:chOff x="6964560" y="4961160"/>
                <a:chExt cx="36720" cy="36720"/>
              </a:xfrm>
            </p:grpSpPr>
            <p:sp>
              <p:nvSpPr>
                <p:cNvPr id="1271" name=""/>
                <p:cNvSpPr/>
                <p:nvPr/>
              </p:nvSpPr>
              <p:spPr>
                <a:xfrm>
                  <a:off x="6975360" y="498096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8" y="16"/>
                      </a:move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16" y="8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6978240" y="496296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" y="16"/>
                      </a:moveTo>
                      <a:lnTo>
                        <a:pt x="1" y="14"/>
                      </a:lnTo>
                      <a:lnTo>
                        <a:pt x="0" y="12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1" y="9"/>
                      </a:lnTo>
                      <a:lnTo>
                        <a:pt x="2" y="8"/>
                      </a:lnTo>
                      <a:lnTo>
                        <a:pt x="8" y="0"/>
                      </a:lnTo>
                      <a:lnTo>
                        <a:pt x="16" y="8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7" y="14"/>
                      </a:lnTo>
                      <a:lnTo>
                        <a:pt x="5" y="14"/>
                      </a:lnTo>
                      <a:lnTo>
                        <a:pt x="4" y="14"/>
                      </a:lnTo>
                      <a:lnTo>
                        <a:pt x="3" y="14"/>
                      </a:lnTo>
                      <a:lnTo>
                        <a:pt x="2" y="14"/>
                      </a:lnTo>
                      <a:lnTo>
                        <a:pt x="1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6985800" y="497016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8" y="16"/>
                      </a:move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16" y="8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6964560" y="497016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8" y="16"/>
                      </a:move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16" y="8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6975360" y="496116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8" y="0"/>
                      </a:moveTo>
                      <a:lnTo>
                        <a:pt x="16" y="8"/>
                      </a:lnTo>
                      <a:lnTo>
                        <a:pt x="8" y="16"/>
                      </a:lnTo>
                      <a:lnTo>
                        <a:pt x="0" y="8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6968880" y="497736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4" y="0"/>
                      </a:moveTo>
                      <a:lnTo>
                        <a:pt x="16" y="1"/>
                      </a:lnTo>
                      <a:lnTo>
                        <a:pt x="16" y="4"/>
                      </a:lnTo>
                      <a:lnTo>
                        <a:pt x="16" y="5"/>
                      </a:lnTo>
                      <a:lnTo>
                        <a:pt x="16" y="5"/>
                      </a:lnTo>
                      <a:lnTo>
                        <a:pt x="14" y="6"/>
                      </a:lnTo>
                      <a:lnTo>
                        <a:pt x="14" y="8"/>
                      </a:lnTo>
                      <a:lnTo>
                        <a:pt x="8" y="16"/>
                      </a:ln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10" y="1"/>
                      </a:lnTo>
                      <a:lnTo>
                        <a:pt x="11" y="1"/>
                      </a:lnTo>
                      <a:lnTo>
                        <a:pt x="12" y="1"/>
                      </a:lnTo>
                      <a:lnTo>
                        <a:pt x="13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6980040" y="497592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16" y="8"/>
                      </a:lnTo>
                      <a:lnTo>
                        <a:pt x="7" y="1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" y="7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6968880" y="4962960"/>
                  <a:ext cx="15480" cy="1692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14"/>
                      </a:moveTo>
                      <a:lnTo>
                        <a:pt x="14" y="16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8" y="14"/>
                      </a:ln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16" y="8"/>
                      </a:lnTo>
                      <a:lnTo>
                        <a:pt x="14" y="8"/>
                      </a:lnTo>
                      <a:lnTo>
                        <a:pt x="14" y="8"/>
                      </a:lnTo>
                      <a:lnTo>
                        <a:pt x="14" y="10"/>
                      </a:lnTo>
                      <a:lnTo>
                        <a:pt x="14" y="11"/>
                      </a:lnTo>
                      <a:lnTo>
                        <a:pt x="14" y="12"/>
                      </a:lnTo>
                      <a:lnTo>
                        <a:pt x="14" y="13"/>
                      </a:lnTo>
                      <a:lnTo>
                        <a:pt x="16" y="14"/>
                      </a:lnTo>
                    </a:path>
                  </a:pathLst>
                </a:cu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9" name=""/>
              <p:cNvSpPr/>
              <p:nvPr/>
            </p:nvSpPr>
            <p:spPr>
              <a:xfrm>
                <a:off x="6955200" y="4949280"/>
                <a:ext cx="49680" cy="16920"/>
              </a:xfrm>
              <a:custGeom>
                <a:avLst/>
                <a:gdLst/>
                <a:ahLst/>
                <a:rect l="l" t="t" r="r" b="b"/>
                <a:pathLst>
                  <a:path w="54" h="17">
                    <a:moveTo>
                      <a:pt x="53" y="0"/>
                    </a:moveTo>
                    <a:lnTo>
                      <a:pt x="53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53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964560" y="4998600"/>
                <a:ext cx="30240" cy="1692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32" y="0"/>
                    </a:moveTo>
                    <a:lnTo>
                      <a:pt x="32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81" name=""/>
          <p:cNvGrpSpPr/>
          <p:nvPr/>
        </p:nvGrpSpPr>
        <p:grpSpPr>
          <a:xfrm>
            <a:off x="4267080" y="3915000"/>
            <a:ext cx="1590480" cy="1301040"/>
            <a:chOff x="4267080" y="3915000"/>
            <a:chExt cx="1590480" cy="1301040"/>
          </a:xfrm>
        </p:grpSpPr>
        <p:sp>
          <p:nvSpPr>
            <p:cNvPr id="1282" name=""/>
            <p:cNvSpPr/>
            <p:nvPr/>
          </p:nvSpPr>
          <p:spPr>
            <a:xfrm>
              <a:off x="4267080" y="4186080"/>
              <a:ext cx="722880" cy="72684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rot="2988000">
              <a:off x="4350240" y="4209840"/>
              <a:ext cx="1062720" cy="62604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rot="5196600">
              <a:off x="4475520" y="4186800"/>
              <a:ext cx="1062720" cy="61344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rot="8173800">
              <a:off x="4645800" y="4248720"/>
              <a:ext cx="915480" cy="71172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rot="3256800">
              <a:off x="4716360" y="4298760"/>
              <a:ext cx="1062720" cy="61308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rot="9538800">
              <a:off x="4844520" y="4241520"/>
              <a:ext cx="915480" cy="71208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700520" y="4354200"/>
              <a:ext cx="626400" cy="229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9" name=""/>
          <p:cNvSpPr/>
          <p:nvPr/>
        </p:nvSpPr>
        <p:spPr>
          <a:xfrm>
            <a:off x="3048120" y="4419720"/>
            <a:ext cx="12189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498560" y="42660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ST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715000" y="4648320"/>
            <a:ext cx="8380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934320" y="45720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934320" y="2133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V="1">
            <a:off x="3581280" y="3352320"/>
            <a:ext cx="4572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mmunication tre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at is converg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Key business benef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convergent technology suppl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Converging  voice, video and data onto one network mea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ata Networks must be provisioned with an infrastructure which supports features such as quality of service and in-line po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solid migration strategy for transitioning traditional phone systems to packet based technolo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ployment of IP enabled business applications that leverage the combined networked voice, video and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ew World User to Us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66800" y="76320"/>
            <a:ext cx="762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438280" y="6172200"/>
            <a:ext cx="1981440" cy="4572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648320" y="6172200"/>
            <a:ext cx="1981080" cy="4572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870600" y="3214800"/>
            <a:ext cx="1933560" cy="7524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2" name="" descr=""/>
          <p:cNvPicPr/>
          <p:nvPr/>
        </p:nvPicPr>
        <p:blipFill>
          <a:blip r:embed="rId1"/>
          <a:stretch/>
        </p:blipFill>
        <p:spPr>
          <a:xfrm>
            <a:off x="6870600" y="1474920"/>
            <a:ext cx="1925640" cy="1960560"/>
          </a:xfrm>
          <a:prstGeom prst="rect">
            <a:avLst/>
          </a:prstGeom>
          <a:ln w="28440">
            <a:solidFill>
              <a:srgbClr val="b2b2b2"/>
            </a:solidFill>
            <a:miter/>
          </a:ln>
        </p:spPr>
      </p:pic>
      <p:sp>
        <p:nvSpPr>
          <p:cNvPr id="1303" name=""/>
          <p:cNvSpPr/>
          <p:nvPr/>
        </p:nvSpPr>
        <p:spPr>
          <a:xfrm>
            <a:off x="2981160" y="1525680"/>
            <a:ext cx="3167280" cy="3165480"/>
          </a:xfrm>
          <a:prstGeom prst="ellipse">
            <a:avLst/>
          </a:prstGeom>
          <a:gradFill rotWithShape="0">
            <a:gsLst>
              <a:gs pos="0">
                <a:srgbClr val="544300"/>
              </a:gs>
              <a:gs pos="50000">
                <a:srgbClr val="ffcc00"/>
              </a:gs>
              <a:gs pos="100000">
                <a:srgbClr val="544300"/>
              </a:gs>
            </a:gsLst>
            <a:lin ang="10800000"/>
          </a:gradFill>
          <a:ln w="12600">
            <a:solidFill>
              <a:srgbClr val="ffb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4068720" y="3222720"/>
            <a:ext cx="3167280" cy="3165480"/>
          </a:xfrm>
          <a:prstGeom prst="ellipse">
            <a:avLst/>
          </a:prstGeom>
          <a:gradFill rotWithShape="0">
            <a:gsLst>
              <a:gs pos="0">
                <a:srgbClr val="3d040e"/>
              </a:gs>
              <a:gs pos="50000">
                <a:srgbClr val="cf0e30"/>
              </a:gs>
              <a:gs pos="100000">
                <a:srgbClr val="3d040e"/>
              </a:gs>
            </a:gsLst>
            <a:lin ang="10800000"/>
          </a:gradFill>
          <a:ln w="12600">
            <a:solidFill>
              <a:srgbClr val="f682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908000" y="3218040"/>
            <a:ext cx="3167280" cy="3165120"/>
          </a:xfrm>
          <a:prstGeom prst="ellipse">
            <a:avLst/>
          </a:prstGeom>
          <a:gradFill rotWithShape="0">
            <a:gsLst>
              <a:gs pos="0">
                <a:srgbClr val="002f3b"/>
              </a:gs>
              <a:gs pos="50000">
                <a:srgbClr val="009fca"/>
              </a:gs>
              <a:gs pos="100000">
                <a:srgbClr val="002f3b"/>
              </a:gs>
            </a:gsLst>
            <a:lin ang="10800000"/>
          </a:gradFill>
          <a:ln w="12600">
            <a:solidFill>
              <a:srgbClr val="03c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575240" y="3214800"/>
            <a:ext cx="1576440" cy="1407960"/>
          </a:xfrm>
          <a:custGeom>
            <a:avLst/>
            <a:gdLst/>
            <a:ahLst/>
            <a:rect l="l" t="t" r="r" b="b"/>
            <a:pathLst>
              <a:path w="883" h="789">
                <a:moveTo>
                  <a:pt x="0" y="232"/>
                </a:moveTo>
                <a:lnTo>
                  <a:pt x="46" y="196"/>
                </a:lnTo>
                <a:lnTo>
                  <a:pt x="91" y="160"/>
                </a:lnTo>
                <a:lnTo>
                  <a:pt x="154" y="118"/>
                </a:lnTo>
                <a:lnTo>
                  <a:pt x="221" y="84"/>
                </a:lnTo>
                <a:lnTo>
                  <a:pt x="277" y="61"/>
                </a:lnTo>
                <a:lnTo>
                  <a:pt x="338" y="37"/>
                </a:lnTo>
                <a:lnTo>
                  <a:pt x="423" y="16"/>
                </a:lnTo>
                <a:lnTo>
                  <a:pt x="505" y="3"/>
                </a:lnTo>
                <a:lnTo>
                  <a:pt x="581" y="0"/>
                </a:lnTo>
                <a:lnTo>
                  <a:pt x="655" y="0"/>
                </a:lnTo>
                <a:lnTo>
                  <a:pt x="723" y="8"/>
                </a:lnTo>
                <a:lnTo>
                  <a:pt x="806" y="21"/>
                </a:lnTo>
                <a:lnTo>
                  <a:pt x="882" y="39"/>
                </a:lnTo>
                <a:lnTo>
                  <a:pt x="871" y="113"/>
                </a:lnTo>
                <a:lnTo>
                  <a:pt x="851" y="187"/>
                </a:lnTo>
                <a:lnTo>
                  <a:pt x="831" y="248"/>
                </a:lnTo>
                <a:lnTo>
                  <a:pt x="804" y="318"/>
                </a:lnTo>
                <a:lnTo>
                  <a:pt x="757" y="402"/>
                </a:lnTo>
                <a:lnTo>
                  <a:pt x="716" y="464"/>
                </a:lnTo>
                <a:lnTo>
                  <a:pt x="658" y="539"/>
                </a:lnTo>
                <a:lnTo>
                  <a:pt x="590" y="606"/>
                </a:lnTo>
                <a:lnTo>
                  <a:pt x="536" y="653"/>
                </a:lnTo>
                <a:lnTo>
                  <a:pt x="469" y="698"/>
                </a:lnTo>
                <a:lnTo>
                  <a:pt x="414" y="728"/>
                </a:lnTo>
                <a:lnTo>
                  <a:pt x="349" y="761"/>
                </a:lnTo>
                <a:lnTo>
                  <a:pt x="280" y="788"/>
                </a:lnTo>
                <a:lnTo>
                  <a:pt x="271" y="732"/>
                </a:lnTo>
                <a:lnTo>
                  <a:pt x="257" y="662"/>
                </a:lnTo>
                <a:lnTo>
                  <a:pt x="241" y="606"/>
                </a:lnTo>
                <a:lnTo>
                  <a:pt x="221" y="550"/>
                </a:lnTo>
                <a:lnTo>
                  <a:pt x="203" y="509"/>
                </a:lnTo>
                <a:lnTo>
                  <a:pt x="180" y="467"/>
                </a:lnTo>
                <a:lnTo>
                  <a:pt x="160" y="431"/>
                </a:lnTo>
                <a:lnTo>
                  <a:pt x="115" y="359"/>
                </a:lnTo>
                <a:lnTo>
                  <a:pt x="77" y="311"/>
                </a:lnTo>
                <a:lnTo>
                  <a:pt x="32" y="264"/>
                </a:lnTo>
                <a:lnTo>
                  <a:pt x="0" y="232"/>
                </a:lnTo>
              </a:path>
            </a:pathLst>
          </a:custGeom>
          <a:gradFill rotWithShape="0">
            <a:gsLst>
              <a:gs pos="0">
                <a:srgbClr val="180700"/>
              </a:gs>
              <a:gs pos="50000">
                <a:srgbClr val="bc3700"/>
              </a:gs>
              <a:gs pos="100000">
                <a:srgbClr val="180700"/>
              </a:gs>
            </a:gsLst>
            <a:lin ang="10800000"/>
          </a:gradFill>
          <a:ln w="1260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000240" y="3214800"/>
            <a:ext cx="1576440" cy="1407960"/>
          </a:xfrm>
          <a:custGeom>
            <a:avLst/>
            <a:gdLst/>
            <a:ahLst/>
            <a:rect l="l" t="t" r="r" b="b"/>
            <a:pathLst>
              <a:path w="883" h="789">
                <a:moveTo>
                  <a:pt x="882" y="232"/>
                </a:moveTo>
                <a:lnTo>
                  <a:pt x="835" y="196"/>
                </a:lnTo>
                <a:lnTo>
                  <a:pt x="790" y="160"/>
                </a:lnTo>
                <a:lnTo>
                  <a:pt x="727" y="118"/>
                </a:lnTo>
                <a:lnTo>
                  <a:pt x="660" y="84"/>
                </a:lnTo>
                <a:lnTo>
                  <a:pt x="604" y="61"/>
                </a:lnTo>
                <a:lnTo>
                  <a:pt x="543" y="37"/>
                </a:lnTo>
                <a:lnTo>
                  <a:pt x="459" y="16"/>
                </a:lnTo>
                <a:lnTo>
                  <a:pt x="376" y="3"/>
                </a:lnTo>
                <a:lnTo>
                  <a:pt x="300" y="0"/>
                </a:lnTo>
                <a:lnTo>
                  <a:pt x="226" y="0"/>
                </a:lnTo>
                <a:lnTo>
                  <a:pt x="158" y="8"/>
                </a:lnTo>
                <a:lnTo>
                  <a:pt x="75" y="21"/>
                </a:lnTo>
                <a:lnTo>
                  <a:pt x="0" y="39"/>
                </a:lnTo>
                <a:lnTo>
                  <a:pt x="10" y="113"/>
                </a:lnTo>
                <a:lnTo>
                  <a:pt x="30" y="187"/>
                </a:lnTo>
                <a:lnTo>
                  <a:pt x="50" y="248"/>
                </a:lnTo>
                <a:lnTo>
                  <a:pt x="77" y="318"/>
                </a:lnTo>
                <a:lnTo>
                  <a:pt x="124" y="402"/>
                </a:lnTo>
                <a:lnTo>
                  <a:pt x="165" y="464"/>
                </a:lnTo>
                <a:lnTo>
                  <a:pt x="223" y="539"/>
                </a:lnTo>
                <a:lnTo>
                  <a:pt x="291" y="606"/>
                </a:lnTo>
                <a:lnTo>
                  <a:pt x="345" y="653"/>
                </a:lnTo>
                <a:lnTo>
                  <a:pt x="412" y="698"/>
                </a:lnTo>
                <a:lnTo>
                  <a:pt x="468" y="728"/>
                </a:lnTo>
                <a:lnTo>
                  <a:pt x="532" y="761"/>
                </a:lnTo>
                <a:lnTo>
                  <a:pt x="601" y="788"/>
                </a:lnTo>
                <a:lnTo>
                  <a:pt x="610" y="732"/>
                </a:lnTo>
                <a:lnTo>
                  <a:pt x="624" y="662"/>
                </a:lnTo>
                <a:lnTo>
                  <a:pt x="640" y="606"/>
                </a:lnTo>
                <a:lnTo>
                  <a:pt x="660" y="550"/>
                </a:lnTo>
                <a:lnTo>
                  <a:pt x="678" y="509"/>
                </a:lnTo>
                <a:lnTo>
                  <a:pt x="702" y="467"/>
                </a:lnTo>
                <a:lnTo>
                  <a:pt x="721" y="431"/>
                </a:lnTo>
                <a:lnTo>
                  <a:pt x="766" y="359"/>
                </a:lnTo>
                <a:lnTo>
                  <a:pt x="804" y="311"/>
                </a:lnTo>
                <a:lnTo>
                  <a:pt x="849" y="264"/>
                </a:lnTo>
                <a:lnTo>
                  <a:pt x="882" y="232"/>
                </a:lnTo>
              </a:path>
            </a:pathLst>
          </a:custGeom>
          <a:gradFill rotWithShape="0">
            <a:gsLst>
              <a:gs pos="0">
                <a:srgbClr val="073018"/>
              </a:gs>
              <a:gs pos="50000">
                <a:srgbClr val="18a253"/>
              </a:gs>
              <a:gs pos="100000">
                <a:srgbClr val="073018"/>
              </a:gs>
            </a:gsLst>
            <a:lin ang="10800000"/>
          </a:gradFill>
          <a:ln w="12600">
            <a:solidFill>
              <a:srgbClr val="00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057560" y="4619520"/>
            <a:ext cx="1035000" cy="1352520"/>
          </a:xfrm>
          <a:custGeom>
            <a:avLst/>
            <a:gdLst/>
            <a:ahLst/>
            <a:rect l="l" t="t" r="r" b="b"/>
            <a:pathLst>
              <a:path w="580" h="758">
                <a:moveTo>
                  <a:pt x="567" y="0"/>
                </a:moveTo>
                <a:lnTo>
                  <a:pt x="579" y="58"/>
                </a:lnTo>
                <a:lnTo>
                  <a:pt x="576" y="122"/>
                </a:lnTo>
                <a:lnTo>
                  <a:pt x="571" y="195"/>
                </a:lnTo>
                <a:lnTo>
                  <a:pt x="565" y="251"/>
                </a:lnTo>
                <a:lnTo>
                  <a:pt x="549" y="325"/>
                </a:lnTo>
                <a:lnTo>
                  <a:pt x="527" y="391"/>
                </a:lnTo>
                <a:lnTo>
                  <a:pt x="500" y="459"/>
                </a:lnTo>
                <a:lnTo>
                  <a:pt x="476" y="510"/>
                </a:lnTo>
                <a:lnTo>
                  <a:pt x="448" y="557"/>
                </a:lnTo>
                <a:lnTo>
                  <a:pt x="419" y="604"/>
                </a:lnTo>
                <a:lnTo>
                  <a:pt x="394" y="640"/>
                </a:lnTo>
                <a:lnTo>
                  <a:pt x="358" y="687"/>
                </a:lnTo>
                <a:lnTo>
                  <a:pt x="317" y="733"/>
                </a:lnTo>
                <a:lnTo>
                  <a:pt x="286" y="757"/>
                </a:lnTo>
                <a:lnTo>
                  <a:pt x="244" y="720"/>
                </a:lnTo>
                <a:lnTo>
                  <a:pt x="194" y="658"/>
                </a:lnTo>
                <a:lnTo>
                  <a:pt x="153" y="604"/>
                </a:lnTo>
                <a:lnTo>
                  <a:pt x="116" y="546"/>
                </a:lnTo>
                <a:lnTo>
                  <a:pt x="86" y="485"/>
                </a:lnTo>
                <a:lnTo>
                  <a:pt x="63" y="431"/>
                </a:lnTo>
                <a:lnTo>
                  <a:pt x="41" y="373"/>
                </a:lnTo>
                <a:lnTo>
                  <a:pt x="23" y="304"/>
                </a:lnTo>
                <a:lnTo>
                  <a:pt x="12" y="237"/>
                </a:lnTo>
                <a:lnTo>
                  <a:pt x="3" y="181"/>
                </a:lnTo>
                <a:lnTo>
                  <a:pt x="0" y="118"/>
                </a:lnTo>
                <a:lnTo>
                  <a:pt x="0" y="59"/>
                </a:lnTo>
                <a:lnTo>
                  <a:pt x="9" y="0"/>
                </a:lnTo>
                <a:lnTo>
                  <a:pt x="48" y="11"/>
                </a:lnTo>
                <a:lnTo>
                  <a:pt x="112" y="29"/>
                </a:lnTo>
                <a:lnTo>
                  <a:pt x="163" y="39"/>
                </a:lnTo>
                <a:lnTo>
                  <a:pt x="206" y="43"/>
                </a:lnTo>
                <a:lnTo>
                  <a:pt x="266" y="46"/>
                </a:lnTo>
                <a:lnTo>
                  <a:pt x="320" y="46"/>
                </a:lnTo>
                <a:lnTo>
                  <a:pt x="356" y="44"/>
                </a:lnTo>
                <a:lnTo>
                  <a:pt x="417" y="37"/>
                </a:lnTo>
                <a:lnTo>
                  <a:pt x="471" y="28"/>
                </a:lnTo>
                <a:lnTo>
                  <a:pt x="525" y="12"/>
                </a:lnTo>
                <a:lnTo>
                  <a:pt x="567" y="0"/>
                </a:lnTo>
              </a:path>
            </a:pathLst>
          </a:custGeom>
          <a:gradFill rotWithShape="0">
            <a:gsLst>
              <a:gs pos="0">
                <a:srgbClr val="240043"/>
              </a:gs>
              <a:gs pos="50000">
                <a:srgbClr val="7b00e4"/>
              </a:gs>
              <a:gs pos="100000">
                <a:srgbClr val="240043"/>
              </a:gs>
            </a:gsLst>
            <a:lin ang="10800000"/>
          </a:gradFill>
          <a:ln w="1260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073400" y="3629160"/>
            <a:ext cx="1005120" cy="1074600"/>
          </a:xfrm>
          <a:custGeom>
            <a:avLst/>
            <a:gdLst/>
            <a:ahLst/>
            <a:rect l="l" t="t" r="r" b="b"/>
            <a:pathLst>
              <a:path w="563" h="602">
                <a:moveTo>
                  <a:pt x="0" y="554"/>
                </a:moveTo>
                <a:lnTo>
                  <a:pt x="91" y="583"/>
                </a:lnTo>
                <a:lnTo>
                  <a:pt x="167" y="595"/>
                </a:lnTo>
                <a:lnTo>
                  <a:pt x="279" y="601"/>
                </a:lnTo>
                <a:lnTo>
                  <a:pt x="354" y="599"/>
                </a:lnTo>
                <a:lnTo>
                  <a:pt x="426" y="590"/>
                </a:lnTo>
                <a:lnTo>
                  <a:pt x="479" y="579"/>
                </a:lnTo>
                <a:lnTo>
                  <a:pt x="562" y="554"/>
                </a:lnTo>
                <a:lnTo>
                  <a:pt x="543" y="455"/>
                </a:lnTo>
                <a:lnTo>
                  <a:pt x="515" y="350"/>
                </a:lnTo>
                <a:lnTo>
                  <a:pt x="475" y="260"/>
                </a:lnTo>
                <a:lnTo>
                  <a:pt x="437" y="197"/>
                </a:lnTo>
                <a:lnTo>
                  <a:pt x="389" y="118"/>
                </a:lnTo>
                <a:lnTo>
                  <a:pt x="340" y="59"/>
                </a:lnTo>
                <a:lnTo>
                  <a:pt x="281" y="0"/>
                </a:lnTo>
                <a:lnTo>
                  <a:pt x="235" y="44"/>
                </a:lnTo>
                <a:lnTo>
                  <a:pt x="192" y="91"/>
                </a:lnTo>
                <a:lnTo>
                  <a:pt x="147" y="154"/>
                </a:lnTo>
                <a:lnTo>
                  <a:pt x="104" y="226"/>
                </a:lnTo>
                <a:lnTo>
                  <a:pt x="70" y="293"/>
                </a:lnTo>
                <a:lnTo>
                  <a:pt x="34" y="385"/>
                </a:lnTo>
                <a:lnTo>
                  <a:pt x="18" y="453"/>
                </a:lnTo>
                <a:lnTo>
                  <a:pt x="1" y="530"/>
                </a:lnTo>
                <a:lnTo>
                  <a:pt x="0" y="554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cccc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236120" y="3919680"/>
            <a:ext cx="6775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040" bIns="41040" anchor="t">
            <a:spAutoFit/>
          </a:bodyPr>
          <a:p>
            <a:pPr algn="ctr"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902040" y="2324160"/>
            <a:ext cx="131904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040" bIns="41040" anchor="t">
            <a:spAutoFit/>
          </a:bodyPr>
          <a:p>
            <a:pPr algn="ctr"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350800" y="4572000"/>
            <a:ext cx="150516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040" bIns="41040" anchor="t">
            <a:spAutoFit/>
          </a:bodyPr>
          <a:p>
            <a:pPr algn="ctr"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o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292360" y="4572000"/>
            <a:ext cx="156744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040" bIns="41040" anchor="t">
            <a:spAutoFit/>
          </a:bodyPr>
          <a:p>
            <a:pPr algn="ctr"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ide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981160" y="1525680"/>
            <a:ext cx="3167280" cy="316548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068720" y="3222720"/>
            <a:ext cx="3167280" cy="316548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908000" y="3218040"/>
            <a:ext cx="3167280" cy="316512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7500960" y="5838840"/>
            <a:ext cx="1247760" cy="6094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2"/>
          <a:stretch/>
        </p:blipFill>
        <p:spPr>
          <a:xfrm>
            <a:off x="7408800" y="4862520"/>
            <a:ext cx="1428840" cy="1081080"/>
          </a:xfrm>
          <a:prstGeom prst="rect">
            <a:avLst/>
          </a:prstGeom>
          <a:ln w="28440">
            <a:solidFill>
              <a:srgbClr val="35c5ff"/>
            </a:solidFill>
            <a:miter/>
          </a:ln>
        </p:spPr>
      </p:pic>
      <p:sp>
        <p:nvSpPr>
          <p:cNvPr id="1319" name=""/>
          <p:cNvSpPr/>
          <p:nvPr/>
        </p:nvSpPr>
        <p:spPr>
          <a:xfrm>
            <a:off x="1096920" y="2674800"/>
            <a:ext cx="1441440" cy="6098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442880" y="1994040"/>
            <a:ext cx="614520" cy="992160"/>
          </a:xfrm>
          <a:custGeom>
            <a:avLst/>
            <a:gdLst/>
            <a:ahLst/>
            <a:rect l="l" t="t" r="r" b="b"/>
            <a:pathLst>
              <a:path w="476" h="772">
                <a:moveTo>
                  <a:pt x="281" y="403"/>
                </a:moveTo>
                <a:lnTo>
                  <a:pt x="0" y="318"/>
                </a:lnTo>
                <a:lnTo>
                  <a:pt x="109" y="171"/>
                </a:lnTo>
                <a:lnTo>
                  <a:pt x="162" y="97"/>
                </a:lnTo>
                <a:lnTo>
                  <a:pt x="192" y="58"/>
                </a:lnTo>
                <a:lnTo>
                  <a:pt x="224" y="28"/>
                </a:lnTo>
                <a:lnTo>
                  <a:pt x="256" y="13"/>
                </a:lnTo>
                <a:lnTo>
                  <a:pt x="284" y="1"/>
                </a:lnTo>
                <a:lnTo>
                  <a:pt x="321" y="0"/>
                </a:lnTo>
                <a:lnTo>
                  <a:pt x="349" y="5"/>
                </a:lnTo>
                <a:lnTo>
                  <a:pt x="379" y="12"/>
                </a:lnTo>
                <a:lnTo>
                  <a:pt x="406" y="27"/>
                </a:lnTo>
                <a:lnTo>
                  <a:pt x="439" y="56"/>
                </a:lnTo>
                <a:lnTo>
                  <a:pt x="464" y="91"/>
                </a:lnTo>
                <a:lnTo>
                  <a:pt x="475" y="133"/>
                </a:lnTo>
                <a:lnTo>
                  <a:pt x="475" y="505"/>
                </a:lnTo>
                <a:lnTo>
                  <a:pt x="281" y="771"/>
                </a:lnTo>
                <a:lnTo>
                  <a:pt x="281" y="403"/>
                </a:lnTo>
              </a:path>
            </a:pathLst>
          </a:custGeom>
          <a:gradFill rotWithShape="0">
            <a:gsLst>
              <a:gs pos="0">
                <a:srgbClr val="27292a"/>
              </a:gs>
              <a:gs pos="50000">
                <a:srgbClr val="cbd2dc"/>
              </a:gs>
              <a:gs pos="100000">
                <a:srgbClr val="27292a"/>
              </a:gs>
            </a:gsLst>
            <a:lin ang="13500000"/>
          </a:gra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7960" bIns="579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393920" y="2333520"/>
            <a:ext cx="411120" cy="655920"/>
          </a:xfrm>
          <a:custGeom>
            <a:avLst/>
            <a:gdLst/>
            <a:ahLst/>
            <a:rect l="l" t="t" r="r" b="b"/>
            <a:pathLst>
              <a:path w="319" h="509">
                <a:moveTo>
                  <a:pt x="0" y="141"/>
                </a:moveTo>
                <a:lnTo>
                  <a:pt x="5" y="112"/>
                </a:lnTo>
                <a:lnTo>
                  <a:pt x="15" y="90"/>
                </a:lnTo>
                <a:lnTo>
                  <a:pt x="40" y="52"/>
                </a:lnTo>
                <a:lnTo>
                  <a:pt x="56" y="37"/>
                </a:lnTo>
                <a:lnTo>
                  <a:pt x="84" y="18"/>
                </a:lnTo>
                <a:lnTo>
                  <a:pt x="121" y="5"/>
                </a:lnTo>
                <a:lnTo>
                  <a:pt x="157" y="0"/>
                </a:lnTo>
                <a:lnTo>
                  <a:pt x="190" y="5"/>
                </a:lnTo>
                <a:lnTo>
                  <a:pt x="229" y="18"/>
                </a:lnTo>
                <a:lnTo>
                  <a:pt x="257" y="33"/>
                </a:lnTo>
                <a:lnTo>
                  <a:pt x="280" y="54"/>
                </a:lnTo>
                <a:lnTo>
                  <a:pt x="303" y="90"/>
                </a:lnTo>
                <a:lnTo>
                  <a:pt x="314" y="112"/>
                </a:lnTo>
                <a:lnTo>
                  <a:pt x="318" y="139"/>
                </a:lnTo>
                <a:lnTo>
                  <a:pt x="318" y="508"/>
                </a:lnTo>
                <a:lnTo>
                  <a:pt x="0" y="508"/>
                </a:lnTo>
                <a:lnTo>
                  <a:pt x="0" y="141"/>
                </a:lnTo>
              </a:path>
            </a:pathLst>
          </a:custGeom>
          <a:solidFill>
            <a:srgbClr val="cbd2d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7960" bIns="579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855800" y="1746360"/>
            <a:ext cx="231840" cy="744480"/>
          </a:xfrm>
          <a:custGeom>
            <a:avLst/>
            <a:gdLst/>
            <a:ahLst/>
            <a:rect l="l" t="t" r="r" b="b"/>
            <a:pathLst>
              <a:path w="180" h="577">
                <a:moveTo>
                  <a:pt x="0" y="576"/>
                </a:moveTo>
                <a:lnTo>
                  <a:pt x="0" y="0"/>
                </a:lnTo>
                <a:lnTo>
                  <a:pt x="179" y="188"/>
                </a:lnTo>
                <a:lnTo>
                  <a:pt x="59" y="160"/>
                </a:lnTo>
                <a:lnTo>
                  <a:pt x="59" y="576"/>
                </a:lnTo>
                <a:lnTo>
                  <a:pt x="0" y="57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7960" bIns="5796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1444680" y="2490840"/>
            <a:ext cx="298440" cy="81000"/>
          </a:xfrm>
          <a:prstGeom prst="rect">
            <a:avLst/>
          </a:prstGeom>
          <a:gradFill rotWithShape="0">
            <a:gsLst>
              <a:gs pos="0">
                <a:srgbClr val="4f6077"/>
              </a:gs>
              <a:gs pos="100000">
                <a:srgbClr val="6479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23040" bIns="230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39760" y="5462640"/>
            <a:ext cx="1295280" cy="4572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5" name="" descr=""/>
          <p:cNvPicPr/>
          <p:nvPr/>
        </p:nvPicPr>
        <p:blipFill>
          <a:blip r:embed="rId3"/>
          <a:stretch/>
        </p:blipFill>
        <p:spPr>
          <a:xfrm>
            <a:off x="274680" y="4595760"/>
            <a:ext cx="1231920" cy="944640"/>
          </a:xfrm>
          <a:prstGeom prst="rect">
            <a:avLst/>
          </a:prstGeom>
          <a:ln w="0">
            <a:noFill/>
          </a:ln>
        </p:spPr>
      </p:pic>
      <p:grpSp>
        <p:nvGrpSpPr>
          <p:cNvPr id="1326" name=""/>
          <p:cNvGrpSpPr/>
          <p:nvPr/>
        </p:nvGrpSpPr>
        <p:grpSpPr>
          <a:xfrm>
            <a:off x="153360" y="3657600"/>
            <a:ext cx="1853280" cy="1224360"/>
            <a:chOff x="153360" y="3657600"/>
            <a:chExt cx="1853280" cy="1224360"/>
          </a:xfrm>
        </p:grpSpPr>
        <p:sp>
          <p:nvSpPr>
            <p:cNvPr id="1327" name=""/>
            <p:cNvSpPr/>
            <p:nvPr/>
          </p:nvSpPr>
          <p:spPr>
            <a:xfrm>
              <a:off x="328680" y="4191120"/>
              <a:ext cx="647640" cy="549000"/>
            </a:xfrm>
            <a:prstGeom prst="ellipse">
              <a:avLst/>
            </a:prstGeom>
            <a:gradFill rotWithShape="0">
              <a:gsLst>
                <a:gs pos="0">
                  <a:srgbClr val="ffe98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874800" y="3898800"/>
              <a:ext cx="927000" cy="785880"/>
            </a:xfrm>
            <a:prstGeom prst="ellipse">
              <a:avLst/>
            </a:prstGeom>
            <a:gradFill rotWithShape="0">
              <a:gsLst>
                <a:gs pos="0">
                  <a:srgbClr val="ffe98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H="1">
              <a:off x="171360" y="4495680"/>
              <a:ext cx="354240" cy="135000"/>
            </a:xfrm>
            <a:custGeom>
              <a:avLst/>
              <a:gdLst/>
              <a:ahLst/>
              <a:rect l="l" t="t" r="r" b="b"/>
              <a:pathLst>
                <a:path w="285" h="79">
                  <a:moveTo>
                    <a:pt x="0" y="78"/>
                  </a:moveTo>
                  <a:lnTo>
                    <a:pt x="279" y="0"/>
                  </a:lnTo>
                  <a:lnTo>
                    <a:pt x="284" y="57"/>
                  </a:lnTo>
                  <a:lnTo>
                    <a:pt x="0" y="7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7960" bIns="5796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rot="19500000">
              <a:off x="151560" y="4190760"/>
              <a:ext cx="121392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marL="255600" indent="-255600" algn="ctr">
                <a:lnSpc>
                  <a:spcPct val="95000"/>
                </a:lnSpc>
                <a:spcBef>
                  <a:spcPts val="1349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rot="960000">
              <a:off x="613800" y="3981600"/>
              <a:ext cx="121392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marL="255600" indent="-255600" algn="ctr">
                <a:lnSpc>
                  <a:spcPct val="95000"/>
                </a:lnSpc>
                <a:spcBef>
                  <a:spcPts val="1349"/>
                </a:spcBef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401840" y="3757680"/>
              <a:ext cx="347760" cy="396720"/>
            </a:xfrm>
            <a:custGeom>
              <a:avLst/>
              <a:gdLst/>
              <a:ahLst/>
              <a:rect l="l" t="t" r="r" b="b"/>
              <a:pathLst>
                <a:path w="204" h="233">
                  <a:moveTo>
                    <a:pt x="0" y="232"/>
                  </a:moveTo>
                  <a:lnTo>
                    <a:pt x="178" y="0"/>
                  </a:lnTo>
                  <a:lnTo>
                    <a:pt x="203" y="61"/>
                  </a:lnTo>
                  <a:lnTo>
                    <a:pt x="0" y="23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7960" bIns="5796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519200" y="4175280"/>
              <a:ext cx="487440" cy="134640"/>
            </a:xfrm>
            <a:custGeom>
              <a:avLst/>
              <a:gdLst/>
              <a:ahLst/>
              <a:rect l="l" t="t" r="r" b="b"/>
              <a:pathLst>
                <a:path w="285" h="79">
                  <a:moveTo>
                    <a:pt x="0" y="78"/>
                  </a:moveTo>
                  <a:lnTo>
                    <a:pt x="279" y="0"/>
                  </a:lnTo>
                  <a:lnTo>
                    <a:pt x="284" y="57"/>
                  </a:lnTo>
                  <a:lnTo>
                    <a:pt x="0" y="7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7960" bIns="5796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541520" y="4465800"/>
              <a:ext cx="277920" cy="392040"/>
            </a:xfrm>
            <a:custGeom>
              <a:avLst/>
              <a:gdLst/>
              <a:ahLst/>
              <a:rect l="l" t="t" r="r" b="b"/>
              <a:pathLst>
                <a:path w="165" h="230">
                  <a:moveTo>
                    <a:pt x="0" y="0"/>
                  </a:moveTo>
                  <a:lnTo>
                    <a:pt x="164" y="178"/>
                  </a:lnTo>
                  <a:lnTo>
                    <a:pt x="129" y="22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7960" bIns="5796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233360" y="3657600"/>
              <a:ext cx="101880" cy="509760"/>
            </a:xfrm>
            <a:custGeom>
              <a:avLst/>
              <a:gdLst/>
              <a:ahLst/>
              <a:rect l="l" t="t" r="r" b="b"/>
              <a:pathLst>
                <a:path w="59" h="299">
                  <a:moveTo>
                    <a:pt x="28" y="298"/>
                  </a:moveTo>
                  <a:lnTo>
                    <a:pt x="58" y="19"/>
                  </a:lnTo>
                  <a:lnTo>
                    <a:pt x="0" y="0"/>
                  </a:lnTo>
                  <a:lnTo>
                    <a:pt x="28" y="2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7960" bIns="5796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H="1">
              <a:off x="290520" y="4038480"/>
              <a:ext cx="254160" cy="397080"/>
            </a:xfrm>
            <a:custGeom>
              <a:avLst/>
              <a:gdLst/>
              <a:ahLst/>
              <a:rect l="l" t="t" r="r" b="b"/>
              <a:pathLst>
                <a:path w="204" h="233">
                  <a:moveTo>
                    <a:pt x="0" y="232"/>
                  </a:moveTo>
                  <a:lnTo>
                    <a:pt x="178" y="0"/>
                  </a:lnTo>
                  <a:lnTo>
                    <a:pt x="203" y="61"/>
                  </a:lnTo>
                  <a:lnTo>
                    <a:pt x="0" y="23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7960" bIns="5796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H="1" rot="1586400">
              <a:off x="519120" y="3809880"/>
              <a:ext cx="254160" cy="396720"/>
            </a:xfrm>
            <a:custGeom>
              <a:avLst/>
              <a:gdLst/>
              <a:ahLst/>
              <a:rect l="l" t="t" r="r" b="b"/>
              <a:pathLst>
                <a:path w="204" h="233">
                  <a:moveTo>
                    <a:pt x="0" y="232"/>
                  </a:moveTo>
                  <a:lnTo>
                    <a:pt x="178" y="0"/>
                  </a:lnTo>
                  <a:lnTo>
                    <a:pt x="203" y="61"/>
                  </a:lnTo>
                  <a:lnTo>
                    <a:pt x="0" y="232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7960" bIns="5796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8" name=""/>
          <p:cNvGrpSpPr/>
          <p:nvPr/>
        </p:nvGrpSpPr>
        <p:grpSpPr>
          <a:xfrm>
            <a:off x="4313160" y="3921120"/>
            <a:ext cx="3423600" cy="2612880"/>
            <a:chOff x="4313160" y="3921120"/>
            <a:chExt cx="3423600" cy="2612880"/>
          </a:xfrm>
        </p:grpSpPr>
        <p:sp>
          <p:nvSpPr>
            <p:cNvPr id="1339" name=""/>
            <p:cNvSpPr/>
            <p:nvPr/>
          </p:nvSpPr>
          <p:spPr>
            <a:xfrm>
              <a:off x="5555160" y="6064200"/>
              <a:ext cx="21816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Remote Agen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608360" y="4016520"/>
              <a:ext cx="1011240" cy="11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313160" y="4073400"/>
              <a:ext cx="619200" cy="149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700520" y="3921120"/>
              <a:ext cx="1432080" cy="71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808600" y="4809960"/>
              <a:ext cx="1297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SoftPho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44" name=""/>
            <p:cNvGrpSpPr/>
            <p:nvPr/>
          </p:nvGrpSpPr>
          <p:grpSpPr>
            <a:xfrm>
              <a:off x="5230800" y="4802040"/>
              <a:ext cx="555480" cy="501840"/>
              <a:chOff x="5230800" y="4802040"/>
              <a:chExt cx="555480" cy="501840"/>
            </a:xfrm>
          </p:grpSpPr>
          <p:pic>
            <p:nvPicPr>
              <p:cNvPr id="134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230800" y="4802040"/>
                <a:ext cx="555480" cy="50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6" name=""/>
              <p:cNvSpPr/>
              <p:nvPr/>
            </p:nvSpPr>
            <p:spPr>
              <a:xfrm>
                <a:off x="5347800" y="4889520"/>
                <a:ext cx="266400" cy="190440"/>
              </a:xfrm>
              <a:prstGeom prst="rect">
                <a:avLst/>
              </a:prstGeom>
              <a:solidFill>
                <a:srgbClr val="ffae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7" name=""/>
            <p:cNvSpPr/>
            <p:nvPr/>
          </p:nvSpPr>
          <p:spPr>
            <a:xfrm>
              <a:off x="5567400" y="5800680"/>
              <a:ext cx="12970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P Phon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48" name="notebook" descr=""/>
            <p:cNvPicPr/>
            <p:nvPr/>
          </p:nvPicPr>
          <p:blipFill>
            <a:blip r:embed="rId2"/>
            <a:stretch/>
          </p:blipFill>
          <p:spPr>
            <a:xfrm>
              <a:off x="6046920" y="4365720"/>
              <a:ext cx="485640" cy="414360"/>
            </a:xfrm>
            <a:prstGeom prst="rect">
              <a:avLst/>
            </a:prstGeom>
            <a:ln w="12600">
              <a:solidFill>
                <a:srgbClr val="b2b2b2"/>
              </a:solidFill>
              <a:miter/>
            </a:ln>
          </p:spPr>
        </p:pic>
        <p:pic>
          <p:nvPicPr>
            <p:cNvPr id="1349" name="man_mtbz_char" descr=""/>
            <p:cNvPicPr/>
            <p:nvPr/>
          </p:nvPicPr>
          <p:blipFill>
            <a:blip r:embed="rId3"/>
            <a:stretch/>
          </p:blipFill>
          <p:spPr>
            <a:xfrm>
              <a:off x="5646600" y="5172120"/>
              <a:ext cx="495360" cy="466560"/>
            </a:xfrm>
            <a:prstGeom prst="rect">
              <a:avLst/>
            </a:prstGeom>
            <a:ln w="9360">
              <a:solidFill>
                <a:srgbClr val="b2b2b2"/>
              </a:solidFill>
              <a:miter/>
            </a:ln>
          </p:spPr>
        </p:pic>
        <p:grpSp>
          <p:nvGrpSpPr>
            <p:cNvPr id="1350" name=""/>
            <p:cNvGrpSpPr/>
            <p:nvPr/>
          </p:nvGrpSpPr>
          <p:grpSpPr>
            <a:xfrm>
              <a:off x="4564080" y="5272200"/>
              <a:ext cx="555480" cy="501480"/>
              <a:chOff x="4564080" y="5272200"/>
              <a:chExt cx="555480" cy="501480"/>
            </a:xfrm>
          </p:grpSpPr>
          <p:pic>
            <p:nvPicPr>
              <p:cNvPr id="135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564080" y="5272200"/>
                <a:ext cx="555480" cy="50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2" name=""/>
              <p:cNvSpPr/>
              <p:nvPr/>
            </p:nvSpPr>
            <p:spPr>
              <a:xfrm>
                <a:off x="4681440" y="5359320"/>
                <a:ext cx="266760" cy="190800"/>
              </a:xfrm>
              <a:prstGeom prst="rect">
                <a:avLst/>
              </a:prstGeom>
              <a:solidFill>
                <a:srgbClr val="ffae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353" name="ITE-12sd_lg" descr=""/>
            <p:cNvPicPr/>
            <p:nvPr/>
          </p:nvPicPr>
          <p:blipFill>
            <a:blip r:embed="rId5"/>
            <a:stretch/>
          </p:blipFill>
          <p:spPr>
            <a:xfrm>
              <a:off x="4770360" y="5689440"/>
              <a:ext cx="685800" cy="540000"/>
            </a:xfrm>
            <a:prstGeom prst="rect">
              <a:avLst/>
            </a:prstGeom>
            <a:ln w="9360">
              <a:solidFill>
                <a:srgbClr val="b2b2b2"/>
              </a:solidFill>
              <a:miter/>
            </a:ln>
          </p:spPr>
        </p:pic>
      </p:grpSp>
      <p:sp>
        <p:nvSpPr>
          <p:cNvPr id="1354" name=""/>
          <p:cNvSpPr/>
          <p:nvPr/>
        </p:nvSpPr>
        <p:spPr>
          <a:xfrm>
            <a:off x="766800" y="76320"/>
            <a:ext cx="762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New World Contact Cent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5" name=""/>
          <p:cNvGrpSpPr/>
          <p:nvPr/>
        </p:nvGrpSpPr>
        <p:grpSpPr>
          <a:xfrm>
            <a:off x="2514600" y="2054160"/>
            <a:ext cx="5793840" cy="2439720"/>
            <a:chOff x="2514600" y="2054160"/>
            <a:chExt cx="5793840" cy="2439720"/>
          </a:xfrm>
        </p:grpSpPr>
        <p:sp>
          <p:nvSpPr>
            <p:cNvPr id="1356" name=""/>
            <p:cNvSpPr/>
            <p:nvPr/>
          </p:nvSpPr>
          <p:spPr>
            <a:xfrm>
              <a:off x="5062680" y="2054160"/>
              <a:ext cx="1869840" cy="1684440"/>
            </a:xfrm>
            <a:prstGeom prst="ellipse">
              <a:avLst/>
            </a:prstGeom>
            <a:gradFill rotWithShape="0">
              <a:gsLst>
                <a:gs pos="0">
                  <a:srgbClr val="ffae0b"/>
                </a:gs>
                <a:gs pos="50000">
                  <a:srgbClr val="fee5b4"/>
                </a:gs>
                <a:gs pos="100000">
                  <a:srgbClr val="ffae0b"/>
                </a:gs>
              </a:gsLst>
              <a:lin ang="13500000"/>
            </a:gradFill>
            <a:ln w="9360">
              <a:solidFill>
                <a:srgbClr val="ffae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960" rIns="102960" tIns="51480" bIns="51480" anchor="ctr">
              <a:noAutofit/>
            </a:bodyPr>
            <a:p>
              <a:pPr algn="ctr"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979240" y="2178000"/>
              <a:ext cx="70956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 algn="ctr"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VoIP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4059000" y="2828880"/>
              <a:ext cx="1731960" cy="93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798520" y="3262320"/>
              <a:ext cx="25848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 algn="ctr"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60" name=""/>
            <p:cNvGrpSpPr/>
            <p:nvPr/>
          </p:nvGrpSpPr>
          <p:grpSpPr>
            <a:xfrm>
              <a:off x="6356520" y="2513160"/>
              <a:ext cx="304560" cy="544320"/>
              <a:chOff x="6356520" y="2513160"/>
              <a:chExt cx="304560" cy="544320"/>
            </a:xfrm>
          </p:grpSpPr>
          <p:sp>
            <p:nvSpPr>
              <p:cNvPr id="1361" name=""/>
              <p:cNvSpPr/>
              <p:nvPr/>
            </p:nvSpPr>
            <p:spPr>
              <a:xfrm>
                <a:off x="6377760" y="2621160"/>
                <a:ext cx="269280" cy="434880"/>
              </a:xfrm>
              <a:custGeom>
                <a:avLst/>
                <a:gdLst/>
                <a:ahLst/>
                <a:rect l="l" t="t" r="r" b="b"/>
                <a:pathLst>
                  <a:path w="476" h="772">
                    <a:moveTo>
                      <a:pt x="281" y="403"/>
                    </a:moveTo>
                    <a:lnTo>
                      <a:pt x="0" y="318"/>
                    </a:lnTo>
                    <a:lnTo>
                      <a:pt x="109" y="171"/>
                    </a:lnTo>
                    <a:lnTo>
                      <a:pt x="162" y="97"/>
                    </a:lnTo>
                    <a:lnTo>
                      <a:pt x="192" y="58"/>
                    </a:lnTo>
                    <a:lnTo>
                      <a:pt x="224" y="28"/>
                    </a:lnTo>
                    <a:lnTo>
                      <a:pt x="256" y="13"/>
                    </a:lnTo>
                    <a:lnTo>
                      <a:pt x="284" y="1"/>
                    </a:lnTo>
                    <a:lnTo>
                      <a:pt x="321" y="0"/>
                    </a:lnTo>
                    <a:lnTo>
                      <a:pt x="349" y="5"/>
                    </a:lnTo>
                    <a:lnTo>
                      <a:pt x="379" y="12"/>
                    </a:lnTo>
                    <a:lnTo>
                      <a:pt x="406" y="27"/>
                    </a:lnTo>
                    <a:lnTo>
                      <a:pt x="439" y="56"/>
                    </a:lnTo>
                    <a:lnTo>
                      <a:pt x="464" y="91"/>
                    </a:lnTo>
                    <a:lnTo>
                      <a:pt x="475" y="133"/>
                    </a:lnTo>
                    <a:lnTo>
                      <a:pt x="475" y="505"/>
                    </a:lnTo>
                    <a:lnTo>
                      <a:pt x="281" y="771"/>
                    </a:lnTo>
                    <a:lnTo>
                      <a:pt x="281" y="403"/>
                    </a:lnTo>
                  </a:path>
                </a:pathLst>
              </a:custGeom>
              <a:gradFill rotWithShape="0">
                <a:gsLst>
                  <a:gs pos="0">
                    <a:srgbClr val="27292a"/>
                  </a:gs>
                  <a:gs pos="50000">
                    <a:srgbClr val="cbd2dc"/>
                  </a:gs>
                  <a:gs pos="100000">
                    <a:srgbClr val="27292a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7960" bIns="5796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356520" y="2770560"/>
                <a:ext cx="180360" cy="286920"/>
              </a:xfrm>
              <a:custGeom>
                <a:avLst/>
                <a:gdLst/>
                <a:ahLst/>
                <a:rect l="l" t="t" r="r" b="b"/>
                <a:pathLst>
                  <a:path w="319" h="509">
                    <a:moveTo>
                      <a:pt x="0" y="141"/>
                    </a:moveTo>
                    <a:lnTo>
                      <a:pt x="5" y="112"/>
                    </a:lnTo>
                    <a:lnTo>
                      <a:pt x="15" y="90"/>
                    </a:lnTo>
                    <a:lnTo>
                      <a:pt x="40" y="52"/>
                    </a:lnTo>
                    <a:lnTo>
                      <a:pt x="56" y="37"/>
                    </a:lnTo>
                    <a:lnTo>
                      <a:pt x="84" y="18"/>
                    </a:lnTo>
                    <a:lnTo>
                      <a:pt x="121" y="5"/>
                    </a:lnTo>
                    <a:lnTo>
                      <a:pt x="157" y="0"/>
                    </a:lnTo>
                    <a:lnTo>
                      <a:pt x="190" y="5"/>
                    </a:lnTo>
                    <a:lnTo>
                      <a:pt x="229" y="18"/>
                    </a:lnTo>
                    <a:lnTo>
                      <a:pt x="257" y="33"/>
                    </a:lnTo>
                    <a:lnTo>
                      <a:pt x="280" y="54"/>
                    </a:lnTo>
                    <a:lnTo>
                      <a:pt x="303" y="90"/>
                    </a:lnTo>
                    <a:lnTo>
                      <a:pt x="314" y="112"/>
                    </a:lnTo>
                    <a:lnTo>
                      <a:pt x="318" y="139"/>
                    </a:lnTo>
                    <a:lnTo>
                      <a:pt x="318" y="508"/>
                    </a:lnTo>
                    <a:lnTo>
                      <a:pt x="0" y="508"/>
                    </a:lnTo>
                    <a:lnTo>
                      <a:pt x="0" y="141"/>
                    </a:lnTo>
                  </a:path>
                </a:pathLst>
              </a:custGeom>
              <a:solidFill>
                <a:srgbClr val="cbd2dc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7960" bIns="5796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559200" y="2513160"/>
                <a:ext cx="101880" cy="325800"/>
              </a:xfrm>
              <a:custGeom>
                <a:avLst/>
                <a:gdLst/>
                <a:ahLst/>
                <a:rect l="l" t="t" r="r" b="b"/>
                <a:pathLst>
                  <a:path w="180" h="577">
                    <a:moveTo>
                      <a:pt x="0" y="576"/>
                    </a:moveTo>
                    <a:lnTo>
                      <a:pt x="0" y="0"/>
                    </a:lnTo>
                    <a:lnTo>
                      <a:pt x="179" y="188"/>
                    </a:lnTo>
                    <a:lnTo>
                      <a:pt x="59" y="160"/>
                    </a:lnTo>
                    <a:lnTo>
                      <a:pt x="59" y="576"/>
                    </a:lnTo>
                    <a:lnTo>
                      <a:pt x="0" y="57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7960" bIns="5796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378480" y="2838960"/>
                <a:ext cx="131040" cy="36000"/>
              </a:xfrm>
              <a:prstGeom prst="rect">
                <a:avLst/>
              </a:prstGeom>
              <a:gradFill rotWithShape="0">
                <a:gsLst>
                  <a:gs pos="0">
                    <a:srgbClr val="4f6077"/>
                  </a:gs>
                  <a:gs pos="100000">
                    <a:srgbClr val="6479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-21960" bIns="-2196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65" name=""/>
            <p:cNvSpPr/>
            <p:nvPr/>
          </p:nvSpPr>
          <p:spPr>
            <a:xfrm>
              <a:off x="6046200" y="3067200"/>
              <a:ext cx="86796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 algn="ctr"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E-Mail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V="1">
              <a:off x="2514600" y="3631680"/>
              <a:ext cx="1722600" cy="86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67" name="" descr=""/>
            <p:cNvPicPr/>
            <p:nvPr/>
          </p:nvPicPr>
          <p:blipFill>
            <a:blip r:embed="rId6"/>
            <a:stretch/>
          </p:blipFill>
          <p:spPr>
            <a:xfrm>
              <a:off x="5062680" y="2451240"/>
              <a:ext cx="471240" cy="36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8" name=""/>
            <p:cNvSpPr/>
            <p:nvPr/>
          </p:nvSpPr>
          <p:spPr>
            <a:xfrm flipH="1">
              <a:off x="5029200" y="2523960"/>
              <a:ext cx="5036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69" name=""/>
            <p:cNvGrpSpPr/>
            <p:nvPr/>
          </p:nvGrpSpPr>
          <p:grpSpPr>
            <a:xfrm>
              <a:off x="5557680" y="2414520"/>
              <a:ext cx="541440" cy="987120"/>
              <a:chOff x="5557680" y="2414520"/>
              <a:chExt cx="541440" cy="987120"/>
            </a:xfrm>
          </p:grpSpPr>
          <p:pic>
            <p:nvPicPr>
              <p:cNvPr id="137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57680" y="2668680"/>
                <a:ext cx="541440" cy="73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817240" y="2414520"/>
                <a:ext cx="191880" cy="256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72" name=""/>
            <p:cNvSpPr/>
            <p:nvPr/>
          </p:nvSpPr>
          <p:spPr>
            <a:xfrm>
              <a:off x="6812640" y="2084400"/>
              <a:ext cx="14958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 algn="ctr"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3" name=""/>
          <p:cNvSpPr/>
          <p:nvPr/>
        </p:nvSpPr>
        <p:spPr>
          <a:xfrm>
            <a:off x="2603520" y="4548240"/>
            <a:ext cx="647640" cy="79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4" name="" descr=""/>
          <p:cNvPicPr/>
          <p:nvPr/>
        </p:nvPicPr>
        <p:blipFill>
          <a:blip r:embed="rId9"/>
          <a:stretch/>
        </p:blipFill>
        <p:spPr>
          <a:xfrm>
            <a:off x="326880" y="2971800"/>
            <a:ext cx="1363680" cy="1913040"/>
          </a:xfrm>
          <a:prstGeom prst="rect">
            <a:avLst/>
          </a:prstGeom>
          <a:ln w="0">
            <a:noFill/>
          </a:ln>
        </p:spPr>
      </p:pic>
      <p:sp>
        <p:nvSpPr>
          <p:cNvPr id="1375" name=""/>
          <p:cNvSpPr/>
          <p:nvPr/>
        </p:nvSpPr>
        <p:spPr>
          <a:xfrm flipV="1">
            <a:off x="912960" y="4992480"/>
            <a:ext cx="0" cy="655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1069920" y="5059080"/>
            <a:ext cx="0" cy="74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flipV="1">
            <a:off x="733320" y="5030640"/>
            <a:ext cx="0" cy="46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8" name="" descr=""/>
          <p:cNvPicPr/>
          <p:nvPr/>
        </p:nvPicPr>
        <p:blipFill>
          <a:blip r:embed="rId10"/>
          <a:stretch/>
        </p:blipFill>
        <p:spPr>
          <a:xfrm>
            <a:off x="663480" y="4668840"/>
            <a:ext cx="663840" cy="520560"/>
          </a:xfrm>
          <a:prstGeom prst="rect">
            <a:avLst/>
          </a:prstGeom>
          <a:ln w="0">
            <a:noFill/>
          </a:ln>
        </p:spPr>
      </p:pic>
      <p:sp>
        <p:nvSpPr>
          <p:cNvPr id="1379" name=""/>
          <p:cNvSpPr/>
          <p:nvPr/>
        </p:nvSpPr>
        <p:spPr>
          <a:xfrm flipH="1">
            <a:off x="438840" y="4700520"/>
            <a:ext cx="1070280" cy="53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Legacy AC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87280" y="2343240"/>
            <a:ext cx="17762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 algn="ct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entral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1" name="" descr=""/>
          <p:cNvPicPr/>
          <p:nvPr/>
        </p:nvPicPr>
        <p:blipFill>
          <a:blip r:embed="rId11"/>
          <a:stretch/>
        </p:blipFill>
        <p:spPr>
          <a:xfrm flipH="1">
            <a:off x="326880" y="5388120"/>
            <a:ext cx="533520" cy="338040"/>
          </a:xfrm>
          <a:prstGeom prst="rect">
            <a:avLst/>
          </a:prstGeom>
          <a:ln w="0">
            <a:noFill/>
          </a:ln>
        </p:spPr>
      </p:pic>
      <p:pic>
        <p:nvPicPr>
          <p:cNvPr id="1382" name="" descr=""/>
          <p:cNvPicPr/>
          <p:nvPr/>
        </p:nvPicPr>
        <p:blipFill>
          <a:blip r:embed="rId12"/>
          <a:stretch/>
        </p:blipFill>
        <p:spPr>
          <a:xfrm flipH="1">
            <a:off x="492120" y="5540400"/>
            <a:ext cx="533520" cy="338040"/>
          </a:xfrm>
          <a:prstGeom prst="rect">
            <a:avLst/>
          </a:prstGeom>
          <a:ln w="0">
            <a:noFill/>
          </a:ln>
        </p:spPr>
      </p:pic>
      <p:sp>
        <p:nvSpPr>
          <p:cNvPr id="1383" name=""/>
          <p:cNvSpPr/>
          <p:nvPr/>
        </p:nvSpPr>
        <p:spPr>
          <a:xfrm flipH="1">
            <a:off x="2135160" y="4635360"/>
            <a:ext cx="403200" cy="968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H="1">
            <a:off x="1171440" y="4376880"/>
            <a:ext cx="1338480" cy="68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H="1">
            <a:off x="3360600" y="5383080"/>
            <a:ext cx="38160" cy="72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784600" y="6200640"/>
            <a:ext cx="135864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5440" bIns="55440" anchor="t">
            <a:spAutoFit/>
          </a:bodyPr>
          <a:p>
            <a:pPr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Custom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1492200" y="6016680"/>
            <a:ext cx="12826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Custom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8" name="" descr=""/>
          <p:cNvPicPr/>
          <p:nvPr/>
        </p:nvPicPr>
        <p:blipFill>
          <a:blip r:embed="rId13"/>
          <a:stretch/>
        </p:blipFill>
        <p:spPr>
          <a:xfrm>
            <a:off x="1776240" y="5529240"/>
            <a:ext cx="739800" cy="520560"/>
          </a:xfrm>
          <a:prstGeom prst="rect">
            <a:avLst/>
          </a:prstGeom>
          <a:ln w="0">
            <a:noFill/>
          </a:ln>
        </p:spPr>
      </p:pic>
      <p:pic>
        <p:nvPicPr>
          <p:cNvPr id="1389" name="" descr=""/>
          <p:cNvPicPr/>
          <p:nvPr/>
        </p:nvPicPr>
        <p:blipFill>
          <a:blip r:embed="rId14"/>
          <a:stretch/>
        </p:blipFill>
        <p:spPr>
          <a:xfrm>
            <a:off x="2786040" y="4925880"/>
            <a:ext cx="1181160" cy="714600"/>
          </a:xfrm>
          <a:prstGeom prst="rect">
            <a:avLst/>
          </a:prstGeom>
          <a:ln w="0">
            <a:noFill/>
          </a:ln>
        </p:spPr>
      </p:pic>
      <p:sp>
        <p:nvSpPr>
          <p:cNvPr id="1390" name=""/>
          <p:cNvSpPr/>
          <p:nvPr/>
        </p:nvSpPr>
        <p:spPr>
          <a:xfrm>
            <a:off x="2697120" y="5075280"/>
            <a:ext cx="135900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5440" bIns="55440" anchor="t">
            <a:spAutoFit/>
          </a:bodyPr>
          <a:p>
            <a:pPr algn="ctr"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ST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1" name="" descr=""/>
          <p:cNvPicPr/>
          <p:nvPr/>
        </p:nvPicPr>
        <p:blipFill>
          <a:blip r:embed="rId15"/>
          <a:stretch/>
        </p:blipFill>
        <p:spPr>
          <a:xfrm>
            <a:off x="3097080" y="5815080"/>
            <a:ext cx="519120" cy="399960"/>
          </a:xfrm>
          <a:prstGeom prst="rect">
            <a:avLst/>
          </a:prstGeom>
          <a:ln w="0">
            <a:noFill/>
          </a:ln>
        </p:spPr>
      </p:pic>
      <p:sp>
        <p:nvSpPr>
          <p:cNvPr id="1392" name=""/>
          <p:cNvSpPr/>
          <p:nvPr/>
        </p:nvSpPr>
        <p:spPr>
          <a:xfrm>
            <a:off x="2305080" y="3921120"/>
            <a:ext cx="412560" cy="876240"/>
          </a:xfrm>
          <a:custGeom>
            <a:avLst/>
            <a:gdLst/>
            <a:ahLst/>
            <a:rect l="l" t="t" r="r" b="b"/>
            <a:pathLst>
              <a:path w="296" h="672">
                <a:moveTo>
                  <a:pt x="225" y="653"/>
                </a:moveTo>
                <a:lnTo>
                  <a:pt x="213" y="666"/>
                </a:lnTo>
                <a:lnTo>
                  <a:pt x="184" y="672"/>
                </a:lnTo>
                <a:lnTo>
                  <a:pt x="106" y="672"/>
                </a:lnTo>
                <a:lnTo>
                  <a:pt x="65" y="672"/>
                </a:lnTo>
                <a:lnTo>
                  <a:pt x="36" y="666"/>
                </a:lnTo>
                <a:lnTo>
                  <a:pt x="12" y="659"/>
                </a:lnTo>
                <a:lnTo>
                  <a:pt x="0" y="653"/>
                </a:lnTo>
                <a:lnTo>
                  <a:pt x="0" y="74"/>
                </a:lnTo>
                <a:lnTo>
                  <a:pt x="71" y="0"/>
                </a:lnTo>
                <a:lnTo>
                  <a:pt x="296" y="0"/>
                </a:lnTo>
                <a:lnTo>
                  <a:pt x="296" y="580"/>
                </a:lnTo>
                <a:lnTo>
                  <a:pt x="225" y="653"/>
                </a:lnTo>
                <a:close/>
              </a:path>
            </a:pathLst>
          </a:custGeom>
          <a:solidFill>
            <a:srgbClr val="ff8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313000" y="4025880"/>
            <a:ext cx="306360" cy="771480"/>
          </a:xfrm>
          <a:custGeom>
            <a:avLst/>
            <a:gdLst/>
            <a:ahLst/>
            <a:rect l="l" t="t" r="r" b="b"/>
            <a:pathLst>
              <a:path w="219" h="592">
                <a:moveTo>
                  <a:pt x="0" y="0"/>
                </a:moveTo>
                <a:lnTo>
                  <a:pt x="0" y="7"/>
                </a:lnTo>
                <a:lnTo>
                  <a:pt x="24" y="13"/>
                </a:lnTo>
                <a:lnTo>
                  <a:pt x="53" y="13"/>
                </a:lnTo>
                <a:lnTo>
                  <a:pt x="89" y="19"/>
                </a:lnTo>
                <a:lnTo>
                  <a:pt x="130" y="19"/>
                </a:lnTo>
                <a:lnTo>
                  <a:pt x="172" y="13"/>
                </a:lnTo>
                <a:lnTo>
                  <a:pt x="201" y="7"/>
                </a:lnTo>
                <a:lnTo>
                  <a:pt x="219" y="0"/>
                </a:lnTo>
                <a:lnTo>
                  <a:pt x="219" y="573"/>
                </a:lnTo>
                <a:lnTo>
                  <a:pt x="201" y="586"/>
                </a:lnTo>
                <a:lnTo>
                  <a:pt x="172" y="586"/>
                </a:lnTo>
                <a:lnTo>
                  <a:pt x="94" y="592"/>
                </a:lnTo>
                <a:lnTo>
                  <a:pt x="30" y="586"/>
                </a:lnTo>
                <a:lnTo>
                  <a:pt x="6" y="586"/>
                </a:lnTo>
                <a:lnTo>
                  <a:pt x="0" y="579"/>
                </a:lnTo>
                <a:lnTo>
                  <a:pt x="0" y="573"/>
                </a:lnTo>
                <a:lnTo>
                  <a:pt x="0" y="0"/>
                </a:lnTo>
                <a:close/>
              </a:path>
            </a:pathLst>
          </a:custGeom>
          <a:solidFill>
            <a:srgbClr val="ff00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313000" y="4741920"/>
            <a:ext cx="306360" cy="22320"/>
          </a:xfrm>
          <a:custGeom>
            <a:avLst/>
            <a:gdLst/>
            <a:ahLst/>
            <a:rect l="l" t="t" r="r" b="b"/>
            <a:pathLst>
              <a:path w="219" h="18">
                <a:moveTo>
                  <a:pt x="0" y="0"/>
                </a:moveTo>
                <a:lnTo>
                  <a:pt x="0" y="6"/>
                </a:lnTo>
                <a:lnTo>
                  <a:pt x="24" y="12"/>
                </a:lnTo>
                <a:lnTo>
                  <a:pt x="94" y="18"/>
                </a:lnTo>
                <a:lnTo>
                  <a:pt x="172" y="12"/>
                </a:lnTo>
                <a:lnTo>
                  <a:pt x="201" y="6"/>
                </a:lnTo>
                <a:lnTo>
                  <a:pt x="219" y="0"/>
                </a:lnTo>
              </a:path>
            </a:pathLst>
          </a:custGeom>
          <a:noFill/>
          <a:ln w="9360">
            <a:solidFill>
              <a:srgbClr val="a6020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313000" y="4708440"/>
            <a:ext cx="306360" cy="25560"/>
          </a:xfrm>
          <a:custGeom>
            <a:avLst/>
            <a:gdLst/>
            <a:ahLst/>
            <a:rect l="l" t="t" r="r" b="b"/>
            <a:pathLst>
              <a:path w="219" h="19">
                <a:moveTo>
                  <a:pt x="0" y="0"/>
                </a:moveTo>
                <a:lnTo>
                  <a:pt x="0" y="6"/>
                </a:lnTo>
                <a:lnTo>
                  <a:pt x="24" y="12"/>
                </a:lnTo>
                <a:lnTo>
                  <a:pt x="94" y="19"/>
                </a:lnTo>
                <a:lnTo>
                  <a:pt x="172" y="12"/>
                </a:lnTo>
                <a:lnTo>
                  <a:pt x="201" y="6"/>
                </a:lnTo>
                <a:lnTo>
                  <a:pt x="219" y="0"/>
                </a:lnTo>
              </a:path>
            </a:pathLst>
          </a:custGeom>
          <a:noFill/>
          <a:ln w="9360">
            <a:solidFill>
              <a:srgbClr val="a6020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313000" y="4676760"/>
            <a:ext cx="306360" cy="23760"/>
          </a:xfrm>
          <a:custGeom>
            <a:avLst/>
            <a:gdLst/>
            <a:ahLst/>
            <a:rect l="l" t="t" r="r" b="b"/>
            <a:pathLst>
              <a:path w="219" h="18">
                <a:moveTo>
                  <a:pt x="0" y="0"/>
                </a:moveTo>
                <a:lnTo>
                  <a:pt x="0" y="6"/>
                </a:lnTo>
                <a:lnTo>
                  <a:pt x="24" y="12"/>
                </a:lnTo>
                <a:lnTo>
                  <a:pt x="94" y="18"/>
                </a:lnTo>
                <a:lnTo>
                  <a:pt x="172" y="12"/>
                </a:lnTo>
                <a:lnTo>
                  <a:pt x="201" y="6"/>
                </a:lnTo>
                <a:lnTo>
                  <a:pt x="219" y="0"/>
                </a:lnTo>
              </a:path>
            </a:pathLst>
          </a:custGeom>
          <a:noFill/>
          <a:ln w="9360">
            <a:solidFill>
              <a:srgbClr val="a6020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2313000" y="4645080"/>
            <a:ext cx="306360" cy="23760"/>
          </a:xfrm>
          <a:custGeom>
            <a:avLst/>
            <a:gdLst/>
            <a:ahLst/>
            <a:rect l="l" t="t" r="r" b="b"/>
            <a:pathLst>
              <a:path w="219" h="18">
                <a:moveTo>
                  <a:pt x="0" y="0"/>
                </a:moveTo>
                <a:lnTo>
                  <a:pt x="0" y="6"/>
                </a:lnTo>
                <a:lnTo>
                  <a:pt x="24" y="12"/>
                </a:lnTo>
                <a:lnTo>
                  <a:pt x="94" y="18"/>
                </a:lnTo>
                <a:lnTo>
                  <a:pt x="172" y="12"/>
                </a:lnTo>
                <a:lnTo>
                  <a:pt x="201" y="6"/>
                </a:lnTo>
                <a:lnTo>
                  <a:pt x="219" y="0"/>
                </a:lnTo>
              </a:path>
            </a:pathLst>
          </a:custGeom>
          <a:noFill/>
          <a:ln w="9360">
            <a:solidFill>
              <a:srgbClr val="a6020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313000" y="4611600"/>
            <a:ext cx="306360" cy="25560"/>
          </a:xfrm>
          <a:custGeom>
            <a:avLst/>
            <a:gdLst/>
            <a:ahLst/>
            <a:rect l="l" t="t" r="r" b="b"/>
            <a:pathLst>
              <a:path w="219" h="19">
                <a:moveTo>
                  <a:pt x="0" y="0"/>
                </a:moveTo>
                <a:lnTo>
                  <a:pt x="0" y="6"/>
                </a:lnTo>
                <a:lnTo>
                  <a:pt x="24" y="13"/>
                </a:lnTo>
                <a:lnTo>
                  <a:pt x="94" y="19"/>
                </a:lnTo>
                <a:lnTo>
                  <a:pt x="172" y="13"/>
                </a:lnTo>
                <a:lnTo>
                  <a:pt x="201" y="6"/>
                </a:lnTo>
                <a:lnTo>
                  <a:pt x="219" y="0"/>
                </a:lnTo>
              </a:path>
            </a:pathLst>
          </a:custGeom>
          <a:noFill/>
          <a:ln w="9360">
            <a:solidFill>
              <a:srgbClr val="a6020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313000" y="4581360"/>
            <a:ext cx="306360" cy="22320"/>
          </a:xfrm>
          <a:custGeom>
            <a:avLst/>
            <a:gdLst/>
            <a:ahLst/>
            <a:rect l="l" t="t" r="r" b="b"/>
            <a:pathLst>
              <a:path w="219" h="18">
                <a:moveTo>
                  <a:pt x="0" y="0"/>
                </a:moveTo>
                <a:lnTo>
                  <a:pt x="0" y="6"/>
                </a:lnTo>
                <a:lnTo>
                  <a:pt x="24" y="12"/>
                </a:lnTo>
                <a:lnTo>
                  <a:pt x="94" y="18"/>
                </a:lnTo>
                <a:lnTo>
                  <a:pt x="172" y="12"/>
                </a:lnTo>
                <a:lnTo>
                  <a:pt x="201" y="6"/>
                </a:lnTo>
                <a:lnTo>
                  <a:pt x="219" y="0"/>
                </a:lnTo>
              </a:path>
            </a:pathLst>
          </a:custGeom>
          <a:noFill/>
          <a:ln w="9360">
            <a:solidFill>
              <a:srgbClr val="a6020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313000" y="4548240"/>
            <a:ext cx="306360" cy="25200"/>
          </a:xfrm>
          <a:custGeom>
            <a:avLst/>
            <a:gdLst/>
            <a:ahLst/>
            <a:rect l="l" t="t" r="r" b="b"/>
            <a:pathLst>
              <a:path w="219" h="19">
                <a:moveTo>
                  <a:pt x="0" y="0"/>
                </a:moveTo>
                <a:lnTo>
                  <a:pt x="0" y="6"/>
                </a:lnTo>
                <a:lnTo>
                  <a:pt x="24" y="12"/>
                </a:lnTo>
                <a:lnTo>
                  <a:pt x="94" y="19"/>
                </a:lnTo>
                <a:lnTo>
                  <a:pt x="172" y="12"/>
                </a:lnTo>
                <a:lnTo>
                  <a:pt x="201" y="6"/>
                </a:lnTo>
                <a:lnTo>
                  <a:pt x="219" y="0"/>
                </a:lnTo>
              </a:path>
            </a:pathLst>
          </a:custGeom>
          <a:noFill/>
          <a:ln w="9360">
            <a:solidFill>
              <a:srgbClr val="a6020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313000" y="4708440"/>
            <a:ext cx="306360" cy="25560"/>
          </a:xfrm>
          <a:custGeom>
            <a:avLst/>
            <a:gdLst/>
            <a:ahLst/>
            <a:rect l="l" t="t" r="r" b="b"/>
            <a:pathLst>
              <a:path w="219" h="19">
                <a:moveTo>
                  <a:pt x="0" y="0"/>
                </a:moveTo>
                <a:lnTo>
                  <a:pt x="0" y="6"/>
                </a:lnTo>
                <a:lnTo>
                  <a:pt x="24" y="12"/>
                </a:lnTo>
                <a:lnTo>
                  <a:pt x="94" y="19"/>
                </a:lnTo>
                <a:lnTo>
                  <a:pt x="172" y="19"/>
                </a:lnTo>
                <a:lnTo>
                  <a:pt x="201" y="12"/>
                </a:lnTo>
                <a:lnTo>
                  <a:pt x="219" y="0"/>
                </a:lnTo>
              </a:path>
            </a:pathLst>
          </a:custGeom>
          <a:noFill/>
          <a:ln w="9360">
            <a:solidFill>
              <a:srgbClr val="ff87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313000" y="4676760"/>
            <a:ext cx="306360" cy="23760"/>
          </a:xfrm>
          <a:custGeom>
            <a:avLst/>
            <a:gdLst/>
            <a:ahLst/>
            <a:rect l="l" t="t" r="r" b="b"/>
            <a:pathLst>
              <a:path w="219" h="18">
                <a:moveTo>
                  <a:pt x="0" y="0"/>
                </a:moveTo>
                <a:lnTo>
                  <a:pt x="0" y="6"/>
                </a:lnTo>
                <a:lnTo>
                  <a:pt x="24" y="12"/>
                </a:lnTo>
                <a:lnTo>
                  <a:pt x="94" y="18"/>
                </a:lnTo>
                <a:lnTo>
                  <a:pt x="172" y="18"/>
                </a:lnTo>
                <a:lnTo>
                  <a:pt x="201" y="12"/>
                </a:lnTo>
                <a:lnTo>
                  <a:pt x="219" y="0"/>
                </a:lnTo>
              </a:path>
            </a:pathLst>
          </a:custGeom>
          <a:noFill/>
          <a:ln w="9360">
            <a:solidFill>
              <a:srgbClr val="ff87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313000" y="4645080"/>
            <a:ext cx="306360" cy="23760"/>
          </a:xfrm>
          <a:custGeom>
            <a:avLst/>
            <a:gdLst/>
            <a:ahLst/>
            <a:rect l="l" t="t" r="r" b="b"/>
            <a:pathLst>
              <a:path w="219" h="18">
                <a:moveTo>
                  <a:pt x="0" y="0"/>
                </a:moveTo>
                <a:lnTo>
                  <a:pt x="0" y="6"/>
                </a:lnTo>
                <a:lnTo>
                  <a:pt x="24" y="12"/>
                </a:lnTo>
                <a:lnTo>
                  <a:pt x="94" y="18"/>
                </a:lnTo>
                <a:lnTo>
                  <a:pt x="172" y="18"/>
                </a:lnTo>
                <a:lnTo>
                  <a:pt x="201" y="12"/>
                </a:lnTo>
                <a:lnTo>
                  <a:pt x="219" y="0"/>
                </a:lnTo>
              </a:path>
            </a:pathLst>
          </a:custGeom>
          <a:noFill/>
          <a:ln w="9360">
            <a:solidFill>
              <a:srgbClr val="ff87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313000" y="4611600"/>
            <a:ext cx="306360" cy="25560"/>
          </a:xfrm>
          <a:custGeom>
            <a:avLst/>
            <a:gdLst/>
            <a:ahLst/>
            <a:rect l="l" t="t" r="r" b="b"/>
            <a:pathLst>
              <a:path w="219" h="19">
                <a:moveTo>
                  <a:pt x="0" y="0"/>
                </a:moveTo>
                <a:lnTo>
                  <a:pt x="0" y="6"/>
                </a:lnTo>
                <a:lnTo>
                  <a:pt x="24" y="13"/>
                </a:lnTo>
                <a:lnTo>
                  <a:pt x="94" y="19"/>
                </a:lnTo>
                <a:lnTo>
                  <a:pt x="172" y="19"/>
                </a:lnTo>
                <a:lnTo>
                  <a:pt x="201" y="13"/>
                </a:lnTo>
                <a:lnTo>
                  <a:pt x="219" y="0"/>
                </a:lnTo>
              </a:path>
            </a:pathLst>
          </a:custGeom>
          <a:noFill/>
          <a:ln w="9360">
            <a:solidFill>
              <a:srgbClr val="ff87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313000" y="4581360"/>
            <a:ext cx="306360" cy="22320"/>
          </a:xfrm>
          <a:custGeom>
            <a:avLst/>
            <a:gdLst/>
            <a:ahLst/>
            <a:rect l="l" t="t" r="r" b="b"/>
            <a:pathLst>
              <a:path w="219" h="18">
                <a:moveTo>
                  <a:pt x="0" y="0"/>
                </a:moveTo>
                <a:lnTo>
                  <a:pt x="0" y="6"/>
                </a:lnTo>
                <a:lnTo>
                  <a:pt x="24" y="12"/>
                </a:lnTo>
                <a:lnTo>
                  <a:pt x="94" y="18"/>
                </a:lnTo>
                <a:lnTo>
                  <a:pt x="172" y="18"/>
                </a:lnTo>
                <a:lnTo>
                  <a:pt x="201" y="12"/>
                </a:lnTo>
                <a:lnTo>
                  <a:pt x="219" y="0"/>
                </a:lnTo>
              </a:path>
            </a:pathLst>
          </a:custGeom>
          <a:noFill/>
          <a:ln w="9360">
            <a:solidFill>
              <a:srgbClr val="ff87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313000" y="4548240"/>
            <a:ext cx="306360" cy="25200"/>
          </a:xfrm>
          <a:custGeom>
            <a:avLst/>
            <a:gdLst/>
            <a:ahLst/>
            <a:rect l="l" t="t" r="r" b="b"/>
            <a:pathLst>
              <a:path w="219" h="19">
                <a:moveTo>
                  <a:pt x="0" y="0"/>
                </a:moveTo>
                <a:lnTo>
                  <a:pt x="0" y="6"/>
                </a:lnTo>
                <a:lnTo>
                  <a:pt x="24" y="12"/>
                </a:lnTo>
                <a:lnTo>
                  <a:pt x="94" y="19"/>
                </a:lnTo>
                <a:lnTo>
                  <a:pt x="172" y="19"/>
                </a:lnTo>
                <a:lnTo>
                  <a:pt x="201" y="12"/>
                </a:lnTo>
                <a:lnTo>
                  <a:pt x="219" y="0"/>
                </a:lnTo>
              </a:path>
            </a:pathLst>
          </a:custGeom>
          <a:noFill/>
          <a:ln w="9360">
            <a:solidFill>
              <a:srgbClr val="ff87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313000" y="4356000"/>
            <a:ext cx="306360" cy="22320"/>
          </a:xfrm>
          <a:custGeom>
            <a:avLst/>
            <a:gdLst/>
            <a:ahLst/>
            <a:rect l="l" t="t" r="r" b="b"/>
            <a:pathLst>
              <a:path w="219" h="18">
                <a:moveTo>
                  <a:pt x="0" y="0"/>
                </a:moveTo>
                <a:lnTo>
                  <a:pt x="0" y="6"/>
                </a:lnTo>
                <a:lnTo>
                  <a:pt x="24" y="12"/>
                </a:lnTo>
                <a:lnTo>
                  <a:pt x="94" y="18"/>
                </a:lnTo>
                <a:lnTo>
                  <a:pt x="172" y="12"/>
                </a:lnTo>
                <a:lnTo>
                  <a:pt x="201" y="6"/>
                </a:lnTo>
                <a:lnTo>
                  <a:pt x="219" y="0"/>
                </a:lnTo>
              </a:path>
            </a:pathLst>
          </a:custGeom>
          <a:noFill/>
          <a:ln w="9360">
            <a:solidFill>
              <a:srgbClr val="a6020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2313000" y="4356000"/>
            <a:ext cx="306360" cy="22320"/>
          </a:xfrm>
          <a:custGeom>
            <a:avLst/>
            <a:gdLst/>
            <a:ahLst/>
            <a:rect l="l" t="t" r="r" b="b"/>
            <a:pathLst>
              <a:path w="219" h="18">
                <a:moveTo>
                  <a:pt x="0" y="0"/>
                </a:moveTo>
                <a:lnTo>
                  <a:pt x="0" y="6"/>
                </a:lnTo>
                <a:lnTo>
                  <a:pt x="0" y="12"/>
                </a:lnTo>
                <a:lnTo>
                  <a:pt x="24" y="18"/>
                </a:lnTo>
                <a:lnTo>
                  <a:pt x="94" y="18"/>
                </a:lnTo>
                <a:lnTo>
                  <a:pt x="172" y="18"/>
                </a:lnTo>
                <a:lnTo>
                  <a:pt x="201" y="12"/>
                </a:lnTo>
                <a:lnTo>
                  <a:pt x="219" y="0"/>
                </a:lnTo>
              </a:path>
            </a:pathLst>
          </a:custGeom>
          <a:noFill/>
          <a:ln w="9360">
            <a:solidFill>
              <a:srgbClr val="ff87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2313000" y="4307040"/>
            <a:ext cx="306360" cy="23760"/>
          </a:xfrm>
          <a:custGeom>
            <a:avLst/>
            <a:gdLst/>
            <a:ahLst/>
            <a:rect l="l" t="t" r="r" b="b"/>
            <a:pathLst>
              <a:path w="219" h="18">
                <a:moveTo>
                  <a:pt x="0" y="0"/>
                </a:moveTo>
                <a:lnTo>
                  <a:pt x="6" y="6"/>
                </a:lnTo>
                <a:lnTo>
                  <a:pt x="24" y="12"/>
                </a:lnTo>
                <a:lnTo>
                  <a:pt x="94" y="18"/>
                </a:lnTo>
                <a:lnTo>
                  <a:pt x="172" y="12"/>
                </a:lnTo>
                <a:lnTo>
                  <a:pt x="201" y="6"/>
                </a:lnTo>
                <a:lnTo>
                  <a:pt x="21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e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313000" y="4307040"/>
            <a:ext cx="306360" cy="23760"/>
          </a:xfrm>
          <a:custGeom>
            <a:avLst/>
            <a:gdLst/>
            <a:ahLst/>
            <a:rect l="l" t="t" r="r" b="b"/>
            <a:pathLst>
              <a:path w="219" h="18">
                <a:moveTo>
                  <a:pt x="0" y="0"/>
                </a:moveTo>
                <a:lnTo>
                  <a:pt x="6" y="6"/>
                </a:lnTo>
                <a:lnTo>
                  <a:pt x="24" y="12"/>
                </a:lnTo>
                <a:lnTo>
                  <a:pt x="94" y="18"/>
                </a:lnTo>
                <a:lnTo>
                  <a:pt x="172" y="12"/>
                </a:lnTo>
                <a:lnTo>
                  <a:pt x="201" y="6"/>
                </a:lnTo>
                <a:lnTo>
                  <a:pt x="219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ff6e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2333520" y="4133880"/>
            <a:ext cx="263520" cy="31680"/>
          </a:xfrm>
          <a:prstGeom prst="rect">
            <a:avLst/>
          </a:prstGeom>
          <a:noFill/>
          <a:ln w="9360">
            <a:solidFill>
              <a:srgbClr val="a6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313000" y="4195800"/>
            <a:ext cx="306360" cy="0"/>
          </a:xfrm>
          <a:prstGeom prst="line">
            <a:avLst/>
          </a:prstGeom>
          <a:ln w="9360">
            <a:solidFill>
              <a:srgbClr val="a6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313000" y="4241880"/>
            <a:ext cx="306360" cy="1440"/>
          </a:xfrm>
          <a:prstGeom prst="line">
            <a:avLst/>
          </a:prstGeom>
          <a:ln w="9360">
            <a:solidFill>
              <a:srgbClr val="a6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313000" y="4195800"/>
            <a:ext cx="306360" cy="0"/>
          </a:xfrm>
          <a:prstGeom prst="line">
            <a:avLst/>
          </a:prstGeom>
          <a:ln w="9360">
            <a:solidFill>
              <a:srgbClr val="ff8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313000" y="4251240"/>
            <a:ext cx="306360" cy="1800"/>
          </a:xfrm>
          <a:prstGeom prst="line">
            <a:avLst/>
          </a:prstGeom>
          <a:ln w="9360">
            <a:solidFill>
              <a:srgbClr val="ff8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313000" y="4299120"/>
            <a:ext cx="306360" cy="1440"/>
          </a:xfrm>
          <a:prstGeom prst="line">
            <a:avLst/>
          </a:prstGeom>
          <a:ln w="9360">
            <a:solidFill>
              <a:srgbClr val="a6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313000" y="4307040"/>
            <a:ext cx="306360" cy="1440"/>
          </a:xfrm>
          <a:prstGeom prst="line">
            <a:avLst/>
          </a:prstGeom>
          <a:ln w="9360">
            <a:solidFill>
              <a:srgbClr val="ff8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333520" y="4133880"/>
            <a:ext cx="263520" cy="31680"/>
          </a:xfrm>
          <a:prstGeom prst="rect">
            <a:avLst/>
          </a:prstGeom>
          <a:noFill/>
          <a:ln w="9360">
            <a:solidFill>
              <a:srgbClr val="ff8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619360" y="3921120"/>
            <a:ext cx="98280" cy="851040"/>
          </a:xfrm>
          <a:custGeom>
            <a:avLst/>
            <a:gdLst/>
            <a:ahLst/>
            <a:rect l="l" t="t" r="r" b="b"/>
            <a:pathLst>
              <a:path w="71" h="653">
                <a:moveTo>
                  <a:pt x="71" y="0"/>
                </a:moveTo>
                <a:lnTo>
                  <a:pt x="0" y="74"/>
                </a:lnTo>
                <a:lnTo>
                  <a:pt x="0" y="653"/>
                </a:lnTo>
                <a:lnTo>
                  <a:pt x="71" y="580"/>
                </a:lnTo>
                <a:lnTo>
                  <a:pt x="71" y="0"/>
                </a:lnTo>
                <a:close/>
              </a:path>
            </a:pathLst>
          </a:custGeom>
          <a:solidFill>
            <a:srgbClr val="c5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flipV="1">
            <a:off x="2619360" y="3986280"/>
            <a:ext cx="98280" cy="950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V="1">
            <a:off x="2619360" y="3993840"/>
            <a:ext cx="98280" cy="96840"/>
          </a:xfrm>
          <a:prstGeom prst="line">
            <a:avLst/>
          </a:prstGeom>
          <a:ln w="9360">
            <a:solidFill>
              <a:srgbClr val="de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305080" y="4081320"/>
            <a:ext cx="314280" cy="73080"/>
          </a:xfrm>
          <a:custGeom>
            <a:avLst/>
            <a:gdLst/>
            <a:ahLst/>
            <a:rect l="l" t="t" r="r" b="b"/>
            <a:pathLst>
              <a:path w="225" h="56">
                <a:moveTo>
                  <a:pt x="6" y="0"/>
                </a:moveTo>
                <a:lnTo>
                  <a:pt x="0" y="7"/>
                </a:lnTo>
                <a:lnTo>
                  <a:pt x="6" y="7"/>
                </a:lnTo>
                <a:lnTo>
                  <a:pt x="24" y="13"/>
                </a:lnTo>
                <a:lnTo>
                  <a:pt x="59" y="19"/>
                </a:lnTo>
                <a:lnTo>
                  <a:pt x="95" y="19"/>
                </a:lnTo>
                <a:lnTo>
                  <a:pt x="142" y="19"/>
                </a:lnTo>
                <a:lnTo>
                  <a:pt x="178" y="19"/>
                </a:lnTo>
                <a:lnTo>
                  <a:pt x="207" y="13"/>
                </a:lnTo>
                <a:lnTo>
                  <a:pt x="225" y="0"/>
                </a:lnTo>
                <a:lnTo>
                  <a:pt x="225" y="50"/>
                </a:lnTo>
                <a:lnTo>
                  <a:pt x="196" y="50"/>
                </a:lnTo>
                <a:lnTo>
                  <a:pt x="154" y="56"/>
                </a:lnTo>
                <a:lnTo>
                  <a:pt x="77" y="50"/>
                </a:lnTo>
                <a:lnTo>
                  <a:pt x="42" y="37"/>
                </a:lnTo>
                <a:lnTo>
                  <a:pt x="18" y="31"/>
                </a:lnTo>
                <a:lnTo>
                  <a:pt x="6" y="13"/>
                </a:lnTo>
                <a:lnTo>
                  <a:pt x="0" y="7"/>
                </a:lnTo>
                <a:lnTo>
                  <a:pt x="6" y="0"/>
                </a:lnTo>
                <a:close/>
              </a:path>
            </a:pathLst>
          </a:custGeom>
          <a:solidFill>
            <a:srgbClr val="a60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363760" y="4129200"/>
            <a:ext cx="238320" cy="1440"/>
          </a:xfrm>
          <a:prstGeom prst="line">
            <a:avLst/>
          </a:prstGeom>
          <a:ln w="9360">
            <a:solidFill>
              <a:srgbClr val="c5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2602080" y="4129200"/>
            <a:ext cx="1440" cy="17280"/>
          </a:xfrm>
          <a:prstGeom prst="line">
            <a:avLst/>
          </a:prstGeom>
          <a:ln w="9360">
            <a:solidFill>
              <a:srgbClr val="c5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346480" y="4129200"/>
            <a:ext cx="255600" cy="144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V="1">
            <a:off x="2602080" y="4129200"/>
            <a:ext cx="1440" cy="172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 flipV="1">
            <a:off x="2619360" y="4636800"/>
            <a:ext cx="98280" cy="9684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2619360" y="4644720"/>
            <a:ext cx="98280" cy="96840"/>
          </a:xfrm>
          <a:prstGeom prst="line">
            <a:avLst/>
          </a:prstGeom>
          <a:ln w="9360">
            <a:solidFill>
              <a:srgbClr val="de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313000" y="4741920"/>
            <a:ext cx="306360" cy="22320"/>
          </a:xfrm>
          <a:custGeom>
            <a:avLst/>
            <a:gdLst/>
            <a:ahLst/>
            <a:rect l="l" t="t" r="r" b="b"/>
            <a:pathLst>
              <a:path w="219" h="18">
                <a:moveTo>
                  <a:pt x="0" y="0"/>
                </a:moveTo>
                <a:lnTo>
                  <a:pt x="0" y="6"/>
                </a:lnTo>
                <a:lnTo>
                  <a:pt x="24" y="12"/>
                </a:lnTo>
                <a:lnTo>
                  <a:pt x="94" y="18"/>
                </a:lnTo>
                <a:lnTo>
                  <a:pt x="172" y="18"/>
                </a:lnTo>
                <a:lnTo>
                  <a:pt x="201" y="12"/>
                </a:lnTo>
                <a:lnTo>
                  <a:pt x="219" y="0"/>
                </a:lnTo>
              </a:path>
            </a:pathLst>
          </a:custGeom>
          <a:noFill/>
          <a:ln w="9360">
            <a:solidFill>
              <a:srgbClr val="ff87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305080" y="3921120"/>
            <a:ext cx="412560" cy="876240"/>
          </a:xfrm>
          <a:custGeom>
            <a:avLst/>
            <a:gdLst/>
            <a:ahLst/>
            <a:rect l="l" t="t" r="r" b="b"/>
            <a:pathLst>
              <a:path w="296" h="672">
                <a:moveTo>
                  <a:pt x="225" y="653"/>
                </a:moveTo>
                <a:lnTo>
                  <a:pt x="213" y="666"/>
                </a:lnTo>
                <a:lnTo>
                  <a:pt x="184" y="672"/>
                </a:lnTo>
                <a:lnTo>
                  <a:pt x="106" y="672"/>
                </a:lnTo>
                <a:lnTo>
                  <a:pt x="65" y="672"/>
                </a:lnTo>
                <a:lnTo>
                  <a:pt x="36" y="666"/>
                </a:lnTo>
                <a:lnTo>
                  <a:pt x="12" y="659"/>
                </a:lnTo>
                <a:lnTo>
                  <a:pt x="0" y="653"/>
                </a:lnTo>
                <a:lnTo>
                  <a:pt x="0" y="74"/>
                </a:lnTo>
                <a:lnTo>
                  <a:pt x="71" y="0"/>
                </a:lnTo>
                <a:lnTo>
                  <a:pt x="296" y="0"/>
                </a:lnTo>
                <a:lnTo>
                  <a:pt x="296" y="580"/>
                </a:lnTo>
                <a:lnTo>
                  <a:pt x="225" y="65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184480" y="4292640"/>
            <a:ext cx="654120" cy="35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2320" rIns="112320" tIns="55440" bIns="55440" anchor="t">
            <a:spAutoFit/>
          </a:bodyPr>
          <a:p>
            <a:pPr algn="ctr"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IC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2" name="" descr=""/>
          <p:cNvPicPr/>
          <p:nvPr/>
        </p:nvPicPr>
        <p:blipFill>
          <a:blip r:embed="rId16"/>
          <a:stretch/>
        </p:blipFill>
        <p:spPr>
          <a:xfrm>
            <a:off x="588960" y="4643280"/>
            <a:ext cx="743040" cy="582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</p:pic>
      <p:sp>
        <p:nvSpPr>
          <p:cNvPr id="1433" name=""/>
          <p:cNvSpPr/>
          <p:nvPr/>
        </p:nvSpPr>
        <p:spPr>
          <a:xfrm flipH="1">
            <a:off x="338040" y="4689360"/>
            <a:ext cx="1198800" cy="59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Legacy AC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0" y="5962680"/>
            <a:ext cx="17748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Legacy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Ag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1963800" y="1359000"/>
            <a:ext cx="51814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Times New Roman"/>
              </a:rPr>
              <a:t>IP Contact Centre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6" name=""/>
          <p:cNvGrpSpPr/>
          <p:nvPr/>
        </p:nvGrpSpPr>
        <p:grpSpPr>
          <a:xfrm>
            <a:off x="376200" y="2516400"/>
            <a:ext cx="8569800" cy="3124080"/>
            <a:chOff x="376200" y="2516400"/>
            <a:chExt cx="8569800" cy="3124080"/>
          </a:xfrm>
        </p:grpSpPr>
        <p:sp>
          <p:nvSpPr>
            <p:cNvPr id="1437" name=""/>
            <p:cNvSpPr/>
            <p:nvPr/>
          </p:nvSpPr>
          <p:spPr>
            <a:xfrm>
              <a:off x="7773120" y="3228840"/>
              <a:ext cx="117288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 algn="ctr"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Branc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8" name=""/>
            <p:cNvGrpSpPr/>
            <p:nvPr/>
          </p:nvGrpSpPr>
          <p:grpSpPr>
            <a:xfrm>
              <a:off x="376200" y="2516400"/>
              <a:ext cx="8299440" cy="3124080"/>
              <a:chOff x="376200" y="2516400"/>
              <a:chExt cx="8299440" cy="3124080"/>
            </a:xfrm>
          </p:grpSpPr>
          <p:sp>
            <p:nvSpPr>
              <p:cNvPr id="1439" name=""/>
              <p:cNvSpPr/>
              <p:nvPr/>
            </p:nvSpPr>
            <p:spPr>
              <a:xfrm flipV="1">
                <a:off x="2595600" y="2892240"/>
                <a:ext cx="663480" cy="1028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4789440" y="3881520"/>
                <a:ext cx="2671920" cy="314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44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075440" y="3395520"/>
                <a:ext cx="733320" cy="112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2" name=""/>
              <p:cNvSpPr/>
              <p:nvPr/>
            </p:nvSpPr>
            <p:spPr>
              <a:xfrm flipH="1">
                <a:off x="7435440" y="4581360"/>
                <a:ext cx="195480" cy="70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7915320" y="4568760"/>
                <a:ext cx="0" cy="70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8132760" y="4462560"/>
                <a:ext cx="285840" cy="927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445" name="man_mtbz_char" descr=""/>
              <p:cNvPicPr/>
              <p:nvPr/>
            </p:nvPicPr>
            <p:blipFill>
              <a:blip r:embed="rId18"/>
              <a:stretch/>
            </p:blipFill>
            <p:spPr>
              <a:xfrm>
                <a:off x="7021440" y="5173560"/>
                <a:ext cx="495360" cy="466920"/>
              </a:xfrm>
              <a:prstGeom prst="rect">
                <a:avLst/>
              </a:prstGeom>
              <a:ln w="9360">
                <a:solidFill>
                  <a:srgbClr val="b2b2b2"/>
                </a:solidFill>
                <a:miter/>
              </a:ln>
            </p:spPr>
          </p:pic>
          <p:pic>
            <p:nvPicPr>
              <p:cNvPr id="1446" name="man_mtbz_char" descr=""/>
              <p:cNvPicPr/>
              <p:nvPr/>
            </p:nvPicPr>
            <p:blipFill>
              <a:blip r:embed="rId19"/>
              <a:stretch/>
            </p:blipFill>
            <p:spPr>
              <a:xfrm>
                <a:off x="7605720" y="5173560"/>
                <a:ext cx="495360" cy="466920"/>
              </a:xfrm>
              <a:prstGeom prst="rect">
                <a:avLst/>
              </a:prstGeom>
              <a:ln w="9360">
                <a:solidFill>
                  <a:srgbClr val="b2b2b2"/>
                </a:solidFill>
                <a:miter/>
              </a:ln>
            </p:spPr>
          </p:pic>
          <p:pic>
            <p:nvPicPr>
              <p:cNvPr id="1447" name="man_mtbz_char" descr=""/>
              <p:cNvPicPr/>
              <p:nvPr/>
            </p:nvPicPr>
            <p:blipFill>
              <a:blip r:embed="rId20"/>
              <a:stretch/>
            </p:blipFill>
            <p:spPr>
              <a:xfrm>
                <a:off x="8180280" y="5173560"/>
                <a:ext cx="495360" cy="466920"/>
              </a:xfrm>
              <a:prstGeom prst="rect">
                <a:avLst/>
              </a:prstGeom>
              <a:ln w="9360">
                <a:solidFill>
                  <a:srgbClr val="b2b2b2"/>
                </a:solidFill>
                <a:miter/>
              </a:ln>
            </p:spPr>
          </p:pic>
          <p:pic>
            <p:nvPicPr>
              <p:cNvPr id="1448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6535800" y="3952800"/>
                <a:ext cx="706320" cy="41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9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7593120" y="4368960"/>
                <a:ext cx="573120" cy="24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>
                <a:off x="3332160" y="3044880"/>
                <a:ext cx="897120" cy="674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2489760" y="2516400"/>
                <a:ext cx="1298880" cy="3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imes New Roman"/>
                  </a:rPr>
                  <a:t>CallManage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flipV="1">
                <a:off x="851040" y="2955960"/>
                <a:ext cx="2119320" cy="566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flipV="1">
                <a:off x="1257480" y="2955960"/>
                <a:ext cx="1680840" cy="1287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631800" y="2955960"/>
                <a:ext cx="228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-36360" bIns="-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455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3797280" y="3444840"/>
                <a:ext cx="118116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>
                <a:off x="4196160" y="3573360"/>
                <a:ext cx="423000" cy="42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8680" rIns="58680" tIns="29520" bIns="2952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I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457" name="CallManager" descr=""/>
              <p:cNvPicPr/>
              <p:nvPr/>
            </p:nvPicPr>
            <p:blipFill>
              <a:blip r:embed="rId24"/>
              <a:stretch/>
            </p:blipFill>
            <p:spPr>
              <a:xfrm>
                <a:off x="2760840" y="2830680"/>
                <a:ext cx="698400" cy="4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8" name="notebook" descr=""/>
              <p:cNvPicPr/>
              <p:nvPr/>
            </p:nvPicPr>
            <p:blipFill>
              <a:blip r:embed="rId25"/>
              <a:stretch/>
            </p:blipFill>
            <p:spPr>
              <a:xfrm>
                <a:off x="403200" y="2778120"/>
                <a:ext cx="485640" cy="414360"/>
              </a:xfrm>
              <a:prstGeom prst="rect">
                <a:avLst/>
              </a:prstGeom>
              <a:ln w="12600">
                <a:solidFill>
                  <a:srgbClr val="b2b2b2"/>
                </a:solidFill>
                <a:miter/>
              </a:ln>
            </p:spPr>
          </p:pic>
          <p:pic>
            <p:nvPicPr>
              <p:cNvPr id="1459" name="ITE-12sd_lg" descr=""/>
              <p:cNvPicPr/>
              <p:nvPr/>
            </p:nvPicPr>
            <p:blipFill>
              <a:blip r:embed="rId26"/>
              <a:stretch/>
            </p:blipFill>
            <p:spPr>
              <a:xfrm>
                <a:off x="376200" y="3311640"/>
                <a:ext cx="685800" cy="539640"/>
              </a:xfrm>
              <a:prstGeom prst="rect">
                <a:avLst/>
              </a:prstGeom>
              <a:ln w="9360">
                <a:solidFill>
                  <a:srgbClr val="b2b2b2"/>
                </a:solidFill>
                <a:miter/>
              </a:ln>
            </p:spPr>
          </p:pic>
          <p:pic>
            <p:nvPicPr>
              <p:cNvPr id="1460" name="man_mtbz_char" descr=""/>
              <p:cNvPicPr/>
              <p:nvPr/>
            </p:nvPicPr>
            <p:blipFill>
              <a:blip r:embed="rId27"/>
              <a:stretch/>
            </p:blipFill>
            <p:spPr>
              <a:xfrm>
                <a:off x="911160" y="3908520"/>
                <a:ext cx="495360" cy="466560"/>
              </a:xfrm>
              <a:prstGeom prst="rect">
                <a:avLst/>
              </a:prstGeom>
              <a:ln w="9360">
                <a:solidFill>
                  <a:srgbClr val="b2b2b2"/>
                </a:solidFill>
                <a:miter/>
              </a:ln>
            </p:spPr>
          </p:pic>
        </p:grpSp>
      </p:grpSp>
      <p:pic>
        <p:nvPicPr>
          <p:cNvPr id="1461" name="" descr=""/>
          <p:cNvPicPr/>
          <p:nvPr/>
        </p:nvPicPr>
        <p:blipFill>
          <a:blip r:embed="rId28"/>
          <a:stretch/>
        </p:blipFill>
        <p:spPr>
          <a:xfrm flipH="1">
            <a:off x="644400" y="5692680"/>
            <a:ext cx="533520" cy="3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New World Customer Experien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3" name=""/>
          <p:cNvGrpSpPr/>
          <p:nvPr/>
        </p:nvGrpSpPr>
        <p:grpSpPr>
          <a:xfrm>
            <a:off x="2895480" y="1600200"/>
            <a:ext cx="3200400" cy="2665440"/>
            <a:chOff x="2895480" y="1600200"/>
            <a:chExt cx="3200400" cy="2665440"/>
          </a:xfrm>
        </p:grpSpPr>
        <p:sp>
          <p:nvSpPr>
            <p:cNvPr id="1464" name=""/>
            <p:cNvSpPr/>
            <p:nvPr/>
          </p:nvSpPr>
          <p:spPr>
            <a:xfrm>
              <a:off x="2949480" y="2212920"/>
              <a:ext cx="3086280" cy="20527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64646"/>
                </a:gs>
              </a:gsLst>
              <a:lin ang="5400000"/>
            </a:gradFill>
            <a:ln w="12600">
              <a:solidFill>
                <a:srgbClr val="03c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228840" y="1600200"/>
              <a:ext cx="253368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840" bIns="428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693720"/>
                  <a:tab algn="l" pos="1387440"/>
                  <a:tab algn="l" pos="2081160"/>
                  <a:tab algn="l" pos="2774880"/>
                  <a:tab algn="l" pos="3468600"/>
                  <a:tab algn="l" pos="4162320"/>
                  <a:tab algn="l" pos="4856040"/>
                  <a:tab algn="l" pos="5549760"/>
                  <a:tab algn="l" pos="6243480"/>
                  <a:tab algn="l" pos="6937200"/>
                  <a:tab algn="l" pos="7631280"/>
                  <a:tab algn="l" pos="8325000"/>
                  <a:tab algn="l" pos="9018720"/>
                  <a:tab algn="l" pos="9712440"/>
                  <a:tab algn="l" pos="104061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mooth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693720"/>
                  <a:tab algn="l" pos="1387440"/>
                  <a:tab algn="l" pos="2081160"/>
                  <a:tab algn="l" pos="2774880"/>
                  <a:tab algn="l" pos="3468600"/>
                  <a:tab algn="l" pos="4162320"/>
                  <a:tab algn="l" pos="4856040"/>
                  <a:tab algn="l" pos="5549760"/>
                  <a:tab algn="l" pos="6243480"/>
                  <a:tab algn="l" pos="6937200"/>
                  <a:tab algn="l" pos="7631280"/>
                  <a:tab algn="l" pos="8325000"/>
                  <a:tab algn="l" pos="9018720"/>
                  <a:tab algn="l" pos="9712440"/>
                  <a:tab algn="l" pos="104061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ntegr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503880" y="2691000"/>
              <a:ext cx="1981800" cy="583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ntegrated Response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(E-Mail, Web, Voic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895480" y="2270160"/>
              <a:ext cx="3200400" cy="360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3880" rIns="83880" tIns="42840" bIns="42840" anchor="t">
              <a:spAutoFit/>
            </a:bodyPr>
            <a:p>
              <a:pPr algn="ctr">
                <a:tabLst>
                  <a:tab algn="l" pos="0"/>
                  <a:tab algn="l" pos="693720"/>
                  <a:tab algn="l" pos="1387440"/>
                  <a:tab algn="l" pos="2081160"/>
                  <a:tab algn="l" pos="2774880"/>
                  <a:tab algn="l" pos="3468600"/>
                  <a:tab algn="l" pos="4162320"/>
                  <a:tab algn="l" pos="4856040"/>
                  <a:tab algn="l" pos="5549760"/>
                  <a:tab algn="l" pos="6243480"/>
                  <a:tab algn="l" pos="6937200"/>
                  <a:tab algn="l" pos="7631280"/>
                  <a:tab algn="l" pos="8325000"/>
                  <a:tab algn="l" pos="9018720"/>
                  <a:tab algn="l" pos="9712440"/>
                  <a:tab algn="l" pos="104061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Unified Business Rul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8" name=""/>
          <p:cNvSpPr/>
          <p:nvPr/>
        </p:nvSpPr>
        <p:spPr>
          <a:xfrm>
            <a:off x="3063960" y="5521320"/>
            <a:ext cx="3002040" cy="45720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309840" y="3319560"/>
            <a:ext cx="2479680" cy="243684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0" name=""/>
          <p:cNvGrpSpPr/>
          <p:nvPr/>
        </p:nvGrpSpPr>
        <p:grpSpPr>
          <a:xfrm>
            <a:off x="5656320" y="1614600"/>
            <a:ext cx="3044880" cy="2660040"/>
            <a:chOff x="5656320" y="1614600"/>
            <a:chExt cx="3044880" cy="2660040"/>
          </a:xfrm>
        </p:grpSpPr>
        <p:sp>
          <p:nvSpPr>
            <p:cNvPr id="1471" name=""/>
            <p:cNvSpPr/>
            <p:nvPr/>
          </p:nvSpPr>
          <p:spPr>
            <a:xfrm>
              <a:off x="5691240" y="1614600"/>
              <a:ext cx="300996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840" bIns="428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693720"/>
                  <a:tab algn="l" pos="1387440"/>
                  <a:tab algn="l" pos="2081160"/>
                  <a:tab algn="l" pos="2774880"/>
                  <a:tab algn="l" pos="3468600"/>
                  <a:tab algn="l" pos="4162320"/>
                  <a:tab algn="l" pos="4856040"/>
                  <a:tab algn="l" pos="5549760"/>
                  <a:tab algn="l" pos="6243480"/>
                  <a:tab algn="l" pos="6937200"/>
                  <a:tab algn="l" pos="7631280"/>
                  <a:tab algn="l" pos="8325000"/>
                  <a:tab algn="l" pos="9018720"/>
                  <a:tab algn="l" pos="9712440"/>
                  <a:tab algn="l" pos="104061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ustomer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693720"/>
                  <a:tab algn="l" pos="1387440"/>
                  <a:tab algn="l" pos="2081160"/>
                  <a:tab algn="l" pos="2774880"/>
                  <a:tab algn="l" pos="3468600"/>
                  <a:tab algn="l" pos="4162320"/>
                  <a:tab algn="l" pos="4856040"/>
                  <a:tab algn="l" pos="5549760"/>
                  <a:tab algn="l" pos="6243480"/>
                  <a:tab algn="l" pos="6937200"/>
                  <a:tab algn="l" pos="7631280"/>
                  <a:tab algn="l" pos="8325000"/>
                  <a:tab algn="l" pos="9018720"/>
                  <a:tab algn="l" pos="9712440"/>
                  <a:tab algn="l" pos="104061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elf-Servi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656320" y="2217600"/>
              <a:ext cx="2762280" cy="2057040"/>
            </a:xfrm>
            <a:custGeom>
              <a:avLst/>
              <a:gdLst/>
              <a:ahLst/>
              <a:rect l="l" t="t" r="r" b="b"/>
              <a:pathLst>
                <a:path w="1646" h="1046">
                  <a:moveTo>
                    <a:pt x="1645" y="0"/>
                  </a:moveTo>
                  <a:lnTo>
                    <a:pt x="1645" y="610"/>
                  </a:lnTo>
                  <a:lnTo>
                    <a:pt x="1645" y="610"/>
                  </a:lnTo>
                  <a:lnTo>
                    <a:pt x="1645" y="871"/>
                  </a:lnTo>
                  <a:lnTo>
                    <a:pt x="1645" y="1045"/>
                  </a:lnTo>
                  <a:lnTo>
                    <a:pt x="820" y="1045"/>
                  </a:lnTo>
                  <a:lnTo>
                    <a:pt x="820" y="1045"/>
                  </a:lnTo>
                  <a:lnTo>
                    <a:pt x="467" y="1045"/>
                  </a:lnTo>
                  <a:lnTo>
                    <a:pt x="231" y="1045"/>
                  </a:lnTo>
                  <a:lnTo>
                    <a:pt x="231" y="871"/>
                  </a:lnTo>
                  <a:lnTo>
                    <a:pt x="0" y="981"/>
                  </a:lnTo>
                  <a:lnTo>
                    <a:pt x="231" y="610"/>
                  </a:lnTo>
                  <a:lnTo>
                    <a:pt x="231" y="0"/>
                  </a:lnTo>
                  <a:lnTo>
                    <a:pt x="467" y="0"/>
                  </a:lnTo>
                  <a:lnTo>
                    <a:pt x="820" y="0"/>
                  </a:lnTo>
                  <a:lnTo>
                    <a:pt x="820" y="0"/>
                  </a:lnTo>
                  <a:lnTo>
                    <a:pt x="1645" y="0"/>
                  </a:lnTo>
                </a:path>
              </a:pathLst>
            </a:custGeom>
            <a:gradFill rotWithShape="0">
              <a:gsLst>
                <a:gs pos="0">
                  <a:srgbClr val="343434"/>
                </a:gs>
                <a:gs pos="100000">
                  <a:srgbClr val="b2b2b2"/>
                </a:gs>
              </a:gsLst>
              <a:lin ang="8100000"/>
            </a:gradFill>
            <a:ln w="12600">
              <a:solidFill>
                <a:srgbClr val="03c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997600" y="3633840"/>
              <a:ext cx="2398680" cy="634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93720"/>
                  <a:tab algn="l" pos="1387440"/>
                  <a:tab algn="l" pos="2081160"/>
                  <a:tab algn="l" pos="2774880"/>
                  <a:tab algn="l" pos="3468600"/>
                  <a:tab algn="l" pos="4162320"/>
                  <a:tab algn="l" pos="4856040"/>
                  <a:tab algn="l" pos="5549760"/>
                  <a:tab algn="l" pos="6243480"/>
                  <a:tab algn="l" pos="6937200"/>
                  <a:tab algn="l" pos="7631280"/>
                  <a:tab algn="l" pos="8325000"/>
                  <a:tab algn="l" pos="9018720"/>
                  <a:tab algn="l" pos="9712440"/>
                  <a:tab algn="l" pos="104061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Online 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Sales and Support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74" name="" descr=""/>
            <p:cNvPicPr/>
            <p:nvPr/>
          </p:nvPicPr>
          <p:blipFill>
            <a:blip r:embed="rId1"/>
            <a:srcRect l="0" t="0" r="0" b="1566"/>
            <a:stretch/>
          </p:blipFill>
          <p:spPr>
            <a:xfrm>
              <a:off x="6510240" y="2357280"/>
              <a:ext cx="1371600" cy="1271160"/>
            </a:xfrm>
            <a:prstGeom prst="rect">
              <a:avLst/>
            </a:prstGeom>
            <a:ln w="19080">
              <a:solidFill>
                <a:srgbClr val="b2b2b2"/>
              </a:solidFill>
              <a:miter/>
            </a:ln>
          </p:spPr>
        </p:pic>
      </p:grpSp>
      <p:sp>
        <p:nvSpPr>
          <p:cNvPr id="1475" name=""/>
          <p:cNvSpPr/>
          <p:nvPr/>
        </p:nvSpPr>
        <p:spPr>
          <a:xfrm>
            <a:off x="466560" y="4315320"/>
            <a:ext cx="24829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igh Touch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ive Conversation, High Customer Satisf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959440" y="4451400"/>
            <a:ext cx="248292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igh Automation Huge Support Saving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7" name=""/>
          <p:cNvGrpSpPr/>
          <p:nvPr/>
        </p:nvGrpSpPr>
        <p:grpSpPr>
          <a:xfrm>
            <a:off x="477720" y="1614600"/>
            <a:ext cx="2911320" cy="2660040"/>
            <a:chOff x="477720" y="1614600"/>
            <a:chExt cx="2911320" cy="2660040"/>
          </a:xfrm>
        </p:grpSpPr>
        <p:grpSp>
          <p:nvGrpSpPr>
            <p:cNvPr id="1478" name=""/>
            <p:cNvGrpSpPr/>
            <p:nvPr/>
          </p:nvGrpSpPr>
          <p:grpSpPr>
            <a:xfrm>
              <a:off x="477720" y="1614600"/>
              <a:ext cx="2911320" cy="2660040"/>
              <a:chOff x="477720" y="1614600"/>
              <a:chExt cx="2911320" cy="2660040"/>
            </a:xfrm>
          </p:grpSpPr>
          <p:sp>
            <p:nvSpPr>
              <p:cNvPr id="1479" name=""/>
              <p:cNvSpPr/>
              <p:nvPr/>
            </p:nvSpPr>
            <p:spPr>
              <a:xfrm>
                <a:off x="477720" y="1614600"/>
                <a:ext cx="2676600" cy="63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2840" bIns="4284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693720"/>
                    <a:tab algn="l" pos="1387440"/>
                    <a:tab algn="l" pos="2081160"/>
                    <a:tab algn="l" pos="2774880"/>
                    <a:tab algn="l" pos="3468600"/>
                    <a:tab algn="l" pos="4162320"/>
                    <a:tab algn="l" pos="4856040"/>
                    <a:tab algn="l" pos="5549760"/>
                    <a:tab algn="l" pos="6243480"/>
                    <a:tab algn="l" pos="6937200"/>
                    <a:tab algn="l" pos="7631280"/>
                    <a:tab algn="l" pos="8325000"/>
                    <a:tab algn="l" pos="9018720"/>
                    <a:tab algn="l" pos="9712440"/>
                    <a:tab algn="l" pos="1040616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Agent-Assisted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693720"/>
                    <a:tab algn="l" pos="1387440"/>
                    <a:tab algn="l" pos="2081160"/>
                    <a:tab algn="l" pos="2774880"/>
                    <a:tab algn="l" pos="3468600"/>
                    <a:tab algn="l" pos="4162320"/>
                    <a:tab algn="l" pos="4856040"/>
                    <a:tab algn="l" pos="5549760"/>
                    <a:tab algn="l" pos="6243480"/>
                    <a:tab algn="l" pos="6937200"/>
                    <a:tab algn="l" pos="7631280"/>
                    <a:tab algn="l" pos="8325000"/>
                    <a:tab algn="l" pos="9018720"/>
                    <a:tab algn="l" pos="9712440"/>
                    <a:tab algn="l" pos="1040616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Hel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80" name=""/>
              <p:cNvGrpSpPr/>
              <p:nvPr/>
            </p:nvGrpSpPr>
            <p:grpSpPr>
              <a:xfrm>
                <a:off x="596880" y="2230200"/>
                <a:ext cx="2792160" cy="2044440"/>
                <a:chOff x="596880" y="2230200"/>
                <a:chExt cx="2792160" cy="2044440"/>
              </a:xfrm>
            </p:grpSpPr>
            <p:sp>
              <p:nvSpPr>
                <p:cNvPr id="1481" name=""/>
                <p:cNvSpPr/>
                <p:nvPr/>
              </p:nvSpPr>
              <p:spPr>
                <a:xfrm>
                  <a:off x="641160" y="2230200"/>
                  <a:ext cx="2747880" cy="2044440"/>
                </a:xfrm>
                <a:custGeom>
                  <a:avLst/>
                  <a:gdLst/>
                  <a:ahLst/>
                  <a:rect l="l" t="t" r="r" b="b"/>
                  <a:pathLst>
                    <a:path w="1645" h="1046">
                      <a:moveTo>
                        <a:pt x="0" y="0"/>
                      </a:moveTo>
                      <a:lnTo>
                        <a:pt x="0" y="609"/>
                      </a:lnTo>
                      <a:lnTo>
                        <a:pt x="0" y="609"/>
                      </a:lnTo>
                      <a:lnTo>
                        <a:pt x="0" y="870"/>
                      </a:lnTo>
                      <a:lnTo>
                        <a:pt x="0" y="1045"/>
                      </a:lnTo>
                      <a:lnTo>
                        <a:pt x="824" y="1045"/>
                      </a:lnTo>
                      <a:lnTo>
                        <a:pt x="824" y="1045"/>
                      </a:lnTo>
                      <a:lnTo>
                        <a:pt x="1177" y="1045"/>
                      </a:lnTo>
                      <a:lnTo>
                        <a:pt x="1413" y="1045"/>
                      </a:lnTo>
                      <a:lnTo>
                        <a:pt x="1413" y="870"/>
                      </a:lnTo>
                      <a:lnTo>
                        <a:pt x="1644" y="980"/>
                      </a:lnTo>
                      <a:lnTo>
                        <a:pt x="1413" y="609"/>
                      </a:lnTo>
                      <a:lnTo>
                        <a:pt x="1413" y="0"/>
                      </a:lnTo>
                      <a:lnTo>
                        <a:pt x="1177" y="0"/>
                      </a:lnTo>
                      <a:lnTo>
                        <a:pt x="824" y="0"/>
                      </a:lnTo>
                      <a:lnTo>
                        <a:pt x="824" y="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585858"/>
                    </a:gs>
                  </a:gsLst>
                  <a:lin ang="13500000"/>
                </a:gradFill>
                <a:ln w="12600">
                  <a:solidFill>
                    <a:srgbClr val="03c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596880" y="2331720"/>
                  <a:ext cx="1330200" cy="7426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5680" rIns="85680" tIns="42840" bIns="42840" anchor="t">
                  <a:spAutoFit/>
                </a:bodyPr>
                <a:p>
                  <a:pPr algn="r">
                    <a:lnSpc>
                      <a:spcPct val="90000"/>
                    </a:lnSpc>
                    <a:tabLst>
                      <a:tab algn="l" pos="0"/>
                      <a:tab algn="l" pos="712800"/>
                      <a:tab algn="l" pos="1425600"/>
                      <a:tab algn="l" pos="2138400"/>
                      <a:tab algn="l" pos="2851200"/>
                      <a:tab algn="l" pos="3564000"/>
                      <a:tab algn="l" pos="4276800"/>
                      <a:tab algn="l" pos="4989600"/>
                      <a:tab algn="l" pos="5702400"/>
                      <a:tab algn="l" pos="6415200"/>
                      <a:tab algn="l" pos="7128000"/>
                      <a:tab algn="l" pos="7840800"/>
                      <a:tab algn="l" pos="8553600"/>
                      <a:tab algn="l" pos="9266400"/>
                      <a:tab algn="l" pos="9979200"/>
                      <a:tab algn="l" pos="1069164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Technical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90000"/>
                    </a:lnSpc>
                    <a:tabLst>
                      <a:tab algn="l" pos="0"/>
                      <a:tab algn="l" pos="712800"/>
                      <a:tab algn="l" pos="1425600"/>
                      <a:tab algn="l" pos="2138400"/>
                      <a:tab algn="l" pos="2851200"/>
                      <a:tab algn="l" pos="3564000"/>
                      <a:tab algn="l" pos="4276800"/>
                      <a:tab algn="l" pos="4989600"/>
                      <a:tab algn="l" pos="5702400"/>
                      <a:tab algn="l" pos="6415200"/>
                      <a:tab algn="l" pos="7128000"/>
                      <a:tab algn="l" pos="7840800"/>
                      <a:tab algn="l" pos="8553600"/>
                      <a:tab algn="l" pos="9266400"/>
                      <a:tab algn="l" pos="9979200"/>
                      <a:tab algn="l" pos="1069164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Problem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90000"/>
                    </a:lnSpc>
                    <a:tabLst>
                      <a:tab algn="l" pos="0"/>
                      <a:tab algn="l" pos="712800"/>
                      <a:tab algn="l" pos="1425600"/>
                      <a:tab algn="l" pos="2138400"/>
                      <a:tab algn="l" pos="2851200"/>
                      <a:tab algn="l" pos="3564000"/>
                      <a:tab algn="l" pos="4276800"/>
                      <a:tab algn="l" pos="4989600"/>
                      <a:tab algn="l" pos="5702400"/>
                      <a:tab algn="l" pos="6415200"/>
                      <a:tab algn="l" pos="7128000"/>
                      <a:tab algn="l" pos="7840800"/>
                      <a:tab algn="l" pos="8553600"/>
                      <a:tab algn="l" pos="9266400"/>
                      <a:tab algn="l" pos="9979200"/>
                      <a:tab algn="l" pos="1069164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Resolution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3" name=""/>
                <p:cNvGrpSpPr/>
                <p:nvPr/>
              </p:nvGrpSpPr>
              <p:grpSpPr>
                <a:xfrm>
                  <a:off x="799920" y="3250800"/>
                  <a:ext cx="1066680" cy="918360"/>
                  <a:chOff x="799920" y="3250800"/>
                  <a:chExt cx="1066680" cy="918360"/>
                </a:xfrm>
              </p:grpSpPr>
              <p:grpSp>
                <p:nvGrpSpPr>
                  <p:cNvPr id="1484" name=""/>
                  <p:cNvGrpSpPr/>
                  <p:nvPr/>
                </p:nvGrpSpPr>
                <p:grpSpPr>
                  <a:xfrm>
                    <a:off x="1204920" y="3352320"/>
                    <a:ext cx="661680" cy="550080"/>
                    <a:chOff x="1204920" y="3352320"/>
                    <a:chExt cx="661680" cy="550080"/>
                  </a:xfrm>
                </p:grpSpPr>
                <p:sp>
                  <p:nvSpPr>
                    <p:cNvPr id="1485" name=""/>
                    <p:cNvSpPr/>
                    <p:nvPr/>
                  </p:nvSpPr>
                  <p:spPr>
                    <a:xfrm>
                      <a:off x="1206360" y="3623040"/>
                      <a:ext cx="22140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6" h="496">
                          <a:moveTo>
                            <a:pt x="415" y="440"/>
                          </a:moveTo>
                          <a:lnTo>
                            <a:pt x="0" y="0"/>
                          </a:lnTo>
                          <a:lnTo>
                            <a:pt x="0" y="30"/>
                          </a:lnTo>
                          <a:lnTo>
                            <a:pt x="415" y="495"/>
                          </a:lnTo>
                          <a:lnTo>
                            <a:pt x="415" y="44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b8449"/>
                        </a:gs>
                        <a:gs pos="100000">
                          <a:srgbClr val="f6bf69"/>
                        </a:gs>
                      </a:gsLst>
                      <a:lin ang="5400000"/>
                    </a:gradFill>
                    <a:ln cap="rnd" w="32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6" name=""/>
                    <p:cNvSpPr/>
                    <p:nvPr/>
                  </p:nvSpPr>
                  <p:spPr>
                    <a:xfrm>
                      <a:off x="1204920" y="3588120"/>
                      <a:ext cx="661680" cy="28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42" h="503">
                          <a:moveTo>
                            <a:pt x="0" y="60"/>
                          </a:moveTo>
                          <a:lnTo>
                            <a:pt x="585" y="0"/>
                          </a:lnTo>
                          <a:lnTo>
                            <a:pt x="1241" y="329"/>
                          </a:lnTo>
                          <a:lnTo>
                            <a:pt x="419" y="502"/>
                          </a:lnTo>
                          <a:lnTo>
                            <a:pt x="1" y="58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f6bf69"/>
                        </a:gs>
                        <a:gs pos="100000">
                          <a:srgbClr val="f7d195"/>
                        </a:gs>
                      </a:gsLst>
                      <a:lin ang="5400000"/>
                    </a:gradFill>
                    <a:ln cap="rnd" w="32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7" name=""/>
                    <p:cNvSpPr/>
                    <p:nvPr/>
                  </p:nvSpPr>
                  <p:spPr>
                    <a:xfrm>
                      <a:off x="1330200" y="3732840"/>
                      <a:ext cx="180360" cy="7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9" h="127">
                          <a:moveTo>
                            <a:pt x="0" y="43"/>
                          </a:moveTo>
                          <a:lnTo>
                            <a:pt x="168" y="126"/>
                          </a:lnTo>
                          <a:lnTo>
                            <a:pt x="338" y="68"/>
                          </a:lnTo>
                          <a:lnTo>
                            <a:pt x="147" y="0"/>
                          </a:lnTo>
                          <a:lnTo>
                            <a:pt x="0" y="42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21e73"/>
                        </a:gs>
                        <a:gs pos="100000">
                          <a:srgbClr val="063de8"/>
                        </a:gs>
                      </a:gsLst>
                      <a:lin ang="5400000"/>
                    </a:gradFill>
                    <a:ln cap="rnd" w="32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8" name=""/>
                    <p:cNvSpPr/>
                    <p:nvPr/>
                  </p:nvSpPr>
                  <p:spPr>
                    <a:xfrm>
                      <a:off x="1299240" y="3567960"/>
                      <a:ext cx="335520" cy="9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0" h="165">
                          <a:moveTo>
                            <a:pt x="0" y="13"/>
                          </a:moveTo>
                          <a:lnTo>
                            <a:pt x="240" y="164"/>
                          </a:lnTo>
                          <a:lnTo>
                            <a:pt x="629" y="109"/>
                          </a:lnTo>
                          <a:lnTo>
                            <a:pt x="316" y="0"/>
                          </a:lnTo>
                          <a:lnTo>
                            <a:pt x="0" y="13"/>
                          </a:lnTo>
                        </a:path>
                      </a:pathLst>
                    </a:custGeom>
                    <a:solidFill>
                      <a:srgbClr val="cecece"/>
                    </a:solidFill>
                    <a:ln cap="rnd" w="32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080" bIns="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9" name=""/>
                    <p:cNvSpPr/>
                    <p:nvPr/>
                  </p:nvSpPr>
                  <p:spPr>
                    <a:xfrm>
                      <a:off x="1341360" y="3733560"/>
                      <a:ext cx="7668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4" h="68">
                          <a:moveTo>
                            <a:pt x="20" y="17"/>
                          </a:moveTo>
                          <a:lnTo>
                            <a:pt x="39" y="8"/>
                          </a:lnTo>
                          <a:lnTo>
                            <a:pt x="67" y="0"/>
                          </a:lnTo>
                          <a:lnTo>
                            <a:pt x="119" y="12"/>
                          </a:lnTo>
                          <a:lnTo>
                            <a:pt x="141" y="23"/>
                          </a:lnTo>
                          <a:lnTo>
                            <a:pt x="143" y="40"/>
                          </a:lnTo>
                          <a:lnTo>
                            <a:pt x="134" y="58"/>
                          </a:lnTo>
                          <a:lnTo>
                            <a:pt x="91" y="65"/>
                          </a:lnTo>
                          <a:lnTo>
                            <a:pt x="30" y="67"/>
                          </a:lnTo>
                          <a:lnTo>
                            <a:pt x="9" y="63"/>
                          </a:lnTo>
                          <a:lnTo>
                            <a:pt x="0" y="48"/>
                          </a:lnTo>
                          <a:lnTo>
                            <a:pt x="2" y="33"/>
                          </a:lnTo>
                          <a:lnTo>
                            <a:pt x="20" y="17"/>
                          </a:lnTo>
                        </a:path>
                      </a:pathLst>
                    </a:custGeom>
                    <a:solidFill>
                      <a:srgbClr val="cecece"/>
                    </a:solidFill>
                    <a:ln cap="rnd" w="32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1427760" y="3629160"/>
                      <a:ext cx="206640" cy="9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" h="176">
                          <a:moveTo>
                            <a:pt x="0" y="53"/>
                          </a:moveTo>
                          <a:lnTo>
                            <a:pt x="0" y="175"/>
                          </a:lnTo>
                          <a:lnTo>
                            <a:pt x="387" y="110"/>
                          </a:lnTo>
                          <a:lnTo>
                            <a:pt x="387" y="0"/>
                          </a:lnTo>
                          <a:lnTo>
                            <a:pt x="0" y="53"/>
                          </a:lnTo>
                        </a:path>
                      </a:pathLst>
                    </a:custGeom>
                    <a:solidFill>
                      <a:srgbClr val="919191"/>
                    </a:solidFill>
                    <a:ln cap="rnd" w="32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1" name=""/>
                    <p:cNvSpPr/>
                    <p:nvPr/>
                  </p:nvSpPr>
                  <p:spPr>
                    <a:xfrm>
                      <a:off x="1299240" y="3575880"/>
                      <a:ext cx="12888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2" h="271">
                          <a:moveTo>
                            <a:pt x="241" y="147"/>
                          </a:moveTo>
                          <a:lnTo>
                            <a:pt x="241" y="270"/>
                          </a:lnTo>
                          <a:lnTo>
                            <a:pt x="0" y="100"/>
                          </a:lnTo>
                          <a:lnTo>
                            <a:pt x="0" y="0"/>
                          </a:lnTo>
                          <a:lnTo>
                            <a:pt x="241" y="147"/>
                          </a:lnTo>
                        </a:path>
                      </a:pathLst>
                    </a:custGeom>
                    <a:solidFill>
                      <a:srgbClr val="aaaaaa"/>
                    </a:solidFill>
                    <a:ln cap="rnd" w="32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2" name=""/>
                    <p:cNvSpPr/>
                    <p:nvPr/>
                  </p:nvSpPr>
                  <p:spPr>
                    <a:xfrm>
                      <a:off x="1340640" y="3704040"/>
                      <a:ext cx="8172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47">
                          <a:moveTo>
                            <a:pt x="0" y="46"/>
                          </a:moveTo>
                          <a:lnTo>
                            <a:pt x="0" y="32"/>
                          </a:lnTo>
                          <a:lnTo>
                            <a:pt x="153" y="0"/>
                          </a:lnTo>
                          <a:lnTo>
                            <a:pt x="151" y="11"/>
                          </a:lnTo>
                          <a:lnTo>
                            <a:pt x="0" y="46"/>
                          </a:lnTo>
                        </a:path>
                      </a:pathLst>
                    </a:custGeom>
                    <a:solidFill>
                      <a:srgbClr val="919191"/>
                    </a:solidFill>
                    <a:ln cap="rnd" w="32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3" name=""/>
                    <p:cNvSpPr/>
                    <p:nvPr/>
                  </p:nvSpPr>
                  <p:spPr>
                    <a:xfrm>
                      <a:off x="1244880" y="3636720"/>
                      <a:ext cx="96840" cy="9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2" h="165">
                          <a:moveTo>
                            <a:pt x="180" y="164"/>
                          </a:moveTo>
                          <a:lnTo>
                            <a:pt x="181" y="146"/>
                          </a:lnTo>
                          <a:lnTo>
                            <a:pt x="0" y="0"/>
                          </a:lnTo>
                          <a:lnTo>
                            <a:pt x="0" y="12"/>
                          </a:lnTo>
                          <a:lnTo>
                            <a:pt x="180" y="164"/>
                          </a:lnTo>
                        </a:path>
                      </a:pathLst>
                    </a:custGeom>
                    <a:solidFill>
                      <a:srgbClr val="aaaaaa"/>
                    </a:solidFill>
                    <a:ln cap="rnd" w="32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080" bIns="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4" name=""/>
                    <p:cNvSpPr/>
                    <p:nvPr/>
                  </p:nvSpPr>
                  <p:spPr>
                    <a:xfrm>
                      <a:off x="1305360" y="3589200"/>
                      <a:ext cx="117000" cy="9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0" h="160">
                          <a:moveTo>
                            <a:pt x="0" y="68"/>
                          </a:moveTo>
                          <a:lnTo>
                            <a:pt x="0" y="0"/>
                          </a:lnTo>
                          <a:lnTo>
                            <a:pt x="219" y="133"/>
                          </a:lnTo>
                          <a:lnTo>
                            <a:pt x="219" y="159"/>
                          </a:lnTo>
                          <a:lnTo>
                            <a:pt x="51" y="57"/>
                          </a:lnTo>
                          <a:lnTo>
                            <a:pt x="0" y="68"/>
                          </a:lnTo>
                        </a:path>
                      </a:pathLst>
                    </a:custGeom>
                    <a:solidFill>
                      <a:srgbClr val="676767"/>
                    </a:solidFill>
                    <a:ln cap="rnd" w="32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5" name=""/>
                    <p:cNvSpPr/>
                    <p:nvPr/>
                  </p:nvSpPr>
                  <p:spPr>
                    <a:xfrm>
                      <a:off x="1305360" y="3588120"/>
                      <a:ext cx="67320" cy="4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" h="86">
                          <a:moveTo>
                            <a:pt x="0" y="0"/>
                          </a:moveTo>
                          <a:lnTo>
                            <a:pt x="126" y="76"/>
                          </a:lnTo>
                          <a:lnTo>
                            <a:pt x="0" y="8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32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" bIns="1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6" name=""/>
                    <p:cNvSpPr/>
                    <p:nvPr/>
                  </p:nvSpPr>
                  <p:spPr>
                    <a:xfrm>
                      <a:off x="1330200" y="3574080"/>
                      <a:ext cx="27108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9" h="136">
                          <a:moveTo>
                            <a:pt x="1" y="15"/>
                          </a:moveTo>
                          <a:lnTo>
                            <a:pt x="203" y="135"/>
                          </a:lnTo>
                          <a:lnTo>
                            <a:pt x="508" y="91"/>
                          </a:lnTo>
                          <a:lnTo>
                            <a:pt x="249" y="0"/>
                          </a:lnTo>
                          <a:lnTo>
                            <a:pt x="0" y="15"/>
                          </a:lnTo>
                        </a:path>
                      </a:pathLst>
                    </a:custGeom>
                    <a:solidFill>
                      <a:srgbClr val="aaaaaa"/>
                    </a:solidFill>
                    <a:ln cap="rnd" w="32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7" name=""/>
                    <p:cNvSpPr/>
                    <p:nvPr/>
                  </p:nvSpPr>
                  <p:spPr>
                    <a:xfrm>
                      <a:off x="1397160" y="3591360"/>
                      <a:ext cx="124560" cy="32040"/>
                    </a:xfrm>
                    <a:prstGeom prst="ellipse">
                      <a:avLst/>
                    </a:prstGeom>
                    <a:solidFill>
                      <a:srgbClr val="919191"/>
                    </a:solidFill>
                    <a:ln w="32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120" bIns="-24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8" name=""/>
                    <p:cNvSpPr/>
                    <p:nvPr/>
                  </p:nvSpPr>
                  <p:spPr>
                    <a:xfrm>
                      <a:off x="1412640" y="3579120"/>
                      <a:ext cx="94320" cy="33840"/>
                    </a:xfrm>
                    <a:prstGeom prst="ellipse">
                      <a:avLst/>
                    </a:prstGeom>
                    <a:solidFill>
                      <a:srgbClr val="919191"/>
                    </a:solidFill>
                    <a:ln w="32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320" bIns="-22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9" name=""/>
                    <p:cNvSpPr/>
                    <p:nvPr/>
                  </p:nvSpPr>
                  <p:spPr>
                    <a:xfrm>
                      <a:off x="1381320" y="3358440"/>
                      <a:ext cx="265320" cy="6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8" h="118">
                          <a:moveTo>
                            <a:pt x="0" y="0"/>
                          </a:moveTo>
                          <a:lnTo>
                            <a:pt x="278" y="39"/>
                          </a:lnTo>
                          <a:lnTo>
                            <a:pt x="497" y="117"/>
                          </a:lnTo>
                          <a:lnTo>
                            <a:pt x="243" y="8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cecece"/>
                    </a:solidFill>
                    <a:ln cap="rnd" w="32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440" bIns="19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0" name=""/>
                    <p:cNvSpPr/>
                    <p:nvPr/>
                  </p:nvSpPr>
                  <p:spPr>
                    <a:xfrm>
                      <a:off x="1512360" y="3408480"/>
                      <a:ext cx="136440" cy="19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6" h="352">
                          <a:moveTo>
                            <a:pt x="25" y="0"/>
                          </a:moveTo>
                          <a:lnTo>
                            <a:pt x="255" y="28"/>
                          </a:lnTo>
                          <a:lnTo>
                            <a:pt x="230" y="291"/>
                          </a:lnTo>
                          <a:lnTo>
                            <a:pt x="0" y="351"/>
                          </a:lnTo>
                          <a:lnTo>
                            <a:pt x="25" y="0"/>
                          </a:lnTo>
                        </a:path>
                      </a:pathLst>
                    </a:custGeom>
                    <a:solidFill>
                      <a:srgbClr val="919191"/>
                    </a:solidFill>
                    <a:ln cap="rnd" w="32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1" name=""/>
                    <p:cNvSpPr/>
                    <p:nvPr/>
                  </p:nvSpPr>
                  <p:spPr>
                    <a:xfrm>
                      <a:off x="1459080" y="3394080"/>
                      <a:ext cx="7596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3" h="402">
                          <a:moveTo>
                            <a:pt x="35" y="2"/>
                          </a:moveTo>
                          <a:lnTo>
                            <a:pt x="142" y="0"/>
                          </a:lnTo>
                          <a:lnTo>
                            <a:pt x="108" y="401"/>
                          </a:lnTo>
                          <a:lnTo>
                            <a:pt x="0" y="398"/>
                          </a:lnTo>
                          <a:lnTo>
                            <a:pt x="35" y="2"/>
                          </a:lnTo>
                        </a:path>
                      </a:pathLst>
                    </a:custGeom>
                    <a:solidFill>
                      <a:srgbClr val="919191"/>
                    </a:solidFill>
                    <a:ln cap="rnd" w="32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2" name=""/>
                    <p:cNvSpPr/>
                    <p:nvPr/>
                  </p:nvSpPr>
                  <p:spPr>
                    <a:xfrm>
                      <a:off x="1326240" y="3352320"/>
                      <a:ext cx="21024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5" h="79">
                          <a:moveTo>
                            <a:pt x="0" y="6"/>
                          </a:moveTo>
                          <a:lnTo>
                            <a:pt x="130" y="0"/>
                          </a:lnTo>
                          <a:lnTo>
                            <a:pt x="394" y="71"/>
                          </a:lnTo>
                          <a:lnTo>
                            <a:pt x="286" y="78"/>
                          </a:lnTo>
                          <a:lnTo>
                            <a:pt x="0" y="6"/>
                          </a:lnTo>
                        </a:path>
                      </a:pathLst>
                    </a:custGeom>
                    <a:solidFill>
                      <a:srgbClr val="cecece"/>
                    </a:solidFill>
                    <a:ln cap="rnd" w="32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3" name=""/>
                    <p:cNvSpPr/>
                    <p:nvPr/>
                  </p:nvSpPr>
                  <p:spPr>
                    <a:xfrm>
                      <a:off x="1309680" y="3355920"/>
                      <a:ext cx="168120" cy="26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6" h="464">
                          <a:moveTo>
                            <a:pt x="31" y="0"/>
                          </a:moveTo>
                          <a:lnTo>
                            <a:pt x="0" y="349"/>
                          </a:lnTo>
                          <a:lnTo>
                            <a:pt x="281" y="463"/>
                          </a:lnTo>
                          <a:lnTo>
                            <a:pt x="315" y="72"/>
                          </a:lnTo>
                          <a:lnTo>
                            <a:pt x="31" y="0"/>
                          </a:lnTo>
                        </a:path>
                      </a:pathLst>
                    </a:custGeom>
                    <a:solidFill>
                      <a:srgbClr val="aaaaaa"/>
                    </a:solidFill>
                    <a:ln cap="rnd" w="32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4" name=""/>
                    <p:cNvSpPr/>
                    <p:nvPr/>
                  </p:nvSpPr>
                  <p:spPr>
                    <a:xfrm>
                      <a:off x="1320840" y="3376440"/>
                      <a:ext cx="144360" cy="21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1" h="383">
                          <a:moveTo>
                            <a:pt x="270" y="63"/>
                          </a:moveTo>
                          <a:lnTo>
                            <a:pt x="259" y="59"/>
                          </a:lnTo>
                          <a:lnTo>
                            <a:pt x="47" y="2"/>
                          </a:lnTo>
                          <a:lnTo>
                            <a:pt x="31" y="0"/>
                          </a:lnTo>
                          <a:lnTo>
                            <a:pt x="25" y="14"/>
                          </a:lnTo>
                          <a:lnTo>
                            <a:pt x="23" y="31"/>
                          </a:lnTo>
                          <a:lnTo>
                            <a:pt x="2" y="267"/>
                          </a:lnTo>
                          <a:lnTo>
                            <a:pt x="0" y="282"/>
                          </a:lnTo>
                          <a:lnTo>
                            <a:pt x="3" y="291"/>
                          </a:lnTo>
                          <a:lnTo>
                            <a:pt x="11" y="299"/>
                          </a:lnTo>
                          <a:lnTo>
                            <a:pt x="212" y="379"/>
                          </a:lnTo>
                          <a:lnTo>
                            <a:pt x="228" y="382"/>
                          </a:lnTo>
                          <a:lnTo>
                            <a:pt x="238" y="377"/>
                          </a:lnTo>
                          <a:lnTo>
                            <a:pt x="242" y="364"/>
                          </a:lnTo>
                          <a:lnTo>
                            <a:pt x="270" y="77"/>
                          </a:lnTo>
                          <a:lnTo>
                            <a:pt x="270" y="63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dbe6e8"/>
                        </a:gs>
                        <a:gs pos="100000">
                          <a:srgbClr val="548a95"/>
                        </a:gs>
                      </a:gsLst>
                      <a:lin ang="5400000"/>
                    </a:gradFill>
                    <a:ln cap="rnd" w="32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5" name=""/>
                    <p:cNvSpPr/>
                    <p:nvPr/>
                  </p:nvSpPr>
                  <p:spPr>
                    <a:xfrm>
                      <a:off x="1245240" y="3621960"/>
                      <a:ext cx="177480" cy="9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3" h="177">
                          <a:moveTo>
                            <a:pt x="180" y="176"/>
                          </a:moveTo>
                          <a:lnTo>
                            <a:pt x="332" y="145"/>
                          </a:lnTo>
                          <a:lnTo>
                            <a:pt x="332" y="100"/>
                          </a:lnTo>
                          <a:lnTo>
                            <a:pt x="165" y="0"/>
                          </a:lnTo>
                          <a:lnTo>
                            <a:pt x="0" y="26"/>
                          </a:lnTo>
                          <a:lnTo>
                            <a:pt x="180" y="176"/>
                          </a:lnTo>
                        </a:path>
                      </a:pathLst>
                    </a:custGeom>
                    <a:solidFill>
                      <a:srgbClr val="cecece"/>
                    </a:solidFill>
                    <a:ln cap="rnd" w="32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6" name=""/>
                    <p:cNvSpPr/>
                    <p:nvPr/>
                  </p:nvSpPr>
                  <p:spPr>
                    <a:xfrm>
                      <a:off x="1331640" y="3629880"/>
                      <a:ext cx="84960" cy="59760"/>
                    </a:xfrm>
                    <a:prstGeom prst="line">
                      <a:avLst/>
                    </a:prstGeom>
                    <a:ln w="32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7" name=""/>
                    <p:cNvSpPr/>
                    <p:nvPr/>
                  </p:nvSpPr>
                  <p:spPr>
                    <a:xfrm>
                      <a:off x="1320480" y="3632760"/>
                      <a:ext cx="81360" cy="58320"/>
                    </a:xfrm>
                    <a:prstGeom prst="line">
                      <a:avLst/>
                    </a:prstGeom>
                    <a:ln w="32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520" bIns="11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8" name=""/>
                    <p:cNvSpPr/>
                    <p:nvPr/>
                  </p:nvSpPr>
                  <p:spPr>
                    <a:xfrm>
                      <a:off x="1265040" y="3633120"/>
                      <a:ext cx="126720" cy="7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8" h="132">
                          <a:moveTo>
                            <a:pt x="0" y="15"/>
                          </a:moveTo>
                          <a:lnTo>
                            <a:pt x="78" y="0"/>
                          </a:lnTo>
                          <a:lnTo>
                            <a:pt x="237" y="110"/>
                          </a:lnTo>
                          <a:lnTo>
                            <a:pt x="138" y="131"/>
                          </a:lnTo>
                          <a:lnTo>
                            <a:pt x="0" y="15"/>
                          </a:lnTo>
                        </a:path>
                      </a:pathLst>
                    </a:custGeom>
                    <a:noFill/>
                    <a:ln cap="rnd" w="32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9" name=""/>
                    <p:cNvSpPr/>
                    <p:nvPr/>
                  </p:nvSpPr>
                  <p:spPr>
                    <a:xfrm>
                      <a:off x="1514880" y="3518280"/>
                      <a:ext cx="68760" cy="28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502">
                          <a:moveTo>
                            <a:pt x="20" y="0"/>
                          </a:moveTo>
                          <a:lnTo>
                            <a:pt x="128" y="60"/>
                          </a:lnTo>
                          <a:lnTo>
                            <a:pt x="123" y="501"/>
                          </a:lnTo>
                          <a:lnTo>
                            <a:pt x="0" y="404"/>
                          </a:lnTo>
                          <a:lnTo>
                            <a:pt x="10" y="0"/>
                          </a:lnTo>
                          <a:lnTo>
                            <a:pt x="20" y="0"/>
                          </a:lnTo>
                        </a:path>
                      </a:pathLst>
                    </a:custGeom>
                    <a:solidFill>
                      <a:srgbClr val="aaaaaa"/>
                    </a:solidFill>
                    <a:ln cap="rnd" w="32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0" name=""/>
                    <p:cNvSpPr/>
                    <p:nvPr/>
                  </p:nvSpPr>
                  <p:spPr>
                    <a:xfrm>
                      <a:off x="1581120" y="3533040"/>
                      <a:ext cx="210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6" h="480">
                          <a:moveTo>
                            <a:pt x="5" y="35"/>
                          </a:moveTo>
                          <a:lnTo>
                            <a:pt x="395" y="0"/>
                          </a:lnTo>
                          <a:lnTo>
                            <a:pt x="395" y="394"/>
                          </a:lnTo>
                          <a:lnTo>
                            <a:pt x="0" y="479"/>
                          </a:lnTo>
                          <a:lnTo>
                            <a:pt x="5" y="35"/>
                          </a:lnTo>
                        </a:path>
                      </a:pathLst>
                    </a:custGeom>
                    <a:solidFill>
                      <a:srgbClr val="919191"/>
                    </a:solidFill>
                    <a:ln cap="rnd" w="32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1" name=""/>
                    <p:cNvSpPr/>
                    <p:nvPr/>
                  </p:nvSpPr>
                  <p:spPr>
                    <a:xfrm>
                      <a:off x="1520640" y="3499200"/>
                      <a:ext cx="27108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9" h="96">
                          <a:moveTo>
                            <a:pt x="118" y="95"/>
                          </a:moveTo>
                          <a:lnTo>
                            <a:pt x="508" y="60"/>
                          </a:lnTo>
                          <a:lnTo>
                            <a:pt x="403" y="0"/>
                          </a:lnTo>
                          <a:lnTo>
                            <a:pt x="0" y="32"/>
                          </a:lnTo>
                          <a:lnTo>
                            <a:pt x="118" y="95"/>
                          </a:lnTo>
                        </a:path>
                      </a:pathLst>
                    </a:custGeom>
                    <a:solidFill>
                      <a:srgbClr val="cecece"/>
                    </a:solidFill>
                    <a:ln cap="rnd" w="32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2" name=""/>
                    <p:cNvSpPr/>
                    <p:nvPr/>
                  </p:nvSpPr>
                  <p:spPr>
                    <a:xfrm>
                      <a:off x="1518840" y="3552480"/>
                      <a:ext cx="64800" cy="3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2" h="69">
                          <a:moveTo>
                            <a:pt x="0" y="0"/>
                          </a:moveTo>
                          <a:lnTo>
                            <a:pt x="121" y="68"/>
                          </a:lnTo>
                        </a:path>
                      </a:pathLst>
                    </a:custGeom>
                    <a:noFill/>
                    <a:ln cap="rnd" w="32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3" name=""/>
                    <p:cNvSpPr/>
                    <p:nvPr/>
                  </p:nvSpPr>
                  <p:spPr>
                    <a:xfrm>
                      <a:off x="1524960" y="3564360"/>
                      <a:ext cx="5220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8" h="94">
                          <a:moveTo>
                            <a:pt x="1" y="0"/>
                          </a:moveTo>
                          <a:lnTo>
                            <a:pt x="97" y="55"/>
                          </a:lnTo>
                          <a:lnTo>
                            <a:pt x="96" y="93"/>
                          </a:lnTo>
                          <a:lnTo>
                            <a:pt x="0" y="33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cap="rnd" w="32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4" name=""/>
                    <p:cNvSpPr/>
                    <p:nvPr/>
                  </p:nvSpPr>
                  <p:spPr>
                    <a:xfrm>
                      <a:off x="1519200" y="3591360"/>
                      <a:ext cx="6336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73">
                          <a:moveTo>
                            <a:pt x="0" y="0"/>
                          </a:moveTo>
                          <a:lnTo>
                            <a:pt x="118" y="72"/>
                          </a:lnTo>
                        </a:path>
                      </a:pathLst>
                    </a:custGeom>
                    <a:noFill/>
                    <a:ln cap="rnd" w="32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5" name=""/>
                    <p:cNvSpPr/>
                    <p:nvPr/>
                  </p:nvSpPr>
                  <p:spPr>
                    <a:xfrm>
                      <a:off x="1517040" y="3629160"/>
                      <a:ext cx="6444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79">
                          <a:moveTo>
                            <a:pt x="0" y="0"/>
                          </a:moveTo>
                          <a:lnTo>
                            <a:pt x="120" y="78"/>
                          </a:lnTo>
                        </a:path>
                      </a:pathLst>
                    </a:custGeom>
                    <a:noFill/>
                    <a:ln cap="rnd" w="32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6" name=""/>
                    <p:cNvSpPr/>
                    <p:nvPr/>
                  </p:nvSpPr>
                  <p:spPr>
                    <a:xfrm>
                      <a:off x="1363680" y="3725280"/>
                      <a:ext cx="104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600" y="10800"/>
                          </a:moveTo>
                          <a:arcTo wR="10800" hR="10800" stAng="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600" y="10800"/>
                          </a:moveTo>
                          <a:arcTo wR="10800" hR="10800" stAng="0" swAng="5400000"/>
                        </a:path>
                      </a:pathLst>
                    </a:custGeom>
                    <a:noFill/>
                    <a:ln cap="rnd" w="3240">
                      <a:solidFill>
                        <a:srgbClr val="cecece"/>
                      </a:solidFill>
                      <a:miter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7" name=""/>
                    <p:cNvSpPr/>
                    <p:nvPr/>
                  </p:nvSpPr>
                  <p:spPr>
                    <a:xfrm>
                      <a:off x="1466280" y="3726000"/>
                      <a:ext cx="7956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4" y="10082"/>
                          </a:moveTo>
                          <a:arcTo wR="10800" hR="10800" stAng="-10571156" swAng="17193742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4" y="10082"/>
                          </a:moveTo>
                          <a:arcTo wR="10800" hR="10800" stAng="-10571156" swAng="17193742"/>
                        </a:path>
                      </a:pathLst>
                    </a:custGeom>
                    <a:noFill/>
                    <a:ln cap="rnd" w="3240">
                      <a:solidFill>
                        <a:srgbClr val="cecece"/>
                      </a:solidFill>
                      <a:miter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320" bIns="-13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8" name=""/>
                    <p:cNvSpPr/>
                    <p:nvPr/>
                  </p:nvSpPr>
                  <p:spPr>
                    <a:xfrm>
                      <a:off x="1428480" y="3720600"/>
                      <a:ext cx="18036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8026" y="21238"/>
                          </a:moveTo>
                          <a:arcTo wR="10800" hR="10800" stAng="6293024" swAng="966806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8026" y="21238"/>
                          </a:moveTo>
                          <a:arcTo wR="10800" hR="10800" stAng="6293024" swAng="9668068"/>
                        </a:path>
                      </a:pathLst>
                    </a:custGeom>
                    <a:noFill/>
                    <a:ln cap="rnd" w="3240">
                      <a:solidFill>
                        <a:srgbClr val="cecece"/>
                      </a:solidFill>
                      <a:miter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560" bIns="-7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9" name=""/>
                    <p:cNvSpPr/>
                    <p:nvPr/>
                  </p:nvSpPr>
                  <p:spPr>
                    <a:xfrm>
                      <a:off x="1342800" y="3756960"/>
                      <a:ext cx="7344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8" h="17">
                          <a:moveTo>
                            <a:pt x="0" y="8"/>
                          </a:moveTo>
                          <a:lnTo>
                            <a:pt x="50" y="16"/>
                          </a:lnTo>
                          <a:lnTo>
                            <a:pt x="99" y="8"/>
                          </a:lnTo>
                          <a:lnTo>
                            <a:pt x="137" y="0"/>
                          </a:lnTo>
                        </a:path>
                      </a:pathLst>
                    </a:custGeom>
                    <a:noFill/>
                    <a:ln cap="rnd" w="32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0" name=""/>
                    <p:cNvSpPr/>
                    <p:nvPr/>
                  </p:nvSpPr>
                  <p:spPr>
                    <a:xfrm>
                      <a:off x="1393560" y="3738600"/>
                      <a:ext cx="90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41">
                          <a:moveTo>
                            <a:pt x="9" y="0"/>
                          </a:moveTo>
                          <a:lnTo>
                            <a:pt x="16" y="17"/>
                          </a:lnTo>
                          <a:lnTo>
                            <a:pt x="9" y="30"/>
                          </a:lnTo>
                          <a:lnTo>
                            <a:pt x="0" y="40"/>
                          </a:lnTo>
                        </a:path>
                      </a:pathLst>
                    </a:custGeom>
                    <a:noFill/>
                    <a:ln cap="rnd" w="32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1" name=""/>
                    <p:cNvSpPr/>
                    <p:nvPr/>
                  </p:nvSpPr>
                  <p:spPr>
                    <a:xfrm>
                      <a:off x="1545480" y="3634920"/>
                      <a:ext cx="306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53">
                          <a:moveTo>
                            <a:pt x="1" y="0"/>
                          </a:moveTo>
                          <a:lnTo>
                            <a:pt x="57" y="33"/>
                          </a:lnTo>
                          <a:lnTo>
                            <a:pt x="56" y="52"/>
                          </a:lnTo>
                          <a:lnTo>
                            <a:pt x="0" y="12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noFill/>
                    <a:ln cap="rnd" w="32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2" name=""/>
                    <p:cNvSpPr/>
                    <p:nvPr/>
                  </p:nvSpPr>
                  <p:spPr>
                    <a:xfrm flipV="1">
                      <a:off x="1597680" y="3710880"/>
                      <a:ext cx="183240" cy="30240"/>
                    </a:xfrm>
                    <a:prstGeom prst="line">
                      <a:avLst/>
                    </a:prstGeom>
                    <a:ln w="32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3" name=""/>
                    <p:cNvSpPr/>
                    <p:nvPr/>
                  </p:nvSpPr>
                  <p:spPr>
                    <a:xfrm flipV="1">
                      <a:off x="1597680" y="3718440"/>
                      <a:ext cx="183240" cy="34560"/>
                    </a:xfrm>
                    <a:prstGeom prst="line">
                      <a:avLst/>
                    </a:prstGeom>
                    <a:ln w="32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4" name=""/>
                    <p:cNvSpPr/>
                    <p:nvPr/>
                  </p:nvSpPr>
                  <p:spPr>
                    <a:xfrm flipV="1">
                      <a:off x="1597680" y="3728520"/>
                      <a:ext cx="183240" cy="36000"/>
                    </a:xfrm>
                    <a:prstGeom prst="line">
                      <a:avLst/>
                    </a:prstGeom>
                    <a:ln w="32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5" name=""/>
                    <p:cNvSpPr/>
                    <p:nvPr/>
                  </p:nvSpPr>
                  <p:spPr>
                    <a:xfrm flipV="1">
                      <a:off x="1597680" y="3737520"/>
                      <a:ext cx="184320" cy="37440"/>
                    </a:xfrm>
                    <a:prstGeom prst="line">
                      <a:avLst/>
                    </a:prstGeom>
                    <a:ln w="32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6" name=""/>
                    <p:cNvSpPr/>
                    <p:nvPr/>
                  </p:nvSpPr>
                  <p:spPr>
                    <a:xfrm flipV="1">
                      <a:off x="1597680" y="3745080"/>
                      <a:ext cx="184320" cy="41760"/>
                    </a:xfrm>
                    <a:prstGeom prst="line">
                      <a:avLst/>
                    </a:prstGeom>
                    <a:ln w="32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7" name=""/>
                    <p:cNvSpPr/>
                    <p:nvPr/>
                  </p:nvSpPr>
                  <p:spPr>
                    <a:xfrm>
                      <a:off x="1427760" y="3772440"/>
                      <a:ext cx="436320" cy="12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9" h="225">
                          <a:moveTo>
                            <a:pt x="0" y="169"/>
                          </a:moveTo>
                          <a:lnTo>
                            <a:pt x="818" y="0"/>
                          </a:lnTo>
                          <a:lnTo>
                            <a:pt x="813" y="45"/>
                          </a:lnTo>
                          <a:lnTo>
                            <a:pt x="0" y="224"/>
                          </a:lnTo>
                          <a:lnTo>
                            <a:pt x="0" y="169"/>
                          </a:lnTo>
                        </a:path>
                      </a:pathLst>
                    </a:custGeom>
                    <a:solidFill>
                      <a:srgbClr val="f6bf69"/>
                    </a:solidFill>
                    <a:ln cap="rnd" w="32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8" name=""/>
                    <p:cNvSpPr/>
                    <p:nvPr/>
                  </p:nvSpPr>
                  <p:spPr>
                    <a:xfrm>
                      <a:off x="1339920" y="3390480"/>
                      <a:ext cx="11448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121">
                          <a:moveTo>
                            <a:pt x="6" y="0"/>
                          </a:moveTo>
                          <a:lnTo>
                            <a:pt x="214" y="60"/>
                          </a:lnTo>
                          <a:lnTo>
                            <a:pt x="209" y="120"/>
                          </a:lnTo>
                          <a:lnTo>
                            <a:pt x="0" y="5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cf0e30"/>
                        </a:gs>
                      </a:gsLst>
                      <a:lin ang="10800000"/>
                    </a:gradFill>
                    <a:ln cap="rnd" w="32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9" name=""/>
                    <p:cNvSpPr/>
                    <p:nvPr/>
                  </p:nvSpPr>
                  <p:spPr>
                    <a:xfrm>
                      <a:off x="1330560" y="3430080"/>
                      <a:ext cx="77760" cy="13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237">
                          <a:moveTo>
                            <a:pt x="17" y="0"/>
                          </a:moveTo>
                          <a:lnTo>
                            <a:pt x="145" y="40"/>
                          </a:lnTo>
                          <a:lnTo>
                            <a:pt x="129" y="236"/>
                          </a:lnTo>
                          <a:lnTo>
                            <a:pt x="0" y="186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f1d4a"/>
                        </a:gs>
                        <a:gs pos="100000">
                          <a:srgbClr val="3365fb"/>
                        </a:gs>
                      </a:gsLst>
                      <a:lin ang="5400000"/>
                    </a:gradFill>
                    <a:ln cap="rnd" w="32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0" name=""/>
                    <p:cNvSpPr/>
                    <p:nvPr/>
                  </p:nvSpPr>
                  <p:spPr>
                    <a:xfrm>
                      <a:off x="1406160" y="3455280"/>
                      <a:ext cx="44640" cy="12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" h="222">
                          <a:moveTo>
                            <a:pt x="16" y="0"/>
                          </a:moveTo>
                          <a:lnTo>
                            <a:pt x="83" y="20"/>
                          </a:lnTo>
                          <a:lnTo>
                            <a:pt x="65" y="221"/>
                          </a:lnTo>
                          <a:lnTo>
                            <a:pt x="0" y="197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353600"/>
                        </a:gs>
                        <a:gs pos="100000">
                          <a:srgbClr val="b3b900"/>
                        </a:gs>
                      </a:gsLst>
                      <a:lin ang="5400000"/>
                    </a:gradFill>
                    <a:ln cap="rnd" w="324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31" name=""/>
                  <p:cNvSpPr/>
                  <p:nvPr/>
                </p:nvSpPr>
                <p:spPr>
                  <a:xfrm>
                    <a:off x="909360" y="3252240"/>
                    <a:ext cx="165240" cy="267840"/>
                  </a:xfrm>
                  <a:custGeom>
                    <a:avLst/>
                    <a:gdLst/>
                    <a:ahLst/>
                    <a:rect l="l" t="t" r="r" b="b"/>
                    <a:pathLst>
                      <a:path w="310" h="473">
                        <a:moveTo>
                          <a:pt x="287" y="144"/>
                        </a:moveTo>
                        <a:lnTo>
                          <a:pt x="278" y="162"/>
                        </a:lnTo>
                        <a:lnTo>
                          <a:pt x="309" y="211"/>
                        </a:lnTo>
                        <a:lnTo>
                          <a:pt x="309" y="222"/>
                        </a:lnTo>
                        <a:lnTo>
                          <a:pt x="285" y="227"/>
                        </a:lnTo>
                        <a:lnTo>
                          <a:pt x="292" y="249"/>
                        </a:lnTo>
                        <a:lnTo>
                          <a:pt x="289" y="262"/>
                        </a:lnTo>
                        <a:lnTo>
                          <a:pt x="268" y="266"/>
                        </a:lnTo>
                        <a:lnTo>
                          <a:pt x="283" y="268"/>
                        </a:lnTo>
                        <a:lnTo>
                          <a:pt x="275" y="283"/>
                        </a:lnTo>
                        <a:lnTo>
                          <a:pt x="281" y="305"/>
                        </a:lnTo>
                        <a:lnTo>
                          <a:pt x="268" y="326"/>
                        </a:lnTo>
                        <a:lnTo>
                          <a:pt x="218" y="331"/>
                        </a:lnTo>
                        <a:lnTo>
                          <a:pt x="197" y="331"/>
                        </a:lnTo>
                        <a:lnTo>
                          <a:pt x="190" y="420"/>
                        </a:lnTo>
                        <a:lnTo>
                          <a:pt x="124" y="472"/>
                        </a:lnTo>
                        <a:lnTo>
                          <a:pt x="7" y="416"/>
                        </a:lnTo>
                        <a:lnTo>
                          <a:pt x="26" y="320"/>
                        </a:lnTo>
                        <a:lnTo>
                          <a:pt x="41" y="287"/>
                        </a:lnTo>
                        <a:lnTo>
                          <a:pt x="11" y="192"/>
                        </a:lnTo>
                        <a:lnTo>
                          <a:pt x="0" y="102"/>
                        </a:lnTo>
                        <a:lnTo>
                          <a:pt x="41" y="37"/>
                        </a:lnTo>
                        <a:lnTo>
                          <a:pt x="85" y="6"/>
                        </a:lnTo>
                        <a:lnTo>
                          <a:pt x="151" y="0"/>
                        </a:lnTo>
                        <a:lnTo>
                          <a:pt x="192" y="8"/>
                        </a:lnTo>
                        <a:lnTo>
                          <a:pt x="244" y="28"/>
                        </a:lnTo>
                        <a:lnTo>
                          <a:pt x="274" y="56"/>
                        </a:lnTo>
                        <a:lnTo>
                          <a:pt x="287" y="144"/>
                        </a:lnTo>
                      </a:path>
                    </a:pathLst>
                  </a:custGeom>
                  <a:solidFill>
                    <a:srgbClr val="fcd1c1"/>
                  </a:solidFill>
                  <a:ln cap="rnd"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>
                    <a:off x="904680" y="3250800"/>
                    <a:ext cx="17136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2" h="277">
                        <a:moveTo>
                          <a:pt x="244" y="136"/>
                        </a:moveTo>
                        <a:lnTo>
                          <a:pt x="215" y="168"/>
                        </a:lnTo>
                        <a:lnTo>
                          <a:pt x="227" y="205"/>
                        </a:lnTo>
                        <a:lnTo>
                          <a:pt x="201" y="179"/>
                        </a:lnTo>
                        <a:lnTo>
                          <a:pt x="170" y="182"/>
                        </a:lnTo>
                        <a:lnTo>
                          <a:pt x="157" y="207"/>
                        </a:lnTo>
                        <a:lnTo>
                          <a:pt x="155" y="221"/>
                        </a:lnTo>
                        <a:lnTo>
                          <a:pt x="155" y="240"/>
                        </a:lnTo>
                        <a:lnTo>
                          <a:pt x="153" y="244"/>
                        </a:lnTo>
                        <a:lnTo>
                          <a:pt x="115" y="276"/>
                        </a:lnTo>
                        <a:lnTo>
                          <a:pt x="48" y="276"/>
                        </a:lnTo>
                        <a:lnTo>
                          <a:pt x="36" y="236"/>
                        </a:lnTo>
                        <a:lnTo>
                          <a:pt x="2" y="168"/>
                        </a:lnTo>
                        <a:lnTo>
                          <a:pt x="0" y="104"/>
                        </a:lnTo>
                        <a:lnTo>
                          <a:pt x="19" y="63"/>
                        </a:lnTo>
                        <a:lnTo>
                          <a:pt x="36" y="39"/>
                        </a:lnTo>
                        <a:lnTo>
                          <a:pt x="80" y="11"/>
                        </a:lnTo>
                        <a:lnTo>
                          <a:pt x="125" y="0"/>
                        </a:lnTo>
                        <a:lnTo>
                          <a:pt x="196" y="7"/>
                        </a:lnTo>
                        <a:lnTo>
                          <a:pt x="254" y="24"/>
                        </a:lnTo>
                        <a:lnTo>
                          <a:pt x="321" y="54"/>
                        </a:lnTo>
                        <a:lnTo>
                          <a:pt x="308" y="91"/>
                        </a:lnTo>
                        <a:lnTo>
                          <a:pt x="272" y="108"/>
                        </a:lnTo>
                        <a:lnTo>
                          <a:pt x="227" y="115"/>
                        </a:lnTo>
                        <a:lnTo>
                          <a:pt x="244" y="136"/>
                        </a:lnTo>
                      </a:path>
                    </a:pathLst>
                  </a:custGeom>
                  <a:solidFill>
                    <a:srgbClr val="dddddd"/>
                  </a:solidFill>
                  <a:ln cap="rnd"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>
                    <a:off x="930240" y="3404520"/>
                    <a:ext cx="8244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130">
                        <a:moveTo>
                          <a:pt x="154" y="112"/>
                        </a:moveTo>
                        <a:lnTo>
                          <a:pt x="151" y="79"/>
                        </a:lnTo>
                        <a:lnTo>
                          <a:pt x="89" y="19"/>
                        </a:lnTo>
                        <a:lnTo>
                          <a:pt x="52" y="0"/>
                        </a:lnTo>
                        <a:lnTo>
                          <a:pt x="13" y="0"/>
                        </a:lnTo>
                        <a:lnTo>
                          <a:pt x="0" y="11"/>
                        </a:lnTo>
                        <a:lnTo>
                          <a:pt x="0" y="38"/>
                        </a:lnTo>
                        <a:lnTo>
                          <a:pt x="132" y="97"/>
                        </a:lnTo>
                        <a:lnTo>
                          <a:pt x="153" y="129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4" name=""/>
                  <p:cNvSpPr/>
                  <p:nvPr/>
                </p:nvSpPr>
                <p:spPr>
                  <a:xfrm>
                    <a:off x="1055520" y="3552120"/>
                    <a:ext cx="12852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98">
                        <a:moveTo>
                          <a:pt x="233" y="80"/>
                        </a:moveTo>
                        <a:lnTo>
                          <a:pt x="220" y="80"/>
                        </a:lnTo>
                        <a:lnTo>
                          <a:pt x="203" y="47"/>
                        </a:lnTo>
                        <a:lnTo>
                          <a:pt x="170" y="54"/>
                        </a:lnTo>
                        <a:lnTo>
                          <a:pt x="179" y="64"/>
                        </a:lnTo>
                        <a:lnTo>
                          <a:pt x="211" y="66"/>
                        </a:lnTo>
                        <a:lnTo>
                          <a:pt x="213" y="77"/>
                        </a:lnTo>
                        <a:lnTo>
                          <a:pt x="188" y="86"/>
                        </a:lnTo>
                        <a:lnTo>
                          <a:pt x="146" y="91"/>
                        </a:lnTo>
                        <a:lnTo>
                          <a:pt x="121" y="88"/>
                        </a:lnTo>
                        <a:lnTo>
                          <a:pt x="65" y="91"/>
                        </a:lnTo>
                        <a:lnTo>
                          <a:pt x="29" y="97"/>
                        </a:lnTo>
                        <a:lnTo>
                          <a:pt x="0" y="39"/>
                        </a:lnTo>
                        <a:lnTo>
                          <a:pt x="76" y="32"/>
                        </a:lnTo>
                        <a:lnTo>
                          <a:pt x="144" y="0"/>
                        </a:lnTo>
                        <a:lnTo>
                          <a:pt x="211" y="15"/>
                        </a:lnTo>
                        <a:lnTo>
                          <a:pt x="241" y="47"/>
                        </a:lnTo>
                        <a:lnTo>
                          <a:pt x="233" y="80"/>
                        </a:lnTo>
                      </a:path>
                    </a:pathLst>
                  </a:custGeom>
                  <a:solidFill>
                    <a:srgbClr val="fcd1c1"/>
                  </a:solidFill>
                  <a:ln cap="rnd"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5" name=""/>
                  <p:cNvSpPr/>
                  <p:nvPr/>
                </p:nvSpPr>
                <p:spPr>
                  <a:xfrm>
                    <a:off x="1077840" y="3563280"/>
                    <a:ext cx="4896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104">
                        <a:moveTo>
                          <a:pt x="15" y="10"/>
                        </a:moveTo>
                        <a:lnTo>
                          <a:pt x="60" y="0"/>
                        </a:lnTo>
                        <a:lnTo>
                          <a:pt x="78" y="25"/>
                        </a:lnTo>
                        <a:lnTo>
                          <a:pt x="88" y="49"/>
                        </a:lnTo>
                        <a:lnTo>
                          <a:pt x="91" y="65"/>
                        </a:lnTo>
                        <a:lnTo>
                          <a:pt x="87" y="76"/>
                        </a:lnTo>
                        <a:lnTo>
                          <a:pt x="81" y="91"/>
                        </a:lnTo>
                        <a:lnTo>
                          <a:pt x="21" y="103"/>
                        </a:lnTo>
                        <a:lnTo>
                          <a:pt x="26" y="74"/>
                        </a:lnTo>
                        <a:lnTo>
                          <a:pt x="19" y="38"/>
                        </a:lnTo>
                        <a:lnTo>
                          <a:pt x="10" y="27"/>
                        </a:lnTo>
                        <a:lnTo>
                          <a:pt x="0" y="15"/>
                        </a:lnTo>
                        <a:lnTo>
                          <a:pt x="15" y="1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6" name=""/>
                  <p:cNvSpPr/>
                  <p:nvPr/>
                </p:nvSpPr>
                <p:spPr>
                  <a:xfrm>
                    <a:off x="1199880" y="3601440"/>
                    <a:ext cx="10656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163">
                        <a:moveTo>
                          <a:pt x="6" y="98"/>
                        </a:moveTo>
                        <a:lnTo>
                          <a:pt x="73" y="58"/>
                        </a:lnTo>
                        <a:lnTo>
                          <a:pt x="80" y="17"/>
                        </a:lnTo>
                        <a:lnTo>
                          <a:pt x="119" y="2"/>
                        </a:lnTo>
                        <a:lnTo>
                          <a:pt x="124" y="19"/>
                        </a:lnTo>
                        <a:lnTo>
                          <a:pt x="186" y="0"/>
                        </a:lnTo>
                        <a:lnTo>
                          <a:pt x="197" y="19"/>
                        </a:lnTo>
                        <a:lnTo>
                          <a:pt x="194" y="56"/>
                        </a:lnTo>
                        <a:lnTo>
                          <a:pt x="184" y="95"/>
                        </a:lnTo>
                        <a:lnTo>
                          <a:pt x="132" y="134"/>
                        </a:lnTo>
                        <a:lnTo>
                          <a:pt x="108" y="132"/>
                        </a:lnTo>
                        <a:lnTo>
                          <a:pt x="57" y="159"/>
                        </a:lnTo>
                        <a:lnTo>
                          <a:pt x="17" y="162"/>
                        </a:lnTo>
                        <a:lnTo>
                          <a:pt x="0" y="114"/>
                        </a:lnTo>
                        <a:lnTo>
                          <a:pt x="6" y="98"/>
                        </a:lnTo>
                      </a:path>
                    </a:pathLst>
                  </a:custGeom>
                  <a:solidFill>
                    <a:srgbClr val="fcd1c1"/>
                  </a:solidFill>
                  <a:ln cap="rnd"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7" name=""/>
                  <p:cNvSpPr/>
                  <p:nvPr/>
                </p:nvSpPr>
                <p:spPr>
                  <a:xfrm>
                    <a:off x="1211040" y="3633120"/>
                    <a:ext cx="5076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33">
                        <a:moveTo>
                          <a:pt x="15" y="20"/>
                        </a:moveTo>
                        <a:lnTo>
                          <a:pt x="57" y="0"/>
                        </a:lnTo>
                        <a:lnTo>
                          <a:pt x="79" y="26"/>
                        </a:lnTo>
                        <a:lnTo>
                          <a:pt x="92" y="54"/>
                        </a:lnTo>
                        <a:lnTo>
                          <a:pt x="98" y="73"/>
                        </a:lnTo>
                        <a:lnTo>
                          <a:pt x="96" y="87"/>
                        </a:lnTo>
                        <a:lnTo>
                          <a:pt x="92" y="106"/>
                        </a:lnTo>
                        <a:lnTo>
                          <a:pt x="35" y="132"/>
                        </a:lnTo>
                        <a:lnTo>
                          <a:pt x="35" y="95"/>
                        </a:lnTo>
                        <a:lnTo>
                          <a:pt x="24" y="54"/>
                        </a:lnTo>
                        <a:lnTo>
                          <a:pt x="13" y="43"/>
                        </a:lnTo>
                        <a:lnTo>
                          <a:pt x="0" y="30"/>
                        </a:lnTo>
                        <a:lnTo>
                          <a:pt x="15" y="2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8" name=""/>
                  <p:cNvSpPr/>
                  <p:nvPr/>
                </p:nvSpPr>
                <p:spPr>
                  <a:xfrm>
                    <a:off x="1118880" y="3939120"/>
                    <a:ext cx="1526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5" h="154">
                        <a:moveTo>
                          <a:pt x="148" y="0"/>
                        </a:moveTo>
                        <a:lnTo>
                          <a:pt x="196" y="26"/>
                        </a:lnTo>
                        <a:lnTo>
                          <a:pt x="252" y="24"/>
                        </a:lnTo>
                        <a:lnTo>
                          <a:pt x="282" y="34"/>
                        </a:lnTo>
                        <a:lnTo>
                          <a:pt x="284" y="64"/>
                        </a:lnTo>
                        <a:lnTo>
                          <a:pt x="257" y="95"/>
                        </a:lnTo>
                        <a:lnTo>
                          <a:pt x="204" y="126"/>
                        </a:lnTo>
                        <a:lnTo>
                          <a:pt x="148" y="126"/>
                        </a:lnTo>
                        <a:lnTo>
                          <a:pt x="99" y="131"/>
                        </a:lnTo>
                        <a:lnTo>
                          <a:pt x="101" y="143"/>
                        </a:lnTo>
                        <a:lnTo>
                          <a:pt x="36" y="153"/>
                        </a:lnTo>
                        <a:lnTo>
                          <a:pt x="15" y="143"/>
                        </a:lnTo>
                        <a:lnTo>
                          <a:pt x="0" y="134"/>
                        </a:lnTo>
                        <a:lnTo>
                          <a:pt x="0" y="101"/>
                        </a:lnTo>
                        <a:lnTo>
                          <a:pt x="6" y="71"/>
                        </a:lnTo>
                        <a:lnTo>
                          <a:pt x="11" y="47"/>
                        </a:lnTo>
                        <a:lnTo>
                          <a:pt x="36" y="15"/>
                        </a:lnTo>
                        <a:lnTo>
                          <a:pt x="143" y="0"/>
                        </a:lnTo>
                      </a:path>
                    </a:pathLst>
                  </a:custGeom>
                  <a:solidFill>
                    <a:srgbClr val="564d3f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>
                    <a:off x="1120680" y="3852000"/>
                    <a:ext cx="8244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222">
                        <a:moveTo>
                          <a:pt x="143" y="0"/>
                        </a:moveTo>
                        <a:lnTo>
                          <a:pt x="154" y="160"/>
                        </a:lnTo>
                        <a:lnTo>
                          <a:pt x="100" y="203"/>
                        </a:lnTo>
                        <a:lnTo>
                          <a:pt x="29" y="221"/>
                        </a:lnTo>
                        <a:lnTo>
                          <a:pt x="3" y="215"/>
                        </a:lnTo>
                        <a:lnTo>
                          <a:pt x="6" y="114"/>
                        </a:lnTo>
                        <a:lnTo>
                          <a:pt x="0" y="50"/>
                        </a:lnTo>
                        <a:lnTo>
                          <a:pt x="143" y="0"/>
                        </a:lnTo>
                      </a:path>
                    </a:pathLst>
                  </a:custGeom>
                  <a:solidFill>
                    <a:srgbClr val="8d7e67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0" name=""/>
                  <p:cNvSpPr/>
                  <p:nvPr/>
                </p:nvSpPr>
                <p:spPr>
                  <a:xfrm>
                    <a:off x="828360" y="3844080"/>
                    <a:ext cx="292320" cy="325080"/>
                  </a:xfrm>
                  <a:custGeom>
                    <a:avLst/>
                    <a:gdLst/>
                    <a:ahLst/>
                    <a:rect l="l" t="t" r="r" b="b"/>
                    <a:pathLst>
                      <a:path w="552" h="577">
                        <a:moveTo>
                          <a:pt x="344" y="16"/>
                        </a:moveTo>
                        <a:lnTo>
                          <a:pt x="346" y="376"/>
                        </a:lnTo>
                        <a:lnTo>
                          <a:pt x="514" y="333"/>
                        </a:lnTo>
                        <a:lnTo>
                          <a:pt x="532" y="331"/>
                        </a:lnTo>
                        <a:lnTo>
                          <a:pt x="548" y="345"/>
                        </a:lnTo>
                        <a:lnTo>
                          <a:pt x="551" y="366"/>
                        </a:lnTo>
                        <a:lnTo>
                          <a:pt x="536" y="367"/>
                        </a:lnTo>
                        <a:lnTo>
                          <a:pt x="534" y="379"/>
                        </a:lnTo>
                        <a:lnTo>
                          <a:pt x="523" y="390"/>
                        </a:lnTo>
                        <a:lnTo>
                          <a:pt x="508" y="389"/>
                        </a:lnTo>
                        <a:lnTo>
                          <a:pt x="501" y="384"/>
                        </a:lnTo>
                        <a:lnTo>
                          <a:pt x="499" y="366"/>
                        </a:lnTo>
                        <a:lnTo>
                          <a:pt x="350" y="408"/>
                        </a:lnTo>
                        <a:lnTo>
                          <a:pt x="484" y="502"/>
                        </a:lnTo>
                        <a:lnTo>
                          <a:pt x="490" y="523"/>
                        </a:lnTo>
                        <a:lnTo>
                          <a:pt x="492" y="538"/>
                        </a:lnTo>
                        <a:lnTo>
                          <a:pt x="503" y="558"/>
                        </a:lnTo>
                        <a:lnTo>
                          <a:pt x="475" y="576"/>
                        </a:lnTo>
                        <a:lnTo>
                          <a:pt x="456" y="575"/>
                        </a:lnTo>
                        <a:lnTo>
                          <a:pt x="423" y="566"/>
                        </a:lnTo>
                        <a:lnTo>
                          <a:pt x="420" y="556"/>
                        </a:lnTo>
                        <a:lnTo>
                          <a:pt x="437" y="539"/>
                        </a:lnTo>
                        <a:lnTo>
                          <a:pt x="454" y="533"/>
                        </a:lnTo>
                        <a:lnTo>
                          <a:pt x="453" y="527"/>
                        </a:lnTo>
                        <a:lnTo>
                          <a:pt x="296" y="416"/>
                        </a:lnTo>
                        <a:lnTo>
                          <a:pt x="46" y="512"/>
                        </a:lnTo>
                        <a:lnTo>
                          <a:pt x="54" y="522"/>
                        </a:lnTo>
                        <a:lnTo>
                          <a:pt x="65" y="539"/>
                        </a:lnTo>
                        <a:lnTo>
                          <a:pt x="46" y="552"/>
                        </a:lnTo>
                        <a:lnTo>
                          <a:pt x="22" y="552"/>
                        </a:lnTo>
                        <a:lnTo>
                          <a:pt x="0" y="532"/>
                        </a:lnTo>
                        <a:lnTo>
                          <a:pt x="9" y="516"/>
                        </a:lnTo>
                        <a:lnTo>
                          <a:pt x="22" y="499"/>
                        </a:lnTo>
                        <a:lnTo>
                          <a:pt x="17" y="480"/>
                        </a:lnTo>
                        <a:lnTo>
                          <a:pt x="263" y="395"/>
                        </a:lnTo>
                        <a:lnTo>
                          <a:pt x="180" y="346"/>
                        </a:lnTo>
                        <a:lnTo>
                          <a:pt x="201" y="362"/>
                        </a:lnTo>
                        <a:lnTo>
                          <a:pt x="186" y="376"/>
                        </a:lnTo>
                        <a:lnTo>
                          <a:pt x="169" y="373"/>
                        </a:lnTo>
                        <a:lnTo>
                          <a:pt x="158" y="357"/>
                        </a:lnTo>
                        <a:lnTo>
                          <a:pt x="156" y="338"/>
                        </a:lnTo>
                        <a:lnTo>
                          <a:pt x="173" y="322"/>
                        </a:lnTo>
                        <a:lnTo>
                          <a:pt x="221" y="324"/>
                        </a:lnTo>
                        <a:lnTo>
                          <a:pt x="275" y="364"/>
                        </a:lnTo>
                        <a:lnTo>
                          <a:pt x="272" y="0"/>
                        </a:lnTo>
                        <a:lnTo>
                          <a:pt x="344" y="16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1" name=""/>
                  <p:cNvSpPr/>
                  <p:nvPr/>
                </p:nvSpPr>
                <p:spPr>
                  <a:xfrm>
                    <a:off x="1198440" y="4001040"/>
                    <a:ext cx="15228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152">
                        <a:moveTo>
                          <a:pt x="177" y="9"/>
                        </a:moveTo>
                        <a:lnTo>
                          <a:pt x="195" y="24"/>
                        </a:lnTo>
                        <a:lnTo>
                          <a:pt x="251" y="22"/>
                        </a:lnTo>
                        <a:lnTo>
                          <a:pt x="281" y="31"/>
                        </a:lnTo>
                        <a:lnTo>
                          <a:pt x="283" y="62"/>
                        </a:lnTo>
                        <a:lnTo>
                          <a:pt x="257" y="93"/>
                        </a:lnTo>
                        <a:lnTo>
                          <a:pt x="203" y="124"/>
                        </a:lnTo>
                        <a:lnTo>
                          <a:pt x="147" y="124"/>
                        </a:lnTo>
                        <a:lnTo>
                          <a:pt x="99" y="129"/>
                        </a:lnTo>
                        <a:lnTo>
                          <a:pt x="100" y="141"/>
                        </a:lnTo>
                        <a:lnTo>
                          <a:pt x="36" y="151"/>
                        </a:lnTo>
                        <a:lnTo>
                          <a:pt x="15" y="141"/>
                        </a:lnTo>
                        <a:lnTo>
                          <a:pt x="0" y="132"/>
                        </a:lnTo>
                        <a:lnTo>
                          <a:pt x="0" y="99"/>
                        </a:lnTo>
                        <a:lnTo>
                          <a:pt x="6" y="69"/>
                        </a:lnTo>
                        <a:lnTo>
                          <a:pt x="11" y="45"/>
                        </a:lnTo>
                        <a:lnTo>
                          <a:pt x="36" y="13"/>
                        </a:lnTo>
                        <a:lnTo>
                          <a:pt x="171" y="0"/>
                        </a:lnTo>
                      </a:path>
                    </a:pathLst>
                  </a:custGeom>
                  <a:solidFill>
                    <a:srgbClr val="564d3f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>
                    <a:off x="1019160" y="3555360"/>
                    <a:ext cx="9036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127">
                        <a:moveTo>
                          <a:pt x="146" y="19"/>
                        </a:moveTo>
                        <a:lnTo>
                          <a:pt x="170" y="59"/>
                        </a:lnTo>
                        <a:lnTo>
                          <a:pt x="169" y="120"/>
                        </a:lnTo>
                        <a:lnTo>
                          <a:pt x="141" y="126"/>
                        </a:lnTo>
                        <a:lnTo>
                          <a:pt x="70" y="123"/>
                        </a:lnTo>
                        <a:lnTo>
                          <a:pt x="0" y="30"/>
                        </a:lnTo>
                        <a:lnTo>
                          <a:pt x="0" y="0"/>
                        </a:lnTo>
                        <a:lnTo>
                          <a:pt x="46" y="9"/>
                        </a:lnTo>
                        <a:lnTo>
                          <a:pt x="80" y="17"/>
                        </a:lnTo>
                        <a:lnTo>
                          <a:pt x="146" y="19"/>
                        </a:lnTo>
                      </a:path>
                    </a:pathLst>
                  </a:custGeom>
                  <a:solidFill>
                    <a:srgbClr val="c3af8f"/>
                  </a:solidFill>
                  <a:ln cap="rnd"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1049040" y="3759840"/>
                    <a:ext cx="258840" cy="27252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485">
                        <a:moveTo>
                          <a:pt x="115" y="0"/>
                        </a:moveTo>
                        <a:lnTo>
                          <a:pt x="382" y="6"/>
                        </a:lnTo>
                        <a:lnTo>
                          <a:pt x="449" y="11"/>
                        </a:lnTo>
                        <a:lnTo>
                          <a:pt x="477" y="24"/>
                        </a:lnTo>
                        <a:lnTo>
                          <a:pt x="488" y="60"/>
                        </a:lnTo>
                        <a:lnTo>
                          <a:pt x="482" y="194"/>
                        </a:lnTo>
                        <a:lnTo>
                          <a:pt x="469" y="389"/>
                        </a:lnTo>
                        <a:lnTo>
                          <a:pt x="467" y="432"/>
                        </a:lnTo>
                        <a:lnTo>
                          <a:pt x="408" y="474"/>
                        </a:lnTo>
                        <a:lnTo>
                          <a:pt x="346" y="484"/>
                        </a:lnTo>
                        <a:lnTo>
                          <a:pt x="290" y="484"/>
                        </a:lnTo>
                        <a:lnTo>
                          <a:pt x="305" y="417"/>
                        </a:lnTo>
                        <a:lnTo>
                          <a:pt x="326" y="261"/>
                        </a:lnTo>
                        <a:lnTo>
                          <a:pt x="333" y="160"/>
                        </a:lnTo>
                        <a:lnTo>
                          <a:pt x="363" y="155"/>
                        </a:lnTo>
                        <a:lnTo>
                          <a:pt x="288" y="166"/>
                        </a:lnTo>
                        <a:lnTo>
                          <a:pt x="158" y="214"/>
                        </a:lnTo>
                        <a:lnTo>
                          <a:pt x="0" y="233"/>
                        </a:lnTo>
                        <a:lnTo>
                          <a:pt x="97" y="0"/>
                        </a:lnTo>
                      </a:path>
                    </a:pathLst>
                  </a:custGeom>
                  <a:solidFill>
                    <a:srgbClr val="8d7e67"/>
                  </a:solidFill>
                  <a:ln cap="rnd"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844560" y="3415680"/>
                    <a:ext cx="298440" cy="496080"/>
                  </a:xfrm>
                  <a:custGeom>
                    <a:avLst/>
                    <a:gdLst/>
                    <a:ahLst/>
                    <a:rect l="l" t="t" r="r" b="b"/>
                    <a:pathLst>
                      <a:path w="562" h="884">
                        <a:moveTo>
                          <a:pt x="369" y="153"/>
                        </a:moveTo>
                        <a:lnTo>
                          <a:pt x="309" y="102"/>
                        </a:lnTo>
                        <a:lnTo>
                          <a:pt x="225" y="49"/>
                        </a:lnTo>
                        <a:lnTo>
                          <a:pt x="162" y="0"/>
                        </a:lnTo>
                        <a:lnTo>
                          <a:pt x="127" y="32"/>
                        </a:lnTo>
                        <a:lnTo>
                          <a:pt x="82" y="33"/>
                        </a:lnTo>
                        <a:lnTo>
                          <a:pt x="37" y="82"/>
                        </a:lnTo>
                        <a:lnTo>
                          <a:pt x="6" y="178"/>
                        </a:lnTo>
                        <a:lnTo>
                          <a:pt x="0" y="381"/>
                        </a:lnTo>
                        <a:lnTo>
                          <a:pt x="6" y="513"/>
                        </a:lnTo>
                        <a:lnTo>
                          <a:pt x="34" y="769"/>
                        </a:lnTo>
                        <a:lnTo>
                          <a:pt x="73" y="883"/>
                        </a:lnTo>
                        <a:lnTo>
                          <a:pt x="381" y="877"/>
                        </a:lnTo>
                        <a:lnTo>
                          <a:pt x="468" y="859"/>
                        </a:lnTo>
                        <a:lnTo>
                          <a:pt x="561" y="803"/>
                        </a:lnTo>
                        <a:lnTo>
                          <a:pt x="494" y="771"/>
                        </a:lnTo>
                        <a:lnTo>
                          <a:pt x="555" y="786"/>
                        </a:lnTo>
                        <a:lnTo>
                          <a:pt x="499" y="657"/>
                        </a:lnTo>
                        <a:lnTo>
                          <a:pt x="504" y="590"/>
                        </a:lnTo>
                        <a:lnTo>
                          <a:pt x="409" y="379"/>
                        </a:lnTo>
                        <a:lnTo>
                          <a:pt x="410" y="290"/>
                        </a:lnTo>
                        <a:lnTo>
                          <a:pt x="369" y="153"/>
                        </a:lnTo>
                      </a:path>
                    </a:pathLst>
                  </a:custGeom>
                  <a:solidFill>
                    <a:srgbClr val="c3af8f"/>
                  </a:solidFill>
                  <a:ln cap="rnd"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>
                    <a:off x="973080" y="3499920"/>
                    <a:ext cx="27144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9" h="447">
                        <a:moveTo>
                          <a:pt x="84" y="0"/>
                        </a:moveTo>
                        <a:lnTo>
                          <a:pt x="21" y="47"/>
                        </a:lnTo>
                        <a:lnTo>
                          <a:pt x="0" y="112"/>
                        </a:lnTo>
                        <a:lnTo>
                          <a:pt x="27" y="215"/>
                        </a:lnTo>
                        <a:lnTo>
                          <a:pt x="114" y="357"/>
                        </a:lnTo>
                        <a:lnTo>
                          <a:pt x="188" y="424"/>
                        </a:lnTo>
                        <a:lnTo>
                          <a:pt x="231" y="446"/>
                        </a:lnTo>
                        <a:lnTo>
                          <a:pt x="359" y="435"/>
                        </a:lnTo>
                        <a:lnTo>
                          <a:pt x="486" y="403"/>
                        </a:lnTo>
                        <a:lnTo>
                          <a:pt x="507" y="359"/>
                        </a:lnTo>
                        <a:lnTo>
                          <a:pt x="508" y="299"/>
                        </a:lnTo>
                        <a:lnTo>
                          <a:pt x="493" y="275"/>
                        </a:lnTo>
                        <a:lnTo>
                          <a:pt x="469" y="254"/>
                        </a:lnTo>
                        <a:lnTo>
                          <a:pt x="304" y="303"/>
                        </a:lnTo>
                        <a:lnTo>
                          <a:pt x="322" y="340"/>
                        </a:lnTo>
                        <a:lnTo>
                          <a:pt x="294" y="388"/>
                        </a:lnTo>
                        <a:lnTo>
                          <a:pt x="315" y="338"/>
                        </a:lnTo>
                        <a:lnTo>
                          <a:pt x="296" y="293"/>
                        </a:lnTo>
                        <a:lnTo>
                          <a:pt x="268" y="282"/>
                        </a:lnTo>
                        <a:lnTo>
                          <a:pt x="292" y="301"/>
                        </a:lnTo>
                        <a:lnTo>
                          <a:pt x="233" y="359"/>
                        </a:lnTo>
                        <a:lnTo>
                          <a:pt x="250" y="331"/>
                        </a:lnTo>
                        <a:lnTo>
                          <a:pt x="285" y="299"/>
                        </a:lnTo>
                        <a:lnTo>
                          <a:pt x="268" y="282"/>
                        </a:lnTo>
                        <a:lnTo>
                          <a:pt x="209" y="295"/>
                        </a:lnTo>
                        <a:lnTo>
                          <a:pt x="253" y="277"/>
                        </a:lnTo>
                        <a:lnTo>
                          <a:pt x="172" y="151"/>
                        </a:lnTo>
                        <a:lnTo>
                          <a:pt x="110" y="134"/>
                        </a:lnTo>
                        <a:lnTo>
                          <a:pt x="162" y="137"/>
                        </a:lnTo>
                        <a:lnTo>
                          <a:pt x="172" y="98"/>
                        </a:lnTo>
                        <a:lnTo>
                          <a:pt x="133" y="6"/>
                        </a:lnTo>
                        <a:lnTo>
                          <a:pt x="84" y="0"/>
                        </a:lnTo>
                      </a:path>
                    </a:pathLst>
                  </a:custGeom>
                  <a:solidFill>
                    <a:srgbClr val="c3af8f"/>
                  </a:solidFill>
                  <a:ln cap="rnd"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6" name=""/>
                  <p:cNvSpPr/>
                  <p:nvPr/>
                </p:nvSpPr>
                <p:spPr>
                  <a:xfrm>
                    <a:off x="799920" y="3702960"/>
                    <a:ext cx="40500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761" h="453">
                        <a:moveTo>
                          <a:pt x="760" y="266"/>
                        </a:moveTo>
                        <a:lnTo>
                          <a:pt x="713" y="291"/>
                        </a:lnTo>
                        <a:lnTo>
                          <a:pt x="688" y="355"/>
                        </a:lnTo>
                        <a:lnTo>
                          <a:pt x="568" y="392"/>
                        </a:lnTo>
                        <a:lnTo>
                          <a:pt x="383" y="452"/>
                        </a:lnTo>
                        <a:lnTo>
                          <a:pt x="309" y="442"/>
                        </a:lnTo>
                        <a:lnTo>
                          <a:pt x="188" y="419"/>
                        </a:lnTo>
                        <a:lnTo>
                          <a:pt x="113" y="355"/>
                        </a:lnTo>
                        <a:lnTo>
                          <a:pt x="0" y="22"/>
                        </a:lnTo>
                        <a:lnTo>
                          <a:pt x="24" y="0"/>
                        </a:lnTo>
                        <a:lnTo>
                          <a:pt x="59" y="28"/>
                        </a:lnTo>
                        <a:lnTo>
                          <a:pt x="175" y="65"/>
                        </a:lnTo>
                        <a:lnTo>
                          <a:pt x="303" y="76"/>
                        </a:lnTo>
                        <a:lnTo>
                          <a:pt x="342" y="70"/>
                        </a:lnTo>
                        <a:lnTo>
                          <a:pt x="363" y="93"/>
                        </a:lnTo>
                        <a:lnTo>
                          <a:pt x="398" y="392"/>
                        </a:lnTo>
                        <a:lnTo>
                          <a:pt x="760" y="266"/>
                        </a:lnTo>
                      </a:path>
                    </a:pathLst>
                  </a:custGeom>
                  <a:solidFill>
                    <a:srgbClr val="006b61"/>
                  </a:solidFill>
                  <a:ln cap="rnd"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7" name=""/>
                  <p:cNvSpPr/>
                  <p:nvPr/>
                </p:nvSpPr>
                <p:spPr>
                  <a:xfrm>
                    <a:off x="1126800" y="3817080"/>
                    <a:ext cx="162000" cy="21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77">
                        <a:moveTo>
                          <a:pt x="241" y="376"/>
                        </a:moveTo>
                        <a:lnTo>
                          <a:pt x="263" y="50"/>
                        </a:lnTo>
                        <a:lnTo>
                          <a:pt x="303" y="39"/>
                        </a:lnTo>
                        <a:lnTo>
                          <a:pt x="269" y="47"/>
                        </a:lnTo>
                        <a:lnTo>
                          <a:pt x="304" y="0"/>
                        </a:lnTo>
                        <a:lnTo>
                          <a:pt x="270" y="24"/>
                        </a:lnTo>
                        <a:lnTo>
                          <a:pt x="261" y="4"/>
                        </a:lnTo>
                        <a:lnTo>
                          <a:pt x="211" y="15"/>
                        </a:lnTo>
                        <a:lnTo>
                          <a:pt x="207" y="15"/>
                        </a:lnTo>
                        <a:lnTo>
                          <a:pt x="198" y="17"/>
                        </a:lnTo>
                        <a:lnTo>
                          <a:pt x="0" y="24"/>
                        </a:lnTo>
                      </a:path>
                    </a:pathLst>
                  </a:custGeom>
                  <a:noFill/>
                  <a:ln cap="rnd"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>
                    <a:off x="1001520" y="3802680"/>
                    <a:ext cx="166680" cy="12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13" h="217">
                        <a:moveTo>
                          <a:pt x="312" y="112"/>
                        </a:moveTo>
                        <a:lnTo>
                          <a:pt x="17" y="216"/>
                        </a:lnTo>
                        <a:lnTo>
                          <a:pt x="0" y="54"/>
                        </a:lnTo>
                        <a:lnTo>
                          <a:pt x="204" y="3"/>
                        </a:lnTo>
                        <a:lnTo>
                          <a:pt x="235" y="0"/>
                        </a:lnTo>
                        <a:lnTo>
                          <a:pt x="265" y="2"/>
                        </a:lnTo>
                        <a:lnTo>
                          <a:pt x="284" y="11"/>
                        </a:lnTo>
                        <a:lnTo>
                          <a:pt x="295" y="24"/>
                        </a:lnTo>
                        <a:lnTo>
                          <a:pt x="301" y="39"/>
                        </a:lnTo>
                        <a:lnTo>
                          <a:pt x="310" y="62"/>
                        </a:lnTo>
                        <a:lnTo>
                          <a:pt x="312" y="78"/>
                        </a:lnTo>
                        <a:lnTo>
                          <a:pt x="312" y="93"/>
                        </a:lnTo>
                        <a:lnTo>
                          <a:pt x="312" y="112"/>
                        </a:lnTo>
                      </a:path>
                    </a:pathLst>
                  </a:custGeom>
                  <a:solidFill>
                    <a:srgbClr val="006b61"/>
                  </a:solidFill>
                  <a:ln cap="rnd"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>
                    <a:off x="909360" y="3409200"/>
                    <a:ext cx="11772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139">
                        <a:moveTo>
                          <a:pt x="222" y="138"/>
                        </a:moveTo>
                        <a:lnTo>
                          <a:pt x="194" y="110"/>
                        </a:lnTo>
                        <a:lnTo>
                          <a:pt x="163" y="71"/>
                        </a:lnTo>
                        <a:lnTo>
                          <a:pt x="106" y="19"/>
                        </a:lnTo>
                        <a:lnTo>
                          <a:pt x="53" y="0"/>
                        </a:lnTo>
                        <a:lnTo>
                          <a:pt x="34" y="6"/>
                        </a:lnTo>
                        <a:lnTo>
                          <a:pt x="0" y="39"/>
                        </a:lnTo>
                        <a:lnTo>
                          <a:pt x="71" y="41"/>
                        </a:lnTo>
                        <a:lnTo>
                          <a:pt x="118" y="71"/>
                        </a:lnTo>
                        <a:lnTo>
                          <a:pt x="173" y="101"/>
                        </a:lnTo>
                        <a:lnTo>
                          <a:pt x="196" y="121"/>
                        </a:lnTo>
                        <a:lnTo>
                          <a:pt x="222" y="138"/>
                        </a:lnTo>
                      </a:path>
                    </a:pathLst>
                  </a:custGeom>
                  <a:solidFill>
                    <a:srgbClr val="d5bf9c"/>
                  </a:solidFill>
                  <a:ln cap="rnd"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0" name=""/>
                  <p:cNvSpPr/>
                  <p:nvPr/>
                </p:nvSpPr>
                <p:spPr>
                  <a:xfrm>
                    <a:off x="1049040" y="3345840"/>
                    <a:ext cx="792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cap="rnd" w="3240">
                    <a:solidFill>
                      <a:srgbClr val="00cc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1" name=""/>
                  <p:cNvSpPr/>
                  <p:nvPr/>
                </p:nvSpPr>
                <p:spPr>
                  <a:xfrm>
                    <a:off x="1039680" y="3341160"/>
                    <a:ext cx="1440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0">
                        <a:moveTo>
                          <a:pt x="27" y="0"/>
                        </a:moveTo>
                        <a:lnTo>
                          <a:pt x="0" y="13"/>
                        </a:lnTo>
                        <a:lnTo>
                          <a:pt x="27" y="19"/>
                        </a:lnTo>
                      </a:path>
                    </a:pathLst>
                  </a:custGeom>
                  <a:noFill/>
                  <a:ln cap="rnd"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2" name=""/>
                  <p:cNvSpPr/>
                  <p:nvPr/>
                </p:nvSpPr>
                <p:spPr>
                  <a:xfrm>
                    <a:off x="874440" y="3433320"/>
                    <a:ext cx="4284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536">
                        <a:moveTo>
                          <a:pt x="80" y="0"/>
                        </a:moveTo>
                        <a:lnTo>
                          <a:pt x="37" y="60"/>
                        </a:lnTo>
                        <a:lnTo>
                          <a:pt x="20" y="162"/>
                        </a:lnTo>
                        <a:lnTo>
                          <a:pt x="0" y="365"/>
                        </a:lnTo>
                        <a:lnTo>
                          <a:pt x="4" y="535"/>
                        </a:lnTo>
                      </a:path>
                    </a:pathLst>
                  </a:custGeom>
                  <a:noFill/>
                  <a:ln cap="rnd"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3" name=""/>
                  <p:cNvSpPr/>
                  <p:nvPr/>
                </p:nvSpPr>
                <p:spPr>
                  <a:xfrm>
                    <a:off x="1014120" y="3672720"/>
                    <a:ext cx="144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75">
                        <a:moveTo>
                          <a:pt x="0" y="0"/>
                        </a:moveTo>
                        <a:lnTo>
                          <a:pt x="2" y="162"/>
                        </a:lnTo>
                        <a:lnTo>
                          <a:pt x="11" y="212"/>
                        </a:lnTo>
                        <a:lnTo>
                          <a:pt x="25" y="274"/>
                        </a:lnTo>
                      </a:path>
                    </a:pathLst>
                  </a:custGeom>
                  <a:noFill/>
                  <a:ln cap="rnd"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4" name=""/>
                  <p:cNvSpPr/>
                  <p:nvPr/>
                </p:nvSpPr>
                <p:spPr>
                  <a:xfrm>
                    <a:off x="1245960" y="3679200"/>
                    <a:ext cx="7920" cy="1080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5" name=""/>
                  <p:cNvSpPr/>
                  <p:nvPr/>
                </p:nvSpPr>
                <p:spPr>
                  <a:xfrm>
                    <a:off x="990360" y="3352320"/>
                    <a:ext cx="2700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79">
                        <a:moveTo>
                          <a:pt x="48" y="21"/>
                        </a:moveTo>
                        <a:lnTo>
                          <a:pt x="35" y="2"/>
                        </a:lnTo>
                        <a:lnTo>
                          <a:pt x="13" y="0"/>
                        </a:lnTo>
                        <a:lnTo>
                          <a:pt x="0" y="21"/>
                        </a:lnTo>
                        <a:lnTo>
                          <a:pt x="5" y="45"/>
                        </a:lnTo>
                        <a:lnTo>
                          <a:pt x="11" y="58"/>
                        </a:lnTo>
                        <a:lnTo>
                          <a:pt x="10" y="72"/>
                        </a:lnTo>
                        <a:lnTo>
                          <a:pt x="24" y="78"/>
                        </a:lnTo>
                        <a:lnTo>
                          <a:pt x="37" y="72"/>
                        </a:lnTo>
                      </a:path>
                    </a:pathLst>
                  </a:custGeom>
                  <a:noFill/>
                  <a:ln cap="rnd"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6" name=""/>
                  <p:cNvSpPr/>
                  <p:nvPr/>
                </p:nvSpPr>
                <p:spPr>
                  <a:xfrm flipH="1">
                    <a:off x="990000" y="3315600"/>
                    <a:ext cx="33480" cy="1440"/>
                  </a:xfrm>
                  <a:prstGeom prst="line">
                    <a:avLst/>
                  </a:prstGeom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 flipH="1">
                    <a:off x="993240" y="3322080"/>
                    <a:ext cx="33480" cy="1080"/>
                  </a:xfrm>
                  <a:prstGeom prst="line">
                    <a:avLst/>
                  </a:prstGeom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>
                    <a:off x="1108080" y="3530160"/>
                    <a:ext cx="58680" cy="5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04">
                        <a:moveTo>
                          <a:pt x="86" y="96"/>
                        </a:moveTo>
                        <a:lnTo>
                          <a:pt x="0" y="8"/>
                        </a:lnTo>
                        <a:lnTo>
                          <a:pt x="8" y="0"/>
                        </a:lnTo>
                        <a:lnTo>
                          <a:pt x="110" y="103"/>
                        </a:lnTo>
                        <a:lnTo>
                          <a:pt x="100" y="102"/>
                        </a:lnTo>
                        <a:lnTo>
                          <a:pt x="86" y="96"/>
                        </a:lnTo>
                      </a:path>
                    </a:pathLst>
                  </a:custGeom>
                  <a:solidFill>
                    <a:srgbClr val="ef9100"/>
                  </a:solidFill>
                  <a:ln cap="rnd"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59" name=""/>
                <p:cNvSpPr/>
                <p:nvPr/>
              </p:nvSpPr>
              <p:spPr>
                <a:xfrm>
                  <a:off x="1974600" y="3317400"/>
                  <a:ext cx="932040" cy="7426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3880" rIns="83880" tIns="42840" bIns="4284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693720"/>
                      <a:tab algn="l" pos="1387440"/>
                      <a:tab algn="l" pos="2081160"/>
                      <a:tab algn="l" pos="2774880"/>
                      <a:tab algn="l" pos="3468600"/>
                      <a:tab algn="l" pos="4162320"/>
                      <a:tab algn="l" pos="4856040"/>
                      <a:tab algn="l" pos="5549760"/>
                      <a:tab algn="l" pos="6243480"/>
                      <a:tab algn="l" pos="6937200"/>
                      <a:tab algn="l" pos="7631280"/>
                      <a:tab algn="l" pos="8325000"/>
                      <a:tab algn="l" pos="9018720"/>
                      <a:tab algn="l" pos="9712440"/>
                      <a:tab algn="l" pos="1040616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Highly-</a:t>
                  </a:r>
                  <a:br>
                    <a:rPr sz="1600"/>
                  </a:b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Skilled Agents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60" name=""/>
            <p:cNvGrpSpPr/>
            <p:nvPr/>
          </p:nvGrpSpPr>
          <p:grpSpPr>
            <a:xfrm>
              <a:off x="1935360" y="2303280"/>
              <a:ext cx="728280" cy="964440"/>
              <a:chOff x="1935360" y="2303280"/>
              <a:chExt cx="728280" cy="964440"/>
            </a:xfrm>
          </p:grpSpPr>
          <p:grpSp>
            <p:nvGrpSpPr>
              <p:cNvPr id="1561" name=""/>
              <p:cNvGrpSpPr/>
              <p:nvPr/>
            </p:nvGrpSpPr>
            <p:grpSpPr>
              <a:xfrm>
                <a:off x="1935360" y="2392560"/>
                <a:ext cx="372240" cy="331560"/>
                <a:chOff x="1935360" y="2392560"/>
                <a:chExt cx="372240" cy="331560"/>
              </a:xfrm>
            </p:grpSpPr>
            <p:sp>
              <p:nvSpPr>
                <p:cNvPr id="1562" name=""/>
                <p:cNvSpPr/>
                <p:nvPr/>
              </p:nvSpPr>
              <p:spPr>
                <a:xfrm flipH="1">
                  <a:off x="1977120" y="2622600"/>
                  <a:ext cx="83160" cy="65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265" y="4182"/>
                      </a:moveTo>
                      <a:arcTo wR="10800" hR="10800" stAng="-8532633" swAng="108258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265" y="4182"/>
                      </a:moveTo>
                      <a:arcTo wR="10800" hR="10800" stAng="-8532633" swAng="10825859"/>
                    </a:path>
                  </a:pathLst>
                </a:custGeom>
                <a:noFill/>
                <a:ln cap="rnd" w="324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 flipH="1">
                  <a:off x="1977120" y="2621520"/>
                  <a:ext cx="83880" cy="61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469" y="3928"/>
                      </a:moveTo>
                      <a:arcTo wR="10800" hR="10800" stAng="-8428893" swAng="1058781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469" y="3928"/>
                      </a:moveTo>
                      <a:arcTo wR="10800" hR="10800" stAng="-8428893" swAng="10587816"/>
                    </a:path>
                  </a:pathLst>
                </a:custGeom>
                <a:noFill/>
                <a:ln cap="rnd" w="3240">
                  <a:solidFill>
                    <a:srgbClr val="dbdb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64" name=""/>
                <p:cNvGrpSpPr/>
                <p:nvPr/>
              </p:nvGrpSpPr>
              <p:grpSpPr>
                <a:xfrm>
                  <a:off x="1935360" y="2666880"/>
                  <a:ext cx="56160" cy="53280"/>
                  <a:chOff x="1935360" y="2666880"/>
                  <a:chExt cx="56160" cy="53280"/>
                </a:xfrm>
              </p:grpSpPr>
              <p:sp>
                <p:nvSpPr>
                  <p:cNvPr id="1565" name=""/>
                  <p:cNvSpPr/>
                  <p:nvPr/>
                </p:nvSpPr>
                <p:spPr>
                  <a:xfrm flipH="1">
                    <a:off x="1935360" y="2666880"/>
                    <a:ext cx="561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24">
                        <a:moveTo>
                          <a:pt x="41" y="23"/>
                        </a:moveTo>
                        <a:lnTo>
                          <a:pt x="25" y="0"/>
                        </a:lnTo>
                        <a:lnTo>
                          <a:pt x="0" y="0"/>
                        </a:lnTo>
                        <a:lnTo>
                          <a:pt x="16" y="23"/>
                        </a:lnTo>
                        <a:lnTo>
                          <a:pt x="41" y="23"/>
                        </a:lnTo>
                      </a:path>
                    </a:pathLst>
                  </a:custGeom>
                  <a:solidFill>
                    <a:srgbClr val="c9c9b6"/>
                  </a:solidFill>
                  <a:ln cap="rnd"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6" name=""/>
                  <p:cNvSpPr/>
                  <p:nvPr/>
                </p:nvSpPr>
                <p:spPr>
                  <a:xfrm flipH="1">
                    <a:off x="1935360" y="2666880"/>
                    <a:ext cx="561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24">
                        <a:moveTo>
                          <a:pt x="41" y="23"/>
                        </a:moveTo>
                        <a:lnTo>
                          <a:pt x="25" y="0"/>
                        </a:lnTo>
                        <a:lnTo>
                          <a:pt x="0" y="0"/>
                        </a:lnTo>
                        <a:lnTo>
                          <a:pt x="16" y="23"/>
                        </a:lnTo>
                        <a:lnTo>
                          <a:pt x="41" y="23"/>
                        </a:lnTo>
                      </a:path>
                    </a:pathLst>
                  </a:custGeom>
                  <a:solidFill>
                    <a:srgbClr val="c9c9b6"/>
                  </a:solidFill>
                  <a:ln cap="rnd" w="324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7" name=""/>
                  <p:cNvSpPr/>
                  <p:nvPr/>
                </p:nvSpPr>
                <p:spPr>
                  <a:xfrm flipH="1">
                    <a:off x="1968480" y="2666880"/>
                    <a:ext cx="226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0">
                        <a:moveTo>
                          <a:pt x="16" y="29"/>
                        </a:move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16" y="23"/>
                        </a:lnTo>
                        <a:lnTo>
                          <a:pt x="16" y="29"/>
                        </a:lnTo>
                      </a:path>
                    </a:pathLst>
                  </a:custGeom>
                  <a:solidFill>
                    <a:srgbClr val="7a7a5a"/>
                  </a:solidFill>
                  <a:ln cap="rnd"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8" name=""/>
                  <p:cNvSpPr/>
                  <p:nvPr/>
                </p:nvSpPr>
                <p:spPr>
                  <a:xfrm flipH="1">
                    <a:off x="1968480" y="2666880"/>
                    <a:ext cx="226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0">
                        <a:moveTo>
                          <a:pt x="16" y="29"/>
                        </a:move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16" y="23"/>
                        </a:lnTo>
                        <a:lnTo>
                          <a:pt x="16" y="29"/>
                        </a:lnTo>
                      </a:path>
                    </a:pathLst>
                  </a:custGeom>
                  <a:solidFill>
                    <a:srgbClr val="7a7a5a"/>
                  </a:solidFill>
                  <a:ln cap="rnd" w="324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9" name=""/>
                  <p:cNvSpPr/>
                  <p:nvPr/>
                </p:nvSpPr>
                <p:spPr>
                  <a:xfrm flipH="1">
                    <a:off x="1935000" y="2697480"/>
                    <a:ext cx="3492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7">
                        <a:moveTo>
                          <a:pt x="25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25" y="16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b7b79d"/>
                  </a:solidFill>
                  <a:ln cap="rnd"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 flipH="1">
                    <a:off x="1935000" y="2697480"/>
                    <a:ext cx="3492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7">
                        <a:moveTo>
                          <a:pt x="25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25" y="16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b7b79d"/>
                  </a:solidFill>
                  <a:ln cap="rnd" w="3240">
                    <a:solidFill>
                      <a:srgbClr val="4949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1" name=""/>
                <p:cNvSpPr/>
                <p:nvPr/>
              </p:nvSpPr>
              <p:spPr>
                <a:xfrm flipH="1">
                  <a:off x="2247120" y="2654640"/>
                  <a:ext cx="42840" cy="56160"/>
                </a:xfrm>
                <a:custGeom>
                  <a:avLst/>
                  <a:gdLst/>
                  <a:ahLst/>
                  <a:rect l="l" t="t" r="r" b="b"/>
                  <a:pathLst>
                    <a:path w="32" h="42">
                      <a:moveTo>
                        <a:pt x="31" y="41"/>
                      </a:move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31" y="35"/>
                      </a:lnTo>
                      <a:lnTo>
                        <a:pt x="31" y="41"/>
                      </a:lnTo>
                    </a:path>
                  </a:pathLst>
                </a:custGeom>
                <a:solidFill>
                  <a:srgbClr val="dbdbce"/>
                </a:solid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 flipH="1">
                  <a:off x="2247120" y="2654640"/>
                  <a:ext cx="42840" cy="56160"/>
                </a:xfrm>
                <a:custGeom>
                  <a:avLst/>
                  <a:gdLst/>
                  <a:ahLst/>
                  <a:rect l="l" t="t" r="r" b="b"/>
                  <a:pathLst>
                    <a:path w="32" h="42">
                      <a:moveTo>
                        <a:pt x="31" y="41"/>
                      </a:move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31" y="35"/>
                      </a:lnTo>
                      <a:lnTo>
                        <a:pt x="31" y="41"/>
                      </a:lnTo>
                    </a:path>
                  </a:pathLst>
                </a:custGeom>
                <a:solidFill>
                  <a:srgbClr val="dbdbce"/>
                </a:solidFill>
                <a:ln cap="rnd" w="3240">
                  <a:solidFill>
                    <a:srgbClr val="49493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 flipH="1">
                  <a:off x="2035440" y="2586600"/>
                  <a:ext cx="271800" cy="36000"/>
                </a:xfrm>
                <a:custGeom>
                  <a:avLst/>
                  <a:gdLst/>
                  <a:ahLst/>
                  <a:rect l="l" t="t" r="r" b="b"/>
                  <a:pathLst>
                    <a:path w="203" h="27">
                      <a:moveTo>
                        <a:pt x="202" y="26"/>
                      </a:moveTo>
                      <a:lnTo>
                        <a:pt x="180" y="0"/>
                      </a:lnTo>
                      <a:lnTo>
                        <a:pt x="0" y="0"/>
                      </a:lnTo>
                      <a:lnTo>
                        <a:pt x="22" y="26"/>
                      </a:lnTo>
                      <a:lnTo>
                        <a:pt x="202" y="26"/>
                      </a:lnTo>
                    </a:path>
                  </a:pathLst>
                </a:custGeom>
                <a:solidFill>
                  <a:srgbClr val="c9c9b6"/>
                </a:solid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 flipH="1">
                  <a:off x="2035440" y="2586600"/>
                  <a:ext cx="271800" cy="36000"/>
                </a:xfrm>
                <a:custGeom>
                  <a:avLst/>
                  <a:gdLst/>
                  <a:ahLst/>
                  <a:rect l="l" t="t" r="r" b="b"/>
                  <a:pathLst>
                    <a:path w="203" h="27">
                      <a:moveTo>
                        <a:pt x="202" y="26"/>
                      </a:moveTo>
                      <a:lnTo>
                        <a:pt x="180" y="0"/>
                      </a:lnTo>
                      <a:lnTo>
                        <a:pt x="0" y="0"/>
                      </a:lnTo>
                      <a:lnTo>
                        <a:pt x="22" y="26"/>
                      </a:lnTo>
                      <a:lnTo>
                        <a:pt x="202" y="26"/>
                      </a:lnTo>
                    </a:path>
                  </a:pathLst>
                </a:custGeom>
                <a:solidFill>
                  <a:srgbClr val="c9c9b6"/>
                </a:solidFill>
                <a:ln cap="rnd" w="3240">
                  <a:solidFill>
                    <a:srgbClr val="49493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 flipH="1">
                  <a:off x="2035800" y="2621520"/>
                  <a:ext cx="242280" cy="42480"/>
                </a:xfrm>
                <a:custGeom>
                  <a:avLst/>
                  <a:gdLst/>
                  <a:ahLst/>
                  <a:rect l="l" t="t" r="r" b="b"/>
                  <a:pathLst>
                    <a:path w="181" h="32">
                      <a:moveTo>
                        <a:pt x="180" y="0"/>
                      </a:moveTo>
                      <a:lnTo>
                        <a:pt x="0" y="0"/>
                      </a:lnTo>
                      <a:lnTo>
                        <a:pt x="0" y="31"/>
                      </a:lnTo>
                      <a:lnTo>
                        <a:pt x="180" y="31"/>
                      </a:lnTo>
                      <a:lnTo>
                        <a:pt x="180" y="0"/>
                      </a:lnTo>
                    </a:path>
                  </a:pathLst>
                </a:custGeom>
                <a:solidFill>
                  <a:srgbClr val="b7b79d"/>
                </a:solid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 flipH="1">
                  <a:off x="2035800" y="2621520"/>
                  <a:ext cx="242280" cy="42480"/>
                </a:xfrm>
                <a:custGeom>
                  <a:avLst/>
                  <a:gdLst/>
                  <a:ahLst/>
                  <a:rect l="l" t="t" r="r" b="b"/>
                  <a:pathLst>
                    <a:path w="181" h="32">
                      <a:moveTo>
                        <a:pt x="180" y="0"/>
                      </a:moveTo>
                      <a:lnTo>
                        <a:pt x="0" y="0"/>
                      </a:lnTo>
                      <a:lnTo>
                        <a:pt x="0" y="31"/>
                      </a:lnTo>
                      <a:lnTo>
                        <a:pt x="180" y="31"/>
                      </a:lnTo>
                      <a:lnTo>
                        <a:pt x="180" y="0"/>
                      </a:lnTo>
                    </a:path>
                  </a:pathLst>
                </a:custGeom>
                <a:solidFill>
                  <a:srgbClr val="b7b79d"/>
                </a:solidFill>
                <a:ln cap="rnd" w="3240">
                  <a:solidFill>
                    <a:srgbClr val="49493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 flipH="1">
                  <a:off x="2276640" y="2586600"/>
                  <a:ext cx="30960" cy="77400"/>
                </a:xfrm>
                <a:custGeom>
                  <a:avLst/>
                  <a:gdLst/>
                  <a:ahLst/>
                  <a:rect l="l" t="t" r="r" b="b"/>
                  <a:pathLst>
                    <a:path w="23" h="58">
                      <a:moveTo>
                        <a:pt x="22" y="57"/>
                      </a:moveTo>
                      <a:lnTo>
                        <a:pt x="0" y="35"/>
                      </a:lnTo>
                      <a:lnTo>
                        <a:pt x="0" y="0"/>
                      </a:lnTo>
                      <a:lnTo>
                        <a:pt x="22" y="26"/>
                      </a:lnTo>
                      <a:lnTo>
                        <a:pt x="22" y="57"/>
                      </a:lnTo>
                    </a:path>
                  </a:pathLst>
                </a:custGeom>
                <a:solidFill>
                  <a:srgbClr val="dbdbce"/>
                </a:solid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 flipH="1">
                  <a:off x="2276640" y="2586600"/>
                  <a:ext cx="30960" cy="77400"/>
                </a:xfrm>
                <a:custGeom>
                  <a:avLst/>
                  <a:gdLst/>
                  <a:ahLst/>
                  <a:rect l="l" t="t" r="r" b="b"/>
                  <a:pathLst>
                    <a:path w="23" h="58">
                      <a:moveTo>
                        <a:pt x="22" y="57"/>
                      </a:moveTo>
                      <a:lnTo>
                        <a:pt x="0" y="35"/>
                      </a:lnTo>
                      <a:lnTo>
                        <a:pt x="0" y="0"/>
                      </a:lnTo>
                      <a:lnTo>
                        <a:pt x="22" y="26"/>
                      </a:lnTo>
                      <a:lnTo>
                        <a:pt x="22" y="57"/>
                      </a:lnTo>
                    </a:path>
                  </a:pathLst>
                </a:custGeom>
                <a:solidFill>
                  <a:srgbClr val="dbdbce"/>
                </a:solidFill>
                <a:ln cap="rnd" w="3240">
                  <a:solidFill>
                    <a:srgbClr val="49493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 flipH="1">
                  <a:off x="2041200" y="2586600"/>
                  <a:ext cx="262800" cy="26640"/>
                </a:xfrm>
                <a:custGeom>
                  <a:avLst/>
                  <a:gdLst/>
                  <a:ahLst/>
                  <a:rect l="l" t="t" r="r" b="b"/>
                  <a:pathLst>
                    <a:path w="196" h="20">
                      <a:moveTo>
                        <a:pt x="195" y="19"/>
                      </a:moveTo>
                      <a:lnTo>
                        <a:pt x="177" y="0"/>
                      </a:lnTo>
                      <a:lnTo>
                        <a:pt x="0" y="0"/>
                      </a:lnTo>
                      <a:lnTo>
                        <a:pt x="19" y="19"/>
                      </a:lnTo>
                      <a:lnTo>
                        <a:pt x="195" y="19"/>
                      </a:lnTo>
                    </a:path>
                  </a:pathLst>
                </a:custGeom>
                <a:solidFill>
                  <a:srgbClr val="000000"/>
                </a:solid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 flipH="1">
                  <a:off x="2041200" y="2586600"/>
                  <a:ext cx="262800" cy="26640"/>
                </a:xfrm>
                <a:custGeom>
                  <a:avLst/>
                  <a:gdLst/>
                  <a:ahLst/>
                  <a:rect l="l" t="t" r="r" b="b"/>
                  <a:pathLst>
                    <a:path w="196" h="20">
                      <a:moveTo>
                        <a:pt x="195" y="19"/>
                      </a:moveTo>
                      <a:lnTo>
                        <a:pt x="177" y="0"/>
                      </a:lnTo>
                      <a:lnTo>
                        <a:pt x="0" y="0"/>
                      </a:lnTo>
                      <a:lnTo>
                        <a:pt x="19" y="19"/>
                      </a:lnTo>
                      <a:lnTo>
                        <a:pt x="195" y="19"/>
                      </a:lnTo>
                    </a:path>
                  </a:pathLst>
                </a:custGeom>
                <a:solidFill>
                  <a:srgbClr val="000000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 flipH="1">
                  <a:off x="2036160" y="2392560"/>
                  <a:ext cx="267840" cy="26640"/>
                </a:xfrm>
                <a:custGeom>
                  <a:avLst/>
                  <a:gdLst/>
                  <a:ahLst/>
                  <a:rect l="l" t="t" r="r" b="b"/>
                  <a:pathLst>
                    <a:path w="200" h="20">
                      <a:moveTo>
                        <a:pt x="199" y="19"/>
                      </a:moveTo>
                      <a:lnTo>
                        <a:pt x="180" y="0"/>
                      </a:lnTo>
                      <a:lnTo>
                        <a:pt x="0" y="0"/>
                      </a:lnTo>
                      <a:lnTo>
                        <a:pt x="19" y="19"/>
                      </a:lnTo>
                      <a:lnTo>
                        <a:pt x="199" y="19"/>
                      </a:lnTo>
                    </a:path>
                  </a:pathLst>
                </a:custGeom>
                <a:solidFill>
                  <a:srgbClr val="c9c9b6"/>
                </a:solid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 flipH="1">
                  <a:off x="2036160" y="2392560"/>
                  <a:ext cx="267840" cy="26640"/>
                </a:xfrm>
                <a:custGeom>
                  <a:avLst/>
                  <a:gdLst/>
                  <a:ahLst/>
                  <a:rect l="l" t="t" r="r" b="b"/>
                  <a:pathLst>
                    <a:path w="200" h="20">
                      <a:moveTo>
                        <a:pt x="199" y="19"/>
                      </a:moveTo>
                      <a:lnTo>
                        <a:pt x="180" y="0"/>
                      </a:lnTo>
                      <a:lnTo>
                        <a:pt x="0" y="0"/>
                      </a:lnTo>
                      <a:lnTo>
                        <a:pt x="19" y="19"/>
                      </a:lnTo>
                      <a:lnTo>
                        <a:pt x="199" y="19"/>
                      </a:lnTo>
                    </a:path>
                  </a:pathLst>
                </a:custGeom>
                <a:solidFill>
                  <a:srgbClr val="c9c9b6"/>
                </a:solidFill>
                <a:ln cap="rnd" w="3240">
                  <a:solidFill>
                    <a:srgbClr val="49493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 flipH="1">
                  <a:off x="2037960" y="2423160"/>
                  <a:ext cx="234360" cy="179280"/>
                </a:xfrm>
                <a:prstGeom prst="rect">
                  <a:avLst/>
                </a:prstGeom>
                <a:solidFill>
                  <a:srgbClr val="b7b79d"/>
                </a:solidFill>
                <a:ln w="324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 flipH="1">
                  <a:off x="2059920" y="2448720"/>
                  <a:ext cx="191520" cy="1364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4949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 flipH="1">
                  <a:off x="2276640" y="2392560"/>
                  <a:ext cx="27000" cy="216720"/>
                </a:xfrm>
                <a:custGeom>
                  <a:avLst/>
                  <a:gdLst/>
                  <a:ahLst/>
                  <a:rect l="l" t="t" r="r" b="b"/>
                  <a:pathLst>
                    <a:path w="20" h="162">
                      <a:moveTo>
                        <a:pt x="19" y="161"/>
                      </a:moveTo>
                      <a:lnTo>
                        <a:pt x="0" y="142"/>
                      </a:lnTo>
                      <a:lnTo>
                        <a:pt x="0" y="0"/>
                      </a:lnTo>
                      <a:lnTo>
                        <a:pt x="19" y="19"/>
                      </a:lnTo>
                      <a:lnTo>
                        <a:pt x="19" y="161"/>
                      </a:lnTo>
                    </a:path>
                  </a:pathLst>
                </a:custGeom>
                <a:solidFill>
                  <a:srgbClr val="dbdbce"/>
                </a:solid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 flipH="1">
                  <a:off x="2276640" y="2392560"/>
                  <a:ext cx="27000" cy="216720"/>
                </a:xfrm>
                <a:custGeom>
                  <a:avLst/>
                  <a:gdLst/>
                  <a:ahLst/>
                  <a:rect l="l" t="t" r="r" b="b"/>
                  <a:pathLst>
                    <a:path w="20" h="162">
                      <a:moveTo>
                        <a:pt x="19" y="161"/>
                      </a:moveTo>
                      <a:lnTo>
                        <a:pt x="0" y="142"/>
                      </a:lnTo>
                      <a:lnTo>
                        <a:pt x="0" y="0"/>
                      </a:lnTo>
                      <a:lnTo>
                        <a:pt x="19" y="19"/>
                      </a:lnTo>
                      <a:lnTo>
                        <a:pt x="19" y="161"/>
                      </a:lnTo>
                    </a:path>
                  </a:pathLst>
                </a:custGeom>
                <a:solidFill>
                  <a:srgbClr val="dbdbce"/>
                </a:solidFill>
                <a:ln cap="rnd" w="3240">
                  <a:solidFill>
                    <a:srgbClr val="49493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 flipH="1">
                  <a:off x="1985760" y="2654640"/>
                  <a:ext cx="304200" cy="48240"/>
                </a:xfrm>
                <a:custGeom>
                  <a:avLst/>
                  <a:gdLst/>
                  <a:ahLst/>
                  <a:rect l="l" t="t" r="r" b="b"/>
                  <a:pathLst>
                    <a:path w="227" h="36">
                      <a:moveTo>
                        <a:pt x="226" y="35"/>
                      </a:moveTo>
                      <a:lnTo>
                        <a:pt x="198" y="0"/>
                      </a:lnTo>
                      <a:lnTo>
                        <a:pt x="0" y="0"/>
                      </a:lnTo>
                      <a:lnTo>
                        <a:pt x="28" y="35"/>
                      </a:lnTo>
                      <a:lnTo>
                        <a:pt x="226" y="35"/>
                      </a:lnTo>
                    </a:path>
                  </a:pathLst>
                </a:custGeom>
                <a:solidFill>
                  <a:srgbClr val="c9c9b6"/>
                </a:solid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 flipH="1">
                  <a:off x="1985760" y="2654640"/>
                  <a:ext cx="304200" cy="48240"/>
                </a:xfrm>
                <a:custGeom>
                  <a:avLst/>
                  <a:gdLst/>
                  <a:ahLst/>
                  <a:rect l="l" t="t" r="r" b="b"/>
                  <a:pathLst>
                    <a:path w="227" h="36">
                      <a:moveTo>
                        <a:pt x="226" y="35"/>
                      </a:moveTo>
                      <a:lnTo>
                        <a:pt x="198" y="0"/>
                      </a:lnTo>
                      <a:lnTo>
                        <a:pt x="0" y="0"/>
                      </a:lnTo>
                      <a:lnTo>
                        <a:pt x="28" y="35"/>
                      </a:lnTo>
                      <a:lnTo>
                        <a:pt x="226" y="35"/>
                      </a:lnTo>
                    </a:path>
                  </a:pathLst>
                </a:custGeom>
                <a:solidFill>
                  <a:srgbClr val="c9c9b6"/>
                </a:solidFill>
                <a:ln cap="rnd" w="3240">
                  <a:solidFill>
                    <a:srgbClr val="49493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 flipH="1">
                  <a:off x="1986480" y="2701440"/>
                  <a:ext cx="266400" cy="22680"/>
                </a:xfrm>
                <a:custGeom>
                  <a:avLst/>
                  <a:gdLst/>
                  <a:ahLst/>
                  <a:rect l="l" t="t" r="r" b="b"/>
                  <a:pathLst>
                    <a:path w="199" h="17">
                      <a:moveTo>
                        <a:pt x="198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98" y="16"/>
                      </a:lnTo>
                      <a:lnTo>
                        <a:pt x="198" y="0"/>
                      </a:lnTo>
                    </a:path>
                  </a:pathLst>
                </a:custGeom>
                <a:solidFill>
                  <a:srgbClr val="b7b79d"/>
                </a:solid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 flipH="1">
                  <a:off x="1986480" y="2701440"/>
                  <a:ext cx="266400" cy="22680"/>
                </a:xfrm>
                <a:custGeom>
                  <a:avLst/>
                  <a:gdLst/>
                  <a:ahLst/>
                  <a:rect l="l" t="t" r="r" b="b"/>
                  <a:pathLst>
                    <a:path w="199" h="17">
                      <a:moveTo>
                        <a:pt x="198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98" y="16"/>
                      </a:lnTo>
                      <a:lnTo>
                        <a:pt x="198" y="0"/>
                      </a:lnTo>
                    </a:path>
                  </a:pathLst>
                </a:custGeom>
                <a:solidFill>
                  <a:srgbClr val="b7b79d"/>
                </a:solidFill>
                <a:ln cap="rnd" w="3240">
                  <a:solidFill>
                    <a:srgbClr val="49493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1" name=""/>
              <p:cNvGrpSpPr/>
              <p:nvPr/>
            </p:nvGrpSpPr>
            <p:grpSpPr>
              <a:xfrm>
                <a:off x="2141280" y="2303280"/>
                <a:ext cx="522360" cy="964440"/>
                <a:chOff x="2141280" y="2303280"/>
                <a:chExt cx="522360" cy="964440"/>
              </a:xfrm>
            </p:grpSpPr>
            <p:sp>
              <p:nvSpPr>
                <p:cNvPr id="1592" name=""/>
                <p:cNvSpPr/>
                <p:nvPr/>
              </p:nvSpPr>
              <p:spPr>
                <a:xfrm flipH="1">
                  <a:off x="2342160" y="2303280"/>
                  <a:ext cx="179280" cy="167400"/>
                </a:xfrm>
                <a:custGeom>
                  <a:avLst/>
                  <a:gdLst/>
                  <a:ahLst/>
                  <a:rect l="l" t="t" r="r" b="b"/>
                  <a:pathLst>
                    <a:path w="134" h="125">
                      <a:moveTo>
                        <a:pt x="76" y="86"/>
                      </a:moveTo>
                      <a:lnTo>
                        <a:pt x="66" y="95"/>
                      </a:lnTo>
                      <a:lnTo>
                        <a:pt x="57" y="120"/>
                      </a:lnTo>
                      <a:lnTo>
                        <a:pt x="29" y="124"/>
                      </a:lnTo>
                      <a:lnTo>
                        <a:pt x="16" y="120"/>
                      </a:lnTo>
                      <a:lnTo>
                        <a:pt x="0" y="63"/>
                      </a:lnTo>
                      <a:lnTo>
                        <a:pt x="0" y="44"/>
                      </a:lnTo>
                      <a:lnTo>
                        <a:pt x="16" y="16"/>
                      </a:lnTo>
                      <a:lnTo>
                        <a:pt x="38" y="0"/>
                      </a:lnTo>
                      <a:lnTo>
                        <a:pt x="73" y="0"/>
                      </a:lnTo>
                      <a:lnTo>
                        <a:pt x="107" y="10"/>
                      </a:lnTo>
                      <a:lnTo>
                        <a:pt x="110" y="19"/>
                      </a:lnTo>
                      <a:lnTo>
                        <a:pt x="133" y="32"/>
                      </a:lnTo>
                      <a:lnTo>
                        <a:pt x="133" y="41"/>
                      </a:lnTo>
                      <a:lnTo>
                        <a:pt x="120" y="51"/>
                      </a:lnTo>
                      <a:lnTo>
                        <a:pt x="107" y="54"/>
                      </a:lnTo>
                      <a:lnTo>
                        <a:pt x="98" y="63"/>
                      </a:lnTo>
                      <a:lnTo>
                        <a:pt x="95" y="86"/>
                      </a:lnTo>
                      <a:lnTo>
                        <a:pt x="85" y="92"/>
                      </a:lnTo>
                      <a:lnTo>
                        <a:pt x="76" y="86"/>
                      </a:lnTo>
                    </a:path>
                  </a:pathLst>
                </a:custGeom>
                <a:solidFill>
                  <a:srgbClr val="8f5b1a"/>
                </a:solid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 flipH="1">
                  <a:off x="2233440" y="2975760"/>
                  <a:ext cx="107280" cy="132480"/>
                </a:xfrm>
                <a:custGeom>
                  <a:avLst/>
                  <a:gdLst/>
                  <a:ahLst/>
                  <a:rect l="l" t="t" r="r" b="b"/>
                  <a:pathLst>
                    <a:path w="80" h="99">
                      <a:moveTo>
                        <a:pt x="45" y="0"/>
                      </a:moveTo>
                      <a:lnTo>
                        <a:pt x="48" y="45"/>
                      </a:lnTo>
                      <a:lnTo>
                        <a:pt x="54" y="48"/>
                      </a:lnTo>
                      <a:lnTo>
                        <a:pt x="76" y="64"/>
                      </a:lnTo>
                      <a:lnTo>
                        <a:pt x="79" y="89"/>
                      </a:lnTo>
                      <a:lnTo>
                        <a:pt x="57" y="89"/>
                      </a:lnTo>
                      <a:lnTo>
                        <a:pt x="41" y="89"/>
                      </a:lnTo>
                      <a:lnTo>
                        <a:pt x="41" y="95"/>
                      </a:lnTo>
                      <a:lnTo>
                        <a:pt x="16" y="98"/>
                      </a:lnTo>
                      <a:lnTo>
                        <a:pt x="7" y="98"/>
                      </a:lnTo>
                      <a:lnTo>
                        <a:pt x="0" y="98"/>
                      </a:lnTo>
                      <a:lnTo>
                        <a:pt x="0" y="76"/>
                      </a:lnTo>
                      <a:lnTo>
                        <a:pt x="4" y="70"/>
                      </a:lnTo>
                      <a:lnTo>
                        <a:pt x="10" y="54"/>
                      </a:lnTo>
                      <a:lnTo>
                        <a:pt x="7" y="10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22222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 flipH="1">
                  <a:off x="2241720" y="2773440"/>
                  <a:ext cx="228960" cy="298440"/>
                </a:xfrm>
                <a:custGeom>
                  <a:avLst/>
                  <a:gdLst/>
                  <a:ahLst/>
                  <a:rect l="l" t="t" r="r" b="b"/>
                  <a:pathLst>
                    <a:path w="171" h="223">
                      <a:moveTo>
                        <a:pt x="3" y="0"/>
                      </a:moveTo>
                      <a:lnTo>
                        <a:pt x="41" y="29"/>
                      </a:lnTo>
                      <a:lnTo>
                        <a:pt x="82" y="29"/>
                      </a:lnTo>
                      <a:lnTo>
                        <a:pt x="154" y="36"/>
                      </a:lnTo>
                      <a:lnTo>
                        <a:pt x="170" y="70"/>
                      </a:lnTo>
                      <a:lnTo>
                        <a:pt x="167" y="170"/>
                      </a:lnTo>
                      <a:lnTo>
                        <a:pt x="164" y="207"/>
                      </a:lnTo>
                      <a:lnTo>
                        <a:pt x="132" y="222"/>
                      </a:lnTo>
                      <a:lnTo>
                        <a:pt x="98" y="218"/>
                      </a:lnTo>
                      <a:lnTo>
                        <a:pt x="107" y="110"/>
                      </a:lnTo>
                      <a:lnTo>
                        <a:pt x="88" y="110"/>
                      </a:lnTo>
                      <a:lnTo>
                        <a:pt x="0" y="148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b9c0ce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 flipH="1">
                  <a:off x="2141280" y="3046680"/>
                  <a:ext cx="162000" cy="132480"/>
                </a:xfrm>
                <a:custGeom>
                  <a:avLst/>
                  <a:gdLst/>
                  <a:ahLst/>
                  <a:rect l="l" t="t" r="r" b="b"/>
                  <a:pathLst>
                    <a:path w="121" h="99">
                      <a:moveTo>
                        <a:pt x="60" y="0"/>
                      </a:moveTo>
                      <a:lnTo>
                        <a:pt x="53" y="31"/>
                      </a:lnTo>
                      <a:lnTo>
                        <a:pt x="63" y="31"/>
                      </a:lnTo>
                      <a:lnTo>
                        <a:pt x="82" y="44"/>
                      </a:lnTo>
                      <a:lnTo>
                        <a:pt x="107" y="44"/>
                      </a:lnTo>
                      <a:lnTo>
                        <a:pt x="116" y="47"/>
                      </a:lnTo>
                      <a:lnTo>
                        <a:pt x="120" y="56"/>
                      </a:lnTo>
                      <a:lnTo>
                        <a:pt x="116" y="66"/>
                      </a:lnTo>
                      <a:lnTo>
                        <a:pt x="91" y="82"/>
                      </a:lnTo>
                      <a:lnTo>
                        <a:pt x="82" y="85"/>
                      </a:lnTo>
                      <a:lnTo>
                        <a:pt x="66" y="85"/>
                      </a:lnTo>
                      <a:lnTo>
                        <a:pt x="41" y="88"/>
                      </a:lnTo>
                      <a:lnTo>
                        <a:pt x="41" y="98"/>
                      </a:lnTo>
                      <a:lnTo>
                        <a:pt x="31" y="98"/>
                      </a:lnTo>
                      <a:lnTo>
                        <a:pt x="19" y="98"/>
                      </a:lnTo>
                      <a:lnTo>
                        <a:pt x="9" y="94"/>
                      </a:lnTo>
                      <a:lnTo>
                        <a:pt x="0" y="88"/>
                      </a:lnTo>
                      <a:lnTo>
                        <a:pt x="0" y="72"/>
                      </a:lnTo>
                      <a:lnTo>
                        <a:pt x="6" y="56"/>
                      </a:lnTo>
                      <a:lnTo>
                        <a:pt x="9" y="47"/>
                      </a:lnTo>
                      <a:lnTo>
                        <a:pt x="16" y="37"/>
                      </a:lnTo>
                      <a:lnTo>
                        <a:pt x="22" y="6"/>
                      </a:lnTo>
                      <a:lnTo>
                        <a:pt x="60" y="0"/>
                      </a:lnTo>
                    </a:path>
                  </a:pathLst>
                </a:custGeom>
                <a:solidFill>
                  <a:srgbClr val="22222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 flipH="1">
                  <a:off x="2174400" y="2819160"/>
                  <a:ext cx="308160" cy="320040"/>
                </a:xfrm>
                <a:custGeom>
                  <a:avLst/>
                  <a:gdLst/>
                  <a:ahLst/>
                  <a:rect l="l" t="t" r="r" b="b"/>
                  <a:pathLst>
                    <a:path w="230" h="239">
                      <a:moveTo>
                        <a:pt x="58" y="8"/>
                      </a:moveTo>
                      <a:lnTo>
                        <a:pt x="100" y="5"/>
                      </a:lnTo>
                      <a:lnTo>
                        <a:pt x="141" y="5"/>
                      </a:lnTo>
                      <a:lnTo>
                        <a:pt x="213" y="11"/>
                      </a:lnTo>
                      <a:lnTo>
                        <a:pt x="229" y="40"/>
                      </a:lnTo>
                      <a:lnTo>
                        <a:pt x="226" y="122"/>
                      </a:lnTo>
                      <a:lnTo>
                        <a:pt x="204" y="190"/>
                      </a:lnTo>
                      <a:lnTo>
                        <a:pt x="212" y="216"/>
                      </a:lnTo>
                      <a:lnTo>
                        <a:pt x="164" y="238"/>
                      </a:lnTo>
                      <a:lnTo>
                        <a:pt x="132" y="226"/>
                      </a:lnTo>
                      <a:lnTo>
                        <a:pt x="166" y="74"/>
                      </a:lnTo>
                      <a:lnTo>
                        <a:pt x="147" y="74"/>
                      </a:lnTo>
                      <a:lnTo>
                        <a:pt x="10" y="106"/>
                      </a:lnTo>
                      <a:lnTo>
                        <a:pt x="0" y="48"/>
                      </a:lnTo>
                      <a:lnTo>
                        <a:pt x="4" y="0"/>
                      </a:lnTo>
                      <a:lnTo>
                        <a:pt x="58" y="8"/>
                      </a:lnTo>
                    </a:path>
                  </a:pathLst>
                </a:custGeom>
                <a:solidFill>
                  <a:srgbClr val="b9c0ce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 flipH="1">
                  <a:off x="2341440" y="2332440"/>
                  <a:ext cx="150120" cy="200880"/>
                </a:xfrm>
                <a:custGeom>
                  <a:avLst/>
                  <a:gdLst/>
                  <a:ahLst/>
                  <a:rect l="l" t="t" r="r" b="b"/>
                  <a:pathLst>
                    <a:path w="112" h="150">
                      <a:moveTo>
                        <a:pt x="101" y="13"/>
                      </a:moveTo>
                      <a:lnTo>
                        <a:pt x="101" y="41"/>
                      </a:lnTo>
                      <a:lnTo>
                        <a:pt x="101" y="48"/>
                      </a:lnTo>
                      <a:lnTo>
                        <a:pt x="111" y="70"/>
                      </a:lnTo>
                      <a:lnTo>
                        <a:pt x="107" y="76"/>
                      </a:lnTo>
                      <a:lnTo>
                        <a:pt x="101" y="76"/>
                      </a:lnTo>
                      <a:lnTo>
                        <a:pt x="101" y="89"/>
                      </a:lnTo>
                      <a:lnTo>
                        <a:pt x="95" y="89"/>
                      </a:lnTo>
                      <a:lnTo>
                        <a:pt x="98" y="92"/>
                      </a:lnTo>
                      <a:lnTo>
                        <a:pt x="98" y="92"/>
                      </a:lnTo>
                      <a:lnTo>
                        <a:pt x="95" y="105"/>
                      </a:lnTo>
                      <a:lnTo>
                        <a:pt x="92" y="114"/>
                      </a:lnTo>
                      <a:lnTo>
                        <a:pt x="85" y="117"/>
                      </a:lnTo>
                      <a:lnTo>
                        <a:pt x="76" y="117"/>
                      </a:lnTo>
                      <a:lnTo>
                        <a:pt x="63" y="127"/>
                      </a:lnTo>
                      <a:lnTo>
                        <a:pt x="51" y="149"/>
                      </a:lnTo>
                      <a:lnTo>
                        <a:pt x="0" y="105"/>
                      </a:lnTo>
                      <a:lnTo>
                        <a:pt x="26" y="0"/>
                      </a:lnTo>
                      <a:lnTo>
                        <a:pt x="101" y="13"/>
                      </a:lnTo>
                    </a:path>
                  </a:pathLst>
                </a:custGeom>
                <a:solidFill>
                  <a:srgbClr val="ffa380"/>
                </a:solid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 flipH="1">
                  <a:off x="2341440" y="2332440"/>
                  <a:ext cx="150120" cy="200880"/>
                </a:xfrm>
                <a:custGeom>
                  <a:avLst/>
                  <a:gdLst/>
                  <a:ahLst/>
                  <a:rect l="l" t="t" r="r" b="b"/>
                  <a:pathLst>
                    <a:path w="112" h="150">
                      <a:moveTo>
                        <a:pt x="101" y="13"/>
                      </a:moveTo>
                      <a:lnTo>
                        <a:pt x="101" y="41"/>
                      </a:lnTo>
                      <a:lnTo>
                        <a:pt x="101" y="48"/>
                      </a:lnTo>
                      <a:lnTo>
                        <a:pt x="111" y="70"/>
                      </a:lnTo>
                      <a:lnTo>
                        <a:pt x="107" y="76"/>
                      </a:lnTo>
                      <a:lnTo>
                        <a:pt x="101" y="76"/>
                      </a:lnTo>
                      <a:lnTo>
                        <a:pt x="101" y="89"/>
                      </a:lnTo>
                      <a:lnTo>
                        <a:pt x="95" y="89"/>
                      </a:lnTo>
                      <a:lnTo>
                        <a:pt x="98" y="92"/>
                      </a:lnTo>
                      <a:lnTo>
                        <a:pt x="95" y="105"/>
                      </a:lnTo>
                      <a:lnTo>
                        <a:pt x="92" y="114"/>
                      </a:lnTo>
                      <a:lnTo>
                        <a:pt x="85" y="117"/>
                      </a:lnTo>
                      <a:lnTo>
                        <a:pt x="76" y="117"/>
                      </a:lnTo>
                      <a:lnTo>
                        <a:pt x="63" y="127"/>
                      </a:lnTo>
                      <a:lnTo>
                        <a:pt x="51" y="149"/>
                      </a:lnTo>
                      <a:lnTo>
                        <a:pt x="0" y="105"/>
                      </a:lnTo>
                      <a:lnTo>
                        <a:pt x="26" y="0"/>
                      </a:lnTo>
                      <a:lnTo>
                        <a:pt x="101" y="13"/>
                      </a:lnTo>
                    </a:path>
                  </a:pathLst>
                </a:custGeom>
                <a:solidFill>
                  <a:srgbClr val="ffa380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 flipH="1">
                  <a:off x="2272680" y="2459880"/>
                  <a:ext cx="324000" cy="569160"/>
                </a:xfrm>
                <a:custGeom>
                  <a:avLst/>
                  <a:gdLst/>
                  <a:ahLst/>
                  <a:rect l="l" t="t" r="r" b="b"/>
                  <a:pathLst>
                    <a:path w="242" h="425">
                      <a:moveTo>
                        <a:pt x="66" y="0"/>
                      </a:moveTo>
                      <a:lnTo>
                        <a:pt x="84" y="7"/>
                      </a:lnTo>
                      <a:lnTo>
                        <a:pt x="96" y="16"/>
                      </a:lnTo>
                      <a:lnTo>
                        <a:pt x="132" y="67"/>
                      </a:lnTo>
                      <a:lnTo>
                        <a:pt x="144" y="73"/>
                      </a:lnTo>
                      <a:lnTo>
                        <a:pt x="150" y="89"/>
                      </a:lnTo>
                      <a:lnTo>
                        <a:pt x="156" y="111"/>
                      </a:lnTo>
                      <a:lnTo>
                        <a:pt x="179" y="124"/>
                      </a:lnTo>
                      <a:lnTo>
                        <a:pt x="191" y="138"/>
                      </a:lnTo>
                      <a:lnTo>
                        <a:pt x="183" y="104"/>
                      </a:lnTo>
                      <a:lnTo>
                        <a:pt x="175" y="74"/>
                      </a:lnTo>
                      <a:lnTo>
                        <a:pt x="208" y="48"/>
                      </a:lnTo>
                      <a:lnTo>
                        <a:pt x="241" y="138"/>
                      </a:lnTo>
                      <a:lnTo>
                        <a:pt x="237" y="174"/>
                      </a:lnTo>
                      <a:lnTo>
                        <a:pt x="212" y="194"/>
                      </a:lnTo>
                      <a:lnTo>
                        <a:pt x="156" y="190"/>
                      </a:lnTo>
                      <a:lnTo>
                        <a:pt x="152" y="250"/>
                      </a:lnTo>
                      <a:lnTo>
                        <a:pt x="162" y="276"/>
                      </a:lnTo>
                      <a:lnTo>
                        <a:pt x="173" y="304"/>
                      </a:lnTo>
                      <a:lnTo>
                        <a:pt x="192" y="358"/>
                      </a:lnTo>
                      <a:lnTo>
                        <a:pt x="196" y="352"/>
                      </a:lnTo>
                      <a:lnTo>
                        <a:pt x="169" y="370"/>
                      </a:lnTo>
                      <a:lnTo>
                        <a:pt x="121" y="388"/>
                      </a:lnTo>
                      <a:lnTo>
                        <a:pt x="66" y="424"/>
                      </a:lnTo>
                      <a:lnTo>
                        <a:pt x="31" y="378"/>
                      </a:lnTo>
                      <a:lnTo>
                        <a:pt x="29" y="351"/>
                      </a:lnTo>
                      <a:lnTo>
                        <a:pt x="11" y="294"/>
                      </a:lnTo>
                      <a:lnTo>
                        <a:pt x="2" y="225"/>
                      </a:lnTo>
                      <a:lnTo>
                        <a:pt x="0" y="158"/>
                      </a:lnTo>
                      <a:lnTo>
                        <a:pt x="0" y="149"/>
                      </a:lnTo>
                      <a:lnTo>
                        <a:pt x="2" y="79"/>
                      </a:lnTo>
                      <a:lnTo>
                        <a:pt x="14" y="38"/>
                      </a:lnTo>
                      <a:lnTo>
                        <a:pt x="35" y="16"/>
                      </a:lnTo>
                      <a:lnTo>
                        <a:pt x="53" y="13"/>
                      </a:lnTo>
                      <a:lnTo>
                        <a:pt x="66" y="0"/>
                      </a:lnTo>
                    </a:path>
                  </a:pathLst>
                </a:custGeom>
                <a:solidFill>
                  <a:srgbClr val="b9c0ce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 flipH="1">
                  <a:off x="2331000" y="3081600"/>
                  <a:ext cx="332280" cy="186120"/>
                </a:xfrm>
                <a:custGeom>
                  <a:avLst/>
                  <a:gdLst/>
                  <a:ahLst/>
                  <a:rect l="l" t="t" r="r" b="b"/>
                  <a:pathLst>
                    <a:path w="248" h="139">
                      <a:moveTo>
                        <a:pt x="136" y="36"/>
                      </a:moveTo>
                      <a:lnTo>
                        <a:pt x="202" y="0"/>
                      </a:lnTo>
                      <a:lnTo>
                        <a:pt x="210" y="0"/>
                      </a:lnTo>
                      <a:lnTo>
                        <a:pt x="218" y="7"/>
                      </a:lnTo>
                      <a:lnTo>
                        <a:pt x="218" y="16"/>
                      </a:lnTo>
                      <a:lnTo>
                        <a:pt x="216" y="26"/>
                      </a:lnTo>
                      <a:lnTo>
                        <a:pt x="209" y="32"/>
                      </a:lnTo>
                      <a:lnTo>
                        <a:pt x="199" y="31"/>
                      </a:lnTo>
                      <a:lnTo>
                        <a:pt x="194" y="29"/>
                      </a:lnTo>
                      <a:lnTo>
                        <a:pt x="194" y="25"/>
                      </a:lnTo>
                      <a:lnTo>
                        <a:pt x="158" y="49"/>
                      </a:lnTo>
                      <a:lnTo>
                        <a:pt x="218" y="77"/>
                      </a:lnTo>
                      <a:lnTo>
                        <a:pt x="235" y="87"/>
                      </a:lnTo>
                      <a:lnTo>
                        <a:pt x="246" y="98"/>
                      </a:lnTo>
                      <a:lnTo>
                        <a:pt x="247" y="108"/>
                      </a:lnTo>
                      <a:lnTo>
                        <a:pt x="247" y="117"/>
                      </a:lnTo>
                      <a:lnTo>
                        <a:pt x="239" y="125"/>
                      </a:lnTo>
                      <a:lnTo>
                        <a:pt x="225" y="126"/>
                      </a:lnTo>
                      <a:lnTo>
                        <a:pt x="220" y="120"/>
                      </a:lnTo>
                      <a:lnTo>
                        <a:pt x="216" y="112"/>
                      </a:lnTo>
                      <a:lnTo>
                        <a:pt x="220" y="100"/>
                      </a:lnTo>
                      <a:lnTo>
                        <a:pt x="198" y="89"/>
                      </a:lnTo>
                      <a:lnTo>
                        <a:pt x="139" y="63"/>
                      </a:lnTo>
                      <a:lnTo>
                        <a:pt x="111" y="108"/>
                      </a:lnTo>
                      <a:lnTo>
                        <a:pt x="118" y="117"/>
                      </a:lnTo>
                      <a:lnTo>
                        <a:pt x="118" y="128"/>
                      </a:lnTo>
                      <a:lnTo>
                        <a:pt x="111" y="138"/>
                      </a:lnTo>
                      <a:lnTo>
                        <a:pt x="94" y="135"/>
                      </a:lnTo>
                      <a:lnTo>
                        <a:pt x="84" y="128"/>
                      </a:lnTo>
                      <a:lnTo>
                        <a:pt x="80" y="114"/>
                      </a:lnTo>
                      <a:lnTo>
                        <a:pt x="87" y="104"/>
                      </a:lnTo>
                      <a:lnTo>
                        <a:pt x="90" y="97"/>
                      </a:lnTo>
                      <a:lnTo>
                        <a:pt x="108" y="59"/>
                      </a:lnTo>
                      <a:lnTo>
                        <a:pt x="32" y="62"/>
                      </a:lnTo>
                      <a:lnTo>
                        <a:pt x="28" y="75"/>
                      </a:lnTo>
                      <a:lnTo>
                        <a:pt x="22" y="83"/>
                      </a:lnTo>
                      <a:lnTo>
                        <a:pt x="12" y="86"/>
                      </a:lnTo>
                      <a:lnTo>
                        <a:pt x="2" y="81"/>
                      </a:lnTo>
                      <a:lnTo>
                        <a:pt x="0" y="74"/>
                      </a:lnTo>
                      <a:lnTo>
                        <a:pt x="1" y="58"/>
                      </a:lnTo>
                      <a:lnTo>
                        <a:pt x="14" y="48"/>
                      </a:lnTo>
                      <a:lnTo>
                        <a:pt x="38" y="45"/>
                      </a:lnTo>
                      <a:lnTo>
                        <a:pt x="105" y="40"/>
                      </a:lnTo>
                      <a:lnTo>
                        <a:pt x="80" y="23"/>
                      </a:lnTo>
                      <a:lnTo>
                        <a:pt x="78" y="30"/>
                      </a:lnTo>
                      <a:lnTo>
                        <a:pt x="66" y="32"/>
                      </a:lnTo>
                      <a:lnTo>
                        <a:pt x="57" y="23"/>
                      </a:lnTo>
                      <a:lnTo>
                        <a:pt x="56" y="16"/>
                      </a:lnTo>
                      <a:lnTo>
                        <a:pt x="59" y="8"/>
                      </a:lnTo>
                      <a:lnTo>
                        <a:pt x="67" y="2"/>
                      </a:lnTo>
                      <a:lnTo>
                        <a:pt x="79" y="4"/>
                      </a:lnTo>
                      <a:lnTo>
                        <a:pt x="87" y="9"/>
                      </a:lnTo>
                      <a:lnTo>
                        <a:pt x="97" y="14"/>
                      </a:lnTo>
                      <a:lnTo>
                        <a:pt x="136" y="36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 flipH="1">
                  <a:off x="2464200" y="3006720"/>
                  <a:ext cx="38880" cy="142200"/>
                </a:xfrm>
                <a:custGeom>
                  <a:avLst/>
                  <a:gdLst/>
                  <a:ahLst/>
                  <a:rect l="l" t="t" r="r" b="b"/>
                  <a:pathLst>
                    <a:path w="29" h="106">
                      <a:moveTo>
                        <a:pt x="28" y="105"/>
                      </a:move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0" y="104"/>
                      </a:lnTo>
                      <a:lnTo>
                        <a:pt x="28" y="105"/>
                      </a:lnTo>
                    </a:path>
                  </a:pathLst>
                </a:custGeom>
                <a:solidFill>
                  <a:srgbClr val="a9acaf"/>
                </a:solid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 flipH="1">
                  <a:off x="2311560" y="2932920"/>
                  <a:ext cx="306720" cy="92160"/>
                </a:xfrm>
                <a:custGeom>
                  <a:avLst/>
                  <a:gdLst/>
                  <a:ahLst/>
                  <a:rect l="l" t="t" r="r" b="b"/>
                  <a:pathLst>
                    <a:path w="229" h="69">
                      <a:moveTo>
                        <a:pt x="228" y="7"/>
                      </a:moveTo>
                      <a:lnTo>
                        <a:pt x="226" y="27"/>
                      </a:lnTo>
                      <a:lnTo>
                        <a:pt x="204" y="39"/>
                      </a:lnTo>
                      <a:lnTo>
                        <a:pt x="150" y="55"/>
                      </a:lnTo>
                      <a:lnTo>
                        <a:pt x="93" y="68"/>
                      </a:lnTo>
                      <a:lnTo>
                        <a:pt x="32" y="65"/>
                      </a:lnTo>
                      <a:lnTo>
                        <a:pt x="11" y="53"/>
                      </a:lnTo>
                      <a:lnTo>
                        <a:pt x="0" y="33"/>
                      </a:lnTo>
                      <a:lnTo>
                        <a:pt x="4" y="22"/>
                      </a:lnTo>
                      <a:lnTo>
                        <a:pt x="46" y="34"/>
                      </a:lnTo>
                      <a:lnTo>
                        <a:pt x="115" y="27"/>
                      </a:lnTo>
                      <a:lnTo>
                        <a:pt x="175" y="13"/>
                      </a:lnTo>
                      <a:lnTo>
                        <a:pt x="216" y="0"/>
                      </a:lnTo>
                      <a:lnTo>
                        <a:pt x="228" y="7"/>
                      </a:lnTo>
                    </a:path>
                  </a:pathLst>
                </a:custGeom>
                <a:solidFill>
                  <a:srgbClr val="057dab"/>
                </a:solid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 flipH="1">
                  <a:off x="2311560" y="2932920"/>
                  <a:ext cx="306720" cy="92160"/>
                </a:xfrm>
                <a:custGeom>
                  <a:avLst/>
                  <a:gdLst/>
                  <a:ahLst/>
                  <a:rect l="l" t="t" r="r" b="b"/>
                  <a:pathLst>
                    <a:path w="229" h="69">
                      <a:moveTo>
                        <a:pt x="228" y="7"/>
                      </a:moveTo>
                      <a:lnTo>
                        <a:pt x="226" y="27"/>
                      </a:lnTo>
                      <a:lnTo>
                        <a:pt x="204" y="39"/>
                      </a:lnTo>
                      <a:lnTo>
                        <a:pt x="150" y="55"/>
                      </a:lnTo>
                      <a:lnTo>
                        <a:pt x="93" y="68"/>
                      </a:lnTo>
                      <a:lnTo>
                        <a:pt x="32" y="65"/>
                      </a:lnTo>
                      <a:lnTo>
                        <a:pt x="11" y="53"/>
                      </a:lnTo>
                      <a:lnTo>
                        <a:pt x="0" y="33"/>
                      </a:lnTo>
                      <a:lnTo>
                        <a:pt x="4" y="22"/>
                      </a:lnTo>
                      <a:lnTo>
                        <a:pt x="46" y="34"/>
                      </a:lnTo>
                      <a:lnTo>
                        <a:pt x="115" y="27"/>
                      </a:lnTo>
                      <a:lnTo>
                        <a:pt x="175" y="13"/>
                      </a:lnTo>
                      <a:lnTo>
                        <a:pt x="216" y="0"/>
                      </a:lnTo>
                      <a:lnTo>
                        <a:pt x="228" y="7"/>
                      </a:lnTo>
                    </a:path>
                  </a:pathLst>
                </a:custGeom>
                <a:noFill/>
                <a:ln cap="rnd"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 flipH="1">
                  <a:off x="2311200" y="2932920"/>
                  <a:ext cx="302760" cy="92160"/>
                </a:xfrm>
                <a:custGeom>
                  <a:avLst/>
                  <a:gdLst/>
                  <a:ahLst/>
                  <a:rect l="l" t="t" r="r" b="b"/>
                  <a:pathLst>
                    <a:path w="226" h="69">
                      <a:moveTo>
                        <a:pt x="225" y="7"/>
                      </a:moveTo>
                      <a:lnTo>
                        <a:pt x="223" y="27"/>
                      </a:lnTo>
                      <a:lnTo>
                        <a:pt x="201" y="39"/>
                      </a:lnTo>
                      <a:lnTo>
                        <a:pt x="147" y="55"/>
                      </a:lnTo>
                      <a:lnTo>
                        <a:pt x="90" y="68"/>
                      </a:lnTo>
                      <a:lnTo>
                        <a:pt x="29" y="65"/>
                      </a:lnTo>
                      <a:lnTo>
                        <a:pt x="8" y="53"/>
                      </a:lnTo>
                      <a:lnTo>
                        <a:pt x="0" y="27"/>
                      </a:lnTo>
                      <a:lnTo>
                        <a:pt x="14" y="3"/>
                      </a:lnTo>
                      <a:lnTo>
                        <a:pt x="43" y="34"/>
                      </a:lnTo>
                      <a:lnTo>
                        <a:pt x="112" y="27"/>
                      </a:lnTo>
                      <a:lnTo>
                        <a:pt x="172" y="13"/>
                      </a:lnTo>
                      <a:lnTo>
                        <a:pt x="213" y="0"/>
                      </a:lnTo>
                      <a:lnTo>
                        <a:pt x="225" y="7"/>
                      </a:lnTo>
                    </a:path>
                  </a:pathLst>
                </a:custGeom>
                <a:solidFill>
                  <a:srgbClr val="057dab"/>
                </a:solid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 flipH="1">
                  <a:off x="2462760" y="3020040"/>
                  <a:ext cx="40320" cy="124560"/>
                </a:xfrm>
                <a:custGeom>
                  <a:avLst/>
                  <a:gdLst/>
                  <a:ahLst/>
                  <a:rect l="l" t="t" r="r" b="b"/>
                  <a:pathLst>
                    <a:path w="30" h="93">
                      <a:moveTo>
                        <a:pt x="29" y="92"/>
                      </a:moveTo>
                      <a:lnTo>
                        <a:pt x="29" y="0"/>
                      </a:lnTo>
                      <a:lnTo>
                        <a:pt x="0" y="0"/>
                      </a:lnTo>
                      <a:lnTo>
                        <a:pt x="0" y="91"/>
                      </a:lnTo>
                      <a:lnTo>
                        <a:pt x="29" y="92"/>
                      </a:lnTo>
                    </a:path>
                  </a:pathLst>
                </a:custGeom>
                <a:noFill/>
                <a:ln cap="rnd"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 flipH="1">
                  <a:off x="2311560" y="2932920"/>
                  <a:ext cx="306720" cy="92160"/>
                </a:xfrm>
                <a:custGeom>
                  <a:avLst/>
                  <a:gdLst/>
                  <a:ahLst/>
                  <a:rect l="l" t="t" r="r" b="b"/>
                  <a:pathLst>
                    <a:path w="229" h="69">
                      <a:moveTo>
                        <a:pt x="228" y="7"/>
                      </a:moveTo>
                      <a:lnTo>
                        <a:pt x="226" y="27"/>
                      </a:lnTo>
                      <a:lnTo>
                        <a:pt x="204" y="39"/>
                      </a:lnTo>
                      <a:lnTo>
                        <a:pt x="150" y="55"/>
                      </a:lnTo>
                      <a:lnTo>
                        <a:pt x="93" y="68"/>
                      </a:lnTo>
                      <a:lnTo>
                        <a:pt x="32" y="65"/>
                      </a:lnTo>
                      <a:lnTo>
                        <a:pt x="11" y="53"/>
                      </a:lnTo>
                      <a:lnTo>
                        <a:pt x="0" y="33"/>
                      </a:lnTo>
                      <a:lnTo>
                        <a:pt x="4" y="22"/>
                      </a:lnTo>
                      <a:lnTo>
                        <a:pt x="46" y="34"/>
                      </a:lnTo>
                      <a:lnTo>
                        <a:pt x="115" y="27"/>
                      </a:lnTo>
                      <a:lnTo>
                        <a:pt x="175" y="13"/>
                      </a:lnTo>
                      <a:lnTo>
                        <a:pt x="216" y="0"/>
                      </a:lnTo>
                      <a:lnTo>
                        <a:pt x="228" y="7"/>
                      </a:lnTo>
                    </a:path>
                  </a:pathLst>
                </a:custGeom>
                <a:noFill/>
                <a:ln cap="rnd"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 flipH="1">
                  <a:off x="2500560" y="2806920"/>
                  <a:ext cx="95040" cy="223920"/>
                </a:xfrm>
                <a:custGeom>
                  <a:avLst/>
                  <a:gdLst/>
                  <a:ahLst/>
                  <a:rect l="l" t="t" r="r" b="b"/>
                  <a:pathLst>
                    <a:path w="71" h="167">
                      <a:moveTo>
                        <a:pt x="34" y="8"/>
                      </a:moveTo>
                      <a:lnTo>
                        <a:pt x="34" y="108"/>
                      </a:lnTo>
                      <a:lnTo>
                        <a:pt x="42" y="151"/>
                      </a:lnTo>
                      <a:lnTo>
                        <a:pt x="70" y="164"/>
                      </a:lnTo>
                      <a:lnTo>
                        <a:pt x="42" y="166"/>
                      </a:lnTo>
                      <a:lnTo>
                        <a:pt x="18" y="164"/>
                      </a:lnTo>
                      <a:lnTo>
                        <a:pt x="6" y="146"/>
                      </a:lnTo>
                      <a:lnTo>
                        <a:pt x="0" y="113"/>
                      </a:lnTo>
                      <a:lnTo>
                        <a:pt x="0" y="80"/>
                      </a:lnTo>
                      <a:lnTo>
                        <a:pt x="0" y="40"/>
                      </a:lnTo>
                      <a:lnTo>
                        <a:pt x="6" y="0"/>
                      </a:lnTo>
                      <a:lnTo>
                        <a:pt x="34" y="8"/>
                      </a:lnTo>
                    </a:path>
                  </a:pathLst>
                </a:custGeom>
                <a:solidFill>
                  <a:srgbClr val="a9acaf"/>
                </a:solid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 flipH="1">
                  <a:off x="2500560" y="2806920"/>
                  <a:ext cx="95040" cy="223920"/>
                </a:xfrm>
                <a:custGeom>
                  <a:avLst/>
                  <a:gdLst/>
                  <a:ahLst/>
                  <a:rect l="l" t="t" r="r" b="b"/>
                  <a:pathLst>
                    <a:path w="71" h="167">
                      <a:moveTo>
                        <a:pt x="34" y="8"/>
                      </a:moveTo>
                      <a:lnTo>
                        <a:pt x="34" y="108"/>
                      </a:lnTo>
                      <a:lnTo>
                        <a:pt x="42" y="151"/>
                      </a:lnTo>
                      <a:lnTo>
                        <a:pt x="70" y="164"/>
                      </a:lnTo>
                      <a:lnTo>
                        <a:pt x="42" y="166"/>
                      </a:lnTo>
                      <a:lnTo>
                        <a:pt x="18" y="164"/>
                      </a:lnTo>
                      <a:lnTo>
                        <a:pt x="6" y="146"/>
                      </a:lnTo>
                      <a:lnTo>
                        <a:pt x="0" y="113"/>
                      </a:lnTo>
                      <a:lnTo>
                        <a:pt x="0" y="80"/>
                      </a:lnTo>
                      <a:lnTo>
                        <a:pt x="0" y="40"/>
                      </a:lnTo>
                      <a:lnTo>
                        <a:pt x="6" y="0"/>
                      </a:lnTo>
                      <a:lnTo>
                        <a:pt x="34" y="8"/>
                      </a:lnTo>
                    </a:path>
                  </a:pathLst>
                </a:custGeom>
                <a:noFill/>
                <a:ln cap="rnd"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 flipH="1">
                  <a:off x="2500560" y="2806920"/>
                  <a:ext cx="95040" cy="223920"/>
                </a:xfrm>
                <a:custGeom>
                  <a:avLst/>
                  <a:gdLst/>
                  <a:ahLst/>
                  <a:rect l="l" t="t" r="r" b="b"/>
                  <a:pathLst>
                    <a:path w="71" h="167">
                      <a:moveTo>
                        <a:pt x="34" y="8"/>
                      </a:moveTo>
                      <a:lnTo>
                        <a:pt x="34" y="108"/>
                      </a:lnTo>
                      <a:lnTo>
                        <a:pt x="42" y="151"/>
                      </a:lnTo>
                      <a:lnTo>
                        <a:pt x="70" y="164"/>
                      </a:lnTo>
                      <a:lnTo>
                        <a:pt x="42" y="166"/>
                      </a:lnTo>
                      <a:lnTo>
                        <a:pt x="18" y="164"/>
                      </a:lnTo>
                      <a:lnTo>
                        <a:pt x="6" y="146"/>
                      </a:lnTo>
                      <a:lnTo>
                        <a:pt x="0" y="113"/>
                      </a:lnTo>
                      <a:lnTo>
                        <a:pt x="0" y="80"/>
                      </a:lnTo>
                      <a:lnTo>
                        <a:pt x="0" y="40"/>
                      </a:lnTo>
                      <a:lnTo>
                        <a:pt x="6" y="0"/>
                      </a:lnTo>
                      <a:lnTo>
                        <a:pt x="34" y="8"/>
                      </a:lnTo>
                    </a:path>
                  </a:pathLst>
                </a:custGeom>
                <a:solidFill>
                  <a:srgbClr val="a9acaf"/>
                </a:solid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 flipH="1">
                  <a:off x="2500560" y="2806920"/>
                  <a:ext cx="95040" cy="223920"/>
                </a:xfrm>
                <a:custGeom>
                  <a:avLst/>
                  <a:gdLst/>
                  <a:ahLst/>
                  <a:rect l="l" t="t" r="r" b="b"/>
                  <a:pathLst>
                    <a:path w="71" h="167">
                      <a:moveTo>
                        <a:pt x="34" y="8"/>
                      </a:moveTo>
                      <a:lnTo>
                        <a:pt x="34" y="108"/>
                      </a:lnTo>
                      <a:lnTo>
                        <a:pt x="42" y="151"/>
                      </a:lnTo>
                      <a:lnTo>
                        <a:pt x="70" y="164"/>
                      </a:lnTo>
                      <a:lnTo>
                        <a:pt x="42" y="166"/>
                      </a:lnTo>
                      <a:lnTo>
                        <a:pt x="18" y="164"/>
                      </a:lnTo>
                      <a:lnTo>
                        <a:pt x="6" y="146"/>
                      </a:lnTo>
                      <a:lnTo>
                        <a:pt x="0" y="113"/>
                      </a:lnTo>
                      <a:lnTo>
                        <a:pt x="0" y="80"/>
                      </a:lnTo>
                      <a:lnTo>
                        <a:pt x="0" y="40"/>
                      </a:lnTo>
                      <a:lnTo>
                        <a:pt x="6" y="0"/>
                      </a:lnTo>
                      <a:lnTo>
                        <a:pt x="34" y="8"/>
                      </a:lnTo>
                    </a:path>
                  </a:pathLst>
                </a:custGeom>
                <a:noFill/>
                <a:ln cap="rnd"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 flipH="1">
                  <a:off x="2500560" y="2806920"/>
                  <a:ext cx="95040" cy="223920"/>
                </a:xfrm>
                <a:custGeom>
                  <a:avLst/>
                  <a:gdLst/>
                  <a:ahLst/>
                  <a:rect l="l" t="t" r="r" b="b"/>
                  <a:pathLst>
                    <a:path w="71" h="167">
                      <a:moveTo>
                        <a:pt x="34" y="8"/>
                      </a:moveTo>
                      <a:lnTo>
                        <a:pt x="34" y="108"/>
                      </a:lnTo>
                      <a:lnTo>
                        <a:pt x="42" y="151"/>
                      </a:lnTo>
                      <a:lnTo>
                        <a:pt x="70" y="164"/>
                      </a:lnTo>
                      <a:lnTo>
                        <a:pt x="42" y="166"/>
                      </a:lnTo>
                      <a:lnTo>
                        <a:pt x="18" y="164"/>
                      </a:lnTo>
                      <a:lnTo>
                        <a:pt x="6" y="146"/>
                      </a:lnTo>
                      <a:lnTo>
                        <a:pt x="0" y="113"/>
                      </a:lnTo>
                      <a:lnTo>
                        <a:pt x="0" y="80"/>
                      </a:lnTo>
                      <a:lnTo>
                        <a:pt x="0" y="4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cap="rnd" w="3240">
                  <a:solidFill>
                    <a:srgbClr val="1f1a1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12" name=""/>
                <p:cNvGrpSpPr/>
                <p:nvPr/>
              </p:nvGrpSpPr>
              <p:grpSpPr>
                <a:xfrm>
                  <a:off x="2419920" y="2665080"/>
                  <a:ext cx="230400" cy="184680"/>
                  <a:chOff x="2419920" y="2665080"/>
                  <a:chExt cx="230400" cy="184680"/>
                </a:xfrm>
              </p:grpSpPr>
              <p:sp>
                <p:nvSpPr>
                  <p:cNvPr id="1613" name=""/>
                  <p:cNvSpPr/>
                  <p:nvPr/>
                </p:nvSpPr>
                <p:spPr>
                  <a:xfrm flipH="1">
                    <a:off x="2419920" y="2665080"/>
                    <a:ext cx="230400" cy="18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2" h="138">
                        <a:moveTo>
                          <a:pt x="157" y="18"/>
                        </a:moveTo>
                        <a:lnTo>
                          <a:pt x="171" y="33"/>
                        </a:lnTo>
                        <a:lnTo>
                          <a:pt x="171" y="36"/>
                        </a:lnTo>
                        <a:lnTo>
                          <a:pt x="168" y="83"/>
                        </a:lnTo>
                        <a:lnTo>
                          <a:pt x="163" y="119"/>
                        </a:lnTo>
                        <a:lnTo>
                          <a:pt x="154" y="131"/>
                        </a:lnTo>
                        <a:lnTo>
                          <a:pt x="136" y="137"/>
                        </a:lnTo>
                        <a:lnTo>
                          <a:pt x="101" y="137"/>
                        </a:lnTo>
                        <a:lnTo>
                          <a:pt x="47" y="131"/>
                        </a:lnTo>
                        <a:lnTo>
                          <a:pt x="8" y="119"/>
                        </a:lnTo>
                        <a:lnTo>
                          <a:pt x="0" y="89"/>
                        </a:lnTo>
                        <a:lnTo>
                          <a:pt x="2" y="51"/>
                        </a:lnTo>
                        <a:lnTo>
                          <a:pt x="8" y="18"/>
                        </a:lnTo>
                        <a:lnTo>
                          <a:pt x="16" y="5"/>
                        </a:lnTo>
                        <a:lnTo>
                          <a:pt x="32" y="0"/>
                        </a:lnTo>
                        <a:lnTo>
                          <a:pt x="75" y="8"/>
                        </a:lnTo>
                        <a:lnTo>
                          <a:pt x="127" y="15"/>
                        </a:lnTo>
                        <a:lnTo>
                          <a:pt x="157" y="18"/>
                        </a:lnTo>
                      </a:path>
                    </a:pathLst>
                  </a:custGeom>
                  <a:solidFill>
                    <a:srgbClr val="057dab"/>
                  </a:solidFill>
                  <a:ln cap="rnd"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4" name=""/>
                  <p:cNvSpPr/>
                  <p:nvPr/>
                </p:nvSpPr>
                <p:spPr>
                  <a:xfrm flipH="1">
                    <a:off x="2419920" y="2665080"/>
                    <a:ext cx="230400" cy="18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2" h="138">
                        <a:moveTo>
                          <a:pt x="157" y="18"/>
                        </a:moveTo>
                        <a:lnTo>
                          <a:pt x="171" y="33"/>
                        </a:lnTo>
                        <a:lnTo>
                          <a:pt x="171" y="36"/>
                        </a:lnTo>
                        <a:lnTo>
                          <a:pt x="168" y="83"/>
                        </a:lnTo>
                        <a:lnTo>
                          <a:pt x="163" y="119"/>
                        </a:lnTo>
                        <a:lnTo>
                          <a:pt x="154" y="131"/>
                        </a:lnTo>
                        <a:lnTo>
                          <a:pt x="136" y="137"/>
                        </a:lnTo>
                        <a:lnTo>
                          <a:pt x="101" y="137"/>
                        </a:lnTo>
                        <a:lnTo>
                          <a:pt x="47" y="131"/>
                        </a:lnTo>
                        <a:lnTo>
                          <a:pt x="8" y="119"/>
                        </a:lnTo>
                        <a:lnTo>
                          <a:pt x="0" y="89"/>
                        </a:lnTo>
                        <a:lnTo>
                          <a:pt x="2" y="51"/>
                        </a:lnTo>
                        <a:lnTo>
                          <a:pt x="8" y="18"/>
                        </a:lnTo>
                        <a:lnTo>
                          <a:pt x="16" y="5"/>
                        </a:lnTo>
                        <a:lnTo>
                          <a:pt x="32" y="0"/>
                        </a:lnTo>
                        <a:lnTo>
                          <a:pt x="75" y="8"/>
                        </a:lnTo>
                        <a:lnTo>
                          <a:pt x="127" y="15"/>
                        </a:lnTo>
                        <a:lnTo>
                          <a:pt x="157" y="18"/>
                        </a:lnTo>
                      </a:path>
                    </a:pathLst>
                  </a:custGeom>
                  <a:noFill/>
                  <a:ln cap="rnd" w="3240">
                    <a:solidFill>
                      <a:srgbClr val="1f1a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5" name=""/>
                  <p:cNvSpPr/>
                  <p:nvPr/>
                </p:nvSpPr>
                <p:spPr>
                  <a:xfrm flipH="1">
                    <a:off x="2419920" y="2665080"/>
                    <a:ext cx="230400" cy="18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2" h="138">
                        <a:moveTo>
                          <a:pt x="157" y="18"/>
                        </a:moveTo>
                        <a:lnTo>
                          <a:pt x="171" y="33"/>
                        </a:lnTo>
                        <a:lnTo>
                          <a:pt x="171" y="36"/>
                        </a:lnTo>
                        <a:lnTo>
                          <a:pt x="168" y="83"/>
                        </a:lnTo>
                        <a:lnTo>
                          <a:pt x="163" y="119"/>
                        </a:lnTo>
                        <a:lnTo>
                          <a:pt x="154" y="131"/>
                        </a:lnTo>
                        <a:lnTo>
                          <a:pt x="136" y="137"/>
                        </a:lnTo>
                        <a:lnTo>
                          <a:pt x="101" y="137"/>
                        </a:lnTo>
                        <a:lnTo>
                          <a:pt x="47" y="131"/>
                        </a:lnTo>
                        <a:lnTo>
                          <a:pt x="8" y="119"/>
                        </a:lnTo>
                        <a:lnTo>
                          <a:pt x="0" y="89"/>
                        </a:lnTo>
                        <a:lnTo>
                          <a:pt x="2" y="51"/>
                        </a:lnTo>
                        <a:lnTo>
                          <a:pt x="8" y="18"/>
                        </a:lnTo>
                        <a:lnTo>
                          <a:pt x="16" y="5"/>
                        </a:lnTo>
                        <a:lnTo>
                          <a:pt x="32" y="0"/>
                        </a:lnTo>
                        <a:lnTo>
                          <a:pt x="75" y="8"/>
                        </a:lnTo>
                        <a:lnTo>
                          <a:pt x="127" y="15"/>
                        </a:lnTo>
                        <a:lnTo>
                          <a:pt x="157" y="18"/>
                        </a:lnTo>
                      </a:path>
                    </a:pathLst>
                  </a:custGeom>
                  <a:noFill/>
                  <a:ln cap="rnd" w="3240">
                    <a:solidFill>
                      <a:srgbClr val="1f1a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16" name=""/>
                <p:cNvSpPr/>
                <p:nvPr/>
              </p:nvSpPr>
              <p:spPr>
                <a:xfrm flipH="1">
                  <a:off x="2342160" y="2303280"/>
                  <a:ext cx="179280" cy="167400"/>
                </a:xfrm>
                <a:custGeom>
                  <a:avLst/>
                  <a:gdLst/>
                  <a:ahLst/>
                  <a:rect l="l" t="t" r="r" b="b"/>
                  <a:pathLst>
                    <a:path w="134" h="125">
                      <a:moveTo>
                        <a:pt x="76" y="86"/>
                      </a:moveTo>
                      <a:lnTo>
                        <a:pt x="66" y="95"/>
                      </a:lnTo>
                      <a:lnTo>
                        <a:pt x="57" y="120"/>
                      </a:lnTo>
                      <a:lnTo>
                        <a:pt x="29" y="124"/>
                      </a:lnTo>
                      <a:lnTo>
                        <a:pt x="16" y="120"/>
                      </a:lnTo>
                      <a:lnTo>
                        <a:pt x="0" y="63"/>
                      </a:lnTo>
                      <a:lnTo>
                        <a:pt x="0" y="44"/>
                      </a:lnTo>
                      <a:lnTo>
                        <a:pt x="16" y="16"/>
                      </a:lnTo>
                      <a:lnTo>
                        <a:pt x="38" y="0"/>
                      </a:lnTo>
                      <a:lnTo>
                        <a:pt x="73" y="0"/>
                      </a:lnTo>
                      <a:lnTo>
                        <a:pt x="107" y="10"/>
                      </a:lnTo>
                      <a:lnTo>
                        <a:pt x="110" y="19"/>
                      </a:lnTo>
                      <a:lnTo>
                        <a:pt x="133" y="32"/>
                      </a:lnTo>
                      <a:lnTo>
                        <a:pt x="133" y="41"/>
                      </a:lnTo>
                      <a:lnTo>
                        <a:pt x="120" y="51"/>
                      </a:lnTo>
                      <a:lnTo>
                        <a:pt x="107" y="54"/>
                      </a:lnTo>
                      <a:lnTo>
                        <a:pt x="98" y="63"/>
                      </a:lnTo>
                      <a:lnTo>
                        <a:pt x="95" y="86"/>
                      </a:lnTo>
                      <a:lnTo>
                        <a:pt x="85" y="92"/>
                      </a:lnTo>
                      <a:lnTo>
                        <a:pt x="76" y="86"/>
                      </a:lnTo>
                    </a:path>
                  </a:pathLst>
                </a:custGeom>
                <a:solidFill>
                  <a:srgbClr val="c7800c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 flipH="1">
                  <a:off x="2312640" y="2454480"/>
                  <a:ext cx="66960" cy="101520"/>
                </a:xfrm>
                <a:custGeom>
                  <a:avLst/>
                  <a:gdLst/>
                  <a:ahLst/>
                  <a:rect l="l" t="t" r="r" b="b"/>
                  <a:pathLst>
                    <a:path w="50" h="76">
                      <a:moveTo>
                        <a:pt x="16" y="75"/>
                      </a:moveTo>
                      <a:lnTo>
                        <a:pt x="14" y="49"/>
                      </a:lnTo>
                      <a:lnTo>
                        <a:pt x="0" y="42"/>
                      </a:lnTo>
                      <a:lnTo>
                        <a:pt x="1" y="26"/>
                      </a:lnTo>
                      <a:lnTo>
                        <a:pt x="3" y="23"/>
                      </a:lnTo>
                      <a:lnTo>
                        <a:pt x="8" y="26"/>
                      </a:lnTo>
                      <a:lnTo>
                        <a:pt x="11" y="13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2" y="4"/>
                      </a:lnTo>
                      <a:lnTo>
                        <a:pt x="48" y="17"/>
                      </a:lnTo>
                      <a:lnTo>
                        <a:pt x="49" y="43"/>
                      </a:lnTo>
                      <a:lnTo>
                        <a:pt x="46" y="49"/>
                      </a:lnTo>
                      <a:lnTo>
                        <a:pt x="44" y="61"/>
                      </a:lnTo>
                      <a:lnTo>
                        <a:pt x="16" y="75"/>
                      </a:lnTo>
                    </a:path>
                  </a:pathLst>
                </a:custGeom>
                <a:solidFill>
                  <a:srgbClr val="ffa380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 flipH="1">
                  <a:off x="2359800" y="2390400"/>
                  <a:ext cx="92160" cy="116280"/>
                </a:xfrm>
                <a:custGeom>
                  <a:avLst/>
                  <a:gdLst/>
                  <a:ahLst/>
                  <a:rect l="l" t="t" r="r" b="b"/>
                  <a:pathLst>
                    <a:path w="69" h="87">
                      <a:moveTo>
                        <a:pt x="22" y="0"/>
                      </a:moveTo>
                      <a:lnTo>
                        <a:pt x="38" y="20"/>
                      </a:lnTo>
                      <a:lnTo>
                        <a:pt x="68" y="64"/>
                      </a:lnTo>
                      <a:lnTo>
                        <a:pt x="58" y="86"/>
                      </a:lnTo>
                      <a:lnTo>
                        <a:pt x="46" y="79"/>
                      </a:lnTo>
                      <a:lnTo>
                        <a:pt x="16" y="37"/>
                      </a:lnTo>
                      <a:lnTo>
                        <a:pt x="0" y="16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1f1a17"/>
                </a:solidFill>
                <a:ln cap="rnd"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19" name=""/>
          <p:cNvGrpSpPr/>
          <p:nvPr/>
        </p:nvGrpSpPr>
        <p:grpSpPr>
          <a:xfrm>
            <a:off x="3919680" y="4164120"/>
            <a:ext cx="1266840" cy="1671480"/>
            <a:chOff x="3919680" y="4164120"/>
            <a:chExt cx="1266840" cy="1671480"/>
          </a:xfrm>
        </p:grpSpPr>
        <p:sp>
          <p:nvSpPr>
            <p:cNvPr id="1620" name=""/>
            <p:cNvSpPr/>
            <p:nvPr/>
          </p:nvSpPr>
          <p:spPr>
            <a:xfrm>
              <a:off x="4074480" y="4784040"/>
              <a:ext cx="1098360" cy="1051560"/>
            </a:xfrm>
            <a:custGeom>
              <a:avLst/>
              <a:gdLst/>
              <a:ahLst/>
              <a:rect l="l" t="t" r="r" b="b"/>
              <a:pathLst>
                <a:path w="1213" h="1160">
                  <a:moveTo>
                    <a:pt x="685" y="144"/>
                  </a:moveTo>
                  <a:lnTo>
                    <a:pt x="717" y="296"/>
                  </a:lnTo>
                  <a:lnTo>
                    <a:pt x="738" y="333"/>
                  </a:lnTo>
                  <a:lnTo>
                    <a:pt x="765" y="368"/>
                  </a:lnTo>
                  <a:lnTo>
                    <a:pt x="801" y="390"/>
                  </a:lnTo>
                  <a:lnTo>
                    <a:pt x="885" y="416"/>
                  </a:lnTo>
                  <a:lnTo>
                    <a:pt x="989" y="456"/>
                  </a:lnTo>
                  <a:lnTo>
                    <a:pt x="1117" y="480"/>
                  </a:lnTo>
                  <a:lnTo>
                    <a:pt x="1181" y="552"/>
                  </a:lnTo>
                  <a:lnTo>
                    <a:pt x="1205" y="704"/>
                  </a:lnTo>
                  <a:lnTo>
                    <a:pt x="1213" y="808"/>
                  </a:lnTo>
                  <a:lnTo>
                    <a:pt x="1177" y="1158"/>
                  </a:lnTo>
                  <a:lnTo>
                    <a:pt x="1181" y="1160"/>
                  </a:lnTo>
                  <a:lnTo>
                    <a:pt x="104" y="1143"/>
                  </a:lnTo>
                  <a:lnTo>
                    <a:pt x="82" y="1098"/>
                  </a:lnTo>
                  <a:lnTo>
                    <a:pt x="93" y="1016"/>
                  </a:lnTo>
                  <a:lnTo>
                    <a:pt x="69" y="808"/>
                  </a:lnTo>
                  <a:lnTo>
                    <a:pt x="0" y="648"/>
                  </a:lnTo>
                  <a:lnTo>
                    <a:pt x="77" y="435"/>
                  </a:lnTo>
                  <a:lnTo>
                    <a:pt x="245" y="408"/>
                  </a:lnTo>
                  <a:lnTo>
                    <a:pt x="357" y="400"/>
                  </a:lnTo>
                  <a:lnTo>
                    <a:pt x="392" y="371"/>
                  </a:lnTo>
                  <a:lnTo>
                    <a:pt x="397" y="299"/>
                  </a:lnTo>
                  <a:lnTo>
                    <a:pt x="354" y="195"/>
                  </a:lnTo>
                  <a:lnTo>
                    <a:pt x="365" y="128"/>
                  </a:lnTo>
                  <a:lnTo>
                    <a:pt x="389" y="40"/>
                  </a:lnTo>
                  <a:lnTo>
                    <a:pt x="613" y="0"/>
                  </a:lnTo>
                  <a:lnTo>
                    <a:pt x="717" y="16"/>
                  </a:lnTo>
                  <a:lnTo>
                    <a:pt x="693" y="80"/>
                  </a:lnTo>
                  <a:lnTo>
                    <a:pt x="685" y="144"/>
                  </a:lnTo>
                </a:path>
              </a:pathLst>
            </a:custGeom>
            <a:solidFill>
              <a:srgbClr val="d9995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919680" y="5132160"/>
              <a:ext cx="1266840" cy="527400"/>
            </a:xfrm>
            <a:custGeom>
              <a:avLst/>
              <a:gdLst/>
              <a:ahLst/>
              <a:rect l="l" t="t" r="r" b="b"/>
              <a:pathLst>
                <a:path w="1399" h="582">
                  <a:moveTo>
                    <a:pt x="425" y="21"/>
                  </a:moveTo>
                  <a:lnTo>
                    <a:pt x="436" y="71"/>
                  </a:lnTo>
                  <a:lnTo>
                    <a:pt x="454" y="109"/>
                  </a:lnTo>
                  <a:lnTo>
                    <a:pt x="496" y="147"/>
                  </a:lnTo>
                  <a:lnTo>
                    <a:pt x="550" y="177"/>
                  </a:lnTo>
                  <a:lnTo>
                    <a:pt x="613" y="203"/>
                  </a:lnTo>
                  <a:lnTo>
                    <a:pt x="678" y="222"/>
                  </a:lnTo>
                  <a:lnTo>
                    <a:pt x="759" y="224"/>
                  </a:lnTo>
                  <a:lnTo>
                    <a:pt x="829" y="209"/>
                  </a:lnTo>
                  <a:lnTo>
                    <a:pt x="900" y="179"/>
                  </a:lnTo>
                  <a:lnTo>
                    <a:pt x="966" y="131"/>
                  </a:lnTo>
                  <a:lnTo>
                    <a:pt x="1009" y="62"/>
                  </a:lnTo>
                  <a:lnTo>
                    <a:pt x="1024" y="15"/>
                  </a:lnTo>
                  <a:lnTo>
                    <a:pt x="1114" y="27"/>
                  </a:lnTo>
                  <a:lnTo>
                    <a:pt x="1182" y="50"/>
                  </a:lnTo>
                  <a:lnTo>
                    <a:pt x="1219" y="60"/>
                  </a:lnTo>
                  <a:lnTo>
                    <a:pt x="1261" y="72"/>
                  </a:lnTo>
                  <a:lnTo>
                    <a:pt x="1287" y="87"/>
                  </a:lnTo>
                  <a:lnTo>
                    <a:pt x="1345" y="163"/>
                  </a:lnTo>
                  <a:lnTo>
                    <a:pt x="1380" y="259"/>
                  </a:lnTo>
                  <a:lnTo>
                    <a:pt x="1385" y="419"/>
                  </a:lnTo>
                  <a:lnTo>
                    <a:pt x="1399" y="531"/>
                  </a:lnTo>
                  <a:lnTo>
                    <a:pt x="1378" y="582"/>
                  </a:lnTo>
                  <a:lnTo>
                    <a:pt x="1336" y="570"/>
                  </a:lnTo>
                  <a:lnTo>
                    <a:pt x="1258" y="573"/>
                  </a:lnTo>
                  <a:lnTo>
                    <a:pt x="1227" y="579"/>
                  </a:lnTo>
                  <a:lnTo>
                    <a:pt x="1148" y="576"/>
                  </a:lnTo>
                  <a:lnTo>
                    <a:pt x="1099" y="416"/>
                  </a:lnTo>
                  <a:lnTo>
                    <a:pt x="877" y="549"/>
                  </a:lnTo>
                  <a:lnTo>
                    <a:pt x="552" y="526"/>
                  </a:lnTo>
                  <a:lnTo>
                    <a:pt x="375" y="331"/>
                  </a:lnTo>
                  <a:lnTo>
                    <a:pt x="12" y="400"/>
                  </a:lnTo>
                  <a:lnTo>
                    <a:pt x="0" y="317"/>
                  </a:lnTo>
                  <a:lnTo>
                    <a:pt x="10" y="240"/>
                  </a:lnTo>
                  <a:lnTo>
                    <a:pt x="31" y="192"/>
                  </a:lnTo>
                  <a:lnTo>
                    <a:pt x="75" y="117"/>
                  </a:lnTo>
                  <a:lnTo>
                    <a:pt x="99" y="64"/>
                  </a:lnTo>
                  <a:lnTo>
                    <a:pt x="134" y="29"/>
                  </a:lnTo>
                  <a:lnTo>
                    <a:pt x="165" y="5"/>
                  </a:lnTo>
                  <a:lnTo>
                    <a:pt x="200" y="0"/>
                  </a:lnTo>
                  <a:lnTo>
                    <a:pt x="273" y="13"/>
                  </a:lnTo>
                  <a:lnTo>
                    <a:pt x="328" y="21"/>
                  </a:lnTo>
                  <a:lnTo>
                    <a:pt x="381" y="27"/>
                  </a:lnTo>
                  <a:lnTo>
                    <a:pt x="425" y="21"/>
                  </a:lnTo>
                </a:path>
              </a:pathLst>
            </a:custGeom>
            <a:solidFill>
              <a:srgbClr val="c2d6d2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3933720" y="5252760"/>
              <a:ext cx="206280" cy="225360"/>
            </a:xfrm>
            <a:custGeom>
              <a:avLst/>
              <a:gdLst/>
              <a:ahLst/>
              <a:rect l="l" t="t" r="r" b="b"/>
              <a:pathLst>
                <a:path w="228" h="249">
                  <a:moveTo>
                    <a:pt x="128" y="0"/>
                  </a:moveTo>
                  <a:lnTo>
                    <a:pt x="93" y="19"/>
                  </a:lnTo>
                  <a:lnTo>
                    <a:pt x="64" y="43"/>
                  </a:lnTo>
                  <a:lnTo>
                    <a:pt x="35" y="70"/>
                  </a:lnTo>
                  <a:lnTo>
                    <a:pt x="16" y="102"/>
                  </a:lnTo>
                  <a:lnTo>
                    <a:pt x="3" y="142"/>
                  </a:lnTo>
                  <a:lnTo>
                    <a:pt x="0" y="187"/>
                  </a:lnTo>
                  <a:lnTo>
                    <a:pt x="5" y="248"/>
                  </a:lnTo>
                  <a:lnTo>
                    <a:pt x="160" y="248"/>
                  </a:lnTo>
                  <a:lnTo>
                    <a:pt x="227" y="160"/>
                  </a:lnTo>
                  <a:lnTo>
                    <a:pt x="192" y="83"/>
                  </a:lnTo>
                  <a:lnTo>
                    <a:pt x="128" y="0"/>
                  </a:lnTo>
                </a:path>
              </a:pathLst>
            </a:custGeom>
            <a:solidFill>
              <a:srgbClr val="d9995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4204800" y="4383360"/>
              <a:ext cx="518760" cy="658800"/>
            </a:xfrm>
            <a:custGeom>
              <a:avLst/>
              <a:gdLst/>
              <a:ahLst/>
              <a:rect l="l" t="t" r="r" b="b"/>
              <a:pathLst>
                <a:path w="573" h="727">
                  <a:moveTo>
                    <a:pt x="5" y="218"/>
                  </a:moveTo>
                  <a:lnTo>
                    <a:pt x="45" y="458"/>
                  </a:lnTo>
                  <a:lnTo>
                    <a:pt x="149" y="610"/>
                  </a:lnTo>
                  <a:lnTo>
                    <a:pt x="208" y="666"/>
                  </a:lnTo>
                  <a:lnTo>
                    <a:pt x="314" y="701"/>
                  </a:lnTo>
                  <a:lnTo>
                    <a:pt x="387" y="727"/>
                  </a:lnTo>
                  <a:lnTo>
                    <a:pt x="432" y="715"/>
                  </a:lnTo>
                  <a:lnTo>
                    <a:pt x="471" y="698"/>
                  </a:lnTo>
                  <a:lnTo>
                    <a:pt x="499" y="663"/>
                  </a:lnTo>
                  <a:lnTo>
                    <a:pt x="526" y="621"/>
                  </a:lnTo>
                  <a:lnTo>
                    <a:pt x="573" y="530"/>
                  </a:lnTo>
                  <a:lnTo>
                    <a:pt x="551" y="301"/>
                  </a:lnTo>
                  <a:lnTo>
                    <a:pt x="485" y="154"/>
                  </a:lnTo>
                  <a:lnTo>
                    <a:pt x="413" y="58"/>
                  </a:lnTo>
                  <a:lnTo>
                    <a:pt x="301" y="0"/>
                  </a:lnTo>
                  <a:lnTo>
                    <a:pt x="173" y="26"/>
                  </a:lnTo>
                  <a:lnTo>
                    <a:pt x="61" y="93"/>
                  </a:lnTo>
                  <a:lnTo>
                    <a:pt x="0" y="215"/>
                  </a:lnTo>
                </a:path>
              </a:pathLst>
            </a:custGeom>
            <a:solidFill>
              <a:srgbClr val="d9995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4071600" y="5138280"/>
              <a:ext cx="970920" cy="695160"/>
            </a:xfrm>
            <a:custGeom>
              <a:avLst/>
              <a:gdLst/>
              <a:ahLst/>
              <a:rect l="l" t="t" r="r" b="b"/>
              <a:pathLst>
                <a:path w="1072" h="767">
                  <a:moveTo>
                    <a:pt x="970" y="34"/>
                  </a:moveTo>
                  <a:lnTo>
                    <a:pt x="919" y="152"/>
                  </a:lnTo>
                  <a:lnTo>
                    <a:pt x="880" y="239"/>
                  </a:lnTo>
                  <a:lnTo>
                    <a:pt x="841" y="305"/>
                  </a:lnTo>
                  <a:lnTo>
                    <a:pt x="781" y="359"/>
                  </a:lnTo>
                  <a:lnTo>
                    <a:pt x="694" y="407"/>
                  </a:lnTo>
                  <a:lnTo>
                    <a:pt x="625" y="422"/>
                  </a:lnTo>
                  <a:lnTo>
                    <a:pt x="544" y="422"/>
                  </a:lnTo>
                  <a:lnTo>
                    <a:pt x="445" y="395"/>
                  </a:lnTo>
                  <a:lnTo>
                    <a:pt x="364" y="350"/>
                  </a:lnTo>
                  <a:lnTo>
                    <a:pt x="307" y="290"/>
                  </a:lnTo>
                  <a:lnTo>
                    <a:pt x="251" y="190"/>
                  </a:lnTo>
                  <a:lnTo>
                    <a:pt x="232" y="174"/>
                  </a:lnTo>
                  <a:lnTo>
                    <a:pt x="202" y="116"/>
                  </a:lnTo>
                  <a:lnTo>
                    <a:pt x="176" y="0"/>
                  </a:lnTo>
                  <a:lnTo>
                    <a:pt x="63" y="7"/>
                  </a:lnTo>
                  <a:lnTo>
                    <a:pt x="72" y="356"/>
                  </a:lnTo>
                  <a:lnTo>
                    <a:pt x="0" y="488"/>
                  </a:lnTo>
                  <a:lnTo>
                    <a:pt x="41" y="767"/>
                  </a:lnTo>
                  <a:lnTo>
                    <a:pt x="590" y="767"/>
                  </a:lnTo>
                  <a:lnTo>
                    <a:pt x="1025" y="767"/>
                  </a:lnTo>
                  <a:lnTo>
                    <a:pt x="1041" y="647"/>
                  </a:lnTo>
                  <a:lnTo>
                    <a:pt x="1049" y="534"/>
                  </a:lnTo>
                  <a:lnTo>
                    <a:pt x="1025" y="443"/>
                  </a:lnTo>
                  <a:lnTo>
                    <a:pt x="997" y="359"/>
                  </a:lnTo>
                  <a:lnTo>
                    <a:pt x="985" y="248"/>
                  </a:lnTo>
                  <a:lnTo>
                    <a:pt x="1009" y="130"/>
                  </a:lnTo>
                  <a:lnTo>
                    <a:pt x="1072" y="48"/>
                  </a:lnTo>
                  <a:lnTo>
                    <a:pt x="1022" y="29"/>
                  </a:lnTo>
                  <a:lnTo>
                    <a:pt x="976" y="18"/>
                  </a:lnTo>
                  <a:lnTo>
                    <a:pt x="970" y="34"/>
                  </a:lnTo>
                </a:path>
              </a:pathLst>
            </a:custGeom>
            <a:solidFill>
              <a:srgbClr val="81aba3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297320" y="4689720"/>
              <a:ext cx="113760" cy="46800"/>
            </a:xfrm>
            <a:custGeom>
              <a:avLst/>
              <a:gdLst/>
              <a:ahLst/>
              <a:rect l="l" t="t" r="r" b="b"/>
              <a:pathLst>
                <a:path w="126" h="52">
                  <a:moveTo>
                    <a:pt x="0" y="51"/>
                  </a:moveTo>
                  <a:lnTo>
                    <a:pt x="26" y="16"/>
                  </a:lnTo>
                  <a:lnTo>
                    <a:pt x="67" y="0"/>
                  </a:lnTo>
                  <a:lnTo>
                    <a:pt x="115" y="9"/>
                  </a:lnTo>
                  <a:lnTo>
                    <a:pt x="125" y="25"/>
                  </a:lnTo>
                  <a:lnTo>
                    <a:pt x="90" y="38"/>
                  </a:lnTo>
                  <a:lnTo>
                    <a:pt x="58" y="51"/>
                  </a:lnTo>
                  <a:lnTo>
                    <a:pt x="26" y="51"/>
                  </a:lnTo>
                  <a:lnTo>
                    <a:pt x="0" y="5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714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334040" y="4683240"/>
              <a:ext cx="42480" cy="42480"/>
            </a:xfrm>
            <a:prstGeom prst="ellipse">
              <a:avLst/>
            </a:prstGeom>
            <a:solidFill>
              <a:srgbClr val="5a40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291560" y="4675320"/>
              <a:ext cx="119520" cy="58680"/>
            </a:xfrm>
            <a:custGeom>
              <a:avLst/>
              <a:gdLst/>
              <a:ahLst/>
              <a:rect l="l" t="t" r="r" b="b"/>
              <a:pathLst>
                <a:path w="132" h="65">
                  <a:moveTo>
                    <a:pt x="131" y="39"/>
                  </a:moveTo>
                  <a:lnTo>
                    <a:pt x="77" y="16"/>
                  </a:lnTo>
                  <a:lnTo>
                    <a:pt x="48" y="22"/>
                  </a:lnTo>
                  <a:lnTo>
                    <a:pt x="16" y="52"/>
                  </a:lnTo>
                  <a:lnTo>
                    <a:pt x="0" y="64"/>
                  </a:lnTo>
                  <a:lnTo>
                    <a:pt x="16" y="24"/>
                  </a:lnTo>
                  <a:lnTo>
                    <a:pt x="38" y="6"/>
                  </a:lnTo>
                  <a:lnTo>
                    <a:pt x="64" y="0"/>
                  </a:lnTo>
                  <a:lnTo>
                    <a:pt x="86" y="0"/>
                  </a:lnTo>
                  <a:lnTo>
                    <a:pt x="105" y="6"/>
                  </a:lnTo>
                  <a:lnTo>
                    <a:pt x="128" y="24"/>
                  </a:lnTo>
                  <a:lnTo>
                    <a:pt x="131" y="39"/>
                  </a:lnTo>
                </a:path>
              </a:pathLst>
            </a:custGeom>
            <a:solidFill>
              <a:srgbClr val="d9995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2960" bIns="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250880" y="4634640"/>
              <a:ext cx="150120" cy="65880"/>
            </a:xfrm>
            <a:custGeom>
              <a:avLst/>
              <a:gdLst/>
              <a:ahLst/>
              <a:rect l="l" t="t" r="r" b="b"/>
              <a:pathLst>
                <a:path w="166" h="73">
                  <a:moveTo>
                    <a:pt x="162" y="5"/>
                  </a:moveTo>
                  <a:lnTo>
                    <a:pt x="120" y="0"/>
                  </a:lnTo>
                  <a:lnTo>
                    <a:pt x="18" y="21"/>
                  </a:lnTo>
                  <a:lnTo>
                    <a:pt x="0" y="72"/>
                  </a:lnTo>
                  <a:lnTo>
                    <a:pt x="37" y="35"/>
                  </a:lnTo>
                  <a:lnTo>
                    <a:pt x="88" y="24"/>
                  </a:lnTo>
                  <a:lnTo>
                    <a:pt x="136" y="27"/>
                  </a:lnTo>
                  <a:lnTo>
                    <a:pt x="165" y="8"/>
                  </a:lnTo>
                </a:path>
              </a:pathLst>
            </a:custGeom>
            <a:solidFill>
              <a:srgbClr val="712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076280" y="4164120"/>
              <a:ext cx="757800" cy="928800"/>
            </a:xfrm>
            <a:custGeom>
              <a:avLst/>
              <a:gdLst/>
              <a:ahLst/>
              <a:rect l="l" t="t" r="r" b="b"/>
              <a:pathLst>
                <a:path w="837" h="1025">
                  <a:moveTo>
                    <a:pt x="87" y="147"/>
                  </a:moveTo>
                  <a:lnTo>
                    <a:pt x="39" y="213"/>
                  </a:lnTo>
                  <a:lnTo>
                    <a:pt x="0" y="284"/>
                  </a:lnTo>
                  <a:lnTo>
                    <a:pt x="6" y="546"/>
                  </a:lnTo>
                  <a:lnTo>
                    <a:pt x="75" y="678"/>
                  </a:lnTo>
                  <a:lnTo>
                    <a:pt x="96" y="748"/>
                  </a:lnTo>
                  <a:lnTo>
                    <a:pt x="269" y="1021"/>
                  </a:lnTo>
                  <a:lnTo>
                    <a:pt x="347" y="1024"/>
                  </a:lnTo>
                  <a:lnTo>
                    <a:pt x="398" y="1012"/>
                  </a:lnTo>
                  <a:lnTo>
                    <a:pt x="216" y="740"/>
                  </a:lnTo>
                  <a:lnTo>
                    <a:pt x="168" y="636"/>
                  </a:lnTo>
                  <a:lnTo>
                    <a:pt x="179" y="598"/>
                  </a:lnTo>
                  <a:lnTo>
                    <a:pt x="179" y="535"/>
                  </a:lnTo>
                  <a:lnTo>
                    <a:pt x="191" y="502"/>
                  </a:lnTo>
                  <a:lnTo>
                    <a:pt x="209" y="472"/>
                  </a:lnTo>
                  <a:lnTo>
                    <a:pt x="221" y="442"/>
                  </a:lnTo>
                  <a:lnTo>
                    <a:pt x="254" y="367"/>
                  </a:lnTo>
                  <a:lnTo>
                    <a:pt x="245" y="457"/>
                  </a:lnTo>
                  <a:lnTo>
                    <a:pt x="206" y="517"/>
                  </a:lnTo>
                  <a:lnTo>
                    <a:pt x="248" y="520"/>
                  </a:lnTo>
                  <a:lnTo>
                    <a:pt x="275" y="514"/>
                  </a:lnTo>
                  <a:lnTo>
                    <a:pt x="314" y="490"/>
                  </a:lnTo>
                  <a:lnTo>
                    <a:pt x="368" y="415"/>
                  </a:lnTo>
                  <a:lnTo>
                    <a:pt x="386" y="325"/>
                  </a:lnTo>
                  <a:lnTo>
                    <a:pt x="434" y="235"/>
                  </a:lnTo>
                  <a:lnTo>
                    <a:pt x="470" y="331"/>
                  </a:lnTo>
                  <a:lnTo>
                    <a:pt x="542" y="400"/>
                  </a:lnTo>
                  <a:lnTo>
                    <a:pt x="590" y="391"/>
                  </a:lnTo>
                  <a:lnTo>
                    <a:pt x="545" y="331"/>
                  </a:lnTo>
                  <a:lnTo>
                    <a:pt x="513" y="280"/>
                  </a:lnTo>
                  <a:lnTo>
                    <a:pt x="531" y="300"/>
                  </a:lnTo>
                  <a:lnTo>
                    <a:pt x="585" y="372"/>
                  </a:lnTo>
                  <a:lnTo>
                    <a:pt x="625" y="398"/>
                  </a:lnTo>
                  <a:lnTo>
                    <a:pt x="661" y="473"/>
                  </a:lnTo>
                  <a:lnTo>
                    <a:pt x="685" y="463"/>
                  </a:lnTo>
                  <a:lnTo>
                    <a:pt x="704" y="644"/>
                  </a:lnTo>
                  <a:lnTo>
                    <a:pt x="712" y="732"/>
                  </a:lnTo>
                  <a:lnTo>
                    <a:pt x="689" y="832"/>
                  </a:lnTo>
                  <a:lnTo>
                    <a:pt x="701" y="922"/>
                  </a:lnTo>
                  <a:lnTo>
                    <a:pt x="764" y="925"/>
                  </a:lnTo>
                  <a:lnTo>
                    <a:pt x="836" y="895"/>
                  </a:lnTo>
                  <a:lnTo>
                    <a:pt x="803" y="871"/>
                  </a:lnTo>
                  <a:lnTo>
                    <a:pt x="773" y="838"/>
                  </a:lnTo>
                  <a:lnTo>
                    <a:pt x="755" y="799"/>
                  </a:lnTo>
                  <a:lnTo>
                    <a:pt x="740" y="742"/>
                  </a:lnTo>
                  <a:lnTo>
                    <a:pt x="752" y="684"/>
                  </a:lnTo>
                  <a:lnTo>
                    <a:pt x="776" y="628"/>
                  </a:lnTo>
                  <a:lnTo>
                    <a:pt x="804" y="540"/>
                  </a:lnTo>
                  <a:lnTo>
                    <a:pt x="801" y="402"/>
                  </a:lnTo>
                  <a:lnTo>
                    <a:pt x="756" y="246"/>
                  </a:lnTo>
                  <a:lnTo>
                    <a:pt x="594" y="57"/>
                  </a:lnTo>
                  <a:lnTo>
                    <a:pt x="378" y="0"/>
                  </a:lnTo>
                  <a:lnTo>
                    <a:pt x="219" y="51"/>
                  </a:lnTo>
                  <a:lnTo>
                    <a:pt x="81" y="14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677480" y="4581000"/>
              <a:ext cx="64080" cy="167400"/>
            </a:xfrm>
            <a:custGeom>
              <a:avLst/>
              <a:gdLst/>
              <a:ahLst/>
              <a:rect l="l" t="t" r="r" b="b"/>
              <a:pathLst>
                <a:path w="71" h="185">
                  <a:moveTo>
                    <a:pt x="0" y="11"/>
                  </a:moveTo>
                  <a:lnTo>
                    <a:pt x="24" y="0"/>
                  </a:lnTo>
                  <a:lnTo>
                    <a:pt x="45" y="46"/>
                  </a:lnTo>
                  <a:lnTo>
                    <a:pt x="57" y="123"/>
                  </a:lnTo>
                  <a:lnTo>
                    <a:pt x="67" y="149"/>
                  </a:lnTo>
                  <a:lnTo>
                    <a:pt x="70" y="173"/>
                  </a:lnTo>
                  <a:lnTo>
                    <a:pt x="45" y="184"/>
                  </a:lnTo>
                  <a:lnTo>
                    <a:pt x="35" y="107"/>
                  </a:lnTo>
                  <a:lnTo>
                    <a:pt x="16" y="50"/>
                  </a:lnTo>
                  <a:lnTo>
                    <a:pt x="0" y="11"/>
                  </a:lnTo>
                </a:path>
              </a:pathLst>
            </a:custGeom>
            <a:solidFill>
              <a:srgbClr val="d9995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489200" y="4544640"/>
              <a:ext cx="154800" cy="68760"/>
            </a:xfrm>
            <a:custGeom>
              <a:avLst/>
              <a:gdLst/>
              <a:ahLst/>
              <a:rect l="l" t="t" r="r" b="b"/>
              <a:pathLst>
                <a:path w="171" h="76">
                  <a:moveTo>
                    <a:pt x="0" y="71"/>
                  </a:moveTo>
                  <a:lnTo>
                    <a:pt x="31" y="43"/>
                  </a:lnTo>
                  <a:lnTo>
                    <a:pt x="126" y="0"/>
                  </a:lnTo>
                  <a:lnTo>
                    <a:pt x="170" y="30"/>
                  </a:lnTo>
                  <a:lnTo>
                    <a:pt x="118" y="22"/>
                  </a:lnTo>
                  <a:lnTo>
                    <a:pt x="71" y="43"/>
                  </a:lnTo>
                  <a:lnTo>
                    <a:pt x="34" y="74"/>
                  </a:lnTo>
                  <a:lnTo>
                    <a:pt x="0" y="75"/>
                  </a:lnTo>
                </a:path>
              </a:pathLst>
            </a:custGeom>
            <a:solidFill>
              <a:srgbClr val="712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317840" y="5168160"/>
              <a:ext cx="213480" cy="61560"/>
            </a:xfrm>
            <a:custGeom>
              <a:avLst/>
              <a:gdLst/>
              <a:ahLst/>
              <a:rect l="l" t="t" r="r" b="b"/>
              <a:pathLst>
                <a:path w="236" h="68">
                  <a:moveTo>
                    <a:pt x="235" y="67"/>
                  </a:moveTo>
                  <a:lnTo>
                    <a:pt x="83" y="19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206600" y="4705200"/>
              <a:ext cx="75960" cy="156600"/>
            </a:xfrm>
            <a:custGeom>
              <a:avLst/>
              <a:gdLst/>
              <a:ahLst/>
              <a:rect l="l" t="t" r="r" b="b"/>
              <a:pathLst>
                <a:path w="84" h="173">
                  <a:moveTo>
                    <a:pt x="23" y="0"/>
                  </a:moveTo>
                  <a:lnTo>
                    <a:pt x="0" y="7"/>
                  </a:lnTo>
                  <a:lnTo>
                    <a:pt x="6" y="54"/>
                  </a:lnTo>
                  <a:lnTo>
                    <a:pt x="39" y="124"/>
                  </a:lnTo>
                  <a:lnTo>
                    <a:pt x="46" y="154"/>
                  </a:lnTo>
                  <a:lnTo>
                    <a:pt x="62" y="172"/>
                  </a:lnTo>
                  <a:lnTo>
                    <a:pt x="83" y="169"/>
                  </a:lnTo>
                  <a:lnTo>
                    <a:pt x="48" y="99"/>
                  </a:lnTo>
                  <a:lnTo>
                    <a:pt x="32" y="41"/>
                  </a:lnTo>
                  <a:lnTo>
                    <a:pt x="23" y="0"/>
                  </a:lnTo>
                </a:path>
              </a:pathLst>
            </a:custGeom>
            <a:solidFill>
              <a:srgbClr val="d9995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350600" y="4694400"/>
              <a:ext cx="11520" cy="14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173120" y="4861080"/>
              <a:ext cx="162720" cy="122040"/>
            </a:xfrm>
            <a:custGeom>
              <a:avLst/>
              <a:gdLst/>
              <a:ahLst/>
              <a:rect l="l" t="t" r="r" b="b"/>
              <a:pathLst>
                <a:path w="180" h="135">
                  <a:moveTo>
                    <a:pt x="0" y="0"/>
                  </a:moveTo>
                  <a:lnTo>
                    <a:pt x="0" y="30"/>
                  </a:lnTo>
                  <a:lnTo>
                    <a:pt x="104" y="131"/>
                  </a:lnTo>
                  <a:lnTo>
                    <a:pt x="179" y="134"/>
                  </a:lnTo>
                  <a:lnTo>
                    <a:pt x="117" y="70"/>
                  </a:lnTo>
                  <a:lnTo>
                    <a:pt x="67" y="59"/>
                  </a:lnTo>
                  <a:lnTo>
                    <a:pt x="38" y="33"/>
                  </a:lnTo>
                  <a:lnTo>
                    <a:pt x="5" y="3"/>
                  </a:lnTo>
                </a:path>
              </a:pathLst>
            </a:custGeom>
            <a:solidFill>
              <a:srgbClr val="fcd1c1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119480" y="4782240"/>
              <a:ext cx="249840" cy="290880"/>
            </a:xfrm>
            <a:custGeom>
              <a:avLst/>
              <a:gdLst/>
              <a:ahLst/>
              <a:rect l="l" t="t" r="r" b="b"/>
              <a:pathLst>
                <a:path w="276" h="321">
                  <a:moveTo>
                    <a:pt x="211" y="154"/>
                  </a:moveTo>
                  <a:lnTo>
                    <a:pt x="275" y="320"/>
                  </a:lnTo>
                  <a:lnTo>
                    <a:pt x="43" y="136"/>
                  </a:lnTo>
                  <a:lnTo>
                    <a:pt x="0" y="0"/>
                  </a:lnTo>
                  <a:lnTo>
                    <a:pt x="211" y="154"/>
                  </a:lnTo>
                </a:path>
              </a:pathLst>
            </a:custGeom>
            <a:solidFill>
              <a:srgbClr val="868686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299840" y="4911840"/>
              <a:ext cx="178200" cy="186480"/>
            </a:xfrm>
            <a:custGeom>
              <a:avLst/>
              <a:gdLst/>
              <a:ahLst/>
              <a:rect l="l" t="t" r="r" b="b"/>
              <a:pathLst>
                <a:path w="197" h="206">
                  <a:moveTo>
                    <a:pt x="0" y="0"/>
                  </a:moveTo>
                  <a:lnTo>
                    <a:pt x="66" y="159"/>
                  </a:lnTo>
                  <a:lnTo>
                    <a:pt x="196" y="205"/>
                  </a:lnTo>
                  <a:lnTo>
                    <a:pt x="136" y="25"/>
                  </a:lnTo>
                  <a:lnTo>
                    <a:pt x="125" y="8"/>
                  </a:lnTo>
                  <a:lnTo>
                    <a:pt x="0" y="0"/>
                  </a:lnTo>
                </a:path>
              </a:pathLst>
            </a:custGeom>
            <a:solidFill>
              <a:srgbClr val="868686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5151960" y="5616720"/>
              <a:ext cx="21600" cy="4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V="1">
              <a:off x="5125680" y="5614560"/>
              <a:ext cx="2160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V="1">
              <a:off x="5104800" y="5610240"/>
              <a:ext cx="16200" cy="4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5082480" y="5607000"/>
              <a:ext cx="12240" cy="4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V="1">
              <a:off x="5056200" y="5603400"/>
              <a:ext cx="12600" cy="4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V="1">
              <a:off x="5027040" y="5608080"/>
              <a:ext cx="10800" cy="42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44" name=""/>
            <p:cNvGrpSpPr/>
            <p:nvPr/>
          </p:nvGrpSpPr>
          <p:grpSpPr>
            <a:xfrm>
              <a:off x="3919680" y="5226120"/>
              <a:ext cx="124200" cy="219600"/>
              <a:chOff x="3919680" y="5226120"/>
              <a:chExt cx="124200" cy="219600"/>
            </a:xfrm>
          </p:grpSpPr>
          <p:sp>
            <p:nvSpPr>
              <p:cNvPr id="1645" name=""/>
              <p:cNvSpPr/>
              <p:nvPr/>
            </p:nvSpPr>
            <p:spPr>
              <a:xfrm flipV="1">
                <a:off x="3922200" y="5443200"/>
                <a:ext cx="14400" cy="2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3919680" y="5424480"/>
                <a:ext cx="18720" cy="4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3919680" y="5402880"/>
                <a:ext cx="18720" cy="9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3922200" y="5380920"/>
                <a:ext cx="16200" cy="4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3925080" y="5359320"/>
                <a:ext cx="15840" cy="4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931200" y="5337360"/>
                <a:ext cx="15840" cy="4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946680" y="5312880"/>
                <a:ext cx="1224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3961080" y="5294880"/>
                <a:ext cx="7920" cy="14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3971880" y="5280480"/>
                <a:ext cx="9000" cy="1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3986640" y="5267520"/>
                <a:ext cx="9000" cy="1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4004640" y="5247720"/>
                <a:ext cx="5040" cy="23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flipH="1">
                <a:off x="4024080" y="5229720"/>
                <a:ext cx="1800" cy="3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 flipH="1">
                <a:off x="4042080" y="5226120"/>
                <a:ext cx="1800" cy="28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58" name=""/>
            <p:cNvSpPr/>
            <p:nvPr/>
          </p:nvSpPr>
          <p:spPr>
            <a:xfrm>
              <a:off x="4062600" y="5558040"/>
              <a:ext cx="27000" cy="56160"/>
            </a:xfrm>
            <a:custGeom>
              <a:avLst/>
              <a:gdLst/>
              <a:ahLst/>
              <a:rect l="l" t="t" r="r" b="b"/>
              <a:pathLst>
                <a:path w="30" h="62">
                  <a:moveTo>
                    <a:pt x="20" y="0"/>
                  </a:moveTo>
                  <a:lnTo>
                    <a:pt x="29" y="26"/>
                  </a:lnTo>
                  <a:lnTo>
                    <a:pt x="26" y="42"/>
                  </a:lnTo>
                  <a:lnTo>
                    <a:pt x="23" y="55"/>
                  </a:lnTo>
                  <a:lnTo>
                    <a:pt x="0" y="61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107960" y="4638960"/>
              <a:ext cx="411120" cy="452160"/>
            </a:xfrm>
            <a:custGeom>
              <a:avLst/>
              <a:gdLst/>
              <a:ahLst/>
              <a:rect l="l" t="t" r="r" b="b"/>
              <a:pathLst>
                <a:path w="454" h="499">
                  <a:moveTo>
                    <a:pt x="350" y="323"/>
                  </a:moveTo>
                  <a:lnTo>
                    <a:pt x="224" y="314"/>
                  </a:lnTo>
                  <a:lnTo>
                    <a:pt x="16" y="183"/>
                  </a:lnTo>
                  <a:lnTo>
                    <a:pt x="0" y="60"/>
                  </a:lnTo>
                  <a:lnTo>
                    <a:pt x="38" y="26"/>
                  </a:lnTo>
                  <a:lnTo>
                    <a:pt x="110" y="0"/>
                  </a:lnTo>
                  <a:lnTo>
                    <a:pt x="112" y="142"/>
                  </a:lnTo>
                  <a:lnTo>
                    <a:pt x="96" y="161"/>
                  </a:lnTo>
                  <a:lnTo>
                    <a:pt x="261" y="281"/>
                  </a:lnTo>
                  <a:lnTo>
                    <a:pt x="294" y="278"/>
                  </a:lnTo>
                  <a:lnTo>
                    <a:pt x="402" y="302"/>
                  </a:lnTo>
                  <a:lnTo>
                    <a:pt x="453" y="457"/>
                  </a:lnTo>
                  <a:lnTo>
                    <a:pt x="414" y="490"/>
                  </a:lnTo>
                  <a:lnTo>
                    <a:pt x="418" y="498"/>
                  </a:lnTo>
                  <a:lnTo>
                    <a:pt x="346" y="323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89898"/>
                </a:gs>
              </a:gsLst>
              <a:lin ang="5400000"/>
            </a:gra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088880" y="4696920"/>
              <a:ext cx="90360" cy="320040"/>
            </a:xfrm>
            <a:custGeom>
              <a:avLst/>
              <a:gdLst/>
              <a:ahLst/>
              <a:rect l="l" t="t" r="r" b="b"/>
              <a:pathLst>
                <a:path w="100" h="353">
                  <a:moveTo>
                    <a:pt x="67" y="314"/>
                  </a:moveTo>
                  <a:lnTo>
                    <a:pt x="10" y="192"/>
                  </a:lnTo>
                  <a:lnTo>
                    <a:pt x="0" y="122"/>
                  </a:lnTo>
                  <a:lnTo>
                    <a:pt x="26" y="42"/>
                  </a:lnTo>
                  <a:lnTo>
                    <a:pt x="64" y="0"/>
                  </a:lnTo>
                  <a:lnTo>
                    <a:pt x="74" y="29"/>
                  </a:lnTo>
                  <a:lnTo>
                    <a:pt x="61" y="83"/>
                  </a:lnTo>
                  <a:lnTo>
                    <a:pt x="58" y="195"/>
                  </a:lnTo>
                  <a:lnTo>
                    <a:pt x="99" y="278"/>
                  </a:lnTo>
                  <a:lnTo>
                    <a:pt x="96" y="352"/>
                  </a:lnTo>
                  <a:lnTo>
                    <a:pt x="67" y="314"/>
                  </a:lnTo>
                </a:path>
              </a:pathLst>
            </a:custGeom>
            <a:solidFill>
              <a:srgbClr val="d9995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929400" y="4752360"/>
              <a:ext cx="524160" cy="901800"/>
            </a:xfrm>
            <a:custGeom>
              <a:avLst/>
              <a:gdLst/>
              <a:ahLst/>
              <a:rect l="l" t="t" r="r" b="b"/>
              <a:pathLst>
                <a:path w="579" h="995">
                  <a:moveTo>
                    <a:pt x="237" y="0"/>
                  </a:moveTo>
                  <a:lnTo>
                    <a:pt x="205" y="99"/>
                  </a:lnTo>
                  <a:lnTo>
                    <a:pt x="245" y="243"/>
                  </a:lnTo>
                  <a:lnTo>
                    <a:pt x="277" y="307"/>
                  </a:lnTo>
                  <a:lnTo>
                    <a:pt x="195" y="473"/>
                  </a:lnTo>
                  <a:lnTo>
                    <a:pt x="21" y="691"/>
                  </a:lnTo>
                  <a:lnTo>
                    <a:pt x="0" y="838"/>
                  </a:lnTo>
                  <a:lnTo>
                    <a:pt x="69" y="987"/>
                  </a:lnTo>
                  <a:lnTo>
                    <a:pt x="131" y="995"/>
                  </a:lnTo>
                  <a:lnTo>
                    <a:pt x="227" y="977"/>
                  </a:lnTo>
                  <a:lnTo>
                    <a:pt x="287" y="911"/>
                  </a:lnTo>
                  <a:lnTo>
                    <a:pt x="317" y="835"/>
                  </a:lnTo>
                  <a:lnTo>
                    <a:pt x="398" y="452"/>
                  </a:lnTo>
                  <a:lnTo>
                    <a:pt x="413" y="355"/>
                  </a:lnTo>
                  <a:lnTo>
                    <a:pt x="487" y="301"/>
                  </a:lnTo>
                  <a:lnTo>
                    <a:pt x="547" y="288"/>
                  </a:lnTo>
                  <a:lnTo>
                    <a:pt x="579" y="272"/>
                  </a:lnTo>
                  <a:lnTo>
                    <a:pt x="525" y="243"/>
                  </a:lnTo>
                  <a:lnTo>
                    <a:pt x="429" y="259"/>
                  </a:lnTo>
                  <a:lnTo>
                    <a:pt x="365" y="249"/>
                  </a:lnTo>
                  <a:lnTo>
                    <a:pt x="269" y="147"/>
                  </a:lnTo>
                  <a:lnTo>
                    <a:pt x="256" y="91"/>
                  </a:lnTo>
                  <a:lnTo>
                    <a:pt x="264" y="14"/>
                  </a:lnTo>
                  <a:lnTo>
                    <a:pt x="237" y="0"/>
                  </a:lnTo>
                </a:path>
              </a:pathLst>
            </a:custGeom>
            <a:solidFill>
              <a:srgbClr val="d9995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148640" y="4997160"/>
              <a:ext cx="182160" cy="140040"/>
            </a:xfrm>
            <a:custGeom>
              <a:avLst/>
              <a:gdLst/>
              <a:ahLst/>
              <a:rect l="l" t="t" r="r" b="b"/>
              <a:pathLst>
                <a:path w="201" h="155">
                  <a:moveTo>
                    <a:pt x="8" y="93"/>
                  </a:moveTo>
                  <a:lnTo>
                    <a:pt x="35" y="48"/>
                  </a:lnTo>
                  <a:lnTo>
                    <a:pt x="69" y="32"/>
                  </a:lnTo>
                  <a:lnTo>
                    <a:pt x="99" y="32"/>
                  </a:lnTo>
                  <a:lnTo>
                    <a:pt x="128" y="40"/>
                  </a:lnTo>
                  <a:lnTo>
                    <a:pt x="157" y="58"/>
                  </a:lnTo>
                  <a:lnTo>
                    <a:pt x="171" y="82"/>
                  </a:lnTo>
                  <a:lnTo>
                    <a:pt x="168" y="120"/>
                  </a:lnTo>
                  <a:lnTo>
                    <a:pt x="166" y="154"/>
                  </a:lnTo>
                  <a:lnTo>
                    <a:pt x="195" y="133"/>
                  </a:lnTo>
                  <a:lnTo>
                    <a:pt x="200" y="104"/>
                  </a:lnTo>
                  <a:lnTo>
                    <a:pt x="197" y="66"/>
                  </a:lnTo>
                  <a:lnTo>
                    <a:pt x="179" y="32"/>
                  </a:lnTo>
                  <a:lnTo>
                    <a:pt x="152" y="10"/>
                  </a:lnTo>
                  <a:lnTo>
                    <a:pt x="128" y="2"/>
                  </a:lnTo>
                  <a:lnTo>
                    <a:pt x="101" y="0"/>
                  </a:lnTo>
                  <a:lnTo>
                    <a:pt x="72" y="0"/>
                  </a:lnTo>
                  <a:lnTo>
                    <a:pt x="48" y="10"/>
                  </a:lnTo>
                  <a:lnTo>
                    <a:pt x="24" y="32"/>
                  </a:lnTo>
                  <a:lnTo>
                    <a:pt x="3" y="61"/>
                  </a:lnTo>
                  <a:lnTo>
                    <a:pt x="0" y="80"/>
                  </a:lnTo>
                  <a:lnTo>
                    <a:pt x="8" y="93"/>
                  </a:lnTo>
                </a:path>
              </a:pathLst>
            </a:custGeom>
            <a:solidFill>
              <a:srgbClr val="f5c44b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187520" y="5012640"/>
              <a:ext cx="127440" cy="73080"/>
            </a:xfrm>
            <a:custGeom>
              <a:avLst/>
              <a:gdLst/>
              <a:ahLst/>
              <a:rect l="l" t="t" r="r" b="b"/>
              <a:pathLst>
                <a:path w="141" h="81">
                  <a:moveTo>
                    <a:pt x="0" y="16"/>
                  </a:moveTo>
                  <a:lnTo>
                    <a:pt x="24" y="2"/>
                  </a:lnTo>
                  <a:lnTo>
                    <a:pt x="54" y="0"/>
                  </a:lnTo>
                  <a:lnTo>
                    <a:pt x="78" y="4"/>
                  </a:lnTo>
                  <a:lnTo>
                    <a:pt x="102" y="12"/>
                  </a:lnTo>
                  <a:lnTo>
                    <a:pt x="116" y="24"/>
                  </a:lnTo>
                  <a:lnTo>
                    <a:pt x="128" y="40"/>
                  </a:lnTo>
                  <a:lnTo>
                    <a:pt x="138" y="58"/>
                  </a:lnTo>
                  <a:lnTo>
                    <a:pt x="140" y="8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124160" y="4230000"/>
              <a:ext cx="320400" cy="433800"/>
            </a:xfrm>
            <a:custGeom>
              <a:avLst/>
              <a:gdLst/>
              <a:ahLst/>
              <a:rect l="l" t="t" r="r" b="b"/>
              <a:pathLst>
                <a:path w="354" h="479">
                  <a:moveTo>
                    <a:pt x="354" y="11"/>
                  </a:moveTo>
                  <a:cubicBezTo>
                    <a:pt x="330" y="15"/>
                    <a:pt x="252" y="0"/>
                    <a:pt x="210" y="38"/>
                  </a:cubicBezTo>
                  <a:cubicBezTo>
                    <a:pt x="168" y="76"/>
                    <a:pt x="137" y="190"/>
                    <a:pt x="105" y="239"/>
                  </a:cubicBezTo>
                  <a:cubicBezTo>
                    <a:pt x="73" y="288"/>
                    <a:pt x="30" y="292"/>
                    <a:pt x="15" y="332"/>
                  </a:cubicBezTo>
                  <a:cubicBezTo>
                    <a:pt x="0" y="372"/>
                    <a:pt x="13" y="449"/>
                    <a:pt x="12" y="479"/>
                  </a:cubicBezTo>
                </a:path>
              </a:pathLst>
            </a:custGeom>
            <a:noFill/>
            <a:ln w="9360">
              <a:solidFill>
                <a:srgbClr val="99432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276080" y="4272840"/>
              <a:ext cx="187200" cy="337320"/>
            </a:xfrm>
            <a:custGeom>
              <a:avLst/>
              <a:gdLst/>
              <a:ahLst/>
              <a:rect l="l" t="t" r="r" b="b"/>
              <a:pathLst>
                <a:path w="207" h="372">
                  <a:moveTo>
                    <a:pt x="207" y="21"/>
                  </a:moveTo>
                  <a:cubicBezTo>
                    <a:pt x="195" y="20"/>
                    <a:pt x="154" y="0"/>
                    <a:pt x="135" y="12"/>
                  </a:cubicBezTo>
                  <a:cubicBezTo>
                    <a:pt x="116" y="24"/>
                    <a:pt x="100" y="62"/>
                    <a:pt x="90" y="96"/>
                  </a:cubicBezTo>
                  <a:cubicBezTo>
                    <a:pt x="80" y="130"/>
                    <a:pt x="76" y="179"/>
                    <a:pt x="72" y="216"/>
                  </a:cubicBezTo>
                  <a:cubicBezTo>
                    <a:pt x="68" y="253"/>
                    <a:pt x="75" y="292"/>
                    <a:pt x="63" y="318"/>
                  </a:cubicBezTo>
                  <a:cubicBezTo>
                    <a:pt x="51" y="344"/>
                    <a:pt x="13" y="361"/>
                    <a:pt x="0" y="372"/>
                  </a:cubicBezTo>
                </a:path>
              </a:pathLst>
            </a:custGeom>
            <a:noFill/>
            <a:ln w="9360">
              <a:solidFill>
                <a:srgbClr val="99432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278960" y="4313520"/>
              <a:ext cx="187200" cy="304200"/>
            </a:xfrm>
            <a:custGeom>
              <a:avLst/>
              <a:gdLst/>
              <a:ahLst/>
              <a:rect l="l" t="t" r="r" b="b"/>
              <a:pathLst>
                <a:path w="231" h="336">
                  <a:moveTo>
                    <a:pt x="231" y="0"/>
                  </a:moveTo>
                  <a:cubicBezTo>
                    <a:pt x="222" y="2"/>
                    <a:pt x="188" y="7"/>
                    <a:pt x="174" y="18"/>
                  </a:cubicBezTo>
                  <a:cubicBezTo>
                    <a:pt x="160" y="29"/>
                    <a:pt x="155" y="38"/>
                    <a:pt x="147" y="66"/>
                  </a:cubicBezTo>
                  <a:cubicBezTo>
                    <a:pt x="139" y="94"/>
                    <a:pt x="133" y="149"/>
                    <a:pt x="129" y="186"/>
                  </a:cubicBezTo>
                  <a:cubicBezTo>
                    <a:pt x="125" y="223"/>
                    <a:pt x="141" y="263"/>
                    <a:pt x="120" y="288"/>
                  </a:cubicBezTo>
                  <a:cubicBezTo>
                    <a:pt x="99" y="313"/>
                    <a:pt x="49" y="324"/>
                    <a:pt x="0" y="336"/>
                  </a:cubicBezTo>
                </a:path>
              </a:pathLst>
            </a:custGeom>
            <a:noFill/>
            <a:ln w="9360">
              <a:solidFill>
                <a:srgbClr val="99432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482720" y="4365360"/>
              <a:ext cx="307800" cy="350640"/>
            </a:xfrm>
            <a:custGeom>
              <a:avLst/>
              <a:gdLst/>
              <a:ahLst/>
              <a:rect l="l" t="t" r="r" b="b"/>
              <a:pathLst>
                <a:path w="340" h="387">
                  <a:moveTo>
                    <a:pt x="0" y="0"/>
                  </a:moveTo>
                  <a:cubicBezTo>
                    <a:pt x="10" y="15"/>
                    <a:pt x="35" y="68"/>
                    <a:pt x="63" y="90"/>
                  </a:cubicBezTo>
                  <a:cubicBezTo>
                    <a:pt x="91" y="112"/>
                    <a:pt x="128" y="115"/>
                    <a:pt x="171" y="135"/>
                  </a:cubicBezTo>
                  <a:cubicBezTo>
                    <a:pt x="214" y="155"/>
                    <a:pt x="302" y="171"/>
                    <a:pt x="321" y="213"/>
                  </a:cubicBezTo>
                  <a:cubicBezTo>
                    <a:pt x="340" y="255"/>
                    <a:pt x="290" y="351"/>
                    <a:pt x="282" y="387"/>
                  </a:cubicBezTo>
                </a:path>
              </a:pathLst>
            </a:custGeom>
            <a:noFill/>
            <a:ln w="9360">
              <a:solidFill>
                <a:srgbClr val="99432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485600" y="4343400"/>
              <a:ext cx="332280" cy="329040"/>
            </a:xfrm>
            <a:custGeom>
              <a:avLst/>
              <a:gdLst/>
              <a:ahLst/>
              <a:rect l="l" t="t" r="r" b="b"/>
              <a:pathLst>
                <a:path w="367" h="363">
                  <a:moveTo>
                    <a:pt x="0" y="0"/>
                  </a:moveTo>
                  <a:cubicBezTo>
                    <a:pt x="21" y="7"/>
                    <a:pt x="96" y="27"/>
                    <a:pt x="129" y="45"/>
                  </a:cubicBezTo>
                  <a:cubicBezTo>
                    <a:pt x="162" y="63"/>
                    <a:pt x="162" y="87"/>
                    <a:pt x="198" y="111"/>
                  </a:cubicBezTo>
                  <a:cubicBezTo>
                    <a:pt x="234" y="135"/>
                    <a:pt x="329" y="147"/>
                    <a:pt x="348" y="189"/>
                  </a:cubicBezTo>
                  <a:cubicBezTo>
                    <a:pt x="367" y="231"/>
                    <a:pt x="317" y="327"/>
                    <a:pt x="309" y="363"/>
                  </a:cubicBezTo>
                </a:path>
              </a:pathLst>
            </a:custGeom>
            <a:noFill/>
            <a:ln w="9360">
              <a:solidFill>
                <a:srgbClr val="99432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H="1">
              <a:off x="4496400" y="4286160"/>
              <a:ext cx="257760" cy="103320"/>
            </a:xfrm>
            <a:custGeom>
              <a:avLst/>
              <a:gdLst/>
              <a:ahLst/>
              <a:rect l="l" t="t" r="r" b="b"/>
              <a:pathLst>
                <a:path w="207" h="372">
                  <a:moveTo>
                    <a:pt x="207" y="21"/>
                  </a:moveTo>
                  <a:cubicBezTo>
                    <a:pt x="195" y="20"/>
                    <a:pt x="154" y="0"/>
                    <a:pt x="135" y="12"/>
                  </a:cubicBezTo>
                  <a:cubicBezTo>
                    <a:pt x="116" y="24"/>
                    <a:pt x="100" y="62"/>
                    <a:pt x="90" y="96"/>
                  </a:cubicBezTo>
                  <a:cubicBezTo>
                    <a:pt x="80" y="130"/>
                    <a:pt x="76" y="179"/>
                    <a:pt x="72" y="216"/>
                  </a:cubicBezTo>
                  <a:cubicBezTo>
                    <a:pt x="68" y="253"/>
                    <a:pt x="75" y="292"/>
                    <a:pt x="63" y="318"/>
                  </a:cubicBezTo>
                  <a:cubicBezTo>
                    <a:pt x="51" y="344"/>
                    <a:pt x="13" y="361"/>
                    <a:pt x="0" y="372"/>
                  </a:cubicBezTo>
                </a:path>
              </a:pathLst>
            </a:custGeom>
            <a:noFill/>
            <a:ln w="9360">
              <a:solidFill>
                <a:srgbClr val="99432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428360" y="4663440"/>
              <a:ext cx="122040" cy="164520"/>
            </a:xfrm>
            <a:custGeom>
              <a:avLst/>
              <a:gdLst/>
              <a:ahLst/>
              <a:rect l="l" t="t" r="r" b="b"/>
              <a:pathLst>
                <a:path w="135" h="182">
                  <a:moveTo>
                    <a:pt x="0" y="0"/>
                  </a:moveTo>
                  <a:lnTo>
                    <a:pt x="17" y="37"/>
                  </a:lnTo>
                  <a:lnTo>
                    <a:pt x="35" y="84"/>
                  </a:lnTo>
                  <a:lnTo>
                    <a:pt x="49" y="144"/>
                  </a:lnTo>
                  <a:lnTo>
                    <a:pt x="29" y="155"/>
                  </a:lnTo>
                  <a:lnTo>
                    <a:pt x="37" y="173"/>
                  </a:lnTo>
                  <a:lnTo>
                    <a:pt x="90" y="181"/>
                  </a:lnTo>
                  <a:lnTo>
                    <a:pt x="110" y="170"/>
                  </a:lnTo>
                  <a:lnTo>
                    <a:pt x="134" y="139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641120" y="5195520"/>
              <a:ext cx="193680" cy="31680"/>
            </a:xfrm>
            <a:custGeom>
              <a:avLst/>
              <a:gdLst/>
              <a:ahLst/>
              <a:rect l="l" t="t" r="r" b="b"/>
              <a:pathLst>
                <a:path w="214" h="35">
                  <a:moveTo>
                    <a:pt x="213" y="0"/>
                  </a:moveTo>
                  <a:lnTo>
                    <a:pt x="208" y="0"/>
                  </a:lnTo>
                  <a:lnTo>
                    <a:pt x="99" y="21"/>
                  </a:lnTo>
                  <a:lnTo>
                    <a:pt x="0" y="34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527360" y="4618080"/>
              <a:ext cx="109440" cy="56880"/>
            </a:xfrm>
            <a:custGeom>
              <a:avLst/>
              <a:gdLst/>
              <a:ahLst/>
              <a:rect l="l" t="t" r="r" b="b"/>
              <a:pathLst>
                <a:path w="121" h="63">
                  <a:moveTo>
                    <a:pt x="120" y="16"/>
                  </a:moveTo>
                  <a:lnTo>
                    <a:pt x="79" y="0"/>
                  </a:lnTo>
                  <a:lnTo>
                    <a:pt x="36" y="10"/>
                  </a:lnTo>
                  <a:lnTo>
                    <a:pt x="1" y="43"/>
                  </a:lnTo>
                  <a:lnTo>
                    <a:pt x="0" y="62"/>
                  </a:lnTo>
                  <a:lnTo>
                    <a:pt x="37" y="54"/>
                  </a:lnTo>
                  <a:lnTo>
                    <a:pt x="72" y="48"/>
                  </a:lnTo>
                  <a:lnTo>
                    <a:pt x="99" y="30"/>
                  </a:lnTo>
                  <a:lnTo>
                    <a:pt x="120" y="1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714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rot="19620000">
              <a:off x="4564080" y="4618800"/>
              <a:ext cx="42480" cy="36720"/>
            </a:xfrm>
            <a:prstGeom prst="ellipse">
              <a:avLst/>
            </a:prstGeom>
            <a:solidFill>
              <a:srgbClr val="5a40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449240" y="4826520"/>
              <a:ext cx="182160" cy="107640"/>
            </a:xfrm>
            <a:custGeom>
              <a:avLst/>
              <a:gdLst/>
              <a:ahLst/>
              <a:rect l="l" t="t" r="r" b="b"/>
              <a:pathLst>
                <a:path w="201" h="119">
                  <a:moveTo>
                    <a:pt x="0" y="69"/>
                  </a:moveTo>
                  <a:lnTo>
                    <a:pt x="33" y="91"/>
                  </a:lnTo>
                  <a:lnTo>
                    <a:pt x="69" y="109"/>
                  </a:lnTo>
                  <a:lnTo>
                    <a:pt x="98" y="119"/>
                  </a:lnTo>
                  <a:lnTo>
                    <a:pt x="119" y="117"/>
                  </a:lnTo>
                  <a:lnTo>
                    <a:pt x="148" y="106"/>
                  </a:lnTo>
                  <a:lnTo>
                    <a:pt x="178" y="84"/>
                  </a:lnTo>
                  <a:lnTo>
                    <a:pt x="193" y="48"/>
                  </a:lnTo>
                  <a:lnTo>
                    <a:pt x="201" y="0"/>
                  </a:lnTo>
                  <a:lnTo>
                    <a:pt x="156" y="71"/>
                  </a:lnTo>
                  <a:lnTo>
                    <a:pt x="127" y="85"/>
                  </a:lnTo>
                  <a:lnTo>
                    <a:pt x="102" y="92"/>
                  </a:lnTo>
                  <a:lnTo>
                    <a:pt x="78" y="92"/>
                  </a:lnTo>
                  <a:lnTo>
                    <a:pt x="52" y="86"/>
                  </a:lnTo>
                  <a:lnTo>
                    <a:pt x="0" y="6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460040" y="4833000"/>
              <a:ext cx="163800" cy="73440"/>
            </a:xfrm>
            <a:custGeom>
              <a:avLst/>
              <a:gdLst/>
              <a:ahLst/>
              <a:rect l="l" t="t" r="r" b="b"/>
              <a:pathLst>
                <a:path w="181" h="81">
                  <a:moveTo>
                    <a:pt x="1" y="65"/>
                  </a:moveTo>
                  <a:lnTo>
                    <a:pt x="46" y="42"/>
                  </a:lnTo>
                  <a:lnTo>
                    <a:pt x="99" y="36"/>
                  </a:lnTo>
                  <a:lnTo>
                    <a:pt x="139" y="17"/>
                  </a:lnTo>
                  <a:lnTo>
                    <a:pt x="181" y="0"/>
                  </a:lnTo>
                  <a:lnTo>
                    <a:pt x="159" y="41"/>
                  </a:lnTo>
                  <a:lnTo>
                    <a:pt x="124" y="68"/>
                  </a:lnTo>
                  <a:lnTo>
                    <a:pt x="78" y="81"/>
                  </a:lnTo>
                  <a:lnTo>
                    <a:pt x="37" y="74"/>
                  </a:lnTo>
                  <a:lnTo>
                    <a:pt x="0" y="6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450320" y="4827600"/>
              <a:ext cx="181080" cy="58680"/>
            </a:xfrm>
            <a:custGeom>
              <a:avLst/>
              <a:gdLst/>
              <a:ahLst/>
              <a:rect l="l" t="t" r="r" b="b"/>
              <a:pathLst>
                <a:path w="200" h="65">
                  <a:moveTo>
                    <a:pt x="0" y="65"/>
                  </a:moveTo>
                  <a:lnTo>
                    <a:pt x="52" y="61"/>
                  </a:lnTo>
                  <a:lnTo>
                    <a:pt x="84" y="59"/>
                  </a:lnTo>
                  <a:lnTo>
                    <a:pt x="105" y="54"/>
                  </a:lnTo>
                  <a:lnTo>
                    <a:pt x="123" y="48"/>
                  </a:lnTo>
                  <a:lnTo>
                    <a:pt x="137" y="42"/>
                  </a:lnTo>
                  <a:lnTo>
                    <a:pt x="150" y="32"/>
                  </a:lnTo>
                  <a:lnTo>
                    <a:pt x="167" y="18"/>
                  </a:lnTo>
                  <a:lnTo>
                    <a:pt x="185" y="6"/>
                  </a:lnTo>
                  <a:lnTo>
                    <a:pt x="200" y="0"/>
                  </a:lnTo>
                  <a:lnTo>
                    <a:pt x="149" y="18"/>
                  </a:lnTo>
                  <a:lnTo>
                    <a:pt x="116" y="23"/>
                  </a:lnTo>
                  <a:lnTo>
                    <a:pt x="108" y="41"/>
                  </a:lnTo>
                  <a:lnTo>
                    <a:pt x="81" y="33"/>
                  </a:lnTo>
                  <a:lnTo>
                    <a:pt x="54" y="47"/>
                  </a:lnTo>
                  <a:lnTo>
                    <a:pt x="27" y="56"/>
                  </a:lnTo>
                  <a:lnTo>
                    <a:pt x="14" y="6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584960" y="4621680"/>
              <a:ext cx="11520" cy="14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710960" y="4717800"/>
              <a:ext cx="40320" cy="57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421160" y="4913640"/>
              <a:ext cx="96480" cy="187560"/>
            </a:xfrm>
            <a:custGeom>
              <a:avLst/>
              <a:gdLst/>
              <a:ahLst/>
              <a:rect l="l" t="t" r="r" b="b"/>
              <a:pathLst>
                <a:path w="107" h="207">
                  <a:moveTo>
                    <a:pt x="62" y="205"/>
                  </a:moveTo>
                  <a:lnTo>
                    <a:pt x="0" y="21"/>
                  </a:lnTo>
                  <a:lnTo>
                    <a:pt x="56" y="0"/>
                  </a:lnTo>
                  <a:lnTo>
                    <a:pt x="107" y="154"/>
                  </a:lnTo>
                  <a:lnTo>
                    <a:pt x="62" y="207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5400000"/>
            </a:gra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522680" y="4902840"/>
              <a:ext cx="75960" cy="24120"/>
            </a:xfrm>
            <a:custGeom>
              <a:avLst/>
              <a:gdLst/>
              <a:ahLst/>
              <a:rect l="l" t="t" r="r" b="b"/>
              <a:pathLst>
                <a:path w="84" h="27">
                  <a:moveTo>
                    <a:pt x="0" y="21"/>
                  </a:moveTo>
                  <a:cubicBezTo>
                    <a:pt x="10" y="24"/>
                    <a:pt x="20" y="27"/>
                    <a:pt x="34" y="24"/>
                  </a:cubicBezTo>
                  <a:cubicBezTo>
                    <a:pt x="48" y="21"/>
                    <a:pt x="66" y="10"/>
                    <a:pt x="84" y="0"/>
                  </a:cubicBezTo>
                </a:path>
              </a:pathLst>
            </a:custGeom>
            <a:noFill/>
            <a:ln w="9360">
              <a:solidFill>
                <a:srgbClr val="faacb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521600" y="4601880"/>
              <a:ext cx="117360" cy="71280"/>
            </a:xfrm>
            <a:custGeom>
              <a:avLst/>
              <a:gdLst/>
              <a:ahLst/>
              <a:rect l="l" t="t" r="r" b="b"/>
              <a:pathLst>
                <a:path w="130" h="79">
                  <a:moveTo>
                    <a:pt x="5" y="78"/>
                  </a:moveTo>
                  <a:lnTo>
                    <a:pt x="39" y="30"/>
                  </a:lnTo>
                  <a:lnTo>
                    <a:pt x="66" y="19"/>
                  </a:lnTo>
                  <a:lnTo>
                    <a:pt x="109" y="27"/>
                  </a:lnTo>
                  <a:lnTo>
                    <a:pt x="129" y="28"/>
                  </a:lnTo>
                  <a:lnTo>
                    <a:pt x="94" y="3"/>
                  </a:lnTo>
                  <a:lnTo>
                    <a:pt x="65" y="0"/>
                  </a:lnTo>
                  <a:lnTo>
                    <a:pt x="41" y="9"/>
                  </a:lnTo>
                  <a:lnTo>
                    <a:pt x="22" y="21"/>
                  </a:lnTo>
                  <a:lnTo>
                    <a:pt x="9" y="36"/>
                  </a:lnTo>
                  <a:lnTo>
                    <a:pt x="0" y="64"/>
                  </a:lnTo>
                  <a:lnTo>
                    <a:pt x="5" y="78"/>
                  </a:lnTo>
                </a:path>
              </a:pathLst>
            </a:custGeom>
            <a:solidFill>
              <a:srgbClr val="d9995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2" name=""/>
          <p:cNvSpPr/>
          <p:nvPr/>
        </p:nvSpPr>
        <p:spPr>
          <a:xfrm>
            <a:off x="3325680" y="3535200"/>
            <a:ext cx="2471760" cy="63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880" rIns="83880" tIns="42840" bIns="42840" anchor="t">
            <a:spAutoFit/>
          </a:bodyPr>
          <a:p>
            <a:pPr algn="ctr">
              <a:tabLst>
                <a:tab algn="l" pos="0"/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atisfi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93720"/>
                <a:tab algn="l" pos="1387440"/>
                <a:tab algn="l" pos="2081160"/>
                <a:tab algn="l" pos="2774880"/>
                <a:tab algn="l" pos="3468600"/>
                <a:tab algn="l" pos="4162320"/>
                <a:tab algn="l" pos="4856040"/>
                <a:tab algn="l" pos="5549760"/>
                <a:tab algn="l" pos="6243480"/>
                <a:tab algn="l" pos="6937200"/>
                <a:tab algn="l" pos="7631280"/>
                <a:tab algn="l" pos="8325000"/>
                <a:tab algn="l" pos="9018720"/>
                <a:tab algn="l" pos="9712440"/>
                <a:tab algn="l" pos="104061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ustomer and U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mmunication tre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at is converg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Key business benef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convergent technology suppl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Some key business benefi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duced cost of ow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nhanced employee producti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ustomer flexibility and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andards based, distributed open architecture for application deploy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ceptional customer serv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fitability and competitive advan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lobal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rnet Business Mod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8" name="Networked%20business3%20copy" descr=""/>
          <p:cNvPicPr/>
          <p:nvPr/>
        </p:nvPicPr>
        <p:blipFill>
          <a:blip r:embed="rId1"/>
          <a:srcRect l="0" t="0" r="0" b="3528"/>
          <a:stretch/>
        </p:blipFill>
        <p:spPr>
          <a:xfrm>
            <a:off x="146160" y="1371600"/>
            <a:ext cx="8778600" cy="5105520"/>
          </a:xfrm>
          <a:prstGeom prst="rect">
            <a:avLst/>
          </a:prstGeom>
          <a:ln w="0">
            <a:noFill/>
          </a:ln>
        </p:spPr>
      </p:pic>
      <p:sp>
        <p:nvSpPr>
          <p:cNvPr id="1689" name=""/>
          <p:cNvSpPr/>
          <p:nvPr/>
        </p:nvSpPr>
        <p:spPr>
          <a:xfrm>
            <a:off x="766800" y="76320"/>
            <a:ext cx="7623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1460880" y="2225520"/>
            <a:ext cx="1629720" cy="43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mploye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1663920" y="5187960"/>
            <a:ext cx="1282320" cy="43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tn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253200" y="5226120"/>
            <a:ext cx="1384200" cy="43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pl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132240" y="2185920"/>
            <a:ext cx="1553400" cy="43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sto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467160" y="2406600"/>
            <a:ext cx="2273040" cy="56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546720" y="5014800"/>
            <a:ext cx="2001600" cy="56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terpr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"/>
          <p:cNvSpPr/>
          <p:nvPr/>
        </p:nvSpPr>
        <p:spPr>
          <a:xfrm>
            <a:off x="304920" y="228600"/>
            <a:ext cx="7623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rnet Business Solution: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rvice and Suppo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270000" y="1541520"/>
            <a:ext cx="407664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2080" tIns="41040" bIns="4104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70% of support calls resolved by a visit to their websi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$86M saved with electronic download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$107M saved with online configuration and document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25% higher customer satisfac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8" name="troubleshooting2%20copy" descr=""/>
          <p:cNvPicPr/>
          <p:nvPr/>
        </p:nvPicPr>
        <p:blipFill>
          <a:blip r:embed="rId1"/>
          <a:stretch/>
        </p:blipFill>
        <p:spPr>
          <a:xfrm>
            <a:off x="4338720" y="1649520"/>
            <a:ext cx="465300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9" name="commerce%20copy" descr=""/>
          <p:cNvPicPr/>
          <p:nvPr/>
        </p:nvPicPr>
        <p:blipFill>
          <a:blip r:embed="rId1"/>
          <a:stretch/>
        </p:blipFill>
        <p:spPr>
          <a:xfrm>
            <a:off x="4168800" y="1644480"/>
            <a:ext cx="4645080" cy="4624560"/>
          </a:xfrm>
          <a:prstGeom prst="rect">
            <a:avLst/>
          </a:prstGeom>
          <a:ln w="0">
            <a:noFill/>
          </a:ln>
        </p:spPr>
      </p:pic>
      <p:sp>
        <p:nvSpPr>
          <p:cNvPr id="1700" name=""/>
          <p:cNvSpPr/>
          <p:nvPr/>
        </p:nvSpPr>
        <p:spPr>
          <a:xfrm>
            <a:off x="593640" y="76320"/>
            <a:ext cx="7623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rnet Business Solution: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mer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5392800" y="1407960"/>
            <a:ext cx="37512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2080" tIns="41040" bIns="41040" anchor="t">
            <a:normAutofit/>
          </a:bodyPr>
          <a:p>
            <a:pPr marL="343080" indent="-343080">
              <a:lnSpc>
                <a:spcPct val="105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100080" y="1544760"/>
            <a:ext cx="438768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2080" tIns="41040" bIns="41040" anchor="t">
            <a:normAutofit/>
          </a:bodyPr>
          <a:p>
            <a:pPr marL="289080" indent="-289080">
              <a:spcBef>
                <a:spcPts val="649"/>
              </a:spcBef>
              <a:buClr>
                <a:srgbClr val="ffffff"/>
              </a:buClr>
              <a:buFont typeface="Times"/>
              <a:buChar char="•"/>
              <a:tabLst>
                <a:tab algn="l" pos="262908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$40M in products each da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spcBef>
                <a:spcPts val="649"/>
              </a:spcBef>
              <a:buClr>
                <a:srgbClr val="ffffff"/>
              </a:buClr>
              <a:buFont typeface="Times"/>
              <a:buChar char="•"/>
              <a:tabLst>
                <a:tab algn="l" pos="262908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95% of orders placed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on lin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spcBef>
                <a:spcPts val="649"/>
              </a:spcBef>
              <a:buClr>
                <a:srgbClr val="ffffff"/>
              </a:buClr>
              <a:buFont typeface="Times"/>
              <a:buChar char="•"/>
              <a:tabLst>
                <a:tab algn="l" pos="262908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25% satisfaction increas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spcBef>
                <a:spcPts val="649"/>
              </a:spcBef>
              <a:buClr>
                <a:srgbClr val="ffffff"/>
              </a:buClr>
              <a:buFont typeface="Times"/>
              <a:buChar char="•"/>
              <a:tabLst>
                <a:tab algn="l" pos="262908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Productivity increase for Cisco and custom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3" name="supplychain%20copy" descr=""/>
          <p:cNvPicPr/>
          <p:nvPr/>
        </p:nvPicPr>
        <p:blipFill>
          <a:blip r:embed="rId1"/>
          <a:stretch/>
        </p:blipFill>
        <p:spPr>
          <a:xfrm>
            <a:off x="4341960" y="1644480"/>
            <a:ext cx="4652640" cy="4631040"/>
          </a:xfrm>
          <a:prstGeom prst="rect">
            <a:avLst/>
          </a:prstGeom>
          <a:ln w="0">
            <a:noFill/>
          </a:ln>
        </p:spPr>
      </p:pic>
      <p:sp>
        <p:nvSpPr>
          <p:cNvPr id="1704" name=""/>
          <p:cNvSpPr/>
          <p:nvPr/>
        </p:nvSpPr>
        <p:spPr>
          <a:xfrm>
            <a:off x="272880" y="1544760"/>
            <a:ext cx="421344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7160" indent="-227160">
              <a:lnSpc>
                <a:spcPct val="95000"/>
              </a:lnSpc>
              <a:buClr>
                <a:srgbClr val="b2b2b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0% cut in order cycle time (6-8 wks to 1-3 wk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7160" indent="-227160">
              <a:lnSpc>
                <a:spcPct val="95000"/>
              </a:lnSpc>
              <a:buClr>
                <a:srgbClr val="b2b2b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7160" indent="-227160">
              <a:lnSpc>
                <a:spcPct val="95000"/>
              </a:lnSpc>
              <a:buClr>
                <a:srgbClr val="b2b2b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75M savings in annual operating co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7160" indent="-227160">
              <a:lnSpc>
                <a:spcPct val="95000"/>
              </a:lnSpc>
              <a:buClr>
                <a:srgbClr val="b2b2b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7160" indent="-227160">
              <a:lnSpc>
                <a:spcPct val="95000"/>
              </a:lnSpc>
              <a:buClr>
                <a:srgbClr val="b2b2b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5% inventory reduction for Cisco and partn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7160" indent="-227160">
              <a:lnSpc>
                <a:spcPct val="95000"/>
              </a:lnSpc>
              <a:buClr>
                <a:srgbClr val="b2b2b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7160" indent="-227160">
              <a:lnSpc>
                <a:spcPct val="95000"/>
              </a:lnSpc>
              <a:buClr>
                <a:srgbClr val="b2b2b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ime-to-volume cut by 25%; $270M annual revenue contrib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7160" indent="-227160">
              <a:lnSpc>
                <a:spcPct val="95000"/>
              </a:lnSpc>
              <a:buClr>
                <a:srgbClr val="b2b2b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04920" y="0"/>
            <a:ext cx="7623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rnet Business Solution: Supply Chain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ommunication tre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at is converg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Key business benef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convergent technology suppl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6" name="workforce%20optim%20copy" descr=""/>
          <p:cNvPicPr/>
          <p:nvPr/>
        </p:nvPicPr>
        <p:blipFill>
          <a:blip r:embed="rId1"/>
          <a:stretch/>
        </p:blipFill>
        <p:spPr>
          <a:xfrm>
            <a:off x="4341960" y="1644480"/>
            <a:ext cx="4652640" cy="4631040"/>
          </a:xfrm>
          <a:prstGeom prst="rect">
            <a:avLst/>
          </a:prstGeom>
          <a:ln w="0">
            <a:noFill/>
          </a:ln>
        </p:spPr>
      </p:pic>
      <p:sp>
        <p:nvSpPr>
          <p:cNvPr id="1707" name=""/>
          <p:cNvSpPr/>
          <p:nvPr/>
        </p:nvSpPr>
        <p:spPr>
          <a:xfrm>
            <a:off x="766800" y="76320"/>
            <a:ext cx="7623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rnet Business Solution: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mployee Resourc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272880" y="1544760"/>
            <a:ext cx="425484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marL="223920" indent="-223920">
              <a:lnSpc>
                <a:spcPct val="85000"/>
              </a:lnSpc>
              <a:buClr>
                <a:srgbClr val="b2b2b2"/>
              </a:buClr>
              <a:buFont typeface="Times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lf-service fo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4,000 employe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45000"/>
              </a:lnSpc>
              <a:buClr>
                <a:srgbClr val="b2b2b2"/>
              </a:buClr>
              <a:buFont typeface="Times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85000"/>
              </a:lnSpc>
              <a:buClr>
                <a:srgbClr val="b2b2b2"/>
              </a:buClr>
              <a:buFont typeface="Times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wo auditors; 2-day reimbursement for 16,000 U.S. employe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35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85000"/>
              </a:lnSpc>
              <a:buClr>
                <a:srgbClr val="b2b2b2"/>
              </a:buClr>
              <a:buFont typeface="Times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rchasing, recruiting, stock options and other 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35000"/>
              </a:lnSpc>
              <a:buClr>
                <a:srgbClr val="b2b2b2"/>
              </a:buClr>
              <a:buFont typeface="Times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85000"/>
              </a:lnSpc>
              <a:buClr>
                <a:srgbClr val="b2b2b2"/>
              </a:buClr>
              <a:buFont typeface="Times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55M in annual sav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35000"/>
              </a:lnSpc>
              <a:buClr>
                <a:srgbClr val="b2b2b2"/>
              </a:buClr>
              <a:buFont typeface="Times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85000"/>
              </a:lnSpc>
              <a:buClr>
                <a:srgbClr val="b2b2b2"/>
              </a:buClr>
              <a:buFont typeface="Times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0% reduction i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luntary employee turnover (now 3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9" name="E-learning%20copy" descr=""/>
          <p:cNvPicPr/>
          <p:nvPr/>
        </p:nvPicPr>
        <p:blipFill>
          <a:blip r:embed="rId1"/>
          <a:stretch/>
        </p:blipFill>
        <p:spPr>
          <a:xfrm>
            <a:off x="4341960" y="1644480"/>
            <a:ext cx="4652640" cy="4631040"/>
          </a:xfrm>
          <a:prstGeom prst="rect">
            <a:avLst/>
          </a:prstGeom>
          <a:ln w="0">
            <a:noFill/>
          </a:ln>
        </p:spPr>
      </p:pic>
      <p:sp>
        <p:nvSpPr>
          <p:cNvPr id="1710" name=""/>
          <p:cNvSpPr/>
          <p:nvPr/>
        </p:nvSpPr>
        <p:spPr>
          <a:xfrm>
            <a:off x="766800" y="76320"/>
            <a:ext cx="7623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rnet Business Solution: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-Lear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272880" y="1824120"/>
            <a:ext cx="428328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7160" indent="-227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7160" indent="-227160">
              <a:lnSpc>
                <a:spcPct val="90000"/>
              </a:lnSpc>
              <a:buClr>
                <a:srgbClr val="b2b2b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0-60% cost savings vs. instructor-led tr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7160" indent="-227160">
              <a:lnSpc>
                <a:spcPct val="90000"/>
              </a:lnSpc>
              <a:buClr>
                <a:srgbClr val="b2b2b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7160" indent="-227160">
              <a:lnSpc>
                <a:spcPct val="90000"/>
              </a:lnSpc>
              <a:buClr>
                <a:srgbClr val="b2b2b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0% of sales and technical training on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7160" indent="-227160">
              <a:lnSpc>
                <a:spcPct val="90000"/>
              </a:lnSpc>
              <a:buClr>
                <a:srgbClr val="b2b2b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7160" indent="-227160">
              <a:lnSpc>
                <a:spcPct val="90000"/>
              </a:lnSpc>
              <a:buClr>
                <a:srgbClr val="b2b2b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0% of Cisco sales staff to use in FY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7160" indent="-227160">
              <a:lnSpc>
                <a:spcPct val="90000"/>
              </a:lnSpc>
              <a:buClr>
                <a:srgbClr val="b2b2b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7160" indent="-227160">
              <a:lnSpc>
                <a:spcPct val="90000"/>
              </a:lnSpc>
              <a:buClr>
                <a:srgbClr val="b2b2b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ytime, anywhere access and account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7160" indent="-227160">
              <a:lnSpc>
                <a:spcPct val="90000"/>
              </a:lnSpc>
              <a:buClr>
                <a:srgbClr val="b2b2b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79520" y="1281240"/>
            <a:ext cx="364320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isco Fiel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-Learning Conn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3" name="finance%20copy" descr=""/>
          <p:cNvPicPr/>
          <p:nvPr/>
        </p:nvPicPr>
        <p:blipFill>
          <a:blip r:embed="rId1"/>
          <a:stretch/>
        </p:blipFill>
        <p:spPr>
          <a:xfrm>
            <a:off x="4341960" y="1544760"/>
            <a:ext cx="4652640" cy="4630680"/>
          </a:xfrm>
          <a:prstGeom prst="rect">
            <a:avLst/>
          </a:prstGeom>
          <a:ln w="0">
            <a:noFill/>
          </a:ln>
        </p:spPr>
      </p:pic>
      <p:sp>
        <p:nvSpPr>
          <p:cNvPr id="1714" name=""/>
          <p:cNvSpPr/>
          <p:nvPr/>
        </p:nvSpPr>
        <p:spPr>
          <a:xfrm>
            <a:off x="272880" y="3094200"/>
            <a:ext cx="386424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7160" indent="-227160">
              <a:lnSpc>
                <a:spcPct val="95000"/>
              </a:lnSpc>
              <a:buClr>
                <a:srgbClr val="b2b2b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ne day close cy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7160" indent="-227160">
              <a:lnSpc>
                <a:spcPct val="95000"/>
              </a:lnSpc>
              <a:buClr>
                <a:srgbClr val="b2b2b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7160" indent="-227160">
              <a:lnSpc>
                <a:spcPct val="95000"/>
              </a:lnSpc>
              <a:buClr>
                <a:srgbClr val="b2b2b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irtual close any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7160" indent="-227160">
              <a:lnSpc>
                <a:spcPct val="95000"/>
              </a:lnSpc>
              <a:buClr>
                <a:srgbClr val="b2b2b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7160" indent="-227160">
              <a:lnSpc>
                <a:spcPct val="95000"/>
              </a:lnSpc>
              <a:buClr>
                <a:srgbClr val="b2b2b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0 % cost reduc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7160" indent="-227160">
              <a:lnSpc>
                <a:spcPct val="95000"/>
              </a:lnSpc>
              <a:buClr>
                <a:srgbClr val="b2b2b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0" y="0"/>
            <a:ext cx="762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rnet Business Solution: Finan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6" name=""/>
          <p:cNvGrpSpPr/>
          <p:nvPr/>
        </p:nvGrpSpPr>
        <p:grpSpPr>
          <a:xfrm>
            <a:off x="0" y="1208160"/>
            <a:ext cx="8856720" cy="5645160"/>
            <a:chOff x="0" y="1208160"/>
            <a:chExt cx="8856720" cy="5645160"/>
          </a:xfrm>
        </p:grpSpPr>
        <p:pic>
          <p:nvPicPr>
            <p:cNvPr id="1717" name="water%20strip" descr=""/>
            <p:cNvPicPr/>
            <p:nvPr/>
          </p:nvPicPr>
          <p:blipFill>
            <a:blip r:embed="rId1"/>
            <a:stretch/>
          </p:blipFill>
          <p:spPr>
            <a:xfrm>
              <a:off x="0" y="1208160"/>
              <a:ext cx="1859040" cy="5645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8" name=""/>
            <p:cNvGrpSpPr/>
            <p:nvPr/>
          </p:nvGrpSpPr>
          <p:grpSpPr>
            <a:xfrm>
              <a:off x="0" y="1479600"/>
              <a:ext cx="8856720" cy="5373720"/>
              <a:chOff x="0" y="1479600"/>
              <a:chExt cx="8856720" cy="5373720"/>
            </a:xfrm>
          </p:grpSpPr>
          <p:sp>
            <p:nvSpPr>
              <p:cNvPr id="1719" name=""/>
              <p:cNvSpPr/>
              <p:nvPr/>
            </p:nvSpPr>
            <p:spPr>
              <a:xfrm>
                <a:off x="1844640" y="1479600"/>
                <a:ext cx="0" cy="5373720"/>
              </a:xfrm>
              <a:prstGeom prst="line">
                <a:avLst/>
              </a:prstGeom>
              <a:ln w="9360">
                <a:solidFill>
                  <a:srgbClr val="82bd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0" y="2173320"/>
                <a:ext cx="8856720" cy="0"/>
              </a:xfrm>
              <a:prstGeom prst="line">
                <a:avLst/>
              </a:prstGeom>
              <a:ln w="9360">
                <a:solidFill>
                  <a:srgbClr val="82bd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-36360" bIns="-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1" name=""/>
          <p:cNvSpPr/>
          <p:nvPr/>
        </p:nvSpPr>
        <p:spPr>
          <a:xfrm>
            <a:off x="1878120" y="2209680"/>
            <a:ext cx="4219560" cy="37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Y ’99 Impact: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$825 Mill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venue Per Employe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84040">
              <a:lnSpc>
                <a:spcPct val="100000"/>
              </a:lnSpc>
              <a:buClr>
                <a:srgbClr val="b2b2b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tomotive: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60,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84040">
              <a:lnSpc>
                <a:spcPct val="100000"/>
              </a:lnSpc>
              <a:buClr>
                <a:srgbClr val="b2b2b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nancial: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80,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84040">
              <a:lnSpc>
                <a:spcPct val="100000"/>
              </a:lnSpc>
              <a:buClr>
                <a:srgbClr val="b2b2b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rnet Co’s: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84040">
              <a:lnSpc>
                <a:spcPct val="100000"/>
              </a:lnSpc>
              <a:buClr>
                <a:srgbClr val="b2b2b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Cisco: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$688,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766800" y="76320"/>
            <a:ext cx="762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rnet Business Solutions: Competitive Advant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3" name="action" descr=""/>
          <p:cNvPicPr/>
          <p:nvPr/>
        </p:nvPicPr>
        <p:blipFill>
          <a:blip r:embed="rId2"/>
          <a:srcRect l="0" t="0" r="7800" b="0"/>
          <a:stretch/>
        </p:blipFill>
        <p:spPr>
          <a:xfrm>
            <a:off x="6165720" y="2189160"/>
            <a:ext cx="2530440" cy="4159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cc99"/>
            </a:outerShdw>
          </a:effectLst>
        </p:spPr>
      </p:pic>
      <p:grpSp>
        <p:nvGrpSpPr>
          <p:cNvPr id="1724" name=""/>
          <p:cNvGrpSpPr/>
          <p:nvPr/>
        </p:nvGrpSpPr>
        <p:grpSpPr>
          <a:xfrm>
            <a:off x="3830760" y="6559560"/>
            <a:ext cx="1501560" cy="179280"/>
            <a:chOff x="3830760" y="6559560"/>
            <a:chExt cx="1501560" cy="179280"/>
          </a:xfrm>
        </p:grpSpPr>
        <p:pic>
          <p:nvPicPr>
            <p:cNvPr id="1725" name="cisco_url_sabonbold16_96" descr=""/>
            <p:cNvPicPr/>
            <p:nvPr/>
          </p:nvPicPr>
          <p:blipFill>
            <a:blip r:embed="rId3"/>
            <a:stretch/>
          </p:blipFill>
          <p:spPr>
            <a:xfrm>
              <a:off x="3900600" y="6573960"/>
              <a:ext cx="136188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6" name="cisco_url_sabonbold16" descr=""/>
            <p:cNvPicPr/>
            <p:nvPr/>
          </p:nvPicPr>
          <p:blipFill>
            <a:blip r:embed="rId4"/>
            <a:stretch/>
          </p:blipFill>
          <p:spPr>
            <a:xfrm>
              <a:off x="3830760" y="6559560"/>
              <a:ext cx="1501560" cy="17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7" name=""/>
          <p:cNvSpPr/>
          <p:nvPr/>
        </p:nvSpPr>
        <p:spPr>
          <a:xfrm>
            <a:off x="8439840" y="6600240"/>
            <a:ext cx="64332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1037E5D2-995D-4A59-A891-8D644D7EA136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176400" y="6450480"/>
            <a:ext cx="74232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F0_4665_c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1141560" y="6618240"/>
            <a:ext cx="12254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imes New Roman"/>
              </a:rPr>
              <a:t>© 1999, Cisco Systems, Inc.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re are only two ways to create and sustain superior performance over the long haul. First, take exceptional care of your customers via superior service. Second, constantly innovat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Tom Peters, In Search of Excell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mmunication tre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at is converg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Key business benef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The convergent technology suppl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Traditional Voice/PBX  reselle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low to adapt because have most to prot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ed to readjust busin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mited Sales people selling outside of the comfort z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nderstand the voice hot messages that customers need to hear such as resilie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provide migration strategy based on understanding of legacy voice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Traditional data networking reselle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ften underestimate the challenge of achieving the resilience argument for vo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ed to allow for a much higher standard of avail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ack telephony skills to enable a plausible and creditable migration strate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reat voice as an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t afraid of new applications such as C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Common to bot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astest to move will w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vestment required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endor accredi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vergence suppliers are for 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lueSky Technology Limit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message is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cl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333000" y="1066680"/>
            <a:ext cx="7847280" cy="1301400"/>
            <a:chOff x="333000" y="1066680"/>
            <a:chExt cx="7847280" cy="1301400"/>
          </a:xfrm>
        </p:grpSpPr>
        <p:sp>
          <p:nvSpPr>
            <p:cNvPr id="49" name=""/>
            <p:cNvSpPr/>
            <p:nvPr/>
          </p:nvSpPr>
          <p:spPr>
            <a:xfrm>
              <a:off x="958680" y="1585800"/>
              <a:ext cx="7221600" cy="90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c8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3000" y="1066680"/>
              <a:ext cx="673920" cy="13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8000" spc="-1" strike="noStrike">
                  <a:solidFill>
                    <a:srgbClr val="01c8fe"/>
                  </a:solidFill>
                  <a:latin typeface="Times New Roman"/>
                </a:rPr>
                <a:t>“</a:t>
              </a: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958680" y="2438280"/>
            <a:ext cx="7833240" cy="1301400"/>
            <a:chOff x="958680" y="2438280"/>
            <a:chExt cx="7833240" cy="1301400"/>
          </a:xfrm>
        </p:grpSpPr>
        <p:sp>
          <p:nvSpPr>
            <p:cNvPr id="52" name=""/>
            <p:cNvSpPr/>
            <p:nvPr/>
          </p:nvSpPr>
          <p:spPr>
            <a:xfrm>
              <a:off x="958680" y="2978280"/>
              <a:ext cx="7221600" cy="90360"/>
            </a:xfrm>
            <a:prstGeom prst="rect">
              <a:avLst/>
            </a:prstGeom>
            <a:gradFill rotWithShape="0">
              <a:gsLst>
                <a:gs pos="0">
                  <a:srgbClr val="01c8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118000" y="2438280"/>
              <a:ext cx="673920" cy="13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8000" spc="-1" strike="noStrike">
                  <a:solidFill>
                    <a:srgbClr val="01c8fe"/>
                  </a:solidFill>
                  <a:latin typeface="Times New Roman"/>
                </a:rPr>
                <a:t>”</a:t>
              </a: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 anchorCtr="1">
            <a:noAutofit/>
          </a:bodyPr>
          <a:p>
            <a:pPr algn="ct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-mail exceeded voice as primary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usiness communication medium in 1998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37080" y="3073320"/>
            <a:ext cx="37530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rost and Sulli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BU009382" descr=""/>
          <p:cNvPicPr/>
          <p:nvPr/>
        </p:nvPicPr>
        <p:blipFill>
          <a:blip r:embed="rId1"/>
          <a:srcRect l="0" t="29313" r="0" b="6903"/>
          <a:stretch/>
        </p:blipFill>
        <p:spPr>
          <a:xfrm>
            <a:off x="2473200" y="3505320"/>
            <a:ext cx="4214880" cy="292572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766800" y="76320"/>
            <a:ext cx="762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munication Trend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65560" y="6172200"/>
            <a:ext cx="35830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urce: International Data Corporation 3/9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05360" y="1709640"/>
            <a:ext cx="8059320" cy="4368960"/>
            <a:chOff x="405360" y="1709640"/>
            <a:chExt cx="8059320" cy="4368960"/>
          </a:xfrm>
        </p:grpSpPr>
        <p:sp>
          <p:nvSpPr>
            <p:cNvPr id="60" name=""/>
            <p:cNvSpPr/>
            <p:nvPr/>
          </p:nvSpPr>
          <p:spPr>
            <a:xfrm>
              <a:off x="1176480" y="5553000"/>
              <a:ext cx="7288200" cy="125640"/>
            </a:xfrm>
            <a:custGeom>
              <a:avLst/>
              <a:gdLst/>
              <a:ahLst/>
              <a:rect l="l" t="t" r="r" b="b"/>
              <a:pathLst>
                <a:path w="4591" h="79">
                  <a:moveTo>
                    <a:pt x="0" y="79"/>
                  </a:moveTo>
                  <a:lnTo>
                    <a:pt x="96" y="0"/>
                  </a:lnTo>
                  <a:lnTo>
                    <a:pt x="4591" y="0"/>
                  </a:lnTo>
                  <a:lnTo>
                    <a:pt x="4494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28760" y="2173320"/>
              <a:ext cx="7135920" cy="33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176480" y="5553000"/>
              <a:ext cx="7288200" cy="125640"/>
            </a:xfrm>
            <a:custGeom>
              <a:avLst/>
              <a:gdLst/>
              <a:ahLst/>
              <a:rect l="l" t="t" r="r" b="b"/>
              <a:pathLst>
                <a:path w="762" h="13">
                  <a:moveTo>
                    <a:pt x="0" y="13"/>
                  </a:moveTo>
                  <a:lnTo>
                    <a:pt x="16" y="0"/>
                  </a:lnTo>
                  <a:lnTo>
                    <a:pt x="762" y="0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76480" y="5553000"/>
              <a:ext cx="7288200" cy="125640"/>
            </a:xfrm>
            <a:custGeom>
              <a:avLst/>
              <a:gdLst/>
              <a:ahLst/>
              <a:rect l="l" t="t" r="r" b="b"/>
              <a:pathLst>
                <a:path w="4591" h="79">
                  <a:moveTo>
                    <a:pt x="4591" y="0"/>
                  </a:moveTo>
                  <a:lnTo>
                    <a:pt x="4494" y="79"/>
                  </a:lnTo>
                  <a:lnTo>
                    <a:pt x="0" y="79"/>
                  </a:lnTo>
                  <a:lnTo>
                    <a:pt x="96" y="0"/>
                  </a:lnTo>
                  <a:lnTo>
                    <a:pt x="459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69920" y="5062680"/>
              <a:ext cx="152640" cy="615960"/>
            </a:xfrm>
            <a:custGeom>
              <a:avLst/>
              <a:gdLst/>
              <a:ahLst/>
              <a:rect l="l" t="t" r="r" b="b"/>
              <a:pathLst>
                <a:path w="96" h="388">
                  <a:moveTo>
                    <a:pt x="0" y="388"/>
                  </a:moveTo>
                  <a:lnTo>
                    <a:pt x="0" y="79"/>
                  </a:lnTo>
                  <a:lnTo>
                    <a:pt x="96" y="0"/>
                  </a:lnTo>
                  <a:lnTo>
                    <a:pt x="96" y="309"/>
                  </a:lnTo>
                  <a:lnTo>
                    <a:pt x="0" y="388"/>
                  </a:lnTo>
                  <a:close/>
                </a:path>
              </a:pathLst>
            </a:custGeom>
            <a:gradFill rotWithShape="0">
              <a:gsLst>
                <a:gs pos="0">
                  <a:srgbClr val="014d65"/>
                </a:gs>
                <a:gs pos="100000">
                  <a:srgbClr val="0298c7"/>
                </a:gs>
              </a:gsLst>
              <a:lin ang="5400000"/>
            </a:gradFill>
            <a:ln w="9360">
              <a:solidFill>
                <a:srgbClr val="006c8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95360" y="5187960"/>
              <a:ext cx="574560" cy="490680"/>
            </a:xfrm>
            <a:prstGeom prst="rect">
              <a:avLst/>
            </a:prstGeom>
            <a:gradFill rotWithShape="0">
              <a:gsLst>
                <a:gs pos="0">
                  <a:srgbClr val="0298c7"/>
                </a:gs>
                <a:gs pos="100000">
                  <a:srgbClr val="5dbcda"/>
                </a:gs>
              </a:gsLst>
              <a:lin ang="5400000"/>
            </a:gradFill>
            <a:ln w="9360">
              <a:solidFill>
                <a:srgbClr val="006c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95360" y="5062680"/>
              <a:ext cx="727200" cy="125280"/>
            </a:xfrm>
            <a:custGeom>
              <a:avLst/>
              <a:gdLst/>
              <a:ahLst/>
              <a:rect l="l" t="t" r="r" b="b"/>
              <a:pathLst>
                <a:path w="458" h="79">
                  <a:moveTo>
                    <a:pt x="362" y="79"/>
                  </a:moveTo>
                  <a:lnTo>
                    <a:pt x="458" y="0"/>
                  </a:lnTo>
                  <a:lnTo>
                    <a:pt x="103" y="0"/>
                  </a:lnTo>
                  <a:lnTo>
                    <a:pt x="0" y="79"/>
                  </a:lnTo>
                  <a:lnTo>
                    <a:pt x="362" y="79"/>
                  </a:lnTo>
                  <a:close/>
                </a:path>
              </a:pathLst>
            </a:custGeom>
            <a:gradFill rotWithShape="0">
              <a:gsLst>
                <a:gs pos="0">
                  <a:srgbClr val="01779c"/>
                </a:gs>
                <a:gs pos="100000">
                  <a:srgbClr val="0298c7"/>
                </a:gs>
              </a:gsLst>
              <a:lin ang="5400000"/>
            </a:gradFill>
            <a:ln w="9360">
              <a:solidFill>
                <a:srgbClr val="006c8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82960" y="4754520"/>
              <a:ext cx="154080" cy="924120"/>
            </a:xfrm>
            <a:custGeom>
              <a:avLst/>
              <a:gdLst/>
              <a:ahLst/>
              <a:rect l="l" t="t" r="r" b="b"/>
              <a:pathLst>
                <a:path w="97" h="582">
                  <a:moveTo>
                    <a:pt x="0" y="582"/>
                  </a:moveTo>
                  <a:lnTo>
                    <a:pt x="0" y="73"/>
                  </a:lnTo>
                  <a:lnTo>
                    <a:pt x="97" y="0"/>
                  </a:lnTo>
                  <a:lnTo>
                    <a:pt x="97" y="503"/>
                  </a:lnTo>
                  <a:lnTo>
                    <a:pt x="0" y="582"/>
                  </a:lnTo>
                  <a:close/>
                </a:path>
              </a:pathLst>
            </a:custGeom>
            <a:gradFill rotWithShape="0">
              <a:gsLst>
                <a:gs pos="0">
                  <a:srgbClr val="014d65"/>
                </a:gs>
                <a:gs pos="100000">
                  <a:srgbClr val="0298c7"/>
                </a:gs>
              </a:gsLst>
              <a:lin ang="5400000"/>
            </a:gradFill>
            <a:ln w="9360">
              <a:solidFill>
                <a:srgbClr val="006c8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419200" y="4870440"/>
              <a:ext cx="563760" cy="808200"/>
            </a:xfrm>
            <a:prstGeom prst="rect">
              <a:avLst/>
            </a:prstGeom>
            <a:gradFill rotWithShape="0">
              <a:gsLst>
                <a:gs pos="0">
                  <a:srgbClr val="0298c7"/>
                </a:gs>
                <a:gs pos="100000">
                  <a:srgbClr val="5dbcda"/>
                </a:gs>
              </a:gsLst>
              <a:lin ang="5400000"/>
            </a:gradFill>
            <a:ln w="9360">
              <a:solidFill>
                <a:srgbClr val="006c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419200" y="4754520"/>
              <a:ext cx="717840" cy="115920"/>
            </a:xfrm>
            <a:custGeom>
              <a:avLst/>
              <a:gdLst/>
              <a:ahLst/>
              <a:rect l="l" t="t" r="r" b="b"/>
              <a:pathLst>
                <a:path w="452" h="73">
                  <a:moveTo>
                    <a:pt x="355" y="73"/>
                  </a:moveTo>
                  <a:lnTo>
                    <a:pt x="452" y="0"/>
                  </a:lnTo>
                  <a:lnTo>
                    <a:pt x="96" y="0"/>
                  </a:lnTo>
                  <a:lnTo>
                    <a:pt x="0" y="73"/>
                  </a:lnTo>
                  <a:lnTo>
                    <a:pt x="355" y="73"/>
                  </a:lnTo>
                  <a:close/>
                </a:path>
              </a:pathLst>
            </a:custGeom>
            <a:gradFill rotWithShape="0">
              <a:gsLst>
                <a:gs pos="0">
                  <a:srgbClr val="01779c"/>
                </a:gs>
                <a:gs pos="100000">
                  <a:srgbClr val="0298c7"/>
                </a:gs>
              </a:gsLst>
              <a:lin ang="5400000"/>
            </a:gradFill>
            <a:ln w="9360">
              <a:solidFill>
                <a:srgbClr val="006c8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06800" y="4456080"/>
              <a:ext cx="152280" cy="1222560"/>
            </a:xfrm>
            <a:custGeom>
              <a:avLst/>
              <a:gdLst/>
              <a:ahLst/>
              <a:rect l="l" t="t" r="r" b="b"/>
              <a:pathLst>
                <a:path w="96" h="770">
                  <a:moveTo>
                    <a:pt x="0" y="770"/>
                  </a:moveTo>
                  <a:lnTo>
                    <a:pt x="0" y="72"/>
                  </a:lnTo>
                  <a:lnTo>
                    <a:pt x="96" y="0"/>
                  </a:lnTo>
                  <a:lnTo>
                    <a:pt x="96" y="691"/>
                  </a:lnTo>
                  <a:lnTo>
                    <a:pt x="0" y="770"/>
                  </a:lnTo>
                  <a:close/>
                </a:path>
              </a:pathLst>
            </a:custGeom>
            <a:gradFill rotWithShape="0">
              <a:gsLst>
                <a:gs pos="0">
                  <a:srgbClr val="014d65"/>
                </a:gs>
                <a:gs pos="100000">
                  <a:srgbClr val="0298c7"/>
                </a:gs>
              </a:gsLst>
              <a:lin ang="5400000"/>
            </a:gradFill>
            <a:ln w="9360">
              <a:solidFill>
                <a:srgbClr val="006c8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43400" y="4570560"/>
              <a:ext cx="563400" cy="1108080"/>
            </a:xfrm>
            <a:prstGeom prst="rect">
              <a:avLst/>
            </a:prstGeom>
            <a:gradFill rotWithShape="0">
              <a:gsLst>
                <a:gs pos="0">
                  <a:srgbClr val="0298c7"/>
                </a:gs>
                <a:gs pos="100000">
                  <a:srgbClr val="5dbcda"/>
                </a:gs>
              </a:gsLst>
              <a:lin ang="5400000"/>
            </a:gradFill>
            <a:ln w="9360">
              <a:solidFill>
                <a:srgbClr val="006c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43400" y="4456080"/>
              <a:ext cx="715680" cy="114480"/>
            </a:xfrm>
            <a:custGeom>
              <a:avLst/>
              <a:gdLst/>
              <a:ahLst/>
              <a:rect l="l" t="t" r="r" b="b"/>
              <a:pathLst>
                <a:path w="451" h="72">
                  <a:moveTo>
                    <a:pt x="355" y="72"/>
                  </a:moveTo>
                  <a:lnTo>
                    <a:pt x="451" y="0"/>
                  </a:lnTo>
                  <a:lnTo>
                    <a:pt x="96" y="0"/>
                  </a:lnTo>
                  <a:lnTo>
                    <a:pt x="0" y="72"/>
                  </a:lnTo>
                  <a:lnTo>
                    <a:pt x="355" y="72"/>
                  </a:lnTo>
                  <a:close/>
                </a:path>
              </a:pathLst>
            </a:custGeom>
            <a:gradFill rotWithShape="0">
              <a:gsLst>
                <a:gs pos="0">
                  <a:srgbClr val="01779c"/>
                </a:gs>
                <a:gs pos="100000">
                  <a:srgbClr val="0298c7"/>
                </a:gs>
              </a:gsLst>
              <a:lin ang="5400000"/>
            </a:gradFill>
            <a:ln w="9360">
              <a:solidFill>
                <a:srgbClr val="006c8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30640" y="4118040"/>
              <a:ext cx="152640" cy="1560600"/>
            </a:xfrm>
            <a:custGeom>
              <a:avLst/>
              <a:gdLst/>
              <a:ahLst/>
              <a:rect l="l" t="t" r="r" b="b"/>
              <a:pathLst>
                <a:path w="96" h="983">
                  <a:moveTo>
                    <a:pt x="0" y="983"/>
                  </a:moveTo>
                  <a:lnTo>
                    <a:pt x="0" y="73"/>
                  </a:lnTo>
                  <a:lnTo>
                    <a:pt x="96" y="0"/>
                  </a:lnTo>
                  <a:lnTo>
                    <a:pt x="96" y="904"/>
                  </a:lnTo>
                  <a:lnTo>
                    <a:pt x="0" y="983"/>
                  </a:lnTo>
                  <a:close/>
                </a:path>
              </a:pathLst>
            </a:custGeom>
            <a:gradFill rotWithShape="0">
              <a:gsLst>
                <a:gs pos="0">
                  <a:srgbClr val="014d65"/>
                </a:gs>
                <a:gs pos="100000">
                  <a:srgbClr val="0298c7"/>
                </a:gs>
              </a:gsLst>
              <a:lin ang="5400000"/>
            </a:gradFill>
            <a:ln w="9360">
              <a:solidFill>
                <a:srgbClr val="006c8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56080" y="4233960"/>
              <a:ext cx="574560" cy="1444680"/>
            </a:xfrm>
            <a:prstGeom prst="rect">
              <a:avLst/>
            </a:prstGeom>
            <a:gradFill rotWithShape="0">
              <a:gsLst>
                <a:gs pos="0">
                  <a:srgbClr val="0298c7"/>
                </a:gs>
                <a:gs pos="100000">
                  <a:srgbClr val="5dbcda"/>
                </a:gs>
              </a:gsLst>
              <a:lin ang="5400000"/>
            </a:gradFill>
            <a:ln w="9360">
              <a:solidFill>
                <a:srgbClr val="006c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56080" y="4118040"/>
              <a:ext cx="727200" cy="115920"/>
            </a:xfrm>
            <a:custGeom>
              <a:avLst/>
              <a:gdLst/>
              <a:ahLst/>
              <a:rect l="l" t="t" r="r" b="b"/>
              <a:pathLst>
                <a:path w="458" h="73">
                  <a:moveTo>
                    <a:pt x="362" y="73"/>
                  </a:moveTo>
                  <a:lnTo>
                    <a:pt x="458" y="0"/>
                  </a:lnTo>
                  <a:lnTo>
                    <a:pt x="97" y="0"/>
                  </a:lnTo>
                  <a:lnTo>
                    <a:pt x="0" y="73"/>
                  </a:lnTo>
                  <a:lnTo>
                    <a:pt x="362" y="73"/>
                  </a:lnTo>
                  <a:close/>
                </a:path>
              </a:pathLst>
            </a:custGeom>
            <a:gradFill rotWithShape="0">
              <a:gsLst>
                <a:gs pos="0">
                  <a:srgbClr val="01779c"/>
                </a:gs>
                <a:gs pos="100000">
                  <a:srgbClr val="0298c7"/>
                </a:gs>
              </a:gsLst>
              <a:lin ang="5400000"/>
            </a:gradFill>
            <a:ln w="9360">
              <a:solidFill>
                <a:srgbClr val="006c8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43680" y="3713040"/>
              <a:ext cx="154080" cy="1965600"/>
            </a:xfrm>
            <a:custGeom>
              <a:avLst/>
              <a:gdLst/>
              <a:ahLst/>
              <a:rect l="l" t="t" r="r" b="b"/>
              <a:pathLst>
                <a:path w="97" h="1238">
                  <a:moveTo>
                    <a:pt x="0" y="1238"/>
                  </a:moveTo>
                  <a:lnTo>
                    <a:pt x="0" y="73"/>
                  </a:lnTo>
                  <a:lnTo>
                    <a:pt x="97" y="0"/>
                  </a:lnTo>
                  <a:lnTo>
                    <a:pt x="97" y="1159"/>
                  </a:lnTo>
                  <a:lnTo>
                    <a:pt x="0" y="1238"/>
                  </a:lnTo>
                  <a:close/>
                </a:path>
              </a:pathLst>
            </a:custGeom>
            <a:gradFill rotWithShape="0">
              <a:gsLst>
                <a:gs pos="0">
                  <a:srgbClr val="014d65"/>
                </a:gs>
                <a:gs pos="100000">
                  <a:srgbClr val="0298c7"/>
                </a:gs>
              </a:gsLst>
              <a:lin ang="5400000"/>
            </a:gradFill>
            <a:ln w="9360">
              <a:solidFill>
                <a:srgbClr val="006c8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479920" y="3828960"/>
              <a:ext cx="563760" cy="1849680"/>
            </a:xfrm>
            <a:prstGeom prst="rect">
              <a:avLst/>
            </a:prstGeom>
            <a:gradFill rotWithShape="0">
              <a:gsLst>
                <a:gs pos="0">
                  <a:srgbClr val="0298c7"/>
                </a:gs>
                <a:gs pos="100000">
                  <a:srgbClr val="5dbcda"/>
                </a:gs>
              </a:gsLst>
              <a:lin ang="5400000"/>
            </a:gradFill>
            <a:ln w="9360">
              <a:solidFill>
                <a:srgbClr val="006c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79920" y="3713040"/>
              <a:ext cx="717840" cy="115920"/>
            </a:xfrm>
            <a:custGeom>
              <a:avLst/>
              <a:gdLst/>
              <a:ahLst/>
              <a:rect l="l" t="t" r="r" b="b"/>
              <a:pathLst>
                <a:path w="452" h="73">
                  <a:moveTo>
                    <a:pt x="355" y="73"/>
                  </a:moveTo>
                  <a:lnTo>
                    <a:pt x="452" y="0"/>
                  </a:lnTo>
                  <a:lnTo>
                    <a:pt x="96" y="0"/>
                  </a:lnTo>
                  <a:lnTo>
                    <a:pt x="0" y="73"/>
                  </a:lnTo>
                  <a:lnTo>
                    <a:pt x="355" y="73"/>
                  </a:lnTo>
                  <a:close/>
                </a:path>
              </a:pathLst>
            </a:custGeom>
            <a:gradFill rotWithShape="0">
              <a:gsLst>
                <a:gs pos="0">
                  <a:srgbClr val="01779c"/>
                </a:gs>
                <a:gs pos="100000">
                  <a:srgbClr val="0298c7"/>
                </a:gs>
              </a:gsLst>
              <a:lin ang="5400000"/>
            </a:gradFill>
            <a:ln w="9360">
              <a:solidFill>
                <a:srgbClr val="006c8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067520" y="3309840"/>
              <a:ext cx="154080" cy="2368800"/>
            </a:xfrm>
            <a:custGeom>
              <a:avLst/>
              <a:gdLst/>
              <a:ahLst/>
              <a:rect l="l" t="t" r="r" b="b"/>
              <a:pathLst>
                <a:path w="97" h="1492">
                  <a:moveTo>
                    <a:pt x="0" y="1492"/>
                  </a:moveTo>
                  <a:lnTo>
                    <a:pt x="0" y="72"/>
                  </a:lnTo>
                  <a:lnTo>
                    <a:pt x="97" y="0"/>
                  </a:lnTo>
                  <a:lnTo>
                    <a:pt x="97" y="1413"/>
                  </a:lnTo>
                  <a:lnTo>
                    <a:pt x="0" y="1492"/>
                  </a:lnTo>
                  <a:close/>
                </a:path>
              </a:pathLst>
            </a:custGeom>
            <a:gradFill rotWithShape="0">
              <a:gsLst>
                <a:gs pos="0">
                  <a:srgbClr val="014d65"/>
                </a:gs>
                <a:gs pos="100000">
                  <a:srgbClr val="0298c7"/>
                </a:gs>
              </a:gsLst>
              <a:lin ang="5400000"/>
            </a:gradFill>
            <a:ln w="9360">
              <a:solidFill>
                <a:srgbClr val="006c8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504120" y="3424320"/>
              <a:ext cx="563400" cy="2254320"/>
            </a:xfrm>
            <a:prstGeom prst="rect">
              <a:avLst/>
            </a:prstGeom>
            <a:gradFill rotWithShape="0">
              <a:gsLst>
                <a:gs pos="0">
                  <a:srgbClr val="0298c7"/>
                </a:gs>
                <a:gs pos="100000">
                  <a:srgbClr val="5dbcda"/>
                </a:gs>
              </a:gsLst>
              <a:lin ang="5400000"/>
            </a:gradFill>
            <a:ln w="9360">
              <a:solidFill>
                <a:srgbClr val="006c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04120" y="3309840"/>
              <a:ext cx="717480" cy="114480"/>
            </a:xfrm>
            <a:custGeom>
              <a:avLst/>
              <a:gdLst/>
              <a:ahLst/>
              <a:rect l="l" t="t" r="r" b="b"/>
              <a:pathLst>
                <a:path w="452" h="72">
                  <a:moveTo>
                    <a:pt x="355" y="72"/>
                  </a:moveTo>
                  <a:lnTo>
                    <a:pt x="452" y="0"/>
                  </a:lnTo>
                  <a:lnTo>
                    <a:pt x="96" y="0"/>
                  </a:lnTo>
                  <a:lnTo>
                    <a:pt x="0" y="72"/>
                  </a:lnTo>
                  <a:lnTo>
                    <a:pt x="355" y="72"/>
                  </a:lnTo>
                  <a:close/>
                </a:path>
              </a:pathLst>
            </a:custGeom>
            <a:gradFill rotWithShape="0">
              <a:gsLst>
                <a:gs pos="0">
                  <a:srgbClr val="01779c"/>
                </a:gs>
                <a:gs pos="100000">
                  <a:srgbClr val="0298c7"/>
                </a:gs>
              </a:gsLst>
              <a:lin ang="5400000"/>
            </a:gradFill>
            <a:ln w="9360">
              <a:solidFill>
                <a:srgbClr val="006c8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82000" y="2732040"/>
              <a:ext cx="162000" cy="2946600"/>
            </a:xfrm>
            <a:custGeom>
              <a:avLst/>
              <a:gdLst/>
              <a:ahLst/>
              <a:rect l="l" t="t" r="r" b="b"/>
              <a:pathLst>
                <a:path w="102" h="1856">
                  <a:moveTo>
                    <a:pt x="0" y="1856"/>
                  </a:moveTo>
                  <a:lnTo>
                    <a:pt x="0" y="72"/>
                  </a:lnTo>
                  <a:lnTo>
                    <a:pt x="102" y="0"/>
                  </a:lnTo>
                  <a:lnTo>
                    <a:pt x="102" y="1777"/>
                  </a:lnTo>
                  <a:lnTo>
                    <a:pt x="0" y="1856"/>
                  </a:lnTo>
                  <a:close/>
                </a:path>
              </a:pathLst>
            </a:custGeom>
            <a:gradFill rotWithShape="0">
              <a:gsLst>
                <a:gs pos="0">
                  <a:srgbClr val="014d65"/>
                </a:gs>
                <a:gs pos="100000">
                  <a:srgbClr val="0298c7"/>
                </a:gs>
              </a:gsLst>
              <a:lin ang="5400000"/>
            </a:gradFill>
            <a:ln w="9360">
              <a:solidFill>
                <a:srgbClr val="006c8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16800" y="2846520"/>
              <a:ext cx="565200" cy="2832120"/>
            </a:xfrm>
            <a:prstGeom prst="rect">
              <a:avLst/>
            </a:prstGeom>
            <a:gradFill rotWithShape="0">
              <a:gsLst>
                <a:gs pos="0">
                  <a:srgbClr val="0298c7"/>
                </a:gs>
                <a:gs pos="100000">
                  <a:srgbClr val="5dbcda"/>
                </a:gs>
              </a:gsLst>
              <a:lin ang="5400000"/>
            </a:gradFill>
            <a:ln w="9360">
              <a:solidFill>
                <a:srgbClr val="006c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16800" y="2732040"/>
              <a:ext cx="727200" cy="114480"/>
            </a:xfrm>
            <a:custGeom>
              <a:avLst/>
              <a:gdLst/>
              <a:ahLst/>
              <a:rect l="l" t="t" r="r" b="b"/>
              <a:pathLst>
                <a:path w="458" h="72">
                  <a:moveTo>
                    <a:pt x="356" y="72"/>
                  </a:moveTo>
                  <a:lnTo>
                    <a:pt x="458" y="0"/>
                  </a:lnTo>
                  <a:lnTo>
                    <a:pt x="97" y="0"/>
                  </a:lnTo>
                  <a:lnTo>
                    <a:pt x="0" y="72"/>
                  </a:lnTo>
                  <a:lnTo>
                    <a:pt x="356" y="72"/>
                  </a:lnTo>
                  <a:close/>
                </a:path>
              </a:pathLst>
            </a:custGeom>
            <a:gradFill rotWithShape="0">
              <a:gsLst>
                <a:gs pos="0">
                  <a:srgbClr val="01779c"/>
                </a:gs>
                <a:gs pos="100000">
                  <a:srgbClr val="0298c7"/>
                </a:gs>
              </a:gsLst>
              <a:lin ang="5400000"/>
            </a:gradFill>
            <a:ln w="9360">
              <a:solidFill>
                <a:srgbClr val="006c8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45720" y="5543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5320" y="497520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15320" y="441648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15320" y="384804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5320" y="328932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5320" y="272088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5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5320" y="216360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76480" y="5678640"/>
              <a:ext cx="7134120" cy="1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189160" y="5678640"/>
              <a:ext cx="1440" cy="5868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13000" y="5678640"/>
              <a:ext cx="1800" cy="5868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237200" y="5678640"/>
              <a:ext cx="1440" cy="5868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249880" y="5678640"/>
              <a:ext cx="1440" cy="5868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73720" y="5678640"/>
              <a:ext cx="1800" cy="5868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288200" y="5678640"/>
              <a:ext cx="1440" cy="5868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10600" y="5678640"/>
              <a:ext cx="1440" cy="5868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30000" y="580392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53840" y="580392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9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68320" y="580392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99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90360" y="580392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14560" y="580392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29040" y="580392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51080" y="580392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66800" y="2222640"/>
              <a:ext cx="1069920" cy="33624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1176480" y="2298240"/>
              <a:ext cx="1440" cy="338004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117440" y="5678640"/>
              <a:ext cx="59040" cy="144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117440" y="5110200"/>
              <a:ext cx="59040" cy="144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117440" y="4551480"/>
              <a:ext cx="59040" cy="144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117440" y="3983040"/>
              <a:ext cx="59040" cy="144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117440" y="3424320"/>
              <a:ext cx="59040" cy="144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1117440" y="2855880"/>
              <a:ext cx="59040" cy="180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76480" y="5678640"/>
              <a:ext cx="1440" cy="5868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44560" y="2338560"/>
              <a:ext cx="142920" cy="144360"/>
            </a:xfrm>
            <a:prstGeom prst="rect">
              <a:avLst/>
            </a:prstGeom>
            <a:solidFill>
              <a:srgbClr val="0298c7"/>
            </a:solidFill>
            <a:ln w="28440">
              <a:solidFill>
                <a:srgbClr val="006c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73240" y="2281320"/>
              <a:ext cx="54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61840" y="1709640"/>
              <a:ext cx="30348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Worldwide Internet Usag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5360" y="1727280"/>
              <a:ext cx="12304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Users (M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8439840" y="6600240"/>
            <a:ext cx="64332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F561DBD-FE48-4C17-8B49-E7D028C6B922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6400" y="6450480"/>
            <a:ext cx="74232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F0_4665_c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1560" y="6618240"/>
            <a:ext cx="12254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imes New Roman"/>
              </a:rPr>
              <a:t>© 1999, Cisco Systems, Inc.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6800" y="76320"/>
            <a:ext cx="7623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ternet Ubiqui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Some facts and figur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Internet Economy in Europe is today worth $53 billion - and will break $1.2 trillion by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K Internet Economy today is $23 billion with growth expectations of 82% CAGR reaching $257 billion by 2004, 6% of G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urce: Gartner Group - Oct 2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600" y="1620720"/>
            <a:ext cx="763740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In 2002, almost </a:t>
            </a:r>
            <a:r>
              <a:rPr b="0" lang="en-US" sz="3400" spc="-1" strike="noStrike">
                <a:solidFill>
                  <a:srgbClr val="ff5050"/>
                </a:solidFill>
                <a:latin typeface="Times New Roman"/>
              </a:rPr>
              <a:t>$1 trillion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 is predicted in global </a:t>
            </a:r>
            <a:r>
              <a:rPr b="0" lang="en-US" sz="3400" spc="-1" strike="noStrike">
                <a:solidFill>
                  <a:srgbClr val="ff5050"/>
                </a:solidFill>
                <a:latin typeface="Times New Roman"/>
              </a:rPr>
              <a:t>Internet commerce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revenues. This will also generate </a:t>
            </a:r>
            <a:r>
              <a:rPr b="0" lang="en-US" sz="3400" spc="-1" strike="noStrike">
                <a:solidFill>
                  <a:srgbClr val="ff5050"/>
                </a:solidFill>
                <a:latin typeface="Times New Roman"/>
              </a:rPr>
              <a:t>cost savings</a:t>
            </a:r>
            <a:r>
              <a:rPr b="0" lang="en-US" sz="34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of nearly</a:t>
            </a:r>
            <a:r>
              <a:rPr b="0" lang="en-US" sz="34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ff5050"/>
                </a:solidFill>
                <a:latin typeface="Times New Roman"/>
              </a:rPr>
              <a:t>$1.25 trillion</a:t>
            </a:r>
            <a:r>
              <a:rPr b="0" lang="en-US" sz="3400" spc="-1" strike="noStrike">
                <a:solidFill>
                  <a:srgbClr val="b2b2b2"/>
                </a:solidFill>
                <a:latin typeface="Times New Roman"/>
              </a:rPr>
              <a:t>,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 producing even </a:t>
            </a:r>
            <a:r>
              <a:rPr b="0" lang="en-US" sz="3400" spc="-1" strike="noStrike">
                <a:solidFill>
                  <a:srgbClr val="ff5050"/>
                </a:solidFill>
                <a:latin typeface="Times New Roman"/>
              </a:rPr>
              <a:t>greater</a:t>
            </a:r>
            <a:r>
              <a:rPr b="0" lang="en-US" sz="34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ff5050"/>
                </a:solidFill>
                <a:latin typeface="Times New Roman"/>
              </a:rPr>
              <a:t>profit margins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 than revenue growth, dollar for dollar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439840" y="6600240"/>
            <a:ext cx="64332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3E7B4C8C-334F-4CB4-843C-EC495ACE2348}" type="slidenum"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6400" y="6450480"/>
            <a:ext cx="74232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F0_4665_c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1560" y="6618240"/>
            <a:ext cx="12254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Times New Roman"/>
              </a:rPr>
              <a:t>© 1999, Cisco Systems, Inc. 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58680" y="1755720"/>
            <a:ext cx="7221600" cy="90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1c8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58680" y="5451480"/>
            <a:ext cx="7221600" cy="90360"/>
          </a:xfrm>
          <a:prstGeom prst="rect">
            <a:avLst/>
          </a:prstGeom>
          <a:gradFill rotWithShape="0">
            <a:gsLst>
              <a:gs pos="0">
                <a:srgbClr val="01c8fe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79360" y="5743440"/>
            <a:ext cx="31474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iga Information Group, 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nterNetWarsPartnersBLMay00" descr=""/>
          <p:cNvPicPr/>
          <p:nvPr/>
        </p:nvPicPr>
        <p:blipFill>
          <a:blip r:embed="rId1"/>
          <a:srcRect l="2187" t="0" r="0" b="0"/>
          <a:stretch/>
        </p:blipFill>
        <p:spPr>
          <a:xfrm>
            <a:off x="0" y="1249200"/>
            <a:ext cx="8305920" cy="5227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11360" y="3282840"/>
            <a:ext cx="2971800" cy="106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c72f"/>
                </a:solidFill>
                <a:latin typeface="Times New Roman"/>
              </a:rPr>
              <a:t>Cost</a:t>
            </a:r>
            <a:br>
              <a:rPr sz="3600"/>
            </a:br>
            <a:r>
              <a:rPr b="1" lang="en-US" sz="3600" spc="-1" strike="noStrike">
                <a:solidFill>
                  <a:srgbClr val="fdc72f"/>
                </a:solidFill>
                <a:latin typeface="Times New Roman"/>
              </a:rPr>
              <a:t>Cent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840" y="6290280"/>
            <a:ext cx="4663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b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ource: U.S. Govt. Bureau of Economic Analy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54400" y="2286000"/>
            <a:ext cx="2971800" cy="106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c72f"/>
                </a:solidFill>
                <a:latin typeface="Times New Roman"/>
              </a:rPr>
              <a:t>Productivity To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8080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142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pital Investment in High Tech</a:t>
            </a:r>
            <a:br>
              <a:rPr sz="4000"/>
            </a:b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“Productivity Improvement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840" y="6290280"/>
            <a:ext cx="4663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b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ource: U.S. Govt. Bureau of Economic Analy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589080" y="4673520"/>
            <a:ext cx="963000" cy="1117800"/>
            <a:chOff x="6589080" y="4673520"/>
            <a:chExt cx="963000" cy="1117800"/>
          </a:xfrm>
        </p:grpSpPr>
        <p:sp>
          <p:nvSpPr>
            <p:cNvPr id="141" name=""/>
            <p:cNvSpPr/>
            <p:nvPr/>
          </p:nvSpPr>
          <p:spPr>
            <a:xfrm>
              <a:off x="6589080" y="4673520"/>
              <a:ext cx="963000" cy="507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2760" bIns="32760" anchor="t">
              <a:spAutoFit/>
            </a:bodyPr>
            <a:p>
              <a:pPr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1" lang="en-US" sz="2900" spc="-1" strike="noStrike">
                  <a:solidFill>
                    <a:srgbClr val="00ff00"/>
                  </a:solidFill>
                  <a:latin typeface="Times New Roman"/>
                </a:rPr>
                <a:t>2.6%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31040" y="5105520"/>
              <a:ext cx="0" cy="6858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120080" y="5791320"/>
              <a:ext cx="4237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190560" y="5105520"/>
            <a:ext cx="963000" cy="685800"/>
            <a:chOff x="6190560" y="5105520"/>
            <a:chExt cx="963000" cy="685800"/>
          </a:xfrm>
        </p:grpSpPr>
        <p:sp>
          <p:nvSpPr>
            <p:cNvPr id="145" name=""/>
            <p:cNvSpPr/>
            <p:nvPr/>
          </p:nvSpPr>
          <p:spPr>
            <a:xfrm>
              <a:off x="6190560" y="5105520"/>
              <a:ext cx="963000" cy="507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2760" bIns="32760" anchor="t">
              <a:spAutoFit/>
            </a:bodyPr>
            <a:p>
              <a:pPr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1" lang="en-US" sz="2900" spc="-1" strike="noStrike">
                  <a:solidFill>
                    <a:srgbClr val="00ffff"/>
                  </a:solidFill>
                  <a:latin typeface="Times New Roman"/>
                </a:rPr>
                <a:t>1.6%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54680" y="5562720"/>
              <a:ext cx="0" cy="2286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00800" y="5791320"/>
              <a:ext cx="7081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041800" y="5181480"/>
            <a:ext cx="1359000" cy="609840"/>
            <a:chOff x="5041800" y="5181480"/>
            <a:chExt cx="1359000" cy="609840"/>
          </a:xfrm>
        </p:grpSpPr>
        <p:sp>
          <p:nvSpPr>
            <p:cNvPr id="149" name=""/>
            <p:cNvSpPr/>
            <p:nvPr/>
          </p:nvSpPr>
          <p:spPr>
            <a:xfrm>
              <a:off x="5239800" y="5181480"/>
              <a:ext cx="963000" cy="507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2760" bIns="32760" anchor="t">
              <a:spAutoFit/>
            </a:bodyPr>
            <a:p>
              <a:pPr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1" lang="en-US" sz="2900" spc="-1" strike="noStrike">
                  <a:solidFill>
                    <a:srgbClr val="cc99ff"/>
                  </a:solidFill>
                  <a:latin typeface="Times New Roman"/>
                </a:rPr>
                <a:t>1.5%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21480" y="5638680"/>
              <a:ext cx="0" cy="152640"/>
            </a:xfrm>
            <a:prstGeom prst="line">
              <a:avLst/>
            </a:prstGeom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41800" y="5791320"/>
              <a:ext cx="1359000" cy="0"/>
            </a:xfrm>
            <a:prstGeom prst="line">
              <a:avLst/>
            </a:prstGeom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57120" y="1650960"/>
            <a:ext cx="843120" cy="4463640"/>
            <a:chOff x="357120" y="1650960"/>
            <a:chExt cx="843120" cy="4463640"/>
          </a:xfrm>
        </p:grpSpPr>
        <p:sp>
          <p:nvSpPr>
            <p:cNvPr id="153" name=""/>
            <p:cNvSpPr/>
            <p:nvPr/>
          </p:nvSpPr>
          <p:spPr>
            <a:xfrm>
              <a:off x="357120" y="2324160"/>
              <a:ext cx="83844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0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57120" y="2994480"/>
              <a:ext cx="83844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40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3665880"/>
              <a:ext cx="83844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0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7120" y="4335120"/>
              <a:ext cx="83844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0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7120" y="5005440"/>
              <a:ext cx="83844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0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7120" y="5675760"/>
              <a:ext cx="83844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61800" y="1650960"/>
              <a:ext cx="83844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60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7702200" y="1905120"/>
            <a:ext cx="1392840" cy="73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5880" rIns="65880" tIns="32760" bIns="32760" anchor="t">
            <a:spAutoFit/>
          </a:bodyPr>
          <a:p>
            <a:pPr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.2%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924200" y="5810400"/>
            <a:ext cx="6352920" cy="438840"/>
            <a:chOff x="1924200" y="5810400"/>
            <a:chExt cx="6352920" cy="438840"/>
          </a:xfrm>
        </p:grpSpPr>
        <p:sp>
          <p:nvSpPr>
            <p:cNvPr id="162" name=""/>
            <p:cNvSpPr/>
            <p:nvPr/>
          </p:nvSpPr>
          <p:spPr>
            <a:xfrm>
              <a:off x="1924200" y="5810400"/>
              <a:ext cx="90648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96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8840" y="5810400"/>
              <a:ext cx="90648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97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56160" y="5810400"/>
              <a:ext cx="90792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98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32440" y="5810400"/>
              <a:ext cx="90648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99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370640" y="5810400"/>
              <a:ext cx="90648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0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4952880" y="1828800"/>
            <a:ext cx="2971800" cy="122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c72f"/>
                </a:solidFill>
                <a:latin typeface="Times New Roman"/>
              </a:rPr>
              <a:t>Internet</a:t>
            </a:r>
            <a:br>
              <a:rPr sz="3600"/>
            </a:br>
            <a:r>
              <a:rPr b="1" lang="en-US" sz="2400" spc="-1" strike="noStrike">
                <a:solidFill>
                  <a:srgbClr val="fdc72f"/>
                </a:solidFill>
                <a:latin typeface="Times New Roman"/>
              </a:rPr>
              <a:t>Competitive</a:t>
            </a:r>
            <a:br>
              <a:rPr sz="2400"/>
            </a:br>
            <a:r>
              <a:rPr b="1" lang="en-US" sz="2400" spc="-1" strike="noStrike">
                <a:solidFill>
                  <a:srgbClr val="fdc72f"/>
                </a:solidFill>
                <a:latin typeface="Times New Roman"/>
              </a:rPr>
              <a:t>Advant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7089120" y="3352680"/>
            <a:ext cx="1544040" cy="2438640"/>
            <a:chOff x="7089120" y="3352680"/>
            <a:chExt cx="1544040" cy="2438640"/>
          </a:xfrm>
        </p:grpSpPr>
        <p:sp>
          <p:nvSpPr>
            <p:cNvPr id="169" name=""/>
            <p:cNvSpPr/>
            <p:nvPr/>
          </p:nvSpPr>
          <p:spPr>
            <a:xfrm>
              <a:off x="7089120" y="3962520"/>
              <a:ext cx="963000" cy="507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2760" bIns="32760" anchor="t">
              <a:spAutoFit/>
            </a:bodyPr>
            <a:p>
              <a:pPr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1" lang="en-US" sz="2900" spc="-1" strike="noStrike">
                  <a:solidFill>
                    <a:srgbClr val="00ff00"/>
                  </a:solidFill>
                  <a:latin typeface="Times New Roman"/>
                </a:rPr>
                <a:t>2.9%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551720" y="5791320"/>
              <a:ext cx="1983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7710480" y="4495320"/>
              <a:ext cx="0" cy="12956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00400" y="3352680"/>
              <a:ext cx="932760" cy="492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2760" bIns="32760" anchor="t">
              <a:spAutoFit/>
            </a:bodyPr>
            <a:p>
              <a:pPr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5.3%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04000" y="5791320"/>
              <a:ext cx="4492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8077320" y="3809880"/>
              <a:ext cx="0" cy="19814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304920"/>
            <a:ext cx="83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Top Management driving Internet Strateg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89320" y="2619360"/>
            <a:ext cx="399240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89360" y="2619360"/>
            <a:ext cx="1440" cy="2509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87600" y="2619360"/>
            <a:ext cx="1800" cy="2509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2619360"/>
            <a:ext cx="1440" cy="2509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86240" y="2619360"/>
            <a:ext cx="1440" cy="2509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84840" y="2619360"/>
            <a:ext cx="1440" cy="2509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83080" y="2619360"/>
            <a:ext cx="1800" cy="2509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881680" y="2619360"/>
            <a:ext cx="1440" cy="2509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81720" y="2619360"/>
            <a:ext cx="1440" cy="2509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89320" y="2619360"/>
            <a:ext cx="3992400" cy="25099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89320" y="4878360"/>
            <a:ext cx="2595600" cy="142920"/>
          </a:xfrm>
          <a:prstGeom prst="rect">
            <a:avLst/>
          </a:prstGeom>
          <a:solidFill>
            <a:srgbClr val="9999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89320" y="4375080"/>
            <a:ext cx="698400" cy="144360"/>
          </a:xfrm>
          <a:prstGeom prst="rect">
            <a:avLst/>
          </a:prstGeom>
          <a:solidFill>
            <a:srgbClr val="9999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89320" y="3873600"/>
            <a:ext cx="2595600" cy="144360"/>
          </a:xfrm>
          <a:prstGeom prst="rect">
            <a:avLst/>
          </a:prstGeom>
          <a:solidFill>
            <a:srgbClr val="9999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89320" y="3371760"/>
            <a:ext cx="898560" cy="144720"/>
          </a:xfrm>
          <a:prstGeom prst="rect">
            <a:avLst/>
          </a:prstGeom>
          <a:solidFill>
            <a:srgbClr val="9999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89320" y="2870280"/>
            <a:ext cx="2097000" cy="144360"/>
          </a:xfrm>
          <a:prstGeom prst="rect">
            <a:avLst/>
          </a:prstGeom>
          <a:solidFill>
            <a:srgbClr val="9999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89320" y="4735440"/>
            <a:ext cx="2097000" cy="142920"/>
          </a:xfrm>
          <a:prstGeom prst="rect">
            <a:avLst/>
          </a:prstGeom>
          <a:solidFill>
            <a:srgbClr val="9933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89320" y="4233960"/>
            <a:ext cx="698400" cy="141120"/>
          </a:xfrm>
          <a:prstGeom prst="rect">
            <a:avLst/>
          </a:prstGeom>
          <a:solidFill>
            <a:srgbClr val="9933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89320" y="3730680"/>
            <a:ext cx="3394080" cy="142920"/>
          </a:xfrm>
          <a:prstGeom prst="rect">
            <a:avLst/>
          </a:prstGeom>
          <a:solidFill>
            <a:srgbClr val="9933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89320" y="3228840"/>
            <a:ext cx="1098360" cy="142920"/>
          </a:xfrm>
          <a:prstGeom prst="rect">
            <a:avLst/>
          </a:prstGeom>
          <a:solidFill>
            <a:srgbClr val="9933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89320" y="2727360"/>
            <a:ext cx="2097000" cy="142920"/>
          </a:xfrm>
          <a:prstGeom prst="rect">
            <a:avLst/>
          </a:prstGeom>
          <a:solidFill>
            <a:srgbClr val="9933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89320" y="5129280"/>
            <a:ext cx="39924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389320" y="5129280"/>
            <a:ext cx="1440" cy="41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889360" y="5129280"/>
            <a:ext cx="1440" cy="41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387600" y="5129280"/>
            <a:ext cx="1800" cy="41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86200" y="5129280"/>
            <a:ext cx="1440" cy="41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386240" y="5129280"/>
            <a:ext cx="1440" cy="41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884840" y="5129280"/>
            <a:ext cx="1440" cy="41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383080" y="5129280"/>
            <a:ext cx="1800" cy="41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881680" y="5129280"/>
            <a:ext cx="1440" cy="41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6381720" y="5129280"/>
            <a:ext cx="1440" cy="41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89320" y="2619360"/>
            <a:ext cx="1440" cy="2509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47920" y="5129280"/>
            <a:ext cx="414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47920" y="4627440"/>
            <a:ext cx="41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47920" y="4125960"/>
            <a:ext cx="414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47920" y="3624120"/>
            <a:ext cx="41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47920" y="3121200"/>
            <a:ext cx="414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47920" y="2619360"/>
            <a:ext cx="414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9240" y="5245200"/>
            <a:ext cx="20988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3360" indent="-63360">
              <a:lnSpc>
                <a:spcPct val="90000"/>
              </a:lnSpc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87480" y="5245200"/>
            <a:ext cx="20988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3360" indent="-63360">
              <a:lnSpc>
                <a:spcPct val="90000"/>
              </a:lnSpc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49720" y="5245200"/>
            <a:ext cx="2919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3360" indent="-63360">
              <a:lnSpc>
                <a:spcPct val="90000"/>
              </a:lnSpc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48320" y="5245200"/>
            <a:ext cx="2919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3360" indent="-63360">
              <a:lnSpc>
                <a:spcPct val="90000"/>
              </a:lnSpc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48360" y="5245200"/>
            <a:ext cx="2919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3360" indent="-63360">
              <a:lnSpc>
                <a:spcPct val="90000"/>
              </a:lnSpc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46600" y="5245200"/>
            <a:ext cx="2919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3360" indent="-63360">
              <a:lnSpc>
                <a:spcPct val="90000"/>
              </a:lnSpc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45200" y="5245200"/>
            <a:ext cx="2919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3360" indent="-63360">
              <a:lnSpc>
                <a:spcPct val="90000"/>
              </a:lnSpc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45240" y="5245200"/>
            <a:ext cx="2919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3360" indent="-63360">
              <a:lnSpc>
                <a:spcPct val="90000"/>
              </a:lnSpc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243840" y="5245200"/>
            <a:ext cx="291960" cy="1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3360" indent="-63360">
              <a:lnSpc>
                <a:spcPct val="90000"/>
              </a:lnSpc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32240" y="4802040"/>
            <a:ext cx="874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3360" indent="-63360">
              <a:lnSpc>
                <a:spcPct val="9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Marke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88200" y="4299120"/>
            <a:ext cx="5054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3360" indent="-63360">
              <a:lnSpc>
                <a:spcPct val="9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32120" y="3797280"/>
            <a:ext cx="4824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3360" indent="-63360">
              <a:lnSpc>
                <a:spcPct val="9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CE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73360" y="3295800"/>
            <a:ext cx="677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3360" indent="-63360">
              <a:lnSpc>
                <a:spcPct val="9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IS Dep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50560" y="2743200"/>
            <a:ext cx="1323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3360" indent="-63360">
              <a:lnSpc>
                <a:spcPct val="9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Cross-funct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53360" y="2874960"/>
            <a:ext cx="4748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3360" indent="-63360">
              <a:lnSpc>
                <a:spcPct val="9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tea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61480" y="5473800"/>
            <a:ext cx="15447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3360" indent="-63360">
              <a:lnSpc>
                <a:spcPct val="9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% of decision Mak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11360" y="2386080"/>
            <a:ext cx="87480" cy="85680"/>
          </a:xfrm>
          <a:prstGeom prst="rect">
            <a:avLst/>
          </a:prstGeom>
          <a:solidFill>
            <a:srgbClr val="9999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03160" y="2349360"/>
            <a:ext cx="6836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3360" indent="-63360">
              <a:lnSpc>
                <a:spcPct val="9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Hybri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81400" y="2386080"/>
            <a:ext cx="85680" cy="85680"/>
          </a:xfrm>
          <a:prstGeom prst="rect">
            <a:avLst/>
          </a:prstGeom>
          <a:solidFill>
            <a:srgbClr val="993366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285440" y="2349360"/>
            <a:ext cx="12276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3360" indent="-63360">
              <a:lnSpc>
                <a:spcPct val="9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Brochure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603840" y="3913200"/>
            <a:ext cx="1752840" cy="12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63360" indent="-63360">
              <a:lnSpc>
                <a:spcPct val="90000"/>
              </a:lnSpc>
              <a:spcBef>
                <a:spcPts val="7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Palatino"/>
              </a:rPr>
              <a:t>Note: </a:t>
            </a:r>
            <a:r>
              <a:rPr b="0" i="1" lang="en-GB" sz="1200" spc="-1" strike="noStrike">
                <a:solidFill>
                  <a:srgbClr val="000000"/>
                </a:solidFill>
                <a:latin typeface="Palatino"/>
              </a:rPr>
              <a:t>Sample size = 57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3360" indent="-63360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alatino"/>
              </a:rPr>
              <a:t>Source: GartnerConsulting</a:t>
            </a:r>
            <a:r>
              <a:rPr b="0" i="1" lang="en-GB" sz="2800" spc="-1" strike="noStrike">
                <a:solidFill>
                  <a:srgbClr val="ffffff"/>
                </a:solidFill>
                <a:latin typeface="Palatino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91240" y="253224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Internet Decision Ma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1T09:38:38Z</dcterms:created>
  <dc:creator>Edward Smart</dc:creator>
  <dc:description/>
  <dc:language>en-US</dc:language>
  <cp:lastModifiedBy>Drew Trotter</cp:lastModifiedBy>
  <cp:lastPrinted>2000-12-01T08:41:16Z</cp:lastPrinted>
  <dcterms:modified xsi:type="dcterms:W3CDTF">2000-12-03T22:07:24Z</dcterms:modified>
  <cp:revision>148</cp:revision>
  <dc:subject/>
  <dc:title>No Slide Title</dc:title>
</cp:coreProperties>
</file>