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7944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8600" y="40748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37944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40748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0000" y="40748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37944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65840" y="1447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02720" y="1447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28600" y="40748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65840" y="40748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02720" y="40748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37944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7944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7944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37944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600" y="380520"/>
            <a:ext cx="86868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37944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28600" y="40748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7944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0000" y="40748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7944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447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40748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CES Colloqui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52280" y="3123720"/>
            <a:ext cx="8839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lecommunications Converg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th December 2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EPSRC" descr=""/>
          <p:cNvPicPr/>
          <p:nvPr/>
        </p:nvPicPr>
        <p:blipFill>
          <a:blip r:embed="rId1"/>
          <a:stretch/>
        </p:blipFill>
        <p:spPr>
          <a:xfrm>
            <a:off x="457200" y="5791320"/>
            <a:ext cx="1600200" cy="676080"/>
          </a:xfrm>
          <a:prstGeom prst="rect">
            <a:avLst/>
          </a:prstGeom>
          <a:ln w="0">
            <a:noFill/>
          </a:ln>
        </p:spPr>
      </p:pic>
      <p:pic>
        <p:nvPicPr>
          <p:cNvPr id="41" name="IEE" descr=""/>
          <p:cNvPicPr/>
          <p:nvPr/>
        </p:nvPicPr>
        <p:blipFill>
          <a:blip r:embed="rId2"/>
          <a:stretch/>
        </p:blipFill>
        <p:spPr>
          <a:xfrm>
            <a:off x="7924680" y="5638680"/>
            <a:ext cx="641520" cy="933480"/>
          </a:xfrm>
          <a:prstGeom prst="rect">
            <a:avLst/>
          </a:prstGeom>
          <a:ln w="0">
            <a:noFill/>
          </a:ln>
        </p:spPr>
      </p:pic>
      <p:pic>
        <p:nvPicPr>
          <p:cNvPr id="42" name="LOGO1" descr=""/>
          <p:cNvPicPr/>
          <p:nvPr/>
        </p:nvPicPr>
        <p:blipFill>
          <a:blip r:embed="rId3"/>
          <a:stretch/>
        </p:blipFill>
        <p:spPr>
          <a:xfrm>
            <a:off x="2133720" y="1371600"/>
            <a:ext cx="449568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CES Colloqui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52280" y="3047760"/>
            <a:ext cx="88394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lecommunications Converg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EPSRC" descr=""/>
          <p:cNvPicPr/>
          <p:nvPr/>
        </p:nvPicPr>
        <p:blipFill>
          <a:blip r:embed="rId1"/>
          <a:stretch/>
        </p:blipFill>
        <p:spPr>
          <a:xfrm>
            <a:off x="457200" y="5791320"/>
            <a:ext cx="1600200" cy="676080"/>
          </a:xfrm>
          <a:prstGeom prst="rect">
            <a:avLst/>
          </a:prstGeom>
          <a:ln w="0">
            <a:noFill/>
          </a:ln>
        </p:spPr>
      </p:pic>
      <p:pic>
        <p:nvPicPr>
          <p:cNvPr id="64" name="IEE" descr=""/>
          <p:cNvPicPr/>
          <p:nvPr/>
        </p:nvPicPr>
        <p:blipFill>
          <a:blip r:embed="rId2"/>
          <a:stretch/>
        </p:blipFill>
        <p:spPr>
          <a:xfrm>
            <a:off x="7924680" y="5638680"/>
            <a:ext cx="641520" cy="933480"/>
          </a:xfrm>
          <a:prstGeom prst="rect">
            <a:avLst/>
          </a:prstGeom>
          <a:ln w="0">
            <a:noFill/>
          </a:ln>
        </p:spPr>
      </p:pic>
      <p:pic>
        <p:nvPicPr>
          <p:cNvPr id="65" name="LOGO1" descr=""/>
          <p:cNvPicPr/>
          <p:nvPr/>
        </p:nvPicPr>
        <p:blipFill>
          <a:blip r:embed="rId3"/>
          <a:stretch/>
        </p:blipFill>
        <p:spPr>
          <a:xfrm>
            <a:off x="2209680" y="1371600"/>
            <a:ext cx="4496040" cy="1512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52280" y="480060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Let’s Join Force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CES Mi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 on telecommunications servic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m f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tion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gineering of Telecommun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e industrial-academic collab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se visits, workshops, colloqu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 problems and 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CES Consortium – Industr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ish Telecommun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t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icsson U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coni Commun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CES Consortium – Academ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asg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c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r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coordinator" descr=""/>
          <p:cNvPicPr/>
          <p:nvPr/>
        </p:nvPicPr>
        <p:blipFill>
          <a:blip r:embed="rId1"/>
          <a:stretch/>
        </p:blipFill>
        <p:spPr>
          <a:xfrm>
            <a:off x="3124080" y="2806560"/>
            <a:ext cx="1009800" cy="1689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2133360" y="3505320"/>
            <a:ext cx="99036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CES Consortium – Affilia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rmingh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tingh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lcor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lecommunications Contex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ld-wide dereg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compet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cal adv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kinds of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kinds of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u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opportu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challe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rvice Evol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arer services becoming less impor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-user services becoming more impor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arate network and service provi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-party and multi-party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media and information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vasive/ubiquitous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ice APIs (e.g. JAIN , Parlay, *TAP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ice control (e.g. CPL, SDP/SIP, SL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hnology Evol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ice/data/multimedia inte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-philosophy services (e.g. SDP/SI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ergence of data, email, voice (mail), w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erged networks (e.g. VoI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-user delivery (e.g. ADSL, Bluetoot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e networks (e.g. Bluetooth, UPn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d mobility (e.g. 3G, GP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-oriented platforms (e.g. CORBA, J*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rvice Fu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ice evolution + technology evolution = divergence? convergen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as of converg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vice provision (Martin Cookson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der view of service interaction (Mark Ry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vasive computing (Jim Henders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bile communication (John Dunlo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verged communication (Rod Mitche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e networks (Nigel Davi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vice environments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13:15:32Z</dcterms:created>
  <dc:creator>Kenneth J. Turner</dc:creator>
  <dc:description/>
  <dc:language>en-US</dc:language>
  <cp:lastModifiedBy>Kenneth J. Turner</cp:lastModifiedBy>
  <cp:lastPrinted>2000-12-03T13:20:49Z</cp:lastPrinted>
  <dcterms:modified xsi:type="dcterms:W3CDTF">2000-12-03T13:24:54Z</dcterms:modified>
  <cp:revision>16</cp:revision>
  <dc:subject/>
  <dc:title>FORCES Colloquium</dc:title>
</cp:coreProperties>
</file>