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63360" y="7408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0247-078A-4285-8412-728D336DE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Network-based Service Activation and Assurance Platform for Home Networking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cordia systems and code in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band Access Termination Device and Broadband Gateway/Router can be co-located in the same physical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cordia systems and code in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band Access Termination Device and Broadband Gateway/Router can be co-located in the same physical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534528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65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91844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84580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91844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84580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98400" y="2466720"/>
            <a:ext cx="69627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965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534528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3965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91844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4580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191844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284580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8400" y="2466720"/>
            <a:ext cx="69627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965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600" y="5942160"/>
            <a:ext cx="1757520" cy="788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36440" y="1676160"/>
            <a:ext cx="741348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6056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35000" indent="-16992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19040" indent="-10944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19040" indent="-109440"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19040" indent="-109440"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1036800" y="566640"/>
            <a:ext cx="7783200" cy="608508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42240" y="6515280"/>
            <a:ext cx="17622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 Network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70AE42-B8C8-49BE-8CB9-40549C098F9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645240"/>
            <a:ext cx="23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1 Telcordia Technologies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34920" y="579600"/>
            <a:ext cx="2695680" cy="120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596960" y="2414520"/>
            <a:ext cx="7245360" cy="423864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62520" y="4114800"/>
            <a:ext cx="4638240" cy="2225880"/>
            <a:chOff x="3962520" y="4114800"/>
            <a:chExt cx="4638240" cy="2225880"/>
          </a:xfrm>
        </p:grpSpPr>
        <p:sp>
          <p:nvSpPr>
            <p:cNvPr id="48" name=""/>
            <p:cNvSpPr/>
            <p:nvPr/>
          </p:nvSpPr>
          <p:spPr>
            <a:xfrm>
              <a:off x="3962520" y="4114800"/>
              <a:ext cx="46382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4042080" y="4773600"/>
              <a:ext cx="18446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039920" y="6064200"/>
              <a:ext cx="146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SAIC Compa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31440" y="4149720"/>
              <a:ext cx="2288520" cy="18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ris Bright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Scient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net Architecture Resea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lcordia Technologies, In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 South Street 1D218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rristown, NJ 07960-64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ce: 973-829-23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x: 973-829-58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-mail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b@research.telcordia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990720" y="6645240"/>
            <a:ext cx="76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SAIC Compan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1 Telcordia Technologies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0400" algn="ctr">
              <a:spcBef>
                <a:spcPts val="45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5080" algn="ctr"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209600" algn="ctr">
              <a:spcBef>
                <a:spcPts val="400"/>
              </a:spcBef>
              <a:buClr>
                <a:srgbClr val="0033cc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209600"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209600"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590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Home Networks</a:t>
            </a:r>
            <a:br>
              <a:rPr sz="3200"/>
            </a:b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nfiguration Management &amp; Service Assurance: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olutions for the 80%</a:t>
            </a:r>
            <a:endParaRPr b="0" lang="en-US" sz="20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267080"/>
            <a:ext cx="26035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d f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S Colloqu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Market Drivers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of broadband service is 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$700-$1,500 per DSL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roviders need to increase revenue per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network management customer service o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networks enable many new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Internet access among multiple 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ore to come (e.g VoIP, multi-player gaming, vide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of home networks today are impeded by the complexity of managing the de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figuration for each new service or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% of broadband households have multipl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% of DSL customers are interested in home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2362320"/>
            <a:ext cx="7848720" cy="4190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3886200"/>
            <a:ext cx="2895480" cy="1143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High Level Architecture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934320" y="4035600"/>
            <a:ext cx="1841400" cy="916560"/>
            <a:chOff x="6934320" y="4035600"/>
            <a:chExt cx="1841400" cy="916560"/>
          </a:xfrm>
        </p:grpSpPr>
        <p:pic>
          <p:nvPicPr>
            <p:cNvPr id="234" name="rio-receiver" descr=""/>
            <p:cNvPicPr/>
            <p:nvPr/>
          </p:nvPicPr>
          <p:blipFill>
            <a:blip r:embed="rId1"/>
            <a:stretch/>
          </p:blipFill>
          <p:spPr>
            <a:xfrm>
              <a:off x="6934320" y="4035600"/>
              <a:ext cx="1841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394040" y="4645080"/>
              <a:ext cx="10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nternet 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914400" y="3959280"/>
            <a:ext cx="914400" cy="990720"/>
          </a:xfrm>
          <a:prstGeom prst="cube">
            <a:avLst>
              <a:gd name="adj" fmla="val 11458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cces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erminat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111560"/>
            <a:ext cx="838440" cy="60984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562720" y="37303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3273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876920" y="2664000"/>
            <a:ext cx="1477800" cy="1333440"/>
            <a:chOff x="4876920" y="2664000"/>
            <a:chExt cx="1477800" cy="1333440"/>
          </a:xfrm>
        </p:grpSpPr>
        <p:sp>
          <p:nvSpPr>
            <p:cNvPr id="241" name=""/>
            <p:cNvSpPr/>
            <p:nvPr/>
          </p:nvSpPr>
          <p:spPr>
            <a:xfrm>
              <a:off x="5101920" y="2696040"/>
              <a:ext cx="816480" cy="7369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00920" y="2798280"/>
              <a:ext cx="568440" cy="52092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6240" y="3466080"/>
              <a:ext cx="501840" cy="85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44840" y="2882160"/>
              <a:ext cx="205920" cy="1645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1640" y="3085200"/>
              <a:ext cx="128520" cy="1562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38280" y="3714840"/>
              <a:ext cx="306360" cy="1980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38280" y="3751200"/>
              <a:ext cx="312840" cy="1728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43680" y="3830040"/>
              <a:ext cx="296640" cy="939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46560" y="3764160"/>
              <a:ext cx="73440" cy="406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73360" y="3789360"/>
              <a:ext cx="81360" cy="1292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27480" y="3713040"/>
              <a:ext cx="265320" cy="20988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11800" y="3809880"/>
              <a:ext cx="75600" cy="9036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23960" y="3742200"/>
              <a:ext cx="118080" cy="644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8320" y="3728520"/>
              <a:ext cx="77760" cy="17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69520" y="3842280"/>
              <a:ext cx="366480" cy="1551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86640" y="3656880"/>
              <a:ext cx="1101240" cy="21636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04080" y="3531240"/>
              <a:ext cx="843120" cy="2113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23680" y="3431880"/>
              <a:ext cx="457920" cy="92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85480" y="2827440"/>
              <a:ext cx="213480" cy="6231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88760" y="3333960"/>
              <a:ext cx="407880" cy="612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52680" y="2759400"/>
              <a:ext cx="631080" cy="5389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42280" y="3566160"/>
              <a:ext cx="271080" cy="9036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45600" y="3609000"/>
              <a:ext cx="132840" cy="547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3811320"/>
              <a:ext cx="1097640" cy="644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91480" y="3501000"/>
              <a:ext cx="869400" cy="637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15520" y="3507480"/>
              <a:ext cx="55080" cy="2430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5080" y="3572640"/>
              <a:ext cx="25200" cy="813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5880" y="3561840"/>
              <a:ext cx="271800" cy="205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39840" y="3605760"/>
              <a:ext cx="153360" cy="406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38200" y="3630240"/>
              <a:ext cx="830520" cy="53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14000" y="3791880"/>
              <a:ext cx="756720" cy="414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91400" y="3675600"/>
              <a:ext cx="100440" cy="136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37480" y="3824640"/>
              <a:ext cx="57960" cy="5148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94560" y="3844440"/>
              <a:ext cx="1062360" cy="392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94000" y="3682080"/>
              <a:ext cx="566280" cy="54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5920" y="3731040"/>
              <a:ext cx="412200" cy="399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40920" y="3719520"/>
              <a:ext cx="124560" cy="219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8280" y="3748680"/>
              <a:ext cx="125640" cy="1908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79080" y="3782160"/>
              <a:ext cx="145080" cy="23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4200" y="2664000"/>
              <a:ext cx="773280" cy="1926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73760" y="2679120"/>
              <a:ext cx="78840" cy="1090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21560" y="2773080"/>
              <a:ext cx="133920" cy="6404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5920" y="2721240"/>
              <a:ext cx="86400" cy="580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73480" y="2871720"/>
              <a:ext cx="148680" cy="5410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37280" y="3416040"/>
              <a:ext cx="486360" cy="27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3360" y="3417480"/>
              <a:ext cx="92160" cy="3024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86240" y="3423240"/>
              <a:ext cx="74160" cy="91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43400" y="3507480"/>
              <a:ext cx="36000" cy="41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49480" y="3421440"/>
              <a:ext cx="107280" cy="597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71880" y="3466080"/>
              <a:ext cx="17640" cy="53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6880" y="3354120"/>
              <a:ext cx="23400" cy="450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9040" y="3326400"/>
              <a:ext cx="429120" cy="3852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96280" y="3328200"/>
              <a:ext cx="16920" cy="5148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7720" y="3348360"/>
              <a:ext cx="16200" cy="392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6720" y="3347640"/>
              <a:ext cx="20520" cy="392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34200" y="3345120"/>
              <a:ext cx="19080" cy="414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53200" y="3349800"/>
              <a:ext cx="20520" cy="439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89720" y="2799000"/>
              <a:ext cx="154440" cy="597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59880" y="2983680"/>
              <a:ext cx="123480" cy="320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82280" y="3257280"/>
              <a:ext cx="441720" cy="590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95200" y="2783160"/>
              <a:ext cx="91080" cy="4989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59160" y="2778120"/>
              <a:ext cx="604080" cy="1512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98760" y="2822760"/>
              <a:ext cx="246240" cy="252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85720" y="3553920"/>
              <a:ext cx="21600" cy="84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752480" y="44164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4721400"/>
            <a:ext cx="1371600" cy="838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7480" y="51022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802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371600" y="23587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952880" y="44164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2514600"/>
            <a:ext cx="1828800" cy="1139760"/>
          </a:xfrm>
          <a:prstGeom prst="wedgeRoundRectCallout">
            <a:avLst>
              <a:gd name="adj1" fmla="val -19268"/>
              <a:gd name="adj2" fmla="val 8969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A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rew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HCP (client &amp; ser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PN (PPTP and/or IP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105520"/>
            <a:ext cx="1218960" cy="834840"/>
          </a:xfrm>
          <a:prstGeom prst="wedgeRoundRectCallout">
            <a:avLst>
              <a:gd name="adj1" fmla="val -94662"/>
              <a:gd name="adj2" fmla="val -6920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ble Modem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SL Modem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atellite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4600" y="3932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net Access 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952880" y="44164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223598" descr=""/>
          <p:cNvPicPr/>
          <p:nvPr/>
        </p:nvPicPr>
        <p:blipFill>
          <a:blip r:embed="rId2"/>
          <a:stretch/>
        </p:blipFill>
        <p:spPr>
          <a:xfrm>
            <a:off x="4267080" y="5205240"/>
            <a:ext cx="960480" cy="887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421160" y="6004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p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D09248_" descr=""/>
          <p:cNvPicPr/>
          <p:nvPr/>
        </p:nvPicPr>
        <p:blipFill>
          <a:blip r:embed="rId3"/>
          <a:stretch/>
        </p:blipFill>
        <p:spPr>
          <a:xfrm>
            <a:off x="6705720" y="2282760"/>
            <a:ext cx="1279440" cy="152424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5867280" y="4905360"/>
            <a:ext cx="1676520" cy="1450080"/>
            <a:chOff x="5867280" y="4905360"/>
            <a:chExt cx="1676520" cy="1450080"/>
          </a:xfrm>
        </p:grpSpPr>
        <p:pic>
          <p:nvPicPr>
            <p:cNvPr id="318" name="ProGear" descr=""/>
            <p:cNvPicPr/>
            <p:nvPr/>
          </p:nvPicPr>
          <p:blipFill>
            <a:blip r:embed="rId4"/>
            <a:stretch/>
          </p:blipFill>
          <p:spPr>
            <a:xfrm>
              <a:off x="5867280" y="4905360"/>
              <a:ext cx="16765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173640" y="604836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eb Term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V="1">
            <a:off x="6705720" y="44161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441648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00" y="2925720"/>
            <a:ext cx="8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Cloud"/>
          <p:cNvSpPr/>
          <p:nvPr/>
        </p:nvSpPr>
        <p:spPr>
          <a:xfrm>
            <a:off x="1295280" y="1066680"/>
            <a:ext cx="1981440" cy="1219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1978200"/>
            <a:ext cx="990720" cy="380880"/>
          </a:xfrm>
          <a:prstGeom prst="can">
            <a:avLst>
              <a:gd name="adj" fmla="val 45833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ccess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84240" y="4172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15120" y="43657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/10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8000" y="30052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allel/U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914400"/>
            <a:ext cx="685800" cy="685800"/>
          </a:xfrm>
          <a:prstGeom prst="can">
            <a:avLst>
              <a:gd name="adj" fmla="val 16666"/>
            </a:avLst>
          </a:prstGeom>
          <a:solidFill>
            <a:srgbClr val="af41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rvic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provid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276360" y="160020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loud"/>
          <p:cNvSpPr/>
          <p:nvPr/>
        </p:nvSpPr>
        <p:spPr>
          <a:xfrm>
            <a:off x="4114800" y="990720"/>
            <a:ext cx="2743200" cy="1218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50480" y="31240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82360" y="5494320"/>
            <a:ext cx="80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o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om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762120"/>
            <a:ext cx="8380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Hom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14600" y="4648320"/>
            <a:ext cx="53352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1"/>
            <a:endCxn id="333" idx="1"/>
          </p:cNvCxnSpPr>
          <p:nvPr/>
        </p:nvCxnSpPr>
        <p:spPr>
          <a:xfrm rot="10800000">
            <a:off x="1142280" y="1065960"/>
            <a:ext cx="1372320" cy="3734640"/>
          </a:xfrm>
          <a:prstGeom prst="curvedConnector5">
            <a:avLst>
              <a:gd name="adj1" fmla="val 116662"/>
              <a:gd name="adj2" fmla="val 49995"/>
              <a:gd name="adj3" fmla="val 116662"/>
            </a:avLst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336" name=""/>
          <p:cNvCxnSpPr>
            <a:stCxn id="333" idx="2"/>
            <a:endCxn id="334" idx="0"/>
          </p:cNvCxnSpPr>
          <p:nvPr/>
        </p:nvCxnSpPr>
        <p:spPr>
          <a:xfrm>
            <a:off x="1561680" y="1371600"/>
            <a:ext cx="1220040" cy="327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337" name=""/>
          <p:cNvSpPr/>
          <p:nvPr/>
        </p:nvSpPr>
        <p:spPr>
          <a:xfrm>
            <a:off x="4876920" y="3505320"/>
            <a:ext cx="53316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67480" y="3048120"/>
            <a:ext cx="53352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403848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3" idx="3"/>
            <a:endCxn id="337" idx="1"/>
          </p:cNvCxnSpPr>
          <p:nvPr/>
        </p:nvCxnSpPr>
        <p:spPr>
          <a:xfrm>
            <a:off x="1981080" y="1066320"/>
            <a:ext cx="2896560" cy="2591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341" name=""/>
          <p:cNvCxnSpPr>
            <a:stCxn id="333" idx="3"/>
            <a:endCxn id="338" idx="1"/>
          </p:cNvCxnSpPr>
          <p:nvPr/>
        </p:nvCxnSpPr>
        <p:spPr>
          <a:xfrm>
            <a:off x="1981080" y="1066320"/>
            <a:ext cx="5487120" cy="2134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342" name=""/>
          <p:cNvCxnSpPr>
            <a:stCxn id="333" idx="3"/>
            <a:endCxn id="339" idx="1"/>
          </p:cNvCxnSpPr>
          <p:nvPr/>
        </p:nvCxnSpPr>
        <p:spPr>
          <a:xfrm>
            <a:off x="1980720" y="1066320"/>
            <a:ext cx="4801320" cy="3125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Why not…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advantages to this approach?</a:t>
            </a:r>
            <a:endParaRPr b="0" lang="en-US" sz="1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741348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network-bas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end-to-end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s total in-home network (i.e., not just broadband gate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rrelate faults and performance problems across multiple h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easier, automated, administration for the end-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flow-through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Examples of Services Requiring Configuration Suppor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17360" y="1599840"/>
            <a:ext cx="363060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Access to corporate network (e.g., PPTP, IP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er ho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layer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3 fil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fil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access to in-hom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63060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(e.g., MS NetMeeting – H.323, S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ware upgrad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(client-side a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based services – e.g., telnet, FTP,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Interfaces to the Network-based System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36440" y="1507680"/>
            <a:ext cx="74134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Cell-phone,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(Service Provi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Integrated with other manage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: e-mail, pager, phone-call, 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rovider: e-mail, al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-through from other systems – e.g., operations systems, service suppor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detection of activity in the in-hom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Fault &amp; Performance Functional Areas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36440" y="1828440"/>
            <a:ext cx="74134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Area Access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, NATs, Forwarding,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Home Network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BIOS (Windows Networ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Home Network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, DHCP, Gateways, IP Allocatio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-based services, WAN-based services,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Management/Intru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onfigured firewalls, intrusion attempts, DoS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36440" y="1423800"/>
            <a:ext cx="741348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networks are happening now, and the technology we have is not advanced enough to allow my dad to configur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ill demand the functionality that home networks can provide, but problems will ensue due to this complexity – mis-operation will be blamed on the network opera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perators need to be able to take proactive role in helping people to configure, manage and monitor their home networks – no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as an optional service for the 80% of people who will want the capability, but not the hass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Overview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here is a problem, and why it will get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elements in a home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to address th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Sincoskie’s Law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741348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6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dominant internet access device changes every six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4-1990 : mini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-1996 : work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-2002 :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-2008 : smart cell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-2014 : ap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352520" cy="9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629400" y="4114800"/>
            <a:ext cx="914400" cy="90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876920" y="4952880"/>
            <a:ext cx="990360" cy="890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784400">
            <a:off x="6019560" y="266688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44400">
            <a:off x="5943240" y="342864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667600">
            <a:off x="6095880" y="495252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784400">
            <a:off x="6248160" y="41148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But…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before we reach this brave new world of network connected appliances, we have a problem…If you have more than one PC in your home (54% of ‘broadband homes’ do), d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now how to configure your network so that they can a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he 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networked games (both client and server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printers and resour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send e-ma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 a secure and reliable fash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2362320"/>
            <a:ext cx="7848720" cy="4190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886200"/>
            <a:ext cx="2895480" cy="1143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A typical home network - 2003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34320" y="4035600"/>
            <a:ext cx="1841400" cy="916560"/>
            <a:chOff x="6934320" y="4035600"/>
            <a:chExt cx="1841400" cy="916560"/>
          </a:xfrm>
        </p:grpSpPr>
        <p:pic>
          <p:nvPicPr>
            <p:cNvPr id="118" name="rio-receiver" descr=""/>
            <p:cNvPicPr/>
            <p:nvPr/>
          </p:nvPicPr>
          <p:blipFill>
            <a:blip r:embed="rId1"/>
            <a:stretch/>
          </p:blipFill>
          <p:spPr>
            <a:xfrm>
              <a:off x="6934320" y="4035600"/>
              <a:ext cx="1841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394040" y="4645080"/>
              <a:ext cx="10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nternet 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14400" y="3959280"/>
            <a:ext cx="914400" cy="990720"/>
          </a:xfrm>
          <a:prstGeom prst="cube">
            <a:avLst>
              <a:gd name="adj" fmla="val 11458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cces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erminat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4111560"/>
            <a:ext cx="838440" cy="60984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562720" y="37303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273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876920" y="2664000"/>
            <a:ext cx="1477800" cy="1333440"/>
            <a:chOff x="4876920" y="2664000"/>
            <a:chExt cx="1477800" cy="1333440"/>
          </a:xfrm>
        </p:grpSpPr>
        <p:sp>
          <p:nvSpPr>
            <p:cNvPr id="125" name=""/>
            <p:cNvSpPr/>
            <p:nvPr/>
          </p:nvSpPr>
          <p:spPr>
            <a:xfrm>
              <a:off x="5101920" y="2696040"/>
              <a:ext cx="816480" cy="7369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00920" y="2798280"/>
              <a:ext cx="568440" cy="52092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86240" y="3466080"/>
              <a:ext cx="501840" cy="85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44840" y="2882160"/>
              <a:ext cx="205920" cy="1645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1640" y="3085200"/>
              <a:ext cx="128520" cy="1562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38280" y="3714840"/>
              <a:ext cx="306360" cy="1980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38280" y="3751200"/>
              <a:ext cx="312840" cy="1728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43680" y="3830040"/>
              <a:ext cx="296640" cy="939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46560" y="3764160"/>
              <a:ext cx="73440" cy="406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73360" y="3789360"/>
              <a:ext cx="81360" cy="1292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27480" y="3713040"/>
              <a:ext cx="265320" cy="20988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11800" y="3809880"/>
              <a:ext cx="75600" cy="9036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23960" y="3742200"/>
              <a:ext cx="118080" cy="644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88320" y="3728520"/>
              <a:ext cx="77760" cy="17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69520" y="3842280"/>
              <a:ext cx="366480" cy="1551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86640" y="3656880"/>
              <a:ext cx="1101240" cy="21636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4080" y="3531240"/>
              <a:ext cx="843120" cy="2113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23680" y="3431880"/>
              <a:ext cx="457920" cy="92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85480" y="2827440"/>
              <a:ext cx="213480" cy="6231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8760" y="3333960"/>
              <a:ext cx="407880" cy="612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52680" y="2759400"/>
              <a:ext cx="631080" cy="5389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2280" y="3566160"/>
              <a:ext cx="271080" cy="9036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45600" y="3609000"/>
              <a:ext cx="132840" cy="547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3811320"/>
              <a:ext cx="1097640" cy="644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1480" y="3501000"/>
              <a:ext cx="869400" cy="637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15520" y="3507480"/>
              <a:ext cx="55080" cy="2430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35080" y="3572640"/>
              <a:ext cx="25200" cy="813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5880" y="3561840"/>
              <a:ext cx="271800" cy="205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39840" y="3605760"/>
              <a:ext cx="153360" cy="406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38200" y="3630240"/>
              <a:ext cx="830520" cy="53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14000" y="3791880"/>
              <a:ext cx="756720" cy="414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91400" y="3675600"/>
              <a:ext cx="100440" cy="136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37480" y="3824640"/>
              <a:ext cx="57960" cy="5148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94560" y="3844440"/>
              <a:ext cx="1062360" cy="392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94000" y="3682080"/>
              <a:ext cx="566280" cy="54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65920" y="3731040"/>
              <a:ext cx="412200" cy="399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40920" y="3719520"/>
              <a:ext cx="124560" cy="219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68280" y="3748680"/>
              <a:ext cx="125640" cy="1908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9080" y="3782160"/>
              <a:ext cx="145080" cy="23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74200" y="2664000"/>
              <a:ext cx="773280" cy="1926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73760" y="2679120"/>
              <a:ext cx="78840" cy="1090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21560" y="2773080"/>
              <a:ext cx="133920" cy="6404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85920" y="2721240"/>
              <a:ext cx="86400" cy="580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73480" y="2871720"/>
              <a:ext cx="148680" cy="5410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37280" y="3416040"/>
              <a:ext cx="486360" cy="27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33360" y="3417480"/>
              <a:ext cx="92160" cy="3024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86240" y="3423240"/>
              <a:ext cx="74160" cy="91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43400" y="3507480"/>
              <a:ext cx="36000" cy="41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49480" y="3421440"/>
              <a:ext cx="107280" cy="597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1880" y="3466080"/>
              <a:ext cx="17640" cy="53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76880" y="3354120"/>
              <a:ext cx="23400" cy="450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9040" y="3326400"/>
              <a:ext cx="429120" cy="3852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96280" y="3328200"/>
              <a:ext cx="16920" cy="5148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07720" y="3348360"/>
              <a:ext cx="16200" cy="392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26720" y="3347640"/>
              <a:ext cx="20520" cy="392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34200" y="3345120"/>
              <a:ext cx="19080" cy="414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53200" y="3349800"/>
              <a:ext cx="20520" cy="439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89720" y="2799000"/>
              <a:ext cx="154440" cy="597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59880" y="2983680"/>
              <a:ext cx="123480" cy="320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82280" y="3257280"/>
              <a:ext cx="441720" cy="590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95200" y="2783160"/>
              <a:ext cx="91080" cy="4989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59160" y="2778120"/>
              <a:ext cx="604080" cy="1512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98760" y="2822760"/>
              <a:ext cx="246240" cy="252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85720" y="3553920"/>
              <a:ext cx="21600" cy="84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752480" y="44164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721400"/>
            <a:ext cx="1371600" cy="838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7480" y="51022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802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71600" y="23587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952880" y="44164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2514600"/>
            <a:ext cx="1828800" cy="1139760"/>
          </a:xfrm>
          <a:prstGeom prst="wedgeRoundRectCallout">
            <a:avLst>
              <a:gd name="adj1" fmla="val -19268"/>
              <a:gd name="adj2" fmla="val 8969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A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rew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HCP (client &amp; ser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PN (PPTP and/or IP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5105520"/>
            <a:ext cx="1218960" cy="834840"/>
          </a:xfrm>
          <a:prstGeom prst="wedgeRoundRectCallout">
            <a:avLst>
              <a:gd name="adj1" fmla="val -94662"/>
              <a:gd name="adj2" fmla="val -6920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ble Modem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SL Modem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atellite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4600" y="3932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net Access 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952880" y="44164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j0223598" descr=""/>
          <p:cNvPicPr/>
          <p:nvPr/>
        </p:nvPicPr>
        <p:blipFill>
          <a:blip r:embed="rId2"/>
          <a:stretch/>
        </p:blipFill>
        <p:spPr>
          <a:xfrm>
            <a:off x="4267080" y="5205240"/>
            <a:ext cx="960480" cy="887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421160" y="6004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p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BD09248_" descr=""/>
          <p:cNvPicPr/>
          <p:nvPr/>
        </p:nvPicPr>
        <p:blipFill>
          <a:blip r:embed="rId3"/>
          <a:stretch/>
        </p:blipFill>
        <p:spPr>
          <a:xfrm>
            <a:off x="6705720" y="2282760"/>
            <a:ext cx="127944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5867280" y="4905360"/>
            <a:ext cx="1676520" cy="1450080"/>
            <a:chOff x="5867280" y="4905360"/>
            <a:chExt cx="1676520" cy="1450080"/>
          </a:xfrm>
        </p:grpSpPr>
        <p:pic>
          <p:nvPicPr>
            <p:cNvPr id="202" name="ProGear" descr=""/>
            <p:cNvPicPr/>
            <p:nvPr/>
          </p:nvPicPr>
          <p:blipFill>
            <a:blip r:embed="rId4"/>
            <a:stretch/>
          </p:blipFill>
          <p:spPr>
            <a:xfrm>
              <a:off x="5867280" y="4905360"/>
              <a:ext cx="16765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173640" y="604836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eb Term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6705720" y="44161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441648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9200" y="2925720"/>
            <a:ext cx="8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Cloud"/>
          <p:cNvSpPr/>
          <p:nvPr/>
        </p:nvSpPr>
        <p:spPr>
          <a:xfrm>
            <a:off x="1295280" y="1066680"/>
            <a:ext cx="1981440" cy="1219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1978200"/>
            <a:ext cx="990720" cy="380880"/>
          </a:xfrm>
          <a:prstGeom prst="can">
            <a:avLst>
              <a:gd name="adj" fmla="val 45833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ccess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84240" y="4172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15120" y="43657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/10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8000" y="30052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allel/U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914400"/>
            <a:ext cx="685800" cy="685800"/>
          </a:xfrm>
          <a:prstGeom prst="can">
            <a:avLst>
              <a:gd name="adj" fmla="val 16666"/>
            </a:avLst>
          </a:prstGeom>
          <a:solidFill>
            <a:srgbClr val="af41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rvic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provid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360" y="160020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4114800" y="990720"/>
            <a:ext cx="2743200" cy="1218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50480" y="31240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82360" y="5494320"/>
            <a:ext cx="80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o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om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Typical Network Elements in 2003…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13480" cy="33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and access (e.g. DSL modem, cable mod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and Residential Gateway/Execution Environment (e.g. OSG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Cs with different access constraints and pri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’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or’ (Friends, work colleagu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’ (Different access, VPN connection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with IP-based network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3, 802.11 (WiFi), Home PNA, HomePlug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pads, digital TVs, smart appl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It all has to be configured…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36440" y="1423800"/>
            <a:ext cx="74134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and Gateway/Routers break the end-to-end IP model (due to Firewall and NAT functionalit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ddle B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IETF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pplications (e.g., server-based and peer-to-peer) don’t work with a Middl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the Middle Box and/or applications are specially config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er hosting, PPTP, IPsec, Multi-player gaming, MP3 file sharing, VoIP (e.g., MS NetMeeting – H.323, SIP), FTP (client-side active), IP-based services (e.g., telnet, FTP, ssh)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these Middle Boxes is non-triv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end devices (e.g. PCs) is also ofte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 mostly mechanistic process, but if I get it wrong it won’t work, it will be difficult to debug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might create security holes which users aren’t aware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The solution…let the experts do it!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741348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home network user is not equipped to manage network faults or to detect possible performance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nough to manage a single P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it is complicated, rote, management – ideal for a Service Provider to per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need to be able to detect faults and identify performance bottlenecks remo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puts to the customer for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even better, fix the problem remo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Home Network Managemen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80228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Gateway device capabilities such as firewall, Port forwarding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of PCs and other end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going configuration updates when customer adds services such as VoIP, access to VPN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and performance management iss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066680" y="3733920"/>
            <a:ext cx="7440840" cy="2225520"/>
            <a:chOff x="1066680" y="3733920"/>
            <a:chExt cx="7440840" cy="2225520"/>
          </a:xfrm>
        </p:grpSpPr>
        <p:sp>
          <p:nvSpPr>
            <p:cNvPr id="226" name=""/>
            <p:cNvSpPr/>
            <p:nvPr/>
          </p:nvSpPr>
          <p:spPr>
            <a:xfrm>
              <a:off x="1066680" y="3733920"/>
              <a:ext cx="36306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rewall mis-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e.g., DHCP, D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nectivity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oS 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 forwarding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76920" y="3733920"/>
              <a:ext cx="3630600" cy="22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P address assig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BIOS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T issues (protocol convers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ple DHCP 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ple DNS 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51:45Z</dcterms:created>
  <dc:creator>Chris Brightman</dc:creator>
  <dc:description/>
  <dc:language>en-US</dc:language>
  <cp:lastModifiedBy>Chris Brightman</cp:lastModifiedBy>
  <cp:lastPrinted>2001-06-20T01:54:32Z</cp:lastPrinted>
  <dcterms:modified xsi:type="dcterms:W3CDTF">2001-10-15T13:53:29Z</dcterms:modified>
  <cp:revision>96</cp:revision>
  <dc:subject>FORCES Colloquium, Glasgow, 2nd October 2001</dc:subject>
  <dc:title>Home Network Management</dc:title>
</cp:coreProperties>
</file>