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c5e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2688-D77E-4995-93D7-9781A58811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perator now has essentially two layers to the network - the transport layer, - containing the core PSTN / IP information going to the handset  And the service layer - with the value add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 what sort of applications are we talking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applications such as Close Friends and Call Manager will be bundled with the gate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stimulate operator interest, and provide ready return on 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act as a template for 3rd party devel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highlight the power of Parlay to link different network elements into a single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applications will be developed by Aepona or application part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penetration increases, the subscriber growth rate decreases. The Telco game can turn into a war of attrition, with ‘churn’ becoming a decisive fact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ditional PSTN Network consisting of GMSC /MSC and core network plat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SC - short mess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LR - roaming inf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P - IN 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VR - voice intera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PRS - ip to handset via IP Modem and sgsn/ggsn  Uses existing B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core network servic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- Web content to Hand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LC- mobile location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yment ser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o Network Controller all ip radio if - large infrastructure co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F547-18CF-4927-A3B6-6BFFB39FE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6356-D370-4628-955C-48A57A00A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A376-04C4-407E-90CE-75B54B59D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7876-4126-41A2-BA47-55332264A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2836A-B1AC-4A7C-A7C0-E712258299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91171-024E-4C9C-8C77-55DE441988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B3C65-5E0C-4604-B2A8-0E8F373736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F066B-D99D-41AA-A81E-5E73143D06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27F77-D2DA-4B5B-9C4B-F1FA93FEEA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75B1A-AC9C-4628-83BC-70B2A87F35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64596-6F5B-4EDA-9C95-AF385271BD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31E9C-6606-444D-BE47-455E1C55C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E5EEA-AED8-4E5D-87B8-941BEA3E7C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C1AA1-7D9C-4506-A5A8-F168DC4D56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300FD-385C-474D-BEB0-DE67339F35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98694-742F-4BCA-9E51-D354F85DCE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0BBF9-A8DB-4541-B627-2366C87145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4A83-4980-41C3-ADE6-EA25604F8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1710-5438-48B6-B9AE-1C70687B4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BEBC-DB90-4911-9908-94827E9A0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73BD-91EF-4D82-994E-EB8832373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A99D0-8C5A-4992-93BC-17EF2E053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E4CA-1974-41D1-B975-749DEE7FB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E8CC-139C-4494-A5D9-1D09DE30D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Powerpoint%20Template%20bi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c5e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86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D0AC-C295-4C31-88EF-1F240FDBF9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ac5e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3886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eae1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7D7D-6730-451C-AD3C-8D58B91D1A54}" type="slidenum">
              <a:rPr b="1" lang="en-US" sz="1200" spc="-1" strike="noStrike">
                <a:solidFill>
                  <a:srgbClr val="4eae1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9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4.png"/><Relationship Id="rId2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Close%20Friends.ppt" TargetMode="External"/><Relationship Id="rId2" Type="http://schemas.openxmlformats.org/officeDocument/2006/relationships/hyperlink" Target="file:///Call_Manager_PPS.pps" TargetMode="External"/><Relationship Id="rId3" Type="http://schemas.openxmlformats.org/officeDocument/2006/relationships/hyperlink" Target="file:///EmailAlert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5.xml"/><Relationship Id="rId2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ac5e6"/>
                </a:solidFill>
                <a:latin typeface="Arial"/>
              </a:rPr>
              <a:t>Telecom Services with OSA/Parl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A639-9C6A-49F9-B21D-842982823E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Transport Network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pic>
        <p:nvPicPr>
          <p:cNvPr id="162" name="cloud" descr=""/>
          <p:cNvPicPr/>
          <p:nvPr/>
        </p:nvPicPr>
        <p:blipFill>
          <a:blip r:embed="rId1"/>
          <a:stretch/>
        </p:blipFill>
        <p:spPr>
          <a:xfrm>
            <a:off x="1895400" y="1685880"/>
            <a:ext cx="5353200" cy="3486240"/>
          </a:xfrm>
          <a:prstGeom prst="rect">
            <a:avLst/>
          </a:prstGeom>
          <a:ln w="0">
            <a:noFill/>
          </a:ln>
        </p:spPr>
      </p:pic>
      <p:pic>
        <p:nvPicPr>
          <p:cNvPr id="163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164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165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166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167" name="Internet" descr=""/>
          <p:cNvPicPr/>
          <p:nvPr/>
        </p:nvPicPr>
        <p:blipFill>
          <a:blip r:embed="rId6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168" name="Lightening%20red" descr=""/>
          <p:cNvPicPr/>
          <p:nvPr/>
        </p:nvPicPr>
        <p:blipFill>
          <a:blip r:embed="rId7"/>
          <a:stretch/>
        </p:blipFill>
        <p:spPr>
          <a:xfrm>
            <a:off x="4527720" y="4767120"/>
            <a:ext cx="685800" cy="743040"/>
          </a:xfrm>
          <a:prstGeom prst="rect">
            <a:avLst/>
          </a:prstGeom>
          <a:ln w="0">
            <a:noFill/>
          </a:ln>
        </p:spPr>
      </p:pic>
      <p:pic>
        <p:nvPicPr>
          <p:cNvPr id="169" name="Lightening%20white" descr=""/>
          <p:cNvPicPr/>
          <p:nvPr/>
        </p:nvPicPr>
        <p:blipFill>
          <a:blip r:embed="rId8"/>
          <a:stretch/>
        </p:blipFill>
        <p:spPr>
          <a:xfrm>
            <a:off x="3794040" y="4805280"/>
            <a:ext cx="733680" cy="781200"/>
          </a:xfrm>
          <a:prstGeom prst="rect">
            <a:avLst/>
          </a:prstGeom>
          <a:ln w="0">
            <a:noFill/>
          </a:ln>
        </p:spPr>
      </p:pic>
      <p:pic>
        <p:nvPicPr>
          <p:cNvPr id="170" name="MSC" descr=""/>
          <p:cNvPicPr/>
          <p:nvPr/>
        </p:nvPicPr>
        <p:blipFill>
          <a:blip r:embed="rId9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171" name="PSTN" descr=""/>
          <p:cNvPicPr/>
          <p:nvPr/>
        </p:nvPicPr>
        <p:blipFill>
          <a:blip r:embed="rId10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172" name="RNC" descr=""/>
          <p:cNvPicPr/>
          <p:nvPr/>
        </p:nvPicPr>
        <p:blipFill>
          <a:blip r:embed="rId11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173" name="SGSN" descr=""/>
          <p:cNvPicPr/>
          <p:nvPr/>
        </p:nvPicPr>
        <p:blipFill>
          <a:blip r:embed="rId12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H="1">
            <a:off x="6966000" y="3718080"/>
            <a:ext cx="673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959080" y="37180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69880" y="3718080"/>
            <a:ext cx="933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52960" y="3718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94040" y="3914640"/>
            <a:ext cx="0" cy="3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843360" y="3914640"/>
            <a:ext cx="167472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213520" y="3914640"/>
            <a:ext cx="30456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C51B-A5B9-4C6F-A4D8-25AF7D534C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36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Service Network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pic>
        <p:nvPicPr>
          <p:cNvPr id="182" name="cloud" descr=""/>
          <p:cNvPicPr/>
          <p:nvPr/>
        </p:nvPicPr>
        <p:blipFill>
          <a:blip r:embed="rId1"/>
          <a:stretch/>
        </p:blipFill>
        <p:spPr>
          <a:xfrm>
            <a:off x="1895400" y="1346040"/>
            <a:ext cx="5353200" cy="3826080"/>
          </a:xfrm>
          <a:prstGeom prst="rect">
            <a:avLst/>
          </a:prstGeom>
          <a:ln w="0">
            <a:noFill/>
          </a:ln>
        </p:spPr>
      </p:pic>
      <p:pic>
        <p:nvPicPr>
          <p:cNvPr id="183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184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185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186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187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188" name="Internet" descr=""/>
          <p:cNvPicPr/>
          <p:nvPr/>
        </p:nvPicPr>
        <p:blipFill>
          <a:blip r:embed="rId7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189" name="IVR" descr=""/>
          <p:cNvPicPr/>
          <p:nvPr/>
        </p:nvPicPr>
        <p:blipFill>
          <a:blip r:embed="rId8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190" name="Lightening%20red" descr=""/>
          <p:cNvPicPr/>
          <p:nvPr/>
        </p:nvPicPr>
        <p:blipFill>
          <a:blip r:embed="rId9"/>
          <a:stretch/>
        </p:blipFill>
        <p:spPr>
          <a:xfrm>
            <a:off x="4527720" y="4767120"/>
            <a:ext cx="685800" cy="743040"/>
          </a:xfrm>
          <a:prstGeom prst="rect">
            <a:avLst/>
          </a:prstGeom>
          <a:ln w="0">
            <a:noFill/>
          </a:ln>
        </p:spPr>
      </p:pic>
      <p:pic>
        <p:nvPicPr>
          <p:cNvPr id="191" name="Lightening%20white" descr=""/>
          <p:cNvPicPr/>
          <p:nvPr/>
        </p:nvPicPr>
        <p:blipFill>
          <a:blip r:embed="rId10"/>
          <a:stretch/>
        </p:blipFill>
        <p:spPr>
          <a:xfrm>
            <a:off x="3794040" y="4805280"/>
            <a:ext cx="733680" cy="781200"/>
          </a:xfrm>
          <a:prstGeom prst="rect">
            <a:avLst/>
          </a:prstGeom>
          <a:ln w="0">
            <a:noFill/>
          </a:ln>
        </p:spPr>
      </p:pic>
      <p:pic>
        <p:nvPicPr>
          <p:cNvPr id="192" name="MLC" descr=""/>
          <p:cNvPicPr/>
          <p:nvPr/>
        </p:nvPicPr>
        <p:blipFill>
          <a:blip r:embed="rId11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193" name="MSC" descr=""/>
          <p:cNvPicPr/>
          <p:nvPr/>
        </p:nvPicPr>
        <p:blipFill>
          <a:blip r:embed="rId12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194" name="PSTN" descr=""/>
          <p:cNvPicPr/>
          <p:nvPr/>
        </p:nvPicPr>
        <p:blipFill>
          <a:blip r:embed="rId13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195" name="Pymt" descr=""/>
          <p:cNvPicPr/>
          <p:nvPr/>
        </p:nvPicPr>
        <p:blipFill>
          <a:blip r:embed="rId14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196" name="RNC" descr=""/>
          <p:cNvPicPr/>
          <p:nvPr/>
        </p:nvPicPr>
        <p:blipFill>
          <a:blip r:embed="rId15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197" name="SCP" descr=""/>
          <p:cNvPicPr/>
          <p:nvPr/>
        </p:nvPicPr>
        <p:blipFill>
          <a:blip r:embed="rId16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198" name="SGSN" descr=""/>
          <p:cNvPicPr/>
          <p:nvPr/>
        </p:nvPicPr>
        <p:blipFill>
          <a:blip r:embed="rId17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199" name="smsc" descr=""/>
          <p:cNvPicPr/>
          <p:nvPr/>
        </p:nvPicPr>
        <p:blipFill>
          <a:blip r:embed="rId18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200" name="WAP" descr=""/>
          <p:cNvPicPr/>
          <p:nvPr/>
        </p:nvPicPr>
        <p:blipFill>
          <a:blip r:embed="rId19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6966000" y="3718080"/>
            <a:ext cx="673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959080" y="37180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69880" y="3718080"/>
            <a:ext cx="933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52960" y="3718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4040" y="3914640"/>
            <a:ext cx="0" cy="3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843360" y="3914640"/>
            <a:ext cx="167472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213520" y="3914640"/>
            <a:ext cx="30456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application" descr=""/>
          <p:cNvPicPr/>
          <p:nvPr/>
        </p:nvPicPr>
        <p:blipFill>
          <a:blip r:embed="rId20"/>
          <a:stretch/>
        </p:blipFill>
        <p:spPr>
          <a:xfrm>
            <a:off x="3057480" y="168588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209" name="application" descr=""/>
          <p:cNvPicPr/>
          <p:nvPr/>
        </p:nvPicPr>
        <p:blipFill>
          <a:blip r:embed="rId21"/>
          <a:stretch/>
        </p:blipFill>
        <p:spPr>
          <a:xfrm>
            <a:off x="5492880" y="168588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210" name="doublearrow" descr=""/>
          <p:cNvPicPr/>
          <p:nvPr/>
        </p:nvPicPr>
        <p:blipFill>
          <a:blip r:embed="rId22"/>
          <a:stretch/>
        </p:blipFill>
        <p:spPr>
          <a:xfrm>
            <a:off x="2577960" y="2077920"/>
            <a:ext cx="421020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51280" y="1892160"/>
            <a:ext cx="16668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CB20-B50D-41BC-A458-EEF99A97E8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F3B7-DFE8-4132-9BEE-447DFE652A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pen API Standardisation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1638360"/>
            <a:ext cx="3936960" cy="9954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Parla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67360" y="1981080"/>
            <a:ext cx="1162080" cy="11448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J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778200" y="2633760"/>
            <a:ext cx="1936800" cy="1012680"/>
            <a:chOff x="3778200" y="2633760"/>
            <a:chExt cx="1936800" cy="1012680"/>
          </a:xfrm>
        </p:grpSpPr>
        <p:sp>
          <p:nvSpPr>
            <p:cNvPr id="218" name=""/>
            <p:cNvSpPr/>
            <p:nvPr/>
          </p:nvSpPr>
          <p:spPr>
            <a:xfrm>
              <a:off x="3778200" y="3125880"/>
              <a:ext cx="968400" cy="5205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3GP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46600" y="3125880"/>
              <a:ext cx="968400" cy="5205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ETS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65560" y="2633760"/>
              <a:ext cx="0" cy="49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17840" y="2633760"/>
              <a:ext cx="681120" cy="49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259240" y="2293920"/>
            <a:ext cx="708120" cy="33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4640" y="3913200"/>
            <a:ext cx="3981600" cy="7891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Common AP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ETSI: ES 120070; TR 1200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3GPP: TS 29.198, TR 29.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9160" y="4871880"/>
            <a:ext cx="2355840" cy="70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89360" y="2633760"/>
            <a:ext cx="3632040" cy="1279440"/>
            <a:chOff x="2889360" y="2633760"/>
            <a:chExt cx="3632040" cy="1279440"/>
          </a:xfrm>
        </p:grpSpPr>
        <p:sp>
          <p:nvSpPr>
            <p:cNvPr id="226" name=""/>
            <p:cNvSpPr/>
            <p:nvPr/>
          </p:nvSpPr>
          <p:spPr>
            <a:xfrm>
              <a:off x="2889360" y="2633760"/>
              <a:ext cx="0" cy="127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21400" y="3125880"/>
              <a:ext cx="0" cy="787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17840" y="3646440"/>
              <a:ext cx="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59240" y="3646440"/>
              <a:ext cx="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743200" y="557532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GPP Release 4, Release 5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26240" y="4056120"/>
            <a:ext cx="2131920" cy="520560"/>
            <a:chOff x="6726240" y="4056120"/>
            <a:chExt cx="2131920" cy="520560"/>
          </a:xfrm>
        </p:grpSpPr>
        <p:sp>
          <p:nvSpPr>
            <p:cNvPr id="232" name=""/>
            <p:cNvSpPr/>
            <p:nvPr/>
          </p:nvSpPr>
          <p:spPr>
            <a:xfrm>
              <a:off x="7889760" y="4056120"/>
              <a:ext cx="968400" cy="5205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IT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26240" y="4309920"/>
              <a:ext cx="116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A26FA-3AEA-44A5-B090-5E821E7A98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API Features/Services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rvice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ll Control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bility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r Interaction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Session Control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rging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35080" y="1928880"/>
            <a:ext cx="350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Arial"/>
              </a:rPr>
              <a:t>Terminal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Arial"/>
              </a:rPr>
              <a:t>User Data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B25A-2F85-491E-9FB6-81A115E159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cloud" descr=""/>
          <p:cNvPicPr/>
          <p:nvPr/>
        </p:nvPicPr>
        <p:blipFill>
          <a:blip r:embed="rId1"/>
          <a:stretch/>
        </p:blipFill>
        <p:spPr>
          <a:xfrm>
            <a:off x="1895400" y="1346040"/>
            <a:ext cx="5353200" cy="3826080"/>
          </a:xfrm>
          <a:prstGeom prst="rect">
            <a:avLst/>
          </a:prstGeom>
          <a:ln w="0">
            <a:noFill/>
          </a:ln>
        </p:spPr>
      </p:pic>
      <p:pic>
        <p:nvPicPr>
          <p:cNvPr id="238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239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240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241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242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IVR" descr=""/>
          <p:cNvPicPr/>
          <p:nvPr/>
        </p:nvPicPr>
        <p:blipFill>
          <a:blip r:embed="rId7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244" name="Lightening%20white" descr=""/>
          <p:cNvPicPr/>
          <p:nvPr/>
        </p:nvPicPr>
        <p:blipFill>
          <a:blip r:embed="rId8"/>
          <a:stretch/>
        </p:blipFill>
        <p:spPr>
          <a:xfrm>
            <a:off x="3794040" y="4805280"/>
            <a:ext cx="733680" cy="781200"/>
          </a:xfrm>
          <a:prstGeom prst="rect">
            <a:avLst/>
          </a:prstGeom>
          <a:ln w="0">
            <a:noFill/>
          </a:ln>
        </p:spPr>
      </p:pic>
      <p:pic>
        <p:nvPicPr>
          <p:cNvPr id="245" name="MLC" descr=""/>
          <p:cNvPicPr/>
          <p:nvPr/>
        </p:nvPicPr>
        <p:blipFill>
          <a:blip r:embed="rId9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246" name="MSC" descr=""/>
          <p:cNvPicPr/>
          <p:nvPr/>
        </p:nvPicPr>
        <p:blipFill>
          <a:blip r:embed="rId10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247" name="PSTN" descr=""/>
          <p:cNvPicPr/>
          <p:nvPr/>
        </p:nvPicPr>
        <p:blipFill>
          <a:blip r:embed="rId11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248" name="Pymt" descr=""/>
          <p:cNvPicPr/>
          <p:nvPr/>
        </p:nvPicPr>
        <p:blipFill>
          <a:blip r:embed="rId12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249" name="RNC" descr=""/>
          <p:cNvPicPr/>
          <p:nvPr/>
        </p:nvPicPr>
        <p:blipFill>
          <a:blip r:embed="rId13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250" name="SCP" descr=""/>
          <p:cNvPicPr/>
          <p:nvPr/>
        </p:nvPicPr>
        <p:blipFill>
          <a:blip r:embed="rId14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SGSN" descr=""/>
          <p:cNvPicPr/>
          <p:nvPr/>
        </p:nvPicPr>
        <p:blipFill>
          <a:blip r:embed="rId15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252" name="smsc" descr=""/>
          <p:cNvPicPr/>
          <p:nvPr/>
        </p:nvPicPr>
        <p:blipFill>
          <a:blip r:embed="rId16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253" name="WAP" descr=""/>
          <p:cNvPicPr/>
          <p:nvPr/>
        </p:nvPicPr>
        <p:blipFill>
          <a:blip r:embed="rId17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469880" y="3718080"/>
            <a:ext cx="93348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52960" y="3718080"/>
            <a:ext cx="2156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94040" y="3914640"/>
            <a:ext cx="0" cy="3952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application" descr=""/>
          <p:cNvPicPr/>
          <p:nvPr/>
        </p:nvPicPr>
        <p:blipFill>
          <a:blip r:embed="rId18"/>
          <a:stretch/>
        </p:blipFill>
        <p:spPr>
          <a:xfrm>
            <a:off x="3057480" y="168588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258" name="application" descr=""/>
          <p:cNvPicPr/>
          <p:nvPr/>
        </p:nvPicPr>
        <p:blipFill>
          <a:blip r:embed="rId19"/>
          <a:stretch/>
        </p:blipFill>
        <p:spPr>
          <a:xfrm>
            <a:off x="5492880" y="1685880"/>
            <a:ext cx="838080" cy="486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851280" y="1892160"/>
            <a:ext cx="16668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794040" y="3097080"/>
            <a:ext cx="270000" cy="30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3538440" y="2077560"/>
            <a:ext cx="52560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doublearrow" descr=""/>
          <p:cNvPicPr/>
          <p:nvPr/>
        </p:nvPicPr>
        <p:blipFill>
          <a:blip r:embed="rId20"/>
          <a:stretch/>
        </p:blipFill>
        <p:spPr>
          <a:xfrm>
            <a:off x="2577960" y="2077920"/>
            <a:ext cx="4210200" cy="476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414400" y="4946760"/>
            <a:ext cx="37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Generic Call Control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Two Party Call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IN Cal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Call Control Service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1B31-3989-4C76-8592-47CB889688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cloud" descr=""/>
          <p:cNvPicPr/>
          <p:nvPr/>
        </p:nvPicPr>
        <p:blipFill>
          <a:blip r:embed="rId1"/>
          <a:stretch/>
        </p:blipFill>
        <p:spPr>
          <a:xfrm>
            <a:off x="1895400" y="1346040"/>
            <a:ext cx="5353200" cy="3826080"/>
          </a:xfrm>
          <a:prstGeom prst="rect">
            <a:avLst/>
          </a:prstGeom>
          <a:ln w="0">
            <a:noFill/>
          </a:ln>
        </p:spPr>
      </p:pic>
      <p:pic>
        <p:nvPicPr>
          <p:cNvPr id="266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267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268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269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270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271" name="Internet" descr=""/>
          <p:cNvPicPr/>
          <p:nvPr/>
        </p:nvPicPr>
        <p:blipFill>
          <a:blip r:embed="rId7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272" name="IVR" descr=""/>
          <p:cNvPicPr/>
          <p:nvPr/>
        </p:nvPicPr>
        <p:blipFill>
          <a:blip r:embed="rId8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273" name="MLC" descr=""/>
          <p:cNvPicPr/>
          <p:nvPr/>
        </p:nvPicPr>
        <p:blipFill>
          <a:blip r:embed="rId9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274" name="MSC" descr=""/>
          <p:cNvPicPr/>
          <p:nvPr/>
        </p:nvPicPr>
        <p:blipFill>
          <a:blip r:embed="rId10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275" name="PSTN" descr=""/>
          <p:cNvPicPr/>
          <p:nvPr/>
        </p:nvPicPr>
        <p:blipFill>
          <a:blip r:embed="rId11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276" name="Pymt" descr=""/>
          <p:cNvPicPr/>
          <p:nvPr/>
        </p:nvPicPr>
        <p:blipFill>
          <a:blip r:embed="rId12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277" name="RNC" descr=""/>
          <p:cNvPicPr/>
          <p:nvPr/>
        </p:nvPicPr>
        <p:blipFill>
          <a:blip r:embed="rId13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278" name="SCP" descr=""/>
          <p:cNvPicPr/>
          <p:nvPr/>
        </p:nvPicPr>
        <p:blipFill>
          <a:blip r:embed="rId14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279" name="SGSN" descr=""/>
          <p:cNvPicPr/>
          <p:nvPr/>
        </p:nvPicPr>
        <p:blipFill>
          <a:blip r:embed="rId15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280" name="smsc" descr=""/>
          <p:cNvPicPr/>
          <p:nvPr/>
        </p:nvPicPr>
        <p:blipFill>
          <a:blip r:embed="rId16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281" name="WAP" descr=""/>
          <p:cNvPicPr/>
          <p:nvPr/>
        </p:nvPicPr>
        <p:blipFill>
          <a:blip r:embed="rId17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pic>
        <p:nvPicPr>
          <p:cNvPr id="282" name="application" descr=""/>
          <p:cNvPicPr/>
          <p:nvPr/>
        </p:nvPicPr>
        <p:blipFill>
          <a:blip r:embed="rId18"/>
          <a:stretch/>
        </p:blipFill>
        <p:spPr>
          <a:xfrm>
            <a:off x="3057480" y="168588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283" name="application" descr=""/>
          <p:cNvPicPr/>
          <p:nvPr/>
        </p:nvPicPr>
        <p:blipFill>
          <a:blip r:embed="rId19"/>
          <a:stretch/>
        </p:blipFill>
        <p:spPr>
          <a:xfrm>
            <a:off x="5492880" y="1685880"/>
            <a:ext cx="838080" cy="486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851280" y="1892160"/>
            <a:ext cx="16668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538440" y="2077560"/>
            <a:ext cx="0" cy="476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8720" y="4946760"/>
            <a:ext cx="33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Mobility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User Location Cam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User Location GML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Mobility Service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538080" y="2077560"/>
            <a:ext cx="2303640" cy="435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doublearrow" descr=""/>
          <p:cNvPicPr/>
          <p:nvPr/>
        </p:nvPicPr>
        <p:blipFill>
          <a:blip r:embed="rId20"/>
          <a:stretch/>
        </p:blipFill>
        <p:spPr>
          <a:xfrm>
            <a:off x="2577960" y="2077920"/>
            <a:ext cx="4210200" cy="47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E170-F25F-47CA-AA6B-9DD1165955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loud" descr=""/>
          <p:cNvPicPr/>
          <p:nvPr/>
        </p:nvPicPr>
        <p:blipFill>
          <a:blip r:embed="rId1"/>
          <a:stretch/>
        </p:blipFill>
        <p:spPr>
          <a:xfrm>
            <a:off x="1895400" y="1346040"/>
            <a:ext cx="5353200" cy="3826080"/>
          </a:xfrm>
          <a:prstGeom prst="rect">
            <a:avLst/>
          </a:prstGeom>
          <a:ln w="0">
            <a:noFill/>
          </a:ln>
        </p:spPr>
      </p:pic>
      <p:pic>
        <p:nvPicPr>
          <p:cNvPr id="291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292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293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294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295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296" name="Internet" descr=""/>
          <p:cNvPicPr/>
          <p:nvPr/>
        </p:nvPicPr>
        <p:blipFill>
          <a:blip r:embed="rId7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297" name="IVR" descr=""/>
          <p:cNvPicPr/>
          <p:nvPr/>
        </p:nvPicPr>
        <p:blipFill>
          <a:blip r:embed="rId8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298" name="Lightening%20white" descr=""/>
          <p:cNvPicPr/>
          <p:nvPr/>
        </p:nvPicPr>
        <p:blipFill>
          <a:blip r:embed="rId9"/>
          <a:stretch/>
        </p:blipFill>
        <p:spPr>
          <a:xfrm>
            <a:off x="3794040" y="4805280"/>
            <a:ext cx="733680" cy="781200"/>
          </a:xfrm>
          <a:prstGeom prst="rect">
            <a:avLst/>
          </a:prstGeom>
          <a:ln w="0">
            <a:noFill/>
          </a:ln>
        </p:spPr>
      </p:pic>
      <p:pic>
        <p:nvPicPr>
          <p:cNvPr id="299" name="MLC" descr=""/>
          <p:cNvPicPr/>
          <p:nvPr/>
        </p:nvPicPr>
        <p:blipFill>
          <a:blip r:embed="rId10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300" name="MSC" descr=""/>
          <p:cNvPicPr/>
          <p:nvPr/>
        </p:nvPicPr>
        <p:blipFill>
          <a:blip r:embed="rId11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301" name="PSTN" descr=""/>
          <p:cNvPicPr/>
          <p:nvPr/>
        </p:nvPicPr>
        <p:blipFill>
          <a:blip r:embed="rId12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302" name="Pymt" descr=""/>
          <p:cNvPicPr/>
          <p:nvPr/>
        </p:nvPicPr>
        <p:blipFill>
          <a:blip r:embed="rId13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303" name="RNC" descr=""/>
          <p:cNvPicPr/>
          <p:nvPr/>
        </p:nvPicPr>
        <p:blipFill>
          <a:blip r:embed="rId14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304" name="SCP" descr=""/>
          <p:cNvPicPr/>
          <p:nvPr/>
        </p:nvPicPr>
        <p:blipFill>
          <a:blip r:embed="rId15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305" name="SGSN" descr=""/>
          <p:cNvPicPr/>
          <p:nvPr/>
        </p:nvPicPr>
        <p:blipFill>
          <a:blip r:embed="rId16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306" name="smsc" descr=""/>
          <p:cNvPicPr/>
          <p:nvPr/>
        </p:nvPicPr>
        <p:blipFill>
          <a:blip r:embed="rId17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307" name="WAP" descr=""/>
          <p:cNvPicPr/>
          <p:nvPr/>
        </p:nvPicPr>
        <p:blipFill>
          <a:blip r:embed="rId18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94040" y="3952800"/>
            <a:ext cx="0" cy="3952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application" descr=""/>
          <p:cNvPicPr/>
          <p:nvPr/>
        </p:nvPicPr>
        <p:blipFill>
          <a:blip r:embed="rId19"/>
          <a:stretch/>
        </p:blipFill>
        <p:spPr>
          <a:xfrm>
            <a:off x="5492880" y="1685880"/>
            <a:ext cx="838080" cy="486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851280" y="1892160"/>
            <a:ext cx="16668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3794040" y="3097080"/>
            <a:ext cx="270000" cy="30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3538440" y="2077560"/>
            <a:ext cx="525600" cy="42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825720" y="3097080"/>
            <a:ext cx="702000" cy="279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3538440" y="2077560"/>
            <a:ext cx="98928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057480" y="3097080"/>
            <a:ext cx="736560" cy="30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057480" y="2077560"/>
            <a:ext cx="480960" cy="451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doublearrow" descr=""/>
          <p:cNvPicPr/>
          <p:nvPr/>
        </p:nvPicPr>
        <p:blipFill>
          <a:blip r:embed="rId20"/>
          <a:stretch/>
        </p:blipFill>
        <p:spPr>
          <a:xfrm>
            <a:off x="2577960" y="2077920"/>
            <a:ext cx="4210200" cy="476280"/>
          </a:xfrm>
          <a:prstGeom prst="rect">
            <a:avLst/>
          </a:prstGeom>
          <a:ln w="0">
            <a:noFill/>
          </a:ln>
        </p:spPr>
      </p:pic>
      <p:pic>
        <p:nvPicPr>
          <p:cNvPr id="318" name="application" descr=""/>
          <p:cNvPicPr/>
          <p:nvPr/>
        </p:nvPicPr>
        <p:blipFill>
          <a:blip r:embed="rId21"/>
          <a:stretch/>
        </p:blipFill>
        <p:spPr>
          <a:xfrm>
            <a:off x="3057480" y="1685880"/>
            <a:ext cx="838080" cy="486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421600" y="4946760"/>
            <a:ext cx="34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Generic User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IVR; SMS; USS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Call User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I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User Interaction Service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2EED-DAF0-49A6-86FB-F7EC39AD31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cloud" descr=""/>
          <p:cNvPicPr/>
          <p:nvPr/>
        </p:nvPicPr>
        <p:blipFill>
          <a:blip r:embed="rId1"/>
          <a:stretch/>
        </p:blipFill>
        <p:spPr>
          <a:xfrm>
            <a:off x="1895400" y="1346040"/>
            <a:ext cx="5353200" cy="3826080"/>
          </a:xfrm>
          <a:prstGeom prst="rect">
            <a:avLst/>
          </a:prstGeom>
          <a:ln w="0">
            <a:noFill/>
          </a:ln>
        </p:spPr>
      </p:pic>
      <p:pic>
        <p:nvPicPr>
          <p:cNvPr id="322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323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324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325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326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327" name="Internet" descr=""/>
          <p:cNvPicPr/>
          <p:nvPr/>
        </p:nvPicPr>
        <p:blipFill>
          <a:blip r:embed="rId7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328" name="IVR" descr=""/>
          <p:cNvPicPr/>
          <p:nvPr/>
        </p:nvPicPr>
        <p:blipFill>
          <a:blip r:embed="rId8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329" name="MLC" descr=""/>
          <p:cNvPicPr/>
          <p:nvPr/>
        </p:nvPicPr>
        <p:blipFill>
          <a:blip r:embed="rId9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330" name="MSC" descr=""/>
          <p:cNvPicPr/>
          <p:nvPr/>
        </p:nvPicPr>
        <p:blipFill>
          <a:blip r:embed="rId10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331" name="PSTN" descr=""/>
          <p:cNvPicPr/>
          <p:nvPr/>
        </p:nvPicPr>
        <p:blipFill>
          <a:blip r:embed="rId11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332" name="Pymt" descr=""/>
          <p:cNvPicPr/>
          <p:nvPr/>
        </p:nvPicPr>
        <p:blipFill>
          <a:blip r:embed="rId12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RNC" descr=""/>
          <p:cNvPicPr/>
          <p:nvPr/>
        </p:nvPicPr>
        <p:blipFill>
          <a:blip r:embed="rId13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334" name="SCP" descr=""/>
          <p:cNvPicPr/>
          <p:nvPr/>
        </p:nvPicPr>
        <p:blipFill>
          <a:blip r:embed="rId14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335" name="SGSN" descr=""/>
          <p:cNvPicPr/>
          <p:nvPr/>
        </p:nvPicPr>
        <p:blipFill>
          <a:blip r:embed="rId15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336" name="smsc" descr=""/>
          <p:cNvPicPr/>
          <p:nvPr/>
        </p:nvPicPr>
        <p:blipFill>
          <a:blip r:embed="rId16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337" name="WAP" descr=""/>
          <p:cNvPicPr/>
          <p:nvPr/>
        </p:nvPicPr>
        <p:blipFill>
          <a:blip r:embed="rId17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pic>
        <p:nvPicPr>
          <p:cNvPr id="338" name="application" descr=""/>
          <p:cNvPicPr/>
          <p:nvPr/>
        </p:nvPicPr>
        <p:blipFill>
          <a:blip r:embed="rId18"/>
          <a:stretch/>
        </p:blipFill>
        <p:spPr>
          <a:xfrm>
            <a:off x="3057480" y="168588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339" name="application" descr=""/>
          <p:cNvPicPr/>
          <p:nvPr/>
        </p:nvPicPr>
        <p:blipFill>
          <a:blip r:embed="rId19"/>
          <a:stretch/>
        </p:blipFill>
        <p:spPr>
          <a:xfrm>
            <a:off x="5492880" y="1685880"/>
            <a:ext cx="838080" cy="486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51280" y="1892160"/>
            <a:ext cx="16668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4063680" y="3097080"/>
            <a:ext cx="1353960" cy="331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3538440" y="2077560"/>
            <a:ext cx="52560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doublearrow" descr=""/>
          <p:cNvPicPr/>
          <p:nvPr/>
        </p:nvPicPr>
        <p:blipFill>
          <a:blip r:embed="rId20"/>
          <a:stretch/>
        </p:blipFill>
        <p:spPr>
          <a:xfrm>
            <a:off x="2577960" y="2077920"/>
            <a:ext cx="4210200" cy="476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414760" y="4946760"/>
            <a:ext cx="378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Data Session Control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IN-style data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Route; supervise; contr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Data Session Control Service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pic>
        <p:nvPicPr>
          <p:cNvPr id="346" name="Lightening%20red" descr=""/>
          <p:cNvPicPr/>
          <p:nvPr/>
        </p:nvPicPr>
        <p:blipFill>
          <a:blip r:embed="rId21"/>
          <a:stretch/>
        </p:blipFill>
        <p:spPr>
          <a:xfrm>
            <a:off x="4527720" y="4767120"/>
            <a:ext cx="685800" cy="7430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flipH="1">
            <a:off x="6966000" y="3718080"/>
            <a:ext cx="673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959080" y="37180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843360" y="3914640"/>
            <a:ext cx="167472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213520" y="3914640"/>
            <a:ext cx="30456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2BB84-57B2-40A6-BB1F-CCB89908A9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loud" descr=""/>
          <p:cNvPicPr/>
          <p:nvPr/>
        </p:nvPicPr>
        <p:blipFill>
          <a:blip r:embed="rId1"/>
          <a:stretch/>
        </p:blipFill>
        <p:spPr>
          <a:xfrm>
            <a:off x="1895400" y="1346040"/>
            <a:ext cx="5353200" cy="3826080"/>
          </a:xfrm>
          <a:prstGeom prst="rect">
            <a:avLst/>
          </a:prstGeom>
          <a:ln w="0">
            <a:noFill/>
          </a:ln>
        </p:spPr>
      </p:pic>
      <p:pic>
        <p:nvPicPr>
          <p:cNvPr id="352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353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354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355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356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357" name="Internet" descr=""/>
          <p:cNvPicPr/>
          <p:nvPr/>
        </p:nvPicPr>
        <p:blipFill>
          <a:blip r:embed="rId7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358" name="IVR" descr=""/>
          <p:cNvPicPr/>
          <p:nvPr/>
        </p:nvPicPr>
        <p:blipFill>
          <a:blip r:embed="rId8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359" name="Lightening%20white" descr=""/>
          <p:cNvPicPr/>
          <p:nvPr/>
        </p:nvPicPr>
        <p:blipFill>
          <a:blip r:embed="rId9"/>
          <a:stretch/>
        </p:blipFill>
        <p:spPr>
          <a:xfrm>
            <a:off x="3794040" y="4805280"/>
            <a:ext cx="733680" cy="781200"/>
          </a:xfrm>
          <a:prstGeom prst="rect">
            <a:avLst/>
          </a:prstGeom>
          <a:ln w="0">
            <a:noFill/>
          </a:ln>
        </p:spPr>
      </p:pic>
      <p:pic>
        <p:nvPicPr>
          <p:cNvPr id="360" name="MLC" descr=""/>
          <p:cNvPicPr/>
          <p:nvPr/>
        </p:nvPicPr>
        <p:blipFill>
          <a:blip r:embed="rId10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361" name="MSC" descr=""/>
          <p:cNvPicPr/>
          <p:nvPr/>
        </p:nvPicPr>
        <p:blipFill>
          <a:blip r:embed="rId11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362" name="PSTN" descr=""/>
          <p:cNvPicPr/>
          <p:nvPr/>
        </p:nvPicPr>
        <p:blipFill>
          <a:blip r:embed="rId12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363" name="Pymt" descr=""/>
          <p:cNvPicPr/>
          <p:nvPr/>
        </p:nvPicPr>
        <p:blipFill>
          <a:blip r:embed="rId13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364" name="RNC" descr=""/>
          <p:cNvPicPr/>
          <p:nvPr/>
        </p:nvPicPr>
        <p:blipFill>
          <a:blip r:embed="rId14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365" name="SCP" descr=""/>
          <p:cNvPicPr/>
          <p:nvPr/>
        </p:nvPicPr>
        <p:blipFill>
          <a:blip r:embed="rId15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366" name="SGSN" descr=""/>
          <p:cNvPicPr/>
          <p:nvPr/>
        </p:nvPicPr>
        <p:blipFill>
          <a:blip r:embed="rId16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smsc" descr=""/>
          <p:cNvPicPr/>
          <p:nvPr/>
        </p:nvPicPr>
        <p:blipFill>
          <a:blip r:embed="rId17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368" name="WAP" descr=""/>
          <p:cNvPicPr/>
          <p:nvPr/>
        </p:nvPicPr>
        <p:blipFill>
          <a:blip r:embed="rId18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469880" y="3718080"/>
            <a:ext cx="9334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52960" y="3718080"/>
            <a:ext cx="2156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94040" y="3914640"/>
            <a:ext cx="0" cy="395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application" descr=""/>
          <p:cNvPicPr/>
          <p:nvPr/>
        </p:nvPicPr>
        <p:blipFill>
          <a:blip r:embed="rId19"/>
          <a:stretch/>
        </p:blipFill>
        <p:spPr>
          <a:xfrm>
            <a:off x="3057480" y="168588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373" name="application" descr=""/>
          <p:cNvPicPr/>
          <p:nvPr/>
        </p:nvPicPr>
        <p:blipFill>
          <a:blip r:embed="rId20"/>
          <a:stretch/>
        </p:blipFill>
        <p:spPr>
          <a:xfrm>
            <a:off x="5492880" y="1685880"/>
            <a:ext cx="838080" cy="486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851280" y="1892160"/>
            <a:ext cx="16668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794040" y="3097080"/>
            <a:ext cx="270000" cy="30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3538440" y="2077560"/>
            <a:ext cx="525600" cy="42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5120" y="4946760"/>
            <a:ext cx="34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Charging/Payment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authorisation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reserv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imes New Roman"/>
              </a:rPr>
              <a:t>settl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Charging Service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063680" y="3097080"/>
            <a:ext cx="1353960" cy="30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38440" y="2077920"/>
            <a:ext cx="1879560" cy="476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3538080" y="2077560"/>
            <a:ext cx="2792520" cy="451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2" name="doublearrow" descr=""/>
          <p:cNvPicPr/>
          <p:nvPr/>
        </p:nvPicPr>
        <p:blipFill>
          <a:blip r:embed="rId21"/>
          <a:stretch/>
        </p:blipFill>
        <p:spPr>
          <a:xfrm>
            <a:off x="2577960" y="2077920"/>
            <a:ext cx="4210200" cy="476280"/>
          </a:xfrm>
          <a:prstGeom prst="rect">
            <a:avLst/>
          </a:prstGeom>
          <a:ln w="0">
            <a:noFill/>
          </a:ln>
        </p:spPr>
      </p:pic>
      <p:pic>
        <p:nvPicPr>
          <p:cNvPr id="383" name="Lightening%20red" descr=""/>
          <p:cNvPicPr/>
          <p:nvPr/>
        </p:nvPicPr>
        <p:blipFill>
          <a:blip r:embed="rId22"/>
          <a:stretch/>
        </p:blipFill>
        <p:spPr>
          <a:xfrm>
            <a:off x="4527720" y="4767120"/>
            <a:ext cx="685800" cy="7430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 flipH="1">
            <a:off x="5213520" y="3914640"/>
            <a:ext cx="304560" cy="398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966000" y="3718080"/>
            <a:ext cx="673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959080" y="37180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333760" y="3068280"/>
            <a:ext cx="8388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6A232-30AB-4C3A-8682-1AF97A7AE1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About A</a:t>
            </a:r>
            <a:r>
              <a:rPr b="1" i="1" lang="en-GB" sz="3600" spc="-1" strike="noStrike">
                <a:solidFill>
                  <a:srgbClr val="9ac5e6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PO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95-1999 - APiON Lt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under members of J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fully compliant WAP Gate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t 1999-present - AePONA Lt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lecommunications Solu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in 3GPP; Parlay; JAIN; MWI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00 staff in Belfast, London &amp; Dub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2ED7-77CE-4005-B54F-FD6949A603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API Features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tract functio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eate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d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twork’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bile; fixed; 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 Base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chnology 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++; Java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6F39A-97B3-45E2-A064-7C9966AA32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2E678-C768-4610-8768-4B4118DA16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all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lose Frie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mail Ale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sure H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dependent Pre-P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My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c5e6"/>
                </a:solidFill>
                <a:latin typeface="Arial"/>
              </a:rPr>
              <a:t>Novel Causeway Applications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94" name="">
            <a:hlinkClick r:id="rId1"/>
          </p:cNvPr>
          <p:cNvSpPr/>
          <p:nvPr/>
        </p:nvSpPr>
        <p:spPr>
          <a:xfrm>
            <a:off x="196920" y="2700360"/>
            <a:ext cx="488880" cy="352440"/>
          </a:xfrm>
          <a:custGeom>
            <a:avLst/>
            <a:gdLst>
              <a:gd name="textAreaLeft" fmla="*/ 22680 w 488880"/>
              <a:gd name="textAreaRight" fmla="*/ 466200 w 4888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29953" h="21600">
                <a:moveTo>
                  <a:pt x="0" y="0"/>
                </a:moveTo>
                <a:lnTo>
                  <a:pt x="29953" y="0"/>
                </a:lnTo>
                <a:lnTo>
                  <a:pt x="29953" y="21600"/>
                </a:lnTo>
                <a:lnTo>
                  <a:pt x="0" y="21600"/>
                </a:lnTo>
                <a:close/>
              </a:path>
              <a:path fill="lightenLess" w="29953" h="21600">
                <a:moveTo>
                  <a:pt x="0" y="0"/>
                </a:moveTo>
                <a:lnTo>
                  <a:pt x="29953" y="0"/>
                </a:lnTo>
                <a:lnTo>
                  <a:pt x="28553" y="1400"/>
                </a:lnTo>
                <a:lnTo>
                  <a:pt x="1400" y="1400"/>
                </a:lnTo>
                <a:close/>
              </a:path>
              <a:path fill="darken" w="29953" h="21600">
                <a:moveTo>
                  <a:pt x="29953" y="0"/>
                </a:moveTo>
                <a:lnTo>
                  <a:pt x="29953" y="21600"/>
                </a:lnTo>
                <a:lnTo>
                  <a:pt x="28553" y="20200"/>
                </a:lnTo>
                <a:lnTo>
                  <a:pt x="28553" y="1400"/>
                </a:lnTo>
                <a:close/>
              </a:path>
              <a:path fill="darkenLess" w="29953" h="21600">
                <a:moveTo>
                  <a:pt x="29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53" y="20200"/>
                </a:lnTo>
                <a:close/>
              </a:path>
              <a:path fill="lighten" w="29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53" h="21600">
                <a:moveTo>
                  <a:pt x="7970" y="3794"/>
                </a:moveTo>
                <a:lnTo>
                  <a:pt x="21983" y="10800"/>
                </a:lnTo>
                <a:lnTo>
                  <a:pt x="7970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>
            <a:hlinkClick r:id="rId2"/>
          </p:cNvPr>
          <p:cNvSpPr/>
          <p:nvPr/>
        </p:nvSpPr>
        <p:spPr>
          <a:xfrm>
            <a:off x="196920" y="1981080"/>
            <a:ext cx="488880" cy="352440"/>
          </a:xfrm>
          <a:custGeom>
            <a:avLst/>
            <a:gdLst>
              <a:gd name="textAreaLeft" fmla="*/ 22680 w 488880"/>
              <a:gd name="textAreaRight" fmla="*/ 466200 w 4888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29953" h="21600">
                <a:moveTo>
                  <a:pt x="0" y="0"/>
                </a:moveTo>
                <a:lnTo>
                  <a:pt x="29953" y="0"/>
                </a:lnTo>
                <a:lnTo>
                  <a:pt x="29953" y="21600"/>
                </a:lnTo>
                <a:lnTo>
                  <a:pt x="0" y="21600"/>
                </a:lnTo>
                <a:close/>
              </a:path>
              <a:path fill="lightenLess" w="29953" h="21600">
                <a:moveTo>
                  <a:pt x="0" y="0"/>
                </a:moveTo>
                <a:lnTo>
                  <a:pt x="29953" y="0"/>
                </a:lnTo>
                <a:lnTo>
                  <a:pt x="28553" y="1400"/>
                </a:lnTo>
                <a:lnTo>
                  <a:pt x="1400" y="1400"/>
                </a:lnTo>
                <a:close/>
              </a:path>
              <a:path fill="darken" w="29953" h="21600">
                <a:moveTo>
                  <a:pt x="29953" y="0"/>
                </a:moveTo>
                <a:lnTo>
                  <a:pt x="29953" y="21600"/>
                </a:lnTo>
                <a:lnTo>
                  <a:pt x="28553" y="20200"/>
                </a:lnTo>
                <a:lnTo>
                  <a:pt x="28553" y="1400"/>
                </a:lnTo>
                <a:close/>
              </a:path>
              <a:path fill="darkenLess" w="29953" h="21600">
                <a:moveTo>
                  <a:pt x="29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53" y="20200"/>
                </a:lnTo>
                <a:close/>
              </a:path>
              <a:path fill="lighten" w="29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53" h="21600">
                <a:moveTo>
                  <a:pt x="7970" y="3794"/>
                </a:moveTo>
                <a:lnTo>
                  <a:pt x="21983" y="10800"/>
                </a:lnTo>
                <a:lnTo>
                  <a:pt x="7970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>
            <a:hlinkClick r:id="rId3"/>
          </p:cNvPr>
          <p:cNvSpPr/>
          <p:nvPr/>
        </p:nvSpPr>
        <p:spPr>
          <a:xfrm>
            <a:off x="196920" y="3429000"/>
            <a:ext cx="488880" cy="352440"/>
          </a:xfrm>
          <a:custGeom>
            <a:avLst/>
            <a:gdLst>
              <a:gd name="textAreaLeft" fmla="*/ 22680 w 488880"/>
              <a:gd name="textAreaRight" fmla="*/ 466200 w 4888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29953" h="21600">
                <a:moveTo>
                  <a:pt x="0" y="0"/>
                </a:moveTo>
                <a:lnTo>
                  <a:pt x="29953" y="0"/>
                </a:lnTo>
                <a:lnTo>
                  <a:pt x="29953" y="21600"/>
                </a:lnTo>
                <a:lnTo>
                  <a:pt x="0" y="21600"/>
                </a:lnTo>
                <a:close/>
              </a:path>
              <a:path fill="lightenLess" w="29953" h="21600">
                <a:moveTo>
                  <a:pt x="0" y="0"/>
                </a:moveTo>
                <a:lnTo>
                  <a:pt x="29953" y="0"/>
                </a:lnTo>
                <a:lnTo>
                  <a:pt x="28553" y="1400"/>
                </a:lnTo>
                <a:lnTo>
                  <a:pt x="1400" y="1400"/>
                </a:lnTo>
                <a:close/>
              </a:path>
              <a:path fill="darken" w="29953" h="21600">
                <a:moveTo>
                  <a:pt x="29953" y="0"/>
                </a:moveTo>
                <a:lnTo>
                  <a:pt x="29953" y="21600"/>
                </a:lnTo>
                <a:lnTo>
                  <a:pt x="28553" y="20200"/>
                </a:lnTo>
                <a:lnTo>
                  <a:pt x="28553" y="1400"/>
                </a:lnTo>
                <a:close/>
              </a:path>
              <a:path fill="darkenLess" w="29953" h="21600">
                <a:moveTo>
                  <a:pt x="29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53" y="20200"/>
                </a:lnTo>
                <a:close/>
              </a:path>
              <a:path fill="lighten" w="29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53" h="21600">
                <a:moveTo>
                  <a:pt x="7970" y="3794"/>
                </a:moveTo>
                <a:lnTo>
                  <a:pt x="21983" y="10800"/>
                </a:lnTo>
                <a:lnTo>
                  <a:pt x="7970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697F-E6A5-4F52-A50E-FF3A2FB023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63725-8E8D-4447-A295-870855DCF7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Parlay Client Proxy - PCP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83760" y="1676520"/>
            <a:ext cx="4188240" cy="2895480"/>
            <a:chOff x="383760" y="1676520"/>
            <a:chExt cx="4188240" cy="2895480"/>
          </a:xfrm>
        </p:grpSpPr>
        <p:sp>
          <p:nvSpPr>
            <p:cNvPr id="401" name=""/>
            <p:cNvSpPr/>
            <p:nvPr/>
          </p:nvSpPr>
          <p:spPr>
            <a:xfrm>
              <a:off x="2362320" y="3962520"/>
              <a:ext cx="2209680" cy="6094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403848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Utility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Bea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280" y="403848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Par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Bea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76720" y="2362320"/>
              <a:ext cx="1066680" cy="685800"/>
            </a:xfrm>
            <a:prstGeom prst="ellipse">
              <a:avLst/>
            </a:prstGeom>
            <a:solidFill>
              <a:srgbClr val="218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Compon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81080" y="3886200"/>
              <a:ext cx="2590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3760" y="3657600"/>
              <a:ext cx="114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</a:rPr>
                <a:t>Java Beans AP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52680" y="1676520"/>
              <a:ext cx="106704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Java Beans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I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600200" y="2133720"/>
            <a:ext cx="5943600" cy="4114800"/>
            <a:chOff x="1600200" y="2133720"/>
            <a:chExt cx="5943600" cy="4114800"/>
          </a:xfrm>
        </p:grpSpPr>
        <p:sp>
          <p:nvSpPr>
            <p:cNvPr id="409" name=""/>
            <p:cNvSpPr/>
            <p:nvPr/>
          </p:nvSpPr>
          <p:spPr>
            <a:xfrm>
              <a:off x="2362320" y="5867280"/>
              <a:ext cx="4419360" cy="381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arlay Gatewa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486400"/>
              <a:ext cx="5943600" cy="380880"/>
            </a:xfrm>
            <a:prstGeom prst="leftRightArrow">
              <a:avLst>
                <a:gd name="adj1" fmla="val 37500"/>
                <a:gd name="adj2" fmla="val 10143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Times New Roman"/>
                </a:rPr>
                <a:t>COR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38680" y="3124080"/>
              <a:ext cx="152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Parlay Client Prox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81080" y="3124080"/>
              <a:ext cx="5257800" cy="2210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52480" y="2133720"/>
              <a:ext cx="5715000" cy="3276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1992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Parlay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92320" y="2362320"/>
            <a:ext cx="8165880" cy="3019680"/>
            <a:chOff x="292320" y="2362320"/>
            <a:chExt cx="8165880" cy="3019680"/>
          </a:xfrm>
        </p:grpSpPr>
        <p:sp>
          <p:nvSpPr>
            <p:cNvPr id="416" name=""/>
            <p:cNvSpPr/>
            <p:nvPr/>
          </p:nvSpPr>
          <p:spPr>
            <a:xfrm>
              <a:off x="2362320" y="4724280"/>
              <a:ext cx="3047760" cy="3812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Java Adap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00800" y="3429000"/>
              <a:ext cx="609480" cy="16765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Proxy Mana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19720" y="2362320"/>
              <a:ext cx="1066680" cy="6858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Jav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81080" y="4648320"/>
              <a:ext cx="3429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257800"/>
              <a:ext cx="5181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3040" y="5105520"/>
              <a:ext cx="10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</a:rPr>
                <a:t>Parlay 2.1 AP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2320" y="4495680"/>
              <a:ext cx="145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</a:rPr>
                <a:t>Parlay Java Interfa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0280" y="4114800"/>
              <a:ext cx="1447920" cy="380880"/>
            </a:xfrm>
            <a:prstGeom prst="leftRightArrow">
              <a:avLst>
                <a:gd name="adj1" fmla="val 37500"/>
                <a:gd name="adj2" fmla="val 24710"/>
              </a:avLst>
            </a:prstGeom>
            <a:solidFill>
              <a:srgbClr val="6666ff"/>
            </a:solidFill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HTT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62720" y="2362320"/>
              <a:ext cx="1066680" cy="6858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CORB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82680" y="1676520"/>
            <a:ext cx="2894040" cy="2133360"/>
            <a:chOff x="382680" y="1676520"/>
            <a:chExt cx="2894040" cy="2133360"/>
          </a:xfrm>
        </p:grpSpPr>
        <p:sp>
          <p:nvSpPr>
            <p:cNvPr id="426" name=""/>
            <p:cNvSpPr/>
            <p:nvPr/>
          </p:nvSpPr>
          <p:spPr>
            <a:xfrm>
              <a:off x="2057400" y="1676520"/>
              <a:ext cx="106668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</a:rPr>
                <a:t>XML Scrip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3352680"/>
              <a:ext cx="838080" cy="457200"/>
            </a:xfrm>
            <a:prstGeom prst="rect">
              <a:avLst/>
            </a:prstGeom>
            <a:solidFill>
              <a:srgbClr val="2181b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XML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Interpre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81080" y="3276720"/>
              <a:ext cx="1295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2680" y="312408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</a:rPr>
                <a:t>XML DT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33720" y="2362320"/>
              <a:ext cx="1066680" cy="685800"/>
            </a:xfrm>
            <a:prstGeom prst="ellipse">
              <a:avLst/>
            </a:prstGeom>
            <a:solidFill>
              <a:srgbClr val="2181b7"/>
            </a:solidFill>
            <a:ln w="9360">
              <a:solidFill>
                <a:srgbClr val="218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XML Scrip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</a:rPr>
                <a:t>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E617-600C-4909-87BB-F8F6298208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362320" y="3962520"/>
            <a:ext cx="2209680" cy="6094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0384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Utilit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Be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38280" y="4038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Par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Be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1080" y="3886200"/>
            <a:ext cx="25909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3760" y="365760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Times New Roman"/>
              </a:rPr>
              <a:t>Java Beans AP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81080" y="5486400"/>
            <a:ext cx="52578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ateway Em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38680" y="31240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Parlay Client Prox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81080" y="3124080"/>
            <a:ext cx="5257800" cy="221004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52480" y="2133720"/>
            <a:ext cx="5715000" cy="327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21337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Parlay Applic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2320" y="4724280"/>
            <a:ext cx="3047760" cy="381240"/>
          </a:xfrm>
          <a:prstGeom prst="rect">
            <a:avLst/>
          </a:prstGeom>
          <a:solidFill>
            <a:srgbClr val="6666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Java Adap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429000"/>
            <a:ext cx="609480" cy="1676520"/>
          </a:xfrm>
          <a:prstGeom prst="rect">
            <a:avLst/>
          </a:prstGeom>
          <a:solidFill>
            <a:srgbClr val="6666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Proxy 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362320"/>
            <a:ext cx="1066680" cy="6858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4648320"/>
            <a:ext cx="3429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81080" y="5257800"/>
            <a:ext cx="5181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3040" y="51055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Times New Roman"/>
              </a:rPr>
              <a:t>Parlay 2.1 AP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2320" y="449568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Times New Roman"/>
              </a:rPr>
              <a:t>Parlay Java Inte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4114800"/>
            <a:ext cx="1447920" cy="380880"/>
          </a:xfrm>
          <a:prstGeom prst="leftRightArrow">
            <a:avLst>
              <a:gd name="adj1" fmla="val 37500"/>
              <a:gd name="adj2" fmla="val 24710"/>
            </a:avLst>
          </a:prstGeom>
          <a:solidFill>
            <a:srgbClr val="6666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Parlay Client Proxy - SDK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3A06-6E6A-4DAC-8F43-DE37B6DCEF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ify Application Develop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teway Emul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ssistance in Application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DK User Gu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 Application run time environme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ing/Log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 Application portability and future compat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SDK Features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6115-95BA-4381-862D-0031D5AD64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C34E-998F-4316-B690-B993F76F1E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rvice Network =  Application Lay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t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G 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epona Causeway Produ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ent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s and 3rd Party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ployment in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3EFD-72D8-4173-9D95-290AF1133F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422360" y="1682640"/>
            <a:ext cx="6370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s Sav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epona Lim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el +44 2890 2691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s.savage@aepona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A9A8-03E3-42AB-B1E0-04FE848B8B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2C7F-F90B-40A3-9C10-A68981E2AA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F28B4-6487-43F7-B86C-C044530790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Current Mobile Market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90720" y="2208240"/>
          <a:ext cx="777384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8240"/>
                    <a:ext cx="777384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8256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scriber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85AB-34CB-4868-A386-5C73206BD6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Current Mobile Market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6080" y="2286000"/>
          <a:ext cx="776772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2286000"/>
                    <a:ext cx="776772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82560" y="195120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U Dec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5B3A-9DF9-4C94-AA7A-A68A3AA3EB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Revenue/Cost Predictions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31840" y="5586480"/>
            <a:ext cx="7015320" cy="0"/>
          </a:xfrm>
          <a:prstGeom prst="line">
            <a:avLst/>
          </a:prstGeom>
          <a:ln w="76320">
            <a:solidFill>
              <a:srgbClr val="2181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89920" y="574056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81b7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6520" y="1676520"/>
            <a:ext cx="0" cy="3921120"/>
          </a:xfrm>
          <a:prstGeom prst="line">
            <a:avLst/>
          </a:prstGeom>
          <a:ln w="76320">
            <a:solidFill>
              <a:srgbClr val="2181b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97720" y="2119320"/>
            <a:ext cx="6201360" cy="2286000"/>
            <a:chOff x="1197720" y="2119320"/>
            <a:chExt cx="6201360" cy="2286000"/>
          </a:xfrm>
        </p:grpSpPr>
        <p:grpSp>
          <p:nvGrpSpPr>
            <p:cNvPr id="111" name=""/>
            <p:cNvGrpSpPr/>
            <p:nvPr/>
          </p:nvGrpSpPr>
          <p:grpSpPr>
            <a:xfrm>
              <a:off x="1197720" y="2119320"/>
              <a:ext cx="6201360" cy="2286000"/>
              <a:chOff x="1197720" y="2119320"/>
              <a:chExt cx="6201360" cy="2286000"/>
            </a:xfrm>
          </p:grpSpPr>
          <p:sp>
            <p:nvSpPr>
              <p:cNvPr id="112" name=""/>
              <p:cNvSpPr/>
              <p:nvPr/>
            </p:nvSpPr>
            <p:spPr>
              <a:xfrm rot="5400000">
                <a:off x="1798920" y="1517760"/>
                <a:ext cx="1680840" cy="2883240"/>
              </a:xfrm>
              <a:custGeom>
                <a:avLst/>
                <a:gdLst/>
                <a:ahLst/>
                <a:rect l="l" t="t" r="r" b="b"/>
                <a:pathLst>
                  <a:path w="1678" h="702">
                    <a:moveTo>
                      <a:pt x="1678" y="0"/>
                    </a:moveTo>
                    <a:cubicBezTo>
                      <a:pt x="984" y="442"/>
                      <a:pt x="656" y="479"/>
                      <a:pt x="280" y="490"/>
                    </a:cubicBezTo>
                    <a:cubicBezTo>
                      <a:pt x="115" y="625"/>
                      <a:pt x="0" y="702"/>
                      <a:pt x="0" y="702"/>
                    </a:cubicBezTo>
                    <a:cubicBezTo>
                      <a:pt x="733" y="657"/>
                      <a:pt x="1419" y="316"/>
                      <a:pt x="167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fb4ab"/>
                  </a:gs>
                  <a:gs pos="100000">
                    <a:srgbClr val="c46f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400000">
                <a:off x="3862440" y="868320"/>
                <a:ext cx="1520640" cy="5552640"/>
              </a:xfrm>
              <a:custGeom>
                <a:avLst/>
                <a:gdLst/>
                <a:ahLst/>
                <a:rect l="l" t="t" r="r" b="b"/>
                <a:pathLst>
                  <a:path w="1518" h="1352">
                    <a:moveTo>
                      <a:pt x="0" y="1352"/>
                    </a:moveTo>
                    <a:cubicBezTo>
                      <a:pt x="419" y="1157"/>
                      <a:pt x="1009" y="782"/>
                      <a:pt x="1120" y="248"/>
                    </a:cubicBezTo>
                    <a:lnTo>
                      <a:pt x="942" y="288"/>
                    </a:lnTo>
                    <a:lnTo>
                      <a:pt x="1236" y="0"/>
                    </a:lnTo>
                    <a:lnTo>
                      <a:pt x="1518" y="132"/>
                    </a:lnTo>
                    <a:lnTo>
                      <a:pt x="1363" y="190"/>
                    </a:lnTo>
                    <a:cubicBezTo>
                      <a:pt x="1282" y="617"/>
                      <a:pt x="751" y="1165"/>
                      <a:pt x="0" y="13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fb4ab"/>
                  </a:gs>
                  <a:gs pos="100000">
                    <a:srgbClr val="c46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266920" y="2382840"/>
              <a:ext cx="1066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f72"/>
                  </a:solidFill>
                  <a:latin typeface="Arial"/>
                </a:rPr>
                <a:t>Service Revenu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85840" y="3716280"/>
            <a:ext cx="6215040" cy="828360"/>
            <a:chOff x="1185840" y="3716280"/>
            <a:chExt cx="6215040" cy="828360"/>
          </a:xfrm>
        </p:grpSpPr>
        <p:sp>
          <p:nvSpPr>
            <p:cNvPr id="116" name=""/>
            <p:cNvSpPr/>
            <p:nvPr/>
          </p:nvSpPr>
          <p:spPr>
            <a:xfrm>
              <a:off x="1185840" y="3716280"/>
              <a:ext cx="6215040" cy="6271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83000" y="4025880"/>
              <a:ext cx="154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ff"/>
                  </a:solidFill>
                  <a:latin typeface="Arial"/>
                </a:rPr>
                <a:t>Infrastructure Co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163520" y="1914480"/>
            <a:ext cx="5983200" cy="2425320"/>
            <a:chOff x="1163520" y="1914480"/>
            <a:chExt cx="5983200" cy="2425320"/>
          </a:xfrm>
        </p:grpSpPr>
        <p:grpSp>
          <p:nvGrpSpPr>
            <p:cNvPr id="119" name=""/>
            <p:cNvGrpSpPr/>
            <p:nvPr/>
          </p:nvGrpSpPr>
          <p:grpSpPr>
            <a:xfrm>
              <a:off x="1163520" y="1914480"/>
              <a:ext cx="5983200" cy="2425320"/>
              <a:chOff x="1163520" y="1914480"/>
              <a:chExt cx="5983200" cy="2425320"/>
            </a:xfrm>
          </p:grpSpPr>
          <p:sp>
            <p:nvSpPr>
              <p:cNvPr id="120" name=""/>
              <p:cNvSpPr/>
              <p:nvPr/>
            </p:nvSpPr>
            <p:spPr>
              <a:xfrm>
                <a:off x="1163520" y="1928880"/>
                <a:ext cx="5983200" cy="2410920"/>
              </a:xfrm>
              <a:custGeom>
                <a:avLst/>
                <a:gdLst/>
                <a:ahLst/>
                <a:rect l="l" t="t" r="r" b="b"/>
                <a:pathLst>
                  <a:path w="3612" h="1339">
                    <a:moveTo>
                      <a:pt x="0" y="0"/>
                    </a:moveTo>
                    <a:cubicBezTo>
                      <a:pt x="15" y="58"/>
                      <a:pt x="30" y="117"/>
                      <a:pt x="87" y="189"/>
                    </a:cubicBezTo>
                    <a:cubicBezTo>
                      <a:pt x="144" y="261"/>
                      <a:pt x="261" y="368"/>
                      <a:pt x="340" y="434"/>
                    </a:cubicBezTo>
                    <a:cubicBezTo>
                      <a:pt x="419" y="500"/>
                      <a:pt x="469" y="528"/>
                      <a:pt x="560" y="584"/>
                    </a:cubicBezTo>
                    <a:cubicBezTo>
                      <a:pt x="651" y="640"/>
                      <a:pt x="770" y="721"/>
                      <a:pt x="884" y="773"/>
                    </a:cubicBezTo>
                    <a:cubicBezTo>
                      <a:pt x="998" y="825"/>
                      <a:pt x="1138" y="862"/>
                      <a:pt x="1247" y="899"/>
                    </a:cubicBezTo>
                    <a:cubicBezTo>
                      <a:pt x="1356" y="936"/>
                      <a:pt x="1425" y="962"/>
                      <a:pt x="1539" y="994"/>
                    </a:cubicBezTo>
                    <a:cubicBezTo>
                      <a:pt x="1653" y="1026"/>
                      <a:pt x="1802" y="1060"/>
                      <a:pt x="1933" y="1089"/>
                    </a:cubicBezTo>
                    <a:cubicBezTo>
                      <a:pt x="2064" y="1118"/>
                      <a:pt x="2178" y="1141"/>
                      <a:pt x="2328" y="1168"/>
                    </a:cubicBezTo>
                    <a:cubicBezTo>
                      <a:pt x="2478" y="1195"/>
                      <a:pt x="2697" y="1233"/>
                      <a:pt x="2833" y="1254"/>
                    </a:cubicBezTo>
                    <a:cubicBezTo>
                      <a:pt x="2969" y="1275"/>
                      <a:pt x="3612" y="1339"/>
                      <a:pt x="3141" y="1294"/>
                    </a:cubicBezTo>
                    <a:cubicBezTo>
                      <a:pt x="2670" y="1249"/>
                      <a:pt x="527" y="1036"/>
                      <a:pt x="8" y="986"/>
                    </a:cubicBezTo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1717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64960" y="1914480"/>
                <a:ext cx="51120" cy="180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257120" y="3051000"/>
              <a:ext cx="12924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181b7"/>
                  </a:solidFill>
                  <a:latin typeface="Arial"/>
                </a:rPr>
                <a:t>Shrinking Profit Margi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02160" y="2689200"/>
            <a:ext cx="2924280" cy="2330280"/>
            <a:chOff x="4502160" y="2689200"/>
            <a:chExt cx="2924280" cy="2330280"/>
          </a:xfrm>
        </p:grpSpPr>
        <p:sp>
          <p:nvSpPr>
            <p:cNvPr id="124" name=""/>
            <p:cNvSpPr/>
            <p:nvPr/>
          </p:nvSpPr>
          <p:spPr>
            <a:xfrm>
              <a:off x="4502160" y="2689200"/>
              <a:ext cx="2924280" cy="2330280"/>
            </a:xfrm>
            <a:custGeom>
              <a:avLst/>
              <a:gdLst/>
              <a:ahLst/>
              <a:rect l="l" t="t" r="r" b="b"/>
              <a:pathLst>
                <a:path w="1630" h="1263">
                  <a:moveTo>
                    <a:pt x="1630" y="1263"/>
                  </a:moveTo>
                  <a:cubicBezTo>
                    <a:pt x="1574" y="1223"/>
                    <a:pt x="1518" y="1183"/>
                    <a:pt x="1440" y="1144"/>
                  </a:cubicBezTo>
                  <a:cubicBezTo>
                    <a:pt x="1362" y="1105"/>
                    <a:pt x="1257" y="1062"/>
                    <a:pt x="1164" y="1026"/>
                  </a:cubicBezTo>
                  <a:cubicBezTo>
                    <a:pt x="1071" y="990"/>
                    <a:pt x="984" y="969"/>
                    <a:pt x="880" y="931"/>
                  </a:cubicBezTo>
                  <a:cubicBezTo>
                    <a:pt x="776" y="893"/>
                    <a:pt x="661" y="832"/>
                    <a:pt x="541" y="797"/>
                  </a:cubicBezTo>
                  <a:cubicBezTo>
                    <a:pt x="421" y="762"/>
                    <a:pt x="249" y="740"/>
                    <a:pt x="162" y="718"/>
                  </a:cubicBezTo>
                  <a:cubicBezTo>
                    <a:pt x="75" y="696"/>
                    <a:pt x="0" y="671"/>
                    <a:pt x="20" y="663"/>
                  </a:cubicBezTo>
                  <a:cubicBezTo>
                    <a:pt x="40" y="655"/>
                    <a:pt x="180" y="676"/>
                    <a:pt x="281" y="671"/>
                  </a:cubicBezTo>
                  <a:cubicBezTo>
                    <a:pt x="382" y="666"/>
                    <a:pt x="520" y="653"/>
                    <a:pt x="628" y="631"/>
                  </a:cubicBezTo>
                  <a:cubicBezTo>
                    <a:pt x="736" y="609"/>
                    <a:pt x="823" y="588"/>
                    <a:pt x="928" y="537"/>
                  </a:cubicBezTo>
                  <a:cubicBezTo>
                    <a:pt x="1033" y="486"/>
                    <a:pt x="1163" y="393"/>
                    <a:pt x="1259" y="324"/>
                  </a:cubicBezTo>
                  <a:cubicBezTo>
                    <a:pt x="1355" y="255"/>
                    <a:pt x="1442" y="180"/>
                    <a:pt x="1504" y="126"/>
                  </a:cubicBezTo>
                  <a:cubicBezTo>
                    <a:pt x="1566" y="72"/>
                    <a:pt x="1610" y="22"/>
                    <a:pt x="1630" y="0"/>
                  </a:cubicBezTo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13760" y="3751200"/>
              <a:ext cx="883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181b7"/>
                  </a:solidFill>
                  <a:latin typeface="Arial"/>
                </a:rPr>
                <a:t>Ne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181b7"/>
                  </a:solidFill>
                  <a:latin typeface="Arial"/>
                </a:rPr>
                <a:t>Profi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181b7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583160" y="2071800"/>
            <a:ext cx="3499920" cy="1874880"/>
            <a:chOff x="4583160" y="2071800"/>
            <a:chExt cx="3499920" cy="1874880"/>
          </a:xfrm>
        </p:grpSpPr>
        <p:sp>
          <p:nvSpPr>
            <p:cNvPr id="127" name=""/>
            <p:cNvSpPr/>
            <p:nvPr/>
          </p:nvSpPr>
          <p:spPr>
            <a:xfrm>
              <a:off x="4583160" y="2671200"/>
              <a:ext cx="2908800" cy="1275480"/>
            </a:xfrm>
            <a:custGeom>
              <a:avLst/>
              <a:gdLst/>
              <a:ahLst/>
              <a:rect l="l" t="t" r="r" b="b"/>
              <a:pathLst>
                <a:path w="1444" h="750">
                  <a:moveTo>
                    <a:pt x="0" y="750"/>
                  </a:moveTo>
                  <a:cubicBezTo>
                    <a:pt x="213" y="736"/>
                    <a:pt x="427" y="722"/>
                    <a:pt x="592" y="671"/>
                  </a:cubicBezTo>
                  <a:cubicBezTo>
                    <a:pt x="757" y="620"/>
                    <a:pt x="865" y="533"/>
                    <a:pt x="987" y="442"/>
                  </a:cubicBezTo>
                  <a:cubicBezTo>
                    <a:pt x="1109" y="351"/>
                    <a:pt x="1250" y="200"/>
                    <a:pt x="1326" y="126"/>
                  </a:cubicBezTo>
                  <a:cubicBezTo>
                    <a:pt x="1402" y="52"/>
                    <a:pt x="1423" y="26"/>
                    <a:pt x="1444" y="0"/>
                  </a:cubicBezTo>
                </a:path>
              </a:pathLst>
            </a:custGeom>
            <a:noFill/>
            <a:ln w="76320">
              <a:solidFill>
                <a:srgbClr val="ff737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24320" y="2071800"/>
              <a:ext cx="1058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f72"/>
                  </a:solidFill>
                  <a:latin typeface="Arial"/>
                </a:rPr>
                <a:t>Enhanced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45080" y="4017960"/>
            <a:ext cx="4154400" cy="1468080"/>
            <a:chOff x="4645080" y="4017960"/>
            <a:chExt cx="4154400" cy="1468080"/>
          </a:xfrm>
        </p:grpSpPr>
        <p:sp>
          <p:nvSpPr>
            <p:cNvPr id="130" name=""/>
            <p:cNvSpPr/>
            <p:nvPr/>
          </p:nvSpPr>
          <p:spPr>
            <a:xfrm>
              <a:off x="4645080" y="4017960"/>
              <a:ext cx="2894040" cy="1001520"/>
            </a:xfrm>
            <a:custGeom>
              <a:avLst/>
              <a:gdLst/>
              <a:ahLst/>
              <a:rect l="l" t="t" r="r" b="b"/>
              <a:pathLst>
                <a:path w="1365" h="474">
                  <a:moveTo>
                    <a:pt x="0" y="0"/>
                  </a:moveTo>
                  <a:cubicBezTo>
                    <a:pt x="133" y="23"/>
                    <a:pt x="267" y="46"/>
                    <a:pt x="450" y="103"/>
                  </a:cubicBezTo>
                  <a:cubicBezTo>
                    <a:pt x="633" y="160"/>
                    <a:pt x="945" y="278"/>
                    <a:pt x="1097" y="340"/>
                  </a:cubicBezTo>
                  <a:cubicBezTo>
                    <a:pt x="1249" y="402"/>
                    <a:pt x="1320" y="452"/>
                    <a:pt x="1365" y="47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56520" y="4967280"/>
              <a:ext cx="154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ff"/>
                  </a:solidFill>
                  <a:latin typeface="Arial"/>
                </a:rPr>
                <a:t>Packet-centric 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8823-77A7-436F-9C0E-60701DEA54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Telco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New Network Emph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Layer API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m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DF41B-42C2-413B-BAF9-8FB2F5B4B9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ac5e6"/>
                </a:solidFill>
                <a:latin typeface="Arial"/>
              </a:rPr>
              <a:t>Network Evolution</a:t>
            </a:r>
            <a:endParaRPr b="1" lang="en-US" sz="3600" spc="-1" strike="noStrike">
              <a:solidFill>
                <a:srgbClr val="9ac5e6"/>
              </a:solidFill>
              <a:latin typeface="Arial"/>
            </a:endParaRPr>
          </a:p>
        </p:txBody>
      </p:sp>
      <p:pic>
        <p:nvPicPr>
          <p:cNvPr id="135" name="cloud" descr=""/>
          <p:cNvPicPr/>
          <p:nvPr/>
        </p:nvPicPr>
        <p:blipFill>
          <a:blip r:embed="rId1"/>
          <a:stretch/>
        </p:blipFill>
        <p:spPr>
          <a:xfrm>
            <a:off x="1895400" y="1685880"/>
            <a:ext cx="5353200" cy="3486240"/>
          </a:xfrm>
          <a:prstGeom prst="rect">
            <a:avLst/>
          </a:prstGeom>
          <a:ln w="0">
            <a:noFill/>
          </a:ln>
        </p:spPr>
      </p:pic>
      <p:pic>
        <p:nvPicPr>
          <p:cNvPr id="136" name="mobile" descr=""/>
          <p:cNvPicPr/>
          <p:nvPr/>
        </p:nvPicPr>
        <p:blipFill>
          <a:blip r:embed="rId2"/>
          <a:stretch/>
        </p:blipFill>
        <p:spPr>
          <a:xfrm>
            <a:off x="4253040" y="5172120"/>
            <a:ext cx="63792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BSC" descr=""/>
          <p:cNvPicPr/>
          <p:nvPr/>
        </p:nvPicPr>
        <p:blipFill>
          <a:blip r:embed="rId3"/>
          <a:stretch/>
        </p:blipFill>
        <p:spPr>
          <a:xfrm>
            <a:off x="3538440" y="4313160"/>
            <a:ext cx="714600" cy="466920"/>
          </a:xfrm>
          <a:prstGeom prst="rect">
            <a:avLst/>
          </a:prstGeom>
          <a:ln w="0">
            <a:noFill/>
          </a:ln>
        </p:spPr>
      </p:pic>
      <p:pic>
        <p:nvPicPr>
          <p:cNvPr id="138" name="GGSN" descr=""/>
          <p:cNvPicPr/>
          <p:nvPr/>
        </p:nvPicPr>
        <p:blipFill>
          <a:blip r:embed="rId4"/>
          <a:stretch/>
        </p:blipFill>
        <p:spPr>
          <a:xfrm>
            <a:off x="6111720" y="3395520"/>
            <a:ext cx="857520" cy="600120"/>
          </a:xfrm>
          <a:prstGeom prst="rect">
            <a:avLst/>
          </a:prstGeom>
          <a:ln w="0">
            <a:noFill/>
          </a:ln>
        </p:spPr>
      </p:pic>
      <p:pic>
        <p:nvPicPr>
          <p:cNvPr id="139" name="GMSC" descr=""/>
          <p:cNvPicPr/>
          <p:nvPr/>
        </p:nvPicPr>
        <p:blipFill>
          <a:blip r:embed="rId5"/>
          <a:stretch/>
        </p:blipFill>
        <p:spPr>
          <a:xfrm>
            <a:off x="2403360" y="3405240"/>
            <a:ext cx="857520" cy="590400"/>
          </a:xfrm>
          <a:prstGeom prst="rect">
            <a:avLst/>
          </a:prstGeom>
          <a:ln w="0">
            <a:noFill/>
          </a:ln>
        </p:spPr>
      </p:pic>
      <p:pic>
        <p:nvPicPr>
          <p:cNvPr id="140" name="HLR" descr=""/>
          <p:cNvPicPr/>
          <p:nvPr/>
        </p:nvPicPr>
        <p:blipFill>
          <a:blip r:embed="rId6"/>
          <a:stretch/>
        </p:blipFill>
        <p:spPr>
          <a:xfrm>
            <a:off x="3252960" y="2500200"/>
            <a:ext cx="590400" cy="609840"/>
          </a:xfrm>
          <a:prstGeom prst="rect">
            <a:avLst/>
          </a:prstGeom>
          <a:ln w="0">
            <a:noFill/>
          </a:ln>
        </p:spPr>
      </p:pic>
      <p:pic>
        <p:nvPicPr>
          <p:cNvPr id="141" name="Internet" descr=""/>
          <p:cNvPicPr/>
          <p:nvPr/>
        </p:nvPicPr>
        <p:blipFill>
          <a:blip r:embed="rId7"/>
          <a:stretch/>
        </p:blipFill>
        <p:spPr>
          <a:xfrm>
            <a:off x="7642080" y="3591000"/>
            <a:ext cx="971640" cy="323640"/>
          </a:xfrm>
          <a:prstGeom prst="rect">
            <a:avLst/>
          </a:prstGeom>
          <a:ln w="0">
            <a:noFill/>
          </a:ln>
        </p:spPr>
      </p:pic>
      <p:pic>
        <p:nvPicPr>
          <p:cNvPr id="142" name="IVR" descr=""/>
          <p:cNvPicPr/>
          <p:nvPr/>
        </p:nvPicPr>
        <p:blipFill>
          <a:blip r:embed="rId8"/>
          <a:stretch/>
        </p:blipFill>
        <p:spPr>
          <a:xfrm>
            <a:off x="4381560" y="251316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143" name="Lightening%20red" descr=""/>
          <p:cNvPicPr/>
          <p:nvPr/>
        </p:nvPicPr>
        <p:blipFill>
          <a:blip r:embed="rId9"/>
          <a:stretch/>
        </p:blipFill>
        <p:spPr>
          <a:xfrm>
            <a:off x="4527720" y="4767120"/>
            <a:ext cx="685800" cy="743040"/>
          </a:xfrm>
          <a:prstGeom prst="rect">
            <a:avLst/>
          </a:prstGeom>
          <a:ln w="0">
            <a:noFill/>
          </a:ln>
        </p:spPr>
      </p:pic>
      <p:pic>
        <p:nvPicPr>
          <p:cNvPr id="144" name="Lightening%20white" descr=""/>
          <p:cNvPicPr/>
          <p:nvPr/>
        </p:nvPicPr>
        <p:blipFill>
          <a:blip r:embed="rId10"/>
          <a:stretch/>
        </p:blipFill>
        <p:spPr>
          <a:xfrm>
            <a:off x="3794040" y="4805280"/>
            <a:ext cx="733680" cy="781200"/>
          </a:xfrm>
          <a:prstGeom prst="rect">
            <a:avLst/>
          </a:prstGeom>
          <a:ln w="0">
            <a:noFill/>
          </a:ln>
        </p:spPr>
      </p:pic>
      <p:pic>
        <p:nvPicPr>
          <p:cNvPr id="145" name="MLC" descr=""/>
          <p:cNvPicPr/>
          <p:nvPr/>
        </p:nvPicPr>
        <p:blipFill>
          <a:blip r:embed="rId11"/>
          <a:stretch/>
        </p:blipFill>
        <p:spPr>
          <a:xfrm>
            <a:off x="5645160" y="2500200"/>
            <a:ext cx="542880" cy="609840"/>
          </a:xfrm>
          <a:prstGeom prst="rect">
            <a:avLst/>
          </a:prstGeom>
          <a:ln w="0">
            <a:noFill/>
          </a:ln>
        </p:spPr>
      </p:pic>
      <p:pic>
        <p:nvPicPr>
          <p:cNvPr id="146" name="MSC" descr=""/>
          <p:cNvPicPr/>
          <p:nvPr/>
        </p:nvPicPr>
        <p:blipFill>
          <a:blip r:embed="rId12"/>
          <a:stretch/>
        </p:blipFill>
        <p:spPr>
          <a:xfrm>
            <a:off x="3468600" y="3405240"/>
            <a:ext cx="847800" cy="600120"/>
          </a:xfrm>
          <a:prstGeom prst="rect">
            <a:avLst/>
          </a:prstGeom>
          <a:ln w="0">
            <a:noFill/>
          </a:ln>
        </p:spPr>
      </p:pic>
      <p:pic>
        <p:nvPicPr>
          <p:cNvPr id="147" name="PSTN" descr=""/>
          <p:cNvPicPr/>
          <p:nvPr/>
        </p:nvPicPr>
        <p:blipFill>
          <a:blip r:embed="rId13"/>
          <a:stretch/>
        </p:blipFill>
        <p:spPr>
          <a:xfrm>
            <a:off x="841320" y="3552840"/>
            <a:ext cx="628560" cy="361800"/>
          </a:xfrm>
          <a:prstGeom prst="rect">
            <a:avLst/>
          </a:prstGeom>
          <a:ln w="0">
            <a:noFill/>
          </a:ln>
        </p:spPr>
      </p:pic>
      <p:pic>
        <p:nvPicPr>
          <p:cNvPr id="148" name="Pymt" descr=""/>
          <p:cNvPicPr/>
          <p:nvPr/>
        </p:nvPicPr>
        <p:blipFill>
          <a:blip r:embed="rId14"/>
          <a:stretch/>
        </p:blipFill>
        <p:spPr>
          <a:xfrm>
            <a:off x="6188040" y="2475000"/>
            <a:ext cx="600120" cy="647640"/>
          </a:xfrm>
          <a:prstGeom prst="rect">
            <a:avLst/>
          </a:prstGeom>
          <a:ln w="0">
            <a:noFill/>
          </a:ln>
        </p:spPr>
      </p:pic>
      <p:pic>
        <p:nvPicPr>
          <p:cNvPr id="149" name="RNC" descr=""/>
          <p:cNvPicPr/>
          <p:nvPr/>
        </p:nvPicPr>
        <p:blipFill>
          <a:blip r:embed="rId15"/>
          <a:stretch/>
        </p:blipFill>
        <p:spPr>
          <a:xfrm>
            <a:off x="4794120" y="4309920"/>
            <a:ext cx="723960" cy="495360"/>
          </a:xfrm>
          <a:prstGeom prst="rect">
            <a:avLst/>
          </a:prstGeom>
          <a:ln w="0">
            <a:noFill/>
          </a:ln>
        </p:spPr>
      </p:pic>
      <p:pic>
        <p:nvPicPr>
          <p:cNvPr id="150" name="SCP" descr=""/>
          <p:cNvPicPr/>
          <p:nvPr/>
        </p:nvPicPr>
        <p:blipFill>
          <a:blip r:embed="rId16"/>
          <a:stretch/>
        </p:blipFill>
        <p:spPr>
          <a:xfrm>
            <a:off x="3825720" y="2487600"/>
            <a:ext cx="581040" cy="609480"/>
          </a:xfrm>
          <a:prstGeom prst="rect">
            <a:avLst/>
          </a:prstGeom>
          <a:ln w="0">
            <a:noFill/>
          </a:ln>
        </p:spPr>
      </p:pic>
      <p:pic>
        <p:nvPicPr>
          <p:cNvPr id="151" name="SGSN" descr=""/>
          <p:cNvPicPr/>
          <p:nvPr/>
        </p:nvPicPr>
        <p:blipFill>
          <a:blip r:embed="rId17"/>
          <a:stretch/>
        </p:blipFill>
        <p:spPr>
          <a:xfrm>
            <a:off x="5083200" y="3376440"/>
            <a:ext cx="87624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smsc" descr=""/>
          <p:cNvPicPr/>
          <p:nvPr/>
        </p:nvPicPr>
        <p:blipFill>
          <a:blip r:embed="rId18"/>
          <a:stretch/>
        </p:blipFill>
        <p:spPr>
          <a:xfrm>
            <a:off x="2630520" y="2506680"/>
            <a:ext cx="647640" cy="590400"/>
          </a:xfrm>
          <a:prstGeom prst="rect">
            <a:avLst/>
          </a:prstGeom>
          <a:ln w="0">
            <a:noFill/>
          </a:ln>
        </p:spPr>
      </p:pic>
      <p:pic>
        <p:nvPicPr>
          <p:cNvPr id="153" name="WAP" descr=""/>
          <p:cNvPicPr/>
          <p:nvPr/>
        </p:nvPicPr>
        <p:blipFill>
          <a:blip r:embed="rId19"/>
          <a:stretch/>
        </p:blipFill>
        <p:spPr>
          <a:xfrm>
            <a:off x="5019840" y="2529000"/>
            <a:ext cx="628560" cy="581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6966000" y="3718080"/>
            <a:ext cx="673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959080" y="371808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69880" y="3718080"/>
            <a:ext cx="933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52960" y="3718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94040" y="3914640"/>
            <a:ext cx="0" cy="3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843360" y="3914640"/>
            <a:ext cx="167472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13520" y="3914640"/>
            <a:ext cx="304560" cy="398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AePO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E999-5F6C-45A2-BB48-A4A10A9297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8T01:10:55Z</dcterms:created>
  <dc:creator>Kieran Dalton</dc:creator>
  <dc:description/>
  <dc:language>en-US</dc:language>
  <cp:lastModifiedBy>Aepona</cp:lastModifiedBy>
  <cp:lastPrinted>2001-06-22T14:35:36Z</cp:lastPrinted>
  <dcterms:modified xsi:type="dcterms:W3CDTF">2001-10-03T09:43:16Z</dcterms:modified>
  <cp:revision>77</cp:revision>
  <dc:subject/>
  <dc:title>Customer Presentation</dc:title>
</cp:coreProperties>
</file>