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312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36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312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36440" y="580680"/>
            <a:ext cx="741204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312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6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312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36440" y="580680"/>
            <a:ext cx="741204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ermanent%20Logo" descr=""/>
          <p:cNvPicPr/>
          <p:nvPr/>
        </p:nvPicPr>
        <p:blipFill>
          <a:blip r:embed="rId2"/>
          <a:stretch/>
        </p:blipFill>
        <p:spPr>
          <a:xfrm>
            <a:off x="201600" y="5942160"/>
            <a:ext cx="1757520" cy="788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792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6056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5000" indent="-16992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19040" indent="-10944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19040" indent="-10944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19040" indent="-10944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1036800" y="566640"/>
            <a:ext cx="7783200" cy="608508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42240" y="6515280"/>
            <a:ext cx="17622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GNs – </a:t>
            </a:r>
            <a:fld id="{73AD4B7B-AFE4-458C-8635-E1D4D67201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741760" y="6515280"/>
            <a:ext cx="45417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© 1999 Telcordia Technologies - All rights Reserved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rmanent%20Logo" descr=""/>
          <p:cNvPicPr/>
          <p:nvPr/>
        </p:nvPicPr>
        <p:blipFill>
          <a:blip r:embed="rId2"/>
          <a:stretch/>
        </p:blipFill>
        <p:spPr>
          <a:xfrm>
            <a:off x="934920" y="579600"/>
            <a:ext cx="2695680" cy="120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8400" y="24667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596960" y="2414520"/>
            <a:ext cx="7245360" cy="423864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0400" algn="ctr">
              <a:spcBef>
                <a:spcPts val="400"/>
              </a:spcBef>
              <a:buClr>
                <a:srgbClr val="0033cc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65080" algn="ctr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209600" algn="ctr">
              <a:spcBef>
                <a:spcPts val="34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209600">
              <a:spcBef>
                <a:spcPts val="3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209600">
              <a:spcBef>
                <a:spcPts val="3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6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7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H="1">
            <a:off x="1596960" y="2414520"/>
            <a:ext cx="7245360" cy="423864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6600" y="24649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xt Generation Networks (NGN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 what they are and what it mean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6477120"/>
            <a:ext cx="259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© 1999 Telcordia Technologies -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00200" y="4419720"/>
            <a:ext cx="6324120" cy="1406520"/>
            <a:chOff x="1600200" y="4419720"/>
            <a:chExt cx="6324120" cy="1406520"/>
          </a:xfrm>
        </p:grpSpPr>
        <p:sp>
          <p:nvSpPr>
            <p:cNvPr id="88" name=""/>
            <p:cNvSpPr/>
            <p:nvPr/>
          </p:nvSpPr>
          <p:spPr>
            <a:xfrm>
              <a:off x="1600200" y="4427280"/>
              <a:ext cx="39463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pared For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m for the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ation and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gineering of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rvices (FORCE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75360" y="4419720"/>
              <a:ext cx="184896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lcordia Contact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ve Mar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ior Scient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973) 829 23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C3C5F2A-BEA3-4D87-9387-6E5AD3857D8E}" type="datetime3"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ly 30, 2026</a:t>
              </a:fld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555200" y="6481800"/>
            <a:ext cx="128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TCCentury Light"/>
              </a:rPr>
              <a:t>An SAIC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stablishing a Call..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16765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76920" y="16765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15200" y="16765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20640" cy="4795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7772400" y="3352680"/>
            <a:ext cx="620640" cy="4762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17524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0" y="2133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85640" y="2438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7524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048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76920" y="3276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152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3152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876560" y="4495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4876560" y="3962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285640" y="4648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286000" y="3657600"/>
            <a:ext cx="5029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5334120"/>
            <a:ext cx="5029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59200" y="18129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 H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19160" y="2133720"/>
            <a:ext cx="13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lect 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573640" y="272736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lled 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67800" y="295596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oming Call fro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8520" y="335268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Voice B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64520" y="365760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nging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16440" y="41911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41160" y="434340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forward B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50880" y="501336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Voice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51200" y="272736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8800" y="24382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l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849800" y="403848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270680" y="12952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07640" y="12952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GW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84560" y="12952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GW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Telcordia NGN Solu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/>
          <p:nvPr/>
        </p:nvSpPr>
        <p:spPr>
          <a:xfrm>
            <a:off x="3446640" y="1533600"/>
            <a:ext cx="0" cy="59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97440" y="1158840"/>
            <a:ext cx="324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08480" y="1174680"/>
            <a:ext cx="3240" cy="38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87480" y="4927680"/>
            <a:ext cx="7775640" cy="98244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004080" y="3532320"/>
            <a:ext cx="150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598640" y="2652840"/>
            <a:ext cx="120492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10160" y="1558800"/>
            <a:ext cx="0" cy="175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37160" y="4570560"/>
            <a:ext cx="0" cy="64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635360" y="3793680"/>
            <a:ext cx="0" cy="585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103720" y="3736440"/>
            <a:ext cx="1000080" cy="1560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816200" y="3762000"/>
            <a:ext cx="2333520" cy="1670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5278320" y="3526920"/>
            <a:ext cx="72576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79440" y="3594240"/>
            <a:ext cx="7779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AP/SS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UP/SS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9371000">
            <a:off x="3178080" y="4003200"/>
            <a:ext cx="625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86400" y="3903840"/>
            <a:ext cx="625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53000" y="3354480"/>
            <a:ext cx="77652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6003720" y="2620800"/>
            <a:ext cx="157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054920" y="2506680"/>
            <a:ext cx="1369800" cy="1198440"/>
          </a:xfrm>
          <a:custGeom>
            <a:avLst/>
            <a:gdLst/>
            <a:ahLst/>
            <a:rect l="l" t="t" r="r" b="b"/>
            <a:pathLst>
              <a:path w="1883" h="1149">
                <a:moveTo>
                  <a:pt x="1283" y="936"/>
                </a:moveTo>
                <a:lnTo>
                  <a:pt x="1294" y="948"/>
                </a:lnTo>
                <a:lnTo>
                  <a:pt x="1306" y="961"/>
                </a:lnTo>
                <a:lnTo>
                  <a:pt x="1318" y="972"/>
                </a:lnTo>
                <a:lnTo>
                  <a:pt x="1333" y="983"/>
                </a:lnTo>
                <a:lnTo>
                  <a:pt x="1348" y="994"/>
                </a:lnTo>
                <a:lnTo>
                  <a:pt x="1363" y="1004"/>
                </a:lnTo>
                <a:lnTo>
                  <a:pt x="1380" y="1013"/>
                </a:lnTo>
                <a:lnTo>
                  <a:pt x="1397" y="1021"/>
                </a:lnTo>
                <a:lnTo>
                  <a:pt x="1416" y="1028"/>
                </a:lnTo>
                <a:lnTo>
                  <a:pt x="1434" y="1034"/>
                </a:lnTo>
                <a:lnTo>
                  <a:pt x="1454" y="1040"/>
                </a:lnTo>
                <a:lnTo>
                  <a:pt x="1475" y="1045"/>
                </a:lnTo>
                <a:lnTo>
                  <a:pt x="1495" y="1048"/>
                </a:lnTo>
                <a:lnTo>
                  <a:pt x="1517" y="1051"/>
                </a:lnTo>
                <a:lnTo>
                  <a:pt x="1539" y="1053"/>
                </a:lnTo>
                <a:lnTo>
                  <a:pt x="1561" y="1053"/>
                </a:lnTo>
                <a:lnTo>
                  <a:pt x="1593" y="1052"/>
                </a:lnTo>
                <a:lnTo>
                  <a:pt x="1625" y="1049"/>
                </a:lnTo>
                <a:lnTo>
                  <a:pt x="1656" y="1043"/>
                </a:lnTo>
                <a:lnTo>
                  <a:pt x="1686" y="1034"/>
                </a:lnTo>
                <a:lnTo>
                  <a:pt x="1714" y="1025"/>
                </a:lnTo>
                <a:lnTo>
                  <a:pt x="1740" y="1013"/>
                </a:lnTo>
                <a:lnTo>
                  <a:pt x="1765" y="999"/>
                </a:lnTo>
                <a:lnTo>
                  <a:pt x="1788" y="985"/>
                </a:lnTo>
                <a:lnTo>
                  <a:pt x="1809" y="968"/>
                </a:lnTo>
                <a:lnTo>
                  <a:pt x="1827" y="951"/>
                </a:lnTo>
                <a:lnTo>
                  <a:pt x="1843" y="931"/>
                </a:lnTo>
                <a:lnTo>
                  <a:pt x="1857" y="911"/>
                </a:lnTo>
                <a:lnTo>
                  <a:pt x="1868" y="889"/>
                </a:lnTo>
                <a:lnTo>
                  <a:pt x="1875" y="867"/>
                </a:lnTo>
                <a:lnTo>
                  <a:pt x="1881" y="844"/>
                </a:lnTo>
                <a:lnTo>
                  <a:pt x="1882" y="820"/>
                </a:lnTo>
                <a:lnTo>
                  <a:pt x="1881" y="797"/>
                </a:lnTo>
                <a:lnTo>
                  <a:pt x="1875" y="773"/>
                </a:lnTo>
                <a:lnTo>
                  <a:pt x="1867" y="750"/>
                </a:lnTo>
                <a:lnTo>
                  <a:pt x="1857" y="729"/>
                </a:lnTo>
                <a:lnTo>
                  <a:pt x="1842" y="709"/>
                </a:lnTo>
                <a:lnTo>
                  <a:pt x="1826" y="689"/>
                </a:lnTo>
                <a:lnTo>
                  <a:pt x="1807" y="671"/>
                </a:lnTo>
                <a:lnTo>
                  <a:pt x="1786" y="654"/>
                </a:lnTo>
                <a:lnTo>
                  <a:pt x="1791" y="639"/>
                </a:lnTo>
                <a:lnTo>
                  <a:pt x="1795" y="623"/>
                </a:lnTo>
                <a:lnTo>
                  <a:pt x="1798" y="606"/>
                </a:lnTo>
                <a:lnTo>
                  <a:pt x="1798" y="588"/>
                </a:lnTo>
                <a:lnTo>
                  <a:pt x="1798" y="569"/>
                </a:lnTo>
                <a:lnTo>
                  <a:pt x="1794" y="550"/>
                </a:lnTo>
                <a:lnTo>
                  <a:pt x="1789" y="531"/>
                </a:lnTo>
                <a:lnTo>
                  <a:pt x="1783" y="514"/>
                </a:lnTo>
                <a:lnTo>
                  <a:pt x="1775" y="497"/>
                </a:lnTo>
                <a:lnTo>
                  <a:pt x="1765" y="481"/>
                </a:lnTo>
                <a:lnTo>
                  <a:pt x="1754" y="466"/>
                </a:lnTo>
                <a:lnTo>
                  <a:pt x="1742" y="453"/>
                </a:lnTo>
                <a:lnTo>
                  <a:pt x="1729" y="441"/>
                </a:lnTo>
                <a:lnTo>
                  <a:pt x="1714" y="430"/>
                </a:lnTo>
                <a:lnTo>
                  <a:pt x="1698" y="420"/>
                </a:lnTo>
                <a:lnTo>
                  <a:pt x="1681" y="412"/>
                </a:lnTo>
                <a:lnTo>
                  <a:pt x="1665" y="406"/>
                </a:lnTo>
                <a:lnTo>
                  <a:pt x="1646" y="401"/>
                </a:lnTo>
                <a:lnTo>
                  <a:pt x="1627" y="398"/>
                </a:lnTo>
                <a:lnTo>
                  <a:pt x="1608" y="397"/>
                </a:lnTo>
                <a:lnTo>
                  <a:pt x="1596" y="398"/>
                </a:lnTo>
                <a:lnTo>
                  <a:pt x="1585" y="399"/>
                </a:lnTo>
                <a:lnTo>
                  <a:pt x="1573" y="400"/>
                </a:lnTo>
                <a:lnTo>
                  <a:pt x="1562" y="403"/>
                </a:lnTo>
                <a:lnTo>
                  <a:pt x="1551" y="406"/>
                </a:lnTo>
                <a:lnTo>
                  <a:pt x="1540" y="410"/>
                </a:lnTo>
                <a:lnTo>
                  <a:pt x="1530" y="415"/>
                </a:lnTo>
                <a:lnTo>
                  <a:pt x="1520" y="419"/>
                </a:lnTo>
                <a:lnTo>
                  <a:pt x="1512" y="398"/>
                </a:lnTo>
                <a:lnTo>
                  <a:pt x="1502" y="378"/>
                </a:lnTo>
                <a:lnTo>
                  <a:pt x="1492" y="358"/>
                </a:lnTo>
                <a:lnTo>
                  <a:pt x="1480" y="340"/>
                </a:lnTo>
                <a:lnTo>
                  <a:pt x="1466" y="322"/>
                </a:lnTo>
                <a:lnTo>
                  <a:pt x="1452" y="305"/>
                </a:lnTo>
                <a:lnTo>
                  <a:pt x="1437" y="289"/>
                </a:lnTo>
                <a:lnTo>
                  <a:pt x="1421" y="275"/>
                </a:lnTo>
                <a:lnTo>
                  <a:pt x="1404" y="260"/>
                </a:lnTo>
                <a:lnTo>
                  <a:pt x="1386" y="248"/>
                </a:lnTo>
                <a:lnTo>
                  <a:pt x="1367" y="236"/>
                </a:lnTo>
                <a:lnTo>
                  <a:pt x="1348" y="226"/>
                </a:lnTo>
                <a:lnTo>
                  <a:pt x="1327" y="217"/>
                </a:lnTo>
                <a:lnTo>
                  <a:pt x="1306" y="209"/>
                </a:lnTo>
                <a:lnTo>
                  <a:pt x="1285" y="203"/>
                </a:lnTo>
                <a:lnTo>
                  <a:pt x="1262" y="198"/>
                </a:lnTo>
                <a:lnTo>
                  <a:pt x="1251" y="176"/>
                </a:lnTo>
                <a:lnTo>
                  <a:pt x="1239" y="155"/>
                </a:lnTo>
                <a:lnTo>
                  <a:pt x="1226" y="136"/>
                </a:lnTo>
                <a:lnTo>
                  <a:pt x="1211" y="118"/>
                </a:lnTo>
                <a:lnTo>
                  <a:pt x="1195" y="100"/>
                </a:lnTo>
                <a:lnTo>
                  <a:pt x="1177" y="84"/>
                </a:lnTo>
                <a:lnTo>
                  <a:pt x="1159" y="69"/>
                </a:lnTo>
                <a:lnTo>
                  <a:pt x="1139" y="55"/>
                </a:lnTo>
                <a:lnTo>
                  <a:pt x="1119" y="42"/>
                </a:lnTo>
                <a:lnTo>
                  <a:pt x="1097" y="31"/>
                </a:lnTo>
                <a:lnTo>
                  <a:pt x="1075" y="22"/>
                </a:lnTo>
                <a:lnTo>
                  <a:pt x="1052" y="14"/>
                </a:lnTo>
                <a:lnTo>
                  <a:pt x="1028" y="8"/>
                </a:lnTo>
                <a:lnTo>
                  <a:pt x="1004" y="3"/>
                </a:lnTo>
                <a:lnTo>
                  <a:pt x="979" y="1"/>
                </a:lnTo>
                <a:lnTo>
                  <a:pt x="954" y="0"/>
                </a:lnTo>
                <a:lnTo>
                  <a:pt x="926" y="1"/>
                </a:lnTo>
                <a:lnTo>
                  <a:pt x="900" y="5"/>
                </a:lnTo>
                <a:lnTo>
                  <a:pt x="873" y="10"/>
                </a:lnTo>
                <a:lnTo>
                  <a:pt x="847" y="17"/>
                </a:lnTo>
                <a:lnTo>
                  <a:pt x="823" y="26"/>
                </a:lnTo>
                <a:lnTo>
                  <a:pt x="799" y="37"/>
                </a:lnTo>
                <a:lnTo>
                  <a:pt x="777" y="50"/>
                </a:lnTo>
                <a:lnTo>
                  <a:pt x="755" y="64"/>
                </a:lnTo>
                <a:lnTo>
                  <a:pt x="734" y="80"/>
                </a:lnTo>
                <a:lnTo>
                  <a:pt x="716" y="97"/>
                </a:lnTo>
                <a:lnTo>
                  <a:pt x="698" y="116"/>
                </a:lnTo>
                <a:lnTo>
                  <a:pt x="682" y="136"/>
                </a:lnTo>
                <a:lnTo>
                  <a:pt x="667" y="158"/>
                </a:lnTo>
                <a:lnTo>
                  <a:pt x="654" y="180"/>
                </a:lnTo>
                <a:lnTo>
                  <a:pt x="642" y="203"/>
                </a:lnTo>
                <a:lnTo>
                  <a:pt x="632" y="228"/>
                </a:lnTo>
                <a:lnTo>
                  <a:pt x="622" y="222"/>
                </a:lnTo>
                <a:lnTo>
                  <a:pt x="612" y="218"/>
                </a:lnTo>
                <a:lnTo>
                  <a:pt x="601" y="214"/>
                </a:lnTo>
                <a:lnTo>
                  <a:pt x="590" y="211"/>
                </a:lnTo>
                <a:lnTo>
                  <a:pt x="579" y="208"/>
                </a:lnTo>
                <a:lnTo>
                  <a:pt x="568" y="206"/>
                </a:lnTo>
                <a:lnTo>
                  <a:pt x="556" y="206"/>
                </a:lnTo>
                <a:lnTo>
                  <a:pt x="544" y="205"/>
                </a:lnTo>
                <a:lnTo>
                  <a:pt x="525" y="206"/>
                </a:lnTo>
                <a:lnTo>
                  <a:pt x="506" y="209"/>
                </a:lnTo>
                <a:lnTo>
                  <a:pt x="488" y="214"/>
                </a:lnTo>
                <a:lnTo>
                  <a:pt x="471" y="220"/>
                </a:lnTo>
                <a:lnTo>
                  <a:pt x="453" y="228"/>
                </a:lnTo>
                <a:lnTo>
                  <a:pt x="438" y="238"/>
                </a:lnTo>
                <a:lnTo>
                  <a:pt x="423" y="249"/>
                </a:lnTo>
                <a:lnTo>
                  <a:pt x="410" y="261"/>
                </a:lnTo>
                <a:lnTo>
                  <a:pt x="398" y="275"/>
                </a:lnTo>
                <a:lnTo>
                  <a:pt x="387" y="290"/>
                </a:lnTo>
                <a:lnTo>
                  <a:pt x="377" y="305"/>
                </a:lnTo>
                <a:lnTo>
                  <a:pt x="368" y="322"/>
                </a:lnTo>
                <a:lnTo>
                  <a:pt x="363" y="340"/>
                </a:lnTo>
                <a:lnTo>
                  <a:pt x="358" y="358"/>
                </a:lnTo>
                <a:lnTo>
                  <a:pt x="355" y="377"/>
                </a:lnTo>
                <a:lnTo>
                  <a:pt x="354" y="396"/>
                </a:lnTo>
                <a:lnTo>
                  <a:pt x="354" y="403"/>
                </a:lnTo>
                <a:lnTo>
                  <a:pt x="355" y="410"/>
                </a:lnTo>
                <a:lnTo>
                  <a:pt x="355" y="416"/>
                </a:lnTo>
                <a:lnTo>
                  <a:pt x="356" y="423"/>
                </a:lnTo>
                <a:lnTo>
                  <a:pt x="320" y="426"/>
                </a:lnTo>
                <a:lnTo>
                  <a:pt x="284" y="431"/>
                </a:lnTo>
                <a:lnTo>
                  <a:pt x="250" y="440"/>
                </a:lnTo>
                <a:lnTo>
                  <a:pt x="217" y="450"/>
                </a:lnTo>
                <a:lnTo>
                  <a:pt x="186" y="461"/>
                </a:lnTo>
                <a:lnTo>
                  <a:pt x="156" y="475"/>
                </a:lnTo>
                <a:lnTo>
                  <a:pt x="129" y="490"/>
                </a:lnTo>
                <a:lnTo>
                  <a:pt x="103" y="507"/>
                </a:lnTo>
                <a:lnTo>
                  <a:pt x="81" y="527"/>
                </a:lnTo>
                <a:lnTo>
                  <a:pt x="60" y="546"/>
                </a:lnTo>
                <a:lnTo>
                  <a:pt x="42" y="568"/>
                </a:lnTo>
                <a:lnTo>
                  <a:pt x="28" y="590"/>
                </a:lnTo>
                <a:lnTo>
                  <a:pt x="15" y="614"/>
                </a:lnTo>
                <a:lnTo>
                  <a:pt x="8" y="639"/>
                </a:lnTo>
                <a:lnTo>
                  <a:pt x="1" y="664"/>
                </a:lnTo>
                <a:lnTo>
                  <a:pt x="0" y="690"/>
                </a:lnTo>
                <a:lnTo>
                  <a:pt x="2" y="718"/>
                </a:lnTo>
                <a:lnTo>
                  <a:pt x="8" y="744"/>
                </a:lnTo>
                <a:lnTo>
                  <a:pt x="17" y="770"/>
                </a:lnTo>
                <a:lnTo>
                  <a:pt x="31" y="794"/>
                </a:lnTo>
                <a:lnTo>
                  <a:pt x="46" y="818"/>
                </a:lnTo>
                <a:lnTo>
                  <a:pt x="66" y="840"/>
                </a:lnTo>
                <a:lnTo>
                  <a:pt x="88" y="860"/>
                </a:lnTo>
                <a:lnTo>
                  <a:pt x="113" y="879"/>
                </a:lnTo>
                <a:lnTo>
                  <a:pt x="139" y="896"/>
                </a:lnTo>
                <a:lnTo>
                  <a:pt x="169" y="912"/>
                </a:lnTo>
                <a:lnTo>
                  <a:pt x="200" y="925"/>
                </a:lnTo>
                <a:lnTo>
                  <a:pt x="234" y="936"/>
                </a:lnTo>
                <a:lnTo>
                  <a:pt x="269" y="946"/>
                </a:lnTo>
                <a:lnTo>
                  <a:pt x="305" y="952"/>
                </a:lnTo>
                <a:lnTo>
                  <a:pt x="343" y="956"/>
                </a:lnTo>
                <a:lnTo>
                  <a:pt x="382" y="958"/>
                </a:lnTo>
                <a:lnTo>
                  <a:pt x="384" y="958"/>
                </a:lnTo>
                <a:lnTo>
                  <a:pt x="387" y="958"/>
                </a:lnTo>
                <a:lnTo>
                  <a:pt x="390" y="958"/>
                </a:lnTo>
                <a:lnTo>
                  <a:pt x="393" y="958"/>
                </a:lnTo>
                <a:lnTo>
                  <a:pt x="400" y="968"/>
                </a:lnTo>
                <a:lnTo>
                  <a:pt x="406" y="977"/>
                </a:lnTo>
                <a:lnTo>
                  <a:pt x="415" y="987"/>
                </a:lnTo>
                <a:lnTo>
                  <a:pt x="423" y="996"/>
                </a:lnTo>
                <a:lnTo>
                  <a:pt x="431" y="1004"/>
                </a:lnTo>
                <a:lnTo>
                  <a:pt x="441" y="1013"/>
                </a:lnTo>
                <a:lnTo>
                  <a:pt x="451" y="1020"/>
                </a:lnTo>
                <a:lnTo>
                  <a:pt x="461" y="1026"/>
                </a:lnTo>
                <a:lnTo>
                  <a:pt x="472" y="1031"/>
                </a:lnTo>
                <a:lnTo>
                  <a:pt x="484" y="1038"/>
                </a:lnTo>
                <a:lnTo>
                  <a:pt x="495" y="1042"/>
                </a:lnTo>
                <a:lnTo>
                  <a:pt x="507" y="1046"/>
                </a:lnTo>
                <a:lnTo>
                  <a:pt x="519" y="1049"/>
                </a:lnTo>
                <a:lnTo>
                  <a:pt x="533" y="1051"/>
                </a:lnTo>
                <a:lnTo>
                  <a:pt x="545" y="1052"/>
                </a:lnTo>
                <a:lnTo>
                  <a:pt x="558" y="1053"/>
                </a:lnTo>
                <a:lnTo>
                  <a:pt x="567" y="1053"/>
                </a:lnTo>
                <a:lnTo>
                  <a:pt x="577" y="1052"/>
                </a:lnTo>
                <a:lnTo>
                  <a:pt x="586" y="1051"/>
                </a:lnTo>
                <a:lnTo>
                  <a:pt x="595" y="1049"/>
                </a:lnTo>
                <a:lnTo>
                  <a:pt x="604" y="1048"/>
                </a:lnTo>
                <a:lnTo>
                  <a:pt x="612" y="1045"/>
                </a:lnTo>
                <a:lnTo>
                  <a:pt x="621" y="1042"/>
                </a:lnTo>
                <a:lnTo>
                  <a:pt x="629" y="1039"/>
                </a:lnTo>
                <a:lnTo>
                  <a:pt x="637" y="1036"/>
                </a:lnTo>
                <a:lnTo>
                  <a:pt x="645" y="1031"/>
                </a:lnTo>
                <a:lnTo>
                  <a:pt x="653" y="1028"/>
                </a:lnTo>
                <a:lnTo>
                  <a:pt x="660" y="1023"/>
                </a:lnTo>
                <a:lnTo>
                  <a:pt x="667" y="1018"/>
                </a:lnTo>
                <a:lnTo>
                  <a:pt x="675" y="1013"/>
                </a:lnTo>
                <a:lnTo>
                  <a:pt x="682" y="1007"/>
                </a:lnTo>
                <a:lnTo>
                  <a:pt x="689" y="1001"/>
                </a:lnTo>
                <a:lnTo>
                  <a:pt x="700" y="1018"/>
                </a:lnTo>
                <a:lnTo>
                  <a:pt x="713" y="1033"/>
                </a:lnTo>
                <a:lnTo>
                  <a:pt x="726" y="1048"/>
                </a:lnTo>
                <a:lnTo>
                  <a:pt x="741" y="1063"/>
                </a:lnTo>
                <a:lnTo>
                  <a:pt x="757" y="1075"/>
                </a:lnTo>
                <a:lnTo>
                  <a:pt x="772" y="1087"/>
                </a:lnTo>
                <a:lnTo>
                  <a:pt x="790" y="1098"/>
                </a:lnTo>
                <a:lnTo>
                  <a:pt x="807" y="1108"/>
                </a:lnTo>
                <a:lnTo>
                  <a:pt x="825" y="1118"/>
                </a:lnTo>
                <a:lnTo>
                  <a:pt x="845" y="1126"/>
                </a:lnTo>
                <a:lnTo>
                  <a:pt x="864" y="1132"/>
                </a:lnTo>
                <a:lnTo>
                  <a:pt x="883" y="1138"/>
                </a:lnTo>
                <a:lnTo>
                  <a:pt x="904" y="1143"/>
                </a:lnTo>
                <a:lnTo>
                  <a:pt x="924" y="1146"/>
                </a:lnTo>
                <a:lnTo>
                  <a:pt x="946" y="1148"/>
                </a:lnTo>
                <a:lnTo>
                  <a:pt x="967" y="1148"/>
                </a:lnTo>
                <a:lnTo>
                  <a:pt x="994" y="1148"/>
                </a:lnTo>
                <a:lnTo>
                  <a:pt x="1020" y="1144"/>
                </a:lnTo>
                <a:lnTo>
                  <a:pt x="1045" y="1139"/>
                </a:lnTo>
                <a:lnTo>
                  <a:pt x="1070" y="1133"/>
                </a:lnTo>
                <a:lnTo>
                  <a:pt x="1094" y="1125"/>
                </a:lnTo>
                <a:lnTo>
                  <a:pt x="1117" y="1114"/>
                </a:lnTo>
                <a:lnTo>
                  <a:pt x="1139" y="1103"/>
                </a:lnTo>
                <a:lnTo>
                  <a:pt x="1160" y="1089"/>
                </a:lnTo>
                <a:lnTo>
                  <a:pt x="1180" y="1074"/>
                </a:lnTo>
                <a:lnTo>
                  <a:pt x="1198" y="1058"/>
                </a:lnTo>
                <a:lnTo>
                  <a:pt x="1216" y="1041"/>
                </a:lnTo>
                <a:lnTo>
                  <a:pt x="1232" y="1022"/>
                </a:lnTo>
                <a:lnTo>
                  <a:pt x="1247" y="1002"/>
                </a:lnTo>
                <a:lnTo>
                  <a:pt x="1261" y="981"/>
                </a:lnTo>
                <a:lnTo>
                  <a:pt x="1273" y="959"/>
                </a:lnTo>
                <a:lnTo>
                  <a:pt x="1283" y="93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350480" y="2844720"/>
            <a:ext cx="7995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bli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gnaling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02240" y="2297160"/>
            <a:ext cx="977760" cy="677880"/>
          </a:xfrm>
          <a:prstGeom prst="triangle">
            <a:avLst>
              <a:gd name="adj" fmla="val 51796"/>
            </a:avLst>
          </a:prstGeom>
          <a:solidFill>
            <a:srgbClr val="af4187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2627280" y="3006360"/>
            <a:ext cx="138744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16080" y="2754360"/>
            <a:ext cx="941400" cy="531720"/>
          </a:xfrm>
          <a:prstGeom prst="rect">
            <a:avLst/>
          </a:prstGeom>
          <a:solidFill>
            <a:srgbClr val="bf75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e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626920" y="3625920"/>
            <a:ext cx="1374840" cy="23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28680" y="3535200"/>
            <a:ext cx="941400" cy="530280"/>
          </a:xfrm>
          <a:prstGeom prst="rect">
            <a:avLst/>
          </a:prstGeom>
          <a:solidFill>
            <a:srgbClr val="bf75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3540600">
            <a:off x="5193000" y="4055040"/>
            <a:ext cx="625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49560" y="1341360"/>
            <a:ext cx="1257480" cy="515880"/>
          </a:xfrm>
          <a:prstGeom prst="rect">
            <a:avLst/>
          </a:prstGeom>
          <a:solidFill>
            <a:srgbClr val="333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fini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16200" y="1960560"/>
            <a:ext cx="5692680" cy="0"/>
          </a:xfrm>
          <a:prstGeom prst="line">
            <a:avLst/>
          </a:prstGeom>
          <a:ln w="88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31120" y="1747800"/>
            <a:ext cx="8794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64040" y="2109960"/>
            <a:ext cx="588960" cy="3301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46760" y="2190600"/>
            <a:ext cx="645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446640" y="1541520"/>
            <a:ext cx="498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866960" y="2033640"/>
            <a:ext cx="13269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ervice Definition</a:t>
            </a:r>
            <a:br>
              <a:rPr sz="1000"/>
            </a:b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illing</a:t>
            </a:r>
            <a:br>
              <a:rPr sz="1000"/>
            </a:b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rovi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4760" y="990720"/>
            <a:ext cx="8366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98920" y="990720"/>
            <a:ext cx="83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75120" y="5551560"/>
            <a:ext cx="7675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unk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92040" y="5560920"/>
            <a:ext cx="835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11880" y="5560920"/>
            <a:ext cx="735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 H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97320" y="5248440"/>
            <a:ext cx="714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212840" y="5029200"/>
            <a:ext cx="692280" cy="757080"/>
            <a:chOff x="1212840" y="5029200"/>
            <a:chExt cx="692280" cy="757080"/>
          </a:xfrm>
        </p:grpSpPr>
        <p:sp>
          <p:nvSpPr>
            <p:cNvPr id="699" name=""/>
            <p:cNvSpPr/>
            <p:nvPr/>
          </p:nvSpPr>
          <p:spPr>
            <a:xfrm>
              <a:off x="1706760" y="5188320"/>
              <a:ext cx="169560" cy="578880"/>
            </a:xfrm>
            <a:custGeom>
              <a:avLst/>
              <a:gdLst/>
              <a:ahLst/>
              <a:rect l="l" t="t" r="r" b="b"/>
              <a:pathLst>
                <a:path w="1044" h="3686">
                  <a:moveTo>
                    <a:pt x="1044" y="615"/>
                  </a:moveTo>
                  <a:lnTo>
                    <a:pt x="541" y="0"/>
                  </a:lnTo>
                  <a:lnTo>
                    <a:pt x="62" y="1222"/>
                  </a:lnTo>
                  <a:lnTo>
                    <a:pt x="0" y="3686"/>
                  </a:lnTo>
                  <a:lnTo>
                    <a:pt x="1038" y="2656"/>
                  </a:lnTo>
                  <a:lnTo>
                    <a:pt x="1044" y="755"/>
                  </a:lnTo>
                  <a:lnTo>
                    <a:pt x="1044" y="615"/>
                  </a:lnTo>
                  <a:lnTo>
                    <a:pt x="1044" y="615"/>
                  </a:lnTo>
                  <a:lnTo>
                    <a:pt x="1044" y="61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15760" y="5202360"/>
              <a:ext cx="153720" cy="509760"/>
            </a:xfrm>
            <a:custGeom>
              <a:avLst/>
              <a:gdLst/>
              <a:ahLst/>
              <a:rect l="l" t="t" r="r" b="b"/>
              <a:pathLst>
                <a:path w="948" h="3251">
                  <a:moveTo>
                    <a:pt x="944" y="549"/>
                  </a:moveTo>
                  <a:lnTo>
                    <a:pt x="500" y="0"/>
                  </a:lnTo>
                  <a:lnTo>
                    <a:pt x="388" y="180"/>
                  </a:lnTo>
                  <a:lnTo>
                    <a:pt x="566" y="83"/>
                  </a:lnTo>
                  <a:lnTo>
                    <a:pt x="258" y="516"/>
                  </a:lnTo>
                  <a:lnTo>
                    <a:pt x="684" y="225"/>
                  </a:lnTo>
                  <a:lnTo>
                    <a:pt x="151" y="797"/>
                  </a:lnTo>
                  <a:lnTo>
                    <a:pt x="824" y="395"/>
                  </a:lnTo>
                  <a:lnTo>
                    <a:pt x="33" y="1133"/>
                  </a:lnTo>
                  <a:lnTo>
                    <a:pt x="942" y="553"/>
                  </a:lnTo>
                  <a:lnTo>
                    <a:pt x="48" y="1402"/>
                  </a:lnTo>
                  <a:lnTo>
                    <a:pt x="940" y="797"/>
                  </a:lnTo>
                  <a:lnTo>
                    <a:pt x="38" y="1709"/>
                  </a:lnTo>
                  <a:lnTo>
                    <a:pt x="942" y="1051"/>
                  </a:lnTo>
                  <a:lnTo>
                    <a:pt x="33" y="2019"/>
                  </a:lnTo>
                  <a:lnTo>
                    <a:pt x="948" y="1338"/>
                  </a:lnTo>
                  <a:lnTo>
                    <a:pt x="23" y="2327"/>
                  </a:lnTo>
                  <a:lnTo>
                    <a:pt x="942" y="1643"/>
                  </a:lnTo>
                  <a:lnTo>
                    <a:pt x="15" y="2634"/>
                  </a:lnTo>
                  <a:lnTo>
                    <a:pt x="940" y="1959"/>
                  </a:lnTo>
                  <a:lnTo>
                    <a:pt x="7" y="2944"/>
                  </a:lnTo>
                  <a:lnTo>
                    <a:pt x="934" y="2260"/>
                  </a:lnTo>
                  <a:lnTo>
                    <a:pt x="0" y="3251"/>
                  </a:lnTo>
                  <a:lnTo>
                    <a:pt x="929" y="2521"/>
                  </a:lnTo>
                  <a:lnTo>
                    <a:pt x="944" y="549"/>
                  </a:lnTo>
                  <a:lnTo>
                    <a:pt x="944" y="549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12840" y="5167800"/>
              <a:ext cx="692280" cy="249840"/>
            </a:xfrm>
            <a:custGeom>
              <a:avLst/>
              <a:gdLst/>
              <a:ahLst/>
              <a:rect l="l" t="t" r="r" b="b"/>
              <a:pathLst>
                <a:path w="4274" h="1594">
                  <a:moveTo>
                    <a:pt x="11" y="993"/>
                  </a:moveTo>
                  <a:lnTo>
                    <a:pt x="147" y="1020"/>
                  </a:lnTo>
                  <a:lnTo>
                    <a:pt x="227" y="1035"/>
                  </a:lnTo>
                  <a:lnTo>
                    <a:pt x="3021" y="1594"/>
                  </a:lnTo>
                  <a:lnTo>
                    <a:pt x="3041" y="1549"/>
                  </a:lnTo>
                  <a:lnTo>
                    <a:pt x="3056" y="1507"/>
                  </a:lnTo>
                  <a:lnTo>
                    <a:pt x="3326" y="822"/>
                  </a:lnTo>
                  <a:lnTo>
                    <a:pt x="3597" y="135"/>
                  </a:lnTo>
                  <a:lnTo>
                    <a:pt x="4098" y="750"/>
                  </a:lnTo>
                  <a:lnTo>
                    <a:pt x="4098" y="892"/>
                  </a:lnTo>
                  <a:lnTo>
                    <a:pt x="4171" y="892"/>
                  </a:lnTo>
                  <a:lnTo>
                    <a:pt x="4224" y="892"/>
                  </a:lnTo>
                  <a:lnTo>
                    <a:pt x="4274" y="832"/>
                  </a:lnTo>
                  <a:lnTo>
                    <a:pt x="3586" y="0"/>
                  </a:lnTo>
                  <a:lnTo>
                    <a:pt x="2979" y="1484"/>
                  </a:lnTo>
                  <a:lnTo>
                    <a:pt x="0" y="905"/>
                  </a:lnTo>
                  <a:lnTo>
                    <a:pt x="11" y="995"/>
                  </a:lnTo>
                  <a:lnTo>
                    <a:pt x="11" y="995"/>
                  </a:lnTo>
                  <a:lnTo>
                    <a:pt x="11" y="9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15000" y="5118120"/>
              <a:ext cx="572760" cy="272520"/>
            </a:xfrm>
            <a:custGeom>
              <a:avLst/>
              <a:gdLst/>
              <a:ahLst/>
              <a:rect l="l" t="t" r="r" b="b"/>
              <a:pathLst>
                <a:path w="3542" h="1740">
                  <a:moveTo>
                    <a:pt x="0" y="1178"/>
                  </a:moveTo>
                  <a:lnTo>
                    <a:pt x="2942" y="1740"/>
                  </a:lnTo>
                  <a:lnTo>
                    <a:pt x="3542" y="301"/>
                  </a:lnTo>
                  <a:lnTo>
                    <a:pt x="1028" y="0"/>
                  </a:lnTo>
                  <a:lnTo>
                    <a:pt x="0" y="1180"/>
                  </a:lnTo>
                  <a:lnTo>
                    <a:pt x="0" y="1180"/>
                  </a:lnTo>
                  <a:lnTo>
                    <a:pt x="0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49200" y="5330880"/>
              <a:ext cx="458640" cy="453240"/>
            </a:xfrm>
            <a:custGeom>
              <a:avLst/>
              <a:gdLst/>
              <a:ahLst/>
              <a:rect l="l" t="t" r="r" b="b"/>
              <a:pathLst>
                <a:path w="2827" h="2795">
                  <a:moveTo>
                    <a:pt x="0" y="0"/>
                  </a:moveTo>
                  <a:lnTo>
                    <a:pt x="54" y="2150"/>
                  </a:lnTo>
                  <a:lnTo>
                    <a:pt x="2761" y="2795"/>
                  </a:lnTo>
                  <a:lnTo>
                    <a:pt x="2827" y="468"/>
                  </a:lnTo>
                  <a:lnTo>
                    <a:pt x="2792" y="5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43520" y="5070240"/>
              <a:ext cx="81720" cy="8028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512"/>
                  </a:moveTo>
                  <a:lnTo>
                    <a:pt x="223" y="260"/>
                  </a:lnTo>
                  <a:lnTo>
                    <a:pt x="506" y="295"/>
                  </a:lnTo>
                  <a:lnTo>
                    <a:pt x="504" y="0"/>
                  </a:lnTo>
                  <a:lnTo>
                    <a:pt x="0" y="99"/>
                  </a:lnTo>
                  <a:lnTo>
                    <a:pt x="0" y="512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298160" y="5083560"/>
              <a:ext cx="38520" cy="118800"/>
            </a:xfrm>
            <a:custGeom>
              <a:avLst/>
              <a:gdLst/>
              <a:ahLst/>
              <a:rect l="l" t="t" r="r" b="b"/>
              <a:pathLst>
                <a:path w="241" h="755">
                  <a:moveTo>
                    <a:pt x="241" y="16"/>
                  </a:moveTo>
                  <a:lnTo>
                    <a:pt x="241" y="483"/>
                  </a:lnTo>
                  <a:lnTo>
                    <a:pt x="0" y="755"/>
                  </a:lnTo>
                  <a:lnTo>
                    <a:pt x="0" y="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84840" y="5029200"/>
              <a:ext cx="147240" cy="49680"/>
            </a:xfrm>
            <a:custGeom>
              <a:avLst/>
              <a:gdLst/>
              <a:ahLst/>
              <a:rect l="l" t="t" r="r" b="b"/>
              <a:pathLst>
                <a:path w="904" h="314">
                  <a:moveTo>
                    <a:pt x="0" y="291"/>
                  </a:moveTo>
                  <a:lnTo>
                    <a:pt x="341" y="314"/>
                  </a:lnTo>
                  <a:lnTo>
                    <a:pt x="904" y="208"/>
                  </a:lnTo>
                  <a:lnTo>
                    <a:pt x="904" y="25"/>
                  </a:lnTo>
                  <a:lnTo>
                    <a:pt x="651" y="0"/>
                  </a:lnTo>
                  <a:lnTo>
                    <a:pt x="2" y="95"/>
                  </a:lnTo>
                  <a:lnTo>
                    <a:pt x="2" y="291"/>
                  </a:lnTo>
                  <a:lnTo>
                    <a:pt x="2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3a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36960" y="5307480"/>
              <a:ext cx="651240" cy="478800"/>
            </a:xfrm>
            <a:custGeom>
              <a:avLst/>
              <a:gdLst/>
              <a:ahLst/>
              <a:rect l="l" t="t" r="r" b="b"/>
              <a:pathLst>
                <a:path w="4024" h="3053">
                  <a:moveTo>
                    <a:pt x="80" y="145"/>
                  </a:moveTo>
                  <a:lnTo>
                    <a:pt x="136" y="2299"/>
                  </a:lnTo>
                  <a:lnTo>
                    <a:pt x="2841" y="2944"/>
                  </a:lnTo>
                  <a:lnTo>
                    <a:pt x="2909" y="617"/>
                  </a:lnTo>
                  <a:lnTo>
                    <a:pt x="2969" y="467"/>
                  </a:lnTo>
                  <a:lnTo>
                    <a:pt x="2907" y="2931"/>
                  </a:lnTo>
                  <a:lnTo>
                    <a:pt x="3945" y="1901"/>
                  </a:lnTo>
                  <a:lnTo>
                    <a:pt x="3951" y="0"/>
                  </a:lnTo>
                  <a:lnTo>
                    <a:pt x="4024" y="2"/>
                  </a:lnTo>
                  <a:lnTo>
                    <a:pt x="4024" y="1932"/>
                  </a:lnTo>
                  <a:lnTo>
                    <a:pt x="2892" y="3053"/>
                  </a:lnTo>
                  <a:lnTo>
                    <a:pt x="47" y="2343"/>
                  </a:lnTo>
                  <a:lnTo>
                    <a:pt x="0" y="130"/>
                  </a:lnTo>
                  <a:lnTo>
                    <a:pt x="80" y="145"/>
                  </a:lnTo>
                  <a:lnTo>
                    <a:pt x="80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08240" y="5408640"/>
              <a:ext cx="51840" cy="207720"/>
            </a:xfrm>
            <a:custGeom>
              <a:avLst/>
              <a:gdLst/>
              <a:ahLst/>
              <a:rect l="l" t="t" r="r" b="b"/>
              <a:pathLst>
                <a:path w="321" h="1327">
                  <a:moveTo>
                    <a:pt x="162" y="0"/>
                  </a:moveTo>
                  <a:lnTo>
                    <a:pt x="122" y="6"/>
                  </a:lnTo>
                  <a:lnTo>
                    <a:pt x="87" y="35"/>
                  </a:lnTo>
                  <a:lnTo>
                    <a:pt x="58" y="89"/>
                  </a:lnTo>
                  <a:lnTo>
                    <a:pt x="34" y="171"/>
                  </a:lnTo>
                  <a:lnTo>
                    <a:pt x="9" y="365"/>
                  </a:lnTo>
                  <a:lnTo>
                    <a:pt x="0" y="634"/>
                  </a:lnTo>
                  <a:lnTo>
                    <a:pt x="3" y="805"/>
                  </a:lnTo>
                  <a:lnTo>
                    <a:pt x="13" y="952"/>
                  </a:lnTo>
                  <a:lnTo>
                    <a:pt x="29" y="1075"/>
                  </a:lnTo>
                  <a:lnTo>
                    <a:pt x="56" y="1181"/>
                  </a:lnTo>
                  <a:lnTo>
                    <a:pt x="77" y="1237"/>
                  </a:lnTo>
                  <a:lnTo>
                    <a:pt x="100" y="1282"/>
                  </a:lnTo>
                  <a:lnTo>
                    <a:pt x="129" y="1311"/>
                  </a:lnTo>
                  <a:lnTo>
                    <a:pt x="162" y="1325"/>
                  </a:lnTo>
                  <a:lnTo>
                    <a:pt x="184" y="1327"/>
                  </a:lnTo>
                  <a:lnTo>
                    <a:pt x="205" y="1323"/>
                  </a:lnTo>
                  <a:lnTo>
                    <a:pt x="223" y="1311"/>
                  </a:lnTo>
                  <a:lnTo>
                    <a:pt x="238" y="1292"/>
                  </a:lnTo>
                  <a:lnTo>
                    <a:pt x="256" y="1259"/>
                  </a:lnTo>
                  <a:lnTo>
                    <a:pt x="273" y="1214"/>
                  </a:lnTo>
                  <a:lnTo>
                    <a:pt x="287" y="1160"/>
                  </a:lnTo>
                  <a:lnTo>
                    <a:pt x="300" y="1092"/>
                  </a:lnTo>
                  <a:lnTo>
                    <a:pt x="316" y="923"/>
                  </a:lnTo>
                  <a:lnTo>
                    <a:pt x="321" y="714"/>
                  </a:lnTo>
                  <a:lnTo>
                    <a:pt x="316" y="462"/>
                  </a:lnTo>
                  <a:lnTo>
                    <a:pt x="300" y="283"/>
                  </a:lnTo>
                  <a:lnTo>
                    <a:pt x="288" y="215"/>
                  </a:lnTo>
                  <a:lnTo>
                    <a:pt x="275" y="159"/>
                  </a:lnTo>
                  <a:lnTo>
                    <a:pt x="261" y="110"/>
                  </a:lnTo>
                  <a:lnTo>
                    <a:pt x="244" y="74"/>
                  </a:lnTo>
                  <a:lnTo>
                    <a:pt x="224" y="44"/>
                  </a:lnTo>
                  <a:lnTo>
                    <a:pt x="205" y="23"/>
                  </a:lnTo>
                  <a:lnTo>
                    <a:pt x="184" y="8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25600" y="5447160"/>
              <a:ext cx="24120" cy="100080"/>
            </a:xfrm>
            <a:custGeom>
              <a:avLst/>
              <a:gdLst/>
              <a:ahLst/>
              <a:rect l="l" t="t" r="r" b="b"/>
              <a:pathLst>
                <a:path w="149" h="640">
                  <a:moveTo>
                    <a:pt x="0" y="0"/>
                  </a:moveTo>
                  <a:lnTo>
                    <a:pt x="0" y="159"/>
                  </a:lnTo>
                  <a:lnTo>
                    <a:pt x="0" y="316"/>
                  </a:lnTo>
                  <a:lnTo>
                    <a:pt x="0" y="475"/>
                  </a:lnTo>
                  <a:lnTo>
                    <a:pt x="0" y="633"/>
                  </a:lnTo>
                  <a:lnTo>
                    <a:pt x="13" y="638"/>
                  </a:lnTo>
                  <a:lnTo>
                    <a:pt x="25" y="640"/>
                  </a:lnTo>
                  <a:lnTo>
                    <a:pt x="54" y="640"/>
                  </a:lnTo>
                  <a:lnTo>
                    <a:pt x="79" y="629"/>
                  </a:lnTo>
                  <a:lnTo>
                    <a:pt x="101" y="609"/>
                  </a:lnTo>
                  <a:lnTo>
                    <a:pt x="116" y="580"/>
                  </a:lnTo>
                  <a:lnTo>
                    <a:pt x="141" y="489"/>
                  </a:lnTo>
                  <a:lnTo>
                    <a:pt x="149" y="347"/>
                  </a:lnTo>
                  <a:lnTo>
                    <a:pt x="141" y="202"/>
                  </a:lnTo>
                  <a:lnTo>
                    <a:pt x="116" y="103"/>
                  </a:lnTo>
                  <a:lnTo>
                    <a:pt x="97" y="66"/>
                  </a:lnTo>
                  <a:lnTo>
                    <a:pt x="75" y="37"/>
                  </a:lnTo>
                  <a:lnTo>
                    <a:pt x="50" y="18"/>
                  </a:lnTo>
                  <a:lnTo>
                    <a:pt x="21" y="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1305720" y="5368320"/>
              <a:ext cx="142920" cy="144000"/>
              <a:chOff x="1305720" y="5368320"/>
              <a:chExt cx="142920" cy="144000"/>
            </a:xfrm>
          </p:grpSpPr>
          <p:sp>
            <p:nvSpPr>
              <p:cNvPr id="711" name=""/>
              <p:cNvSpPr/>
              <p:nvPr/>
            </p:nvSpPr>
            <p:spPr>
              <a:xfrm>
                <a:off x="1373760" y="5483520"/>
                <a:ext cx="0" cy="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05720" y="5368320"/>
                <a:ext cx="142920" cy="121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3" name=""/>
            <p:cNvGrpSpPr/>
            <p:nvPr/>
          </p:nvGrpSpPr>
          <p:grpSpPr>
            <a:xfrm>
              <a:off x="1469520" y="5391720"/>
              <a:ext cx="142920" cy="144720"/>
              <a:chOff x="1469520" y="5391720"/>
              <a:chExt cx="142920" cy="144720"/>
            </a:xfrm>
          </p:grpSpPr>
          <p:sp>
            <p:nvSpPr>
              <p:cNvPr id="714" name=""/>
              <p:cNvSpPr/>
              <p:nvPr/>
            </p:nvSpPr>
            <p:spPr>
              <a:xfrm>
                <a:off x="1537560" y="5507640"/>
                <a:ext cx="0" cy="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9520" y="5391720"/>
                <a:ext cx="142920" cy="122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6" name=""/>
            <p:cNvSpPr/>
            <p:nvPr/>
          </p:nvSpPr>
          <p:spPr>
            <a:xfrm>
              <a:off x="1305720" y="5512680"/>
              <a:ext cx="423000" cy="4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1439640" y="5550840"/>
              <a:ext cx="156240" cy="76680"/>
              <a:chOff x="1439640" y="5550840"/>
              <a:chExt cx="156240" cy="76680"/>
            </a:xfrm>
          </p:grpSpPr>
          <p:sp>
            <p:nvSpPr>
              <p:cNvPr id="718" name=""/>
              <p:cNvSpPr/>
              <p:nvPr/>
            </p:nvSpPr>
            <p:spPr>
              <a:xfrm>
                <a:off x="1451880" y="5564160"/>
                <a:ext cx="132480" cy="6336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492920" y="557784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506240" y="557784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519920" y="557784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533240" y="557784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492920" y="558720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06240" y="558720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19920" y="558720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533240" y="558720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492920" y="559692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506240" y="559692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519920" y="559692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533240" y="559692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492920" y="5606640"/>
                <a:ext cx="936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506240" y="5606640"/>
                <a:ext cx="972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519920" y="5606640"/>
                <a:ext cx="972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533240" y="5606640"/>
                <a:ext cx="936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439640" y="5550840"/>
                <a:ext cx="155880" cy="4176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518840" y="5550840"/>
                <a:ext cx="74880" cy="1944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585440" y="5570280"/>
                <a:ext cx="10440" cy="2232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49720" y="5560560"/>
                <a:ext cx="135720" cy="3204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439640" y="5570280"/>
                <a:ext cx="10440" cy="2232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441800" y="5550840"/>
                <a:ext cx="76680" cy="1944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496520" y="557964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09480" y="55796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23160" y="5579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95800" y="55890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496520" y="55897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509480" y="5589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3160" y="5589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524240" y="559116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495800" y="5599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509480" y="5599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10560" y="560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10560" y="55994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23160" y="559908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23880" y="559944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496880" y="561024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09480" y="5608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10560" y="5609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22080" y="5608440"/>
                <a:ext cx="39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36480" y="560808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37200" y="5608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36120" y="558828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35400" y="5598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537200" y="5556600"/>
              <a:ext cx="245880" cy="76680"/>
              <a:chOff x="1537200" y="5556600"/>
              <a:chExt cx="245880" cy="76680"/>
            </a:xfrm>
          </p:grpSpPr>
          <p:sp>
            <p:nvSpPr>
              <p:cNvPr id="764" name=""/>
              <p:cNvSpPr/>
              <p:nvPr/>
            </p:nvSpPr>
            <p:spPr>
              <a:xfrm>
                <a:off x="1537200" y="5558400"/>
                <a:ext cx="245880" cy="7488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553040" y="5623200"/>
                <a:ext cx="33480" cy="936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659240" y="5619600"/>
                <a:ext cx="39240" cy="864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613520" y="5614200"/>
                <a:ext cx="42480" cy="1008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644480" y="55872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2800" y="5574600"/>
                <a:ext cx="27720" cy="540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15040" y="5556600"/>
                <a:ext cx="45000" cy="720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58600" y="5570280"/>
                <a:ext cx="24480" cy="612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685160" y="5598720"/>
                <a:ext cx="21960" cy="684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1711440" y="5456520"/>
              <a:ext cx="81720" cy="15084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1466280" y="5633280"/>
              <a:ext cx="156240" cy="76680"/>
              <a:chOff x="1466280" y="5633280"/>
              <a:chExt cx="156240" cy="76680"/>
            </a:xfrm>
          </p:grpSpPr>
          <p:sp>
            <p:nvSpPr>
              <p:cNvPr id="775" name=""/>
              <p:cNvSpPr/>
              <p:nvPr/>
            </p:nvSpPr>
            <p:spPr>
              <a:xfrm>
                <a:off x="1478520" y="5646600"/>
                <a:ext cx="132480" cy="6336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519560" y="566028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32880" y="566028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546560" y="566028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9880" y="566028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519560" y="566964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32880" y="566964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546560" y="566964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59880" y="566964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519560" y="567936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532880" y="567936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546560" y="5679360"/>
                <a:ext cx="972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559880" y="5679360"/>
                <a:ext cx="9360" cy="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19560" y="5689080"/>
                <a:ext cx="936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532880" y="5689080"/>
                <a:ext cx="972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546560" y="5689080"/>
                <a:ext cx="972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59880" y="5689080"/>
                <a:ext cx="9360" cy="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6280" y="5633280"/>
                <a:ext cx="155880" cy="4176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45480" y="5633280"/>
                <a:ext cx="74880" cy="1944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612080" y="5652720"/>
                <a:ext cx="10440" cy="2232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76360" y="5643000"/>
                <a:ext cx="135720" cy="3204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466280" y="5652720"/>
                <a:ext cx="10440" cy="2232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468440" y="5633280"/>
                <a:ext cx="76680" cy="1944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3160" y="566208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36120" y="566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49800" y="5662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22440" y="5671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523160" y="5672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36120" y="56714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549800" y="56714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550880" y="56736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522440" y="56815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536120" y="56815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37200" y="5684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537200" y="56818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49800" y="568152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50520" y="568188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523520" y="569268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36120" y="5691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37200" y="5691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548720" y="5690880"/>
                <a:ext cx="39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63120" y="569052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563840" y="569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62760" y="567072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62040" y="5681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1546200" y="5631480"/>
              <a:ext cx="174600" cy="61560"/>
              <a:chOff x="1546200" y="5631480"/>
              <a:chExt cx="174600" cy="61560"/>
            </a:xfrm>
          </p:grpSpPr>
          <p:sp>
            <p:nvSpPr>
              <p:cNvPr id="821" name=""/>
              <p:cNvSpPr/>
              <p:nvPr/>
            </p:nvSpPr>
            <p:spPr>
              <a:xfrm>
                <a:off x="1546200" y="5632920"/>
                <a:ext cx="174600" cy="6012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557360" y="5684760"/>
                <a:ext cx="23760" cy="756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632960" y="5682240"/>
                <a:ext cx="27720" cy="684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600560" y="567756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22520" y="56559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63920" y="5645880"/>
                <a:ext cx="19440" cy="432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672560" y="5631480"/>
                <a:ext cx="31680" cy="576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703520" y="564264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651320" y="5665320"/>
                <a:ext cx="15480" cy="540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0" name=""/>
          <p:cNvGrpSpPr/>
          <p:nvPr/>
        </p:nvGrpSpPr>
        <p:grpSpPr>
          <a:xfrm>
            <a:off x="7941960" y="5019840"/>
            <a:ext cx="695160" cy="732960"/>
            <a:chOff x="7941960" y="5019840"/>
            <a:chExt cx="695160" cy="732960"/>
          </a:xfrm>
        </p:grpSpPr>
        <p:sp>
          <p:nvSpPr>
            <p:cNvPr id="831" name=""/>
            <p:cNvSpPr/>
            <p:nvPr/>
          </p:nvSpPr>
          <p:spPr>
            <a:xfrm flipH="1">
              <a:off x="7970760" y="5174280"/>
              <a:ext cx="169200" cy="559800"/>
            </a:xfrm>
            <a:custGeom>
              <a:avLst/>
              <a:gdLst/>
              <a:ahLst/>
              <a:rect l="l" t="t" r="r" b="b"/>
              <a:pathLst>
                <a:path w="1044" h="3686">
                  <a:moveTo>
                    <a:pt x="1044" y="615"/>
                  </a:moveTo>
                  <a:lnTo>
                    <a:pt x="541" y="0"/>
                  </a:lnTo>
                  <a:lnTo>
                    <a:pt x="62" y="1222"/>
                  </a:lnTo>
                  <a:lnTo>
                    <a:pt x="0" y="3686"/>
                  </a:lnTo>
                  <a:lnTo>
                    <a:pt x="1038" y="2656"/>
                  </a:lnTo>
                  <a:lnTo>
                    <a:pt x="1044" y="755"/>
                  </a:lnTo>
                  <a:lnTo>
                    <a:pt x="1044" y="615"/>
                  </a:lnTo>
                  <a:lnTo>
                    <a:pt x="1044" y="615"/>
                  </a:lnTo>
                  <a:lnTo>
                    <a:pt x="1044" y="61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976880" y="5187600"/>
              <a:ext cx="153720" cy="493200"/>
            </a:xfrm>
            <a:custGeom>
              <a:avLst/>
              <a:gdLst/>
              <a:ahLst/>
              <a:rect l="l" t="t" r="r" b="b"/>
              <a:pathLst>
                <a:path w="948" h="3251">
                  <a:moveTo>
                    <a:pt x="944" y="549"/>
                  </a:moveTo>
                  <a:lnTo>
                    <a:pt x="500" y="0"/>
                  </a:lnTo>
                  <a:lnTo>
                    <a:pt x="388" y="180"/>
                  </a:lnTo>
                  <a:lnTo>
                    <a:pt x="566" y="83"/>
                  </a:lnTo>
                  <a:lnTo>
                    <a:pt x="258" y="516"/>
                  </a:lnTo>
                  <a:lnTo>
                    <a:pt x="684" y="225"/>
                  </a:lnTo>
                  <a:lnTo>
                    <a:pt x="151" y="797"/>
                  </a:lnTo>
                  <a:lnTo>
                    <a:pt x="824" y="395"/>
                  </a:lnTo>
                  <a:lnTo>
                    <a:pt x="33" y="1133"/>
                  </a:lnTo>
                  <a:lnTo>
                    <a:pt x="942" y="553"/>
                  </a:lnTo>
                  <a:lnTo>
                    <a:pt x="48" y="1402"/>
                  </a:lnTo>
                  <a:lnTo>
                    <a:pt x="940" y="797"/>
                  </a:lnTo>
                  <a:lnTo>
                    <a:pt x="38" y="1709"/>
                  </a:lnTo>
                  <a:lnTo>
                    <a:pt x="942" y="1051"/>
                  </a:lnTo>
                  <a:lnTo>
                    <a:pt x="33" y="2019"/>
                  </a:lnTo>
                  <a:lnTo>
                    <a:pt x="948" y="1338"/>
                  </a:lnTo>
                  <a:lnTo>
                    <a:pt x="23" y="2327"/>
                  </a:lnTo>
                  <a:lnTo>
                    <a:pt x="942" y="1643"/>
                  </a:lnTo>
                  <a:lnTo>
                    <a:pt x="15" y="2634"/>
                  </a:lnTo>
                  <a:lnTo>
                    <a:pt x="940" y="1959"/>
                  </a:lnTo>
                  <a:lnTo>
                    <a:pt x="7" y="2944"/>
                  </a:lnTo>
                  <a:lnTo>
                    <a:pt x="934" y="2260"/>
                  </a:lnTo>
                  <a:lnTo>
                    <a:pt x="0" y="3251"/>
                  </a:lnTo>
                  <a:lnTo>
                    <a:pt x="929" y="2521"/>
                  </a:lnTo>
                  <a:lnTo>
                    <a:pt x="944" y="549"/>
                  </a:lnTo>
                  <a:lnTo>
                    <a:pt x="944" y="549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941600" y="5153400"/>
              <a:ext cx="695160" cy="242280"/>
            </a:xfrm>
            <a:custGeom>
              <a:avLst/>
              <a:gdLst/>
              <a:ahLst/>
              <a:rect l="l" t="t" r="r" b="b"/>
              <a:pathLst>
                <a:path w="4274" h="1594">
                  <a:moveTo>
                    <a:pt x="11" y="993"/>
                  </a:moveTo>
                  <a:lnTo>
                    <a:pt x="147" y="1020"/>
                  </a:lnTo>
                  <a:lnTo>
                    <a:pt x="227" y="1035"/>
                  </a:lnTo>
                  <a:lnTo>
                    <a:pt x="3021" y="1594"/>
                  </a:lnTo>
                  <a:lnTo>
                    <a:pt x="3041" y="1549"/>
                  </a:lnTo>
                  <a:lnTo>
                    <a:pt x="3056" y="1507"/>
                  </a:lnTo>
                  <a:lnTo>
                    <a:pt x="3326" y="822"/>
                  </a:lnTo>
                  <a:lnTo>
                    <a:pt x="3597" y="135"/>
                  </a:lnTo>
                  <a:lnTo>
                    <a:pt x="4098" y="750"/>
                  </a:lnTo>
                  <a:lnTo>
                    <a:pt x="4098" y="892"/>
                  </a:lnTo>
                  <a:lnTo>
                    <a:pt x="4171" y="892"/>
                  </a:lnTo>
                  <a:lnTo>
                    <a:pt x="4224" y="892"/>
                  </a:lnTo>
                  <a:lnTo>
                    <a:pt x="4274" y="832"/>
                  </a:lnTo>
                  <a:lnTo>
                    <a:pt x="3586" y="0"/>
                  </a:lnTo>
                  <a:lnTo>
                    <a:pt x="2979" y="1484"/>
                  </a:lnTo>
                  <a:lnTo>
                    <a:pt x="0" y="905"/>
                  </a:lnTo>
                  <a:lnTo>
                    <a:pt x="11" y="995"/>
                  </a:lnTo>
                  <a:lnTo>
                    <a:pt x="11" y="995"/>
                  </a:lnTo>
                  <a:lnTo>
                    <a:pt x="11" y="9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058600" y="5105880"/>
              <a:ext cx="575640" cy="264240"/>
            </a:xfrm>
            <a:custGeom>
              <a:avLst/>
              <a:gdLst/>
              <a:ahLst/>
              <a:rect l="l" t="t" r="r" b="b"/>
              <a:pathLst>
                <a:path w="3542" h="1740">
                  <a:moveTo>
                    <a:pt x="0" y="1178"/>
                  </a:moveTo>
                  <a:lnTo>
                    <a:pt x="2942" y="1740"/>
                  </a:lnTo>
                  <a:lnTo>
                    <a:pt x="3542" y="301"/>
                  </a:lnTo>
                  <a:lnTo>
                    <a:pt x="1028" y="0"/>
                  </a:lnTo>
                  <a:lnTo>
                    <a:pt x="0" y="1180"/>
                  </a:lnTo>
                  <a:lnTo>
                    <a:pt x="0" y="1180"/>
                  </a:lnTo>
                  <a:lnTo>
                    <a:pt x="0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140320" y="5311800"/>
              <a:ext cx="459360" cy="425160"/>
            </a:xfrm>
            <a:custGeom>
              <a:avLst/>
              <a:gdLst/>
              <a:ahLst/>
              <a:rect l="l" t="t" r="r" b="b"/>
              <a:pathLst>
                <a:path w="2827" h="2795">
                  <a:moveTo>
                    <a:pt x="0" y="0"/>
                  </a:moveTo>
                  <a:lnTo>
                    <a:pt x="54" y="2150"/>
                  </a:lnTo>
                  <a:lnTo>
                    <a:pt x="2761" y="2795"/>
                  </a:lnTo>
                  <a:lnTo>
                    <a:pt x="2827" y="468"/>
                  </a:lnTo>
                  <a:lnTo>
                    <a:pt x="2792" y="5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8423640" y="5059800"/>
              <a:ext cx="82800" cy="7740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512"/>
                  </a:moveTo>
                  <a:lnTo>
                    <a:pt x="223" y="260"/>
                  </a:lnTo>
                  <a:lnTo>
                    <a:pt x="506" y="295"/>
                  </a:lnTo>
                  <a:lnTo>
                    <a:pt x="504" y="0"/>
                  </a:lnTo>
                  <a:lnTo>
                    <a:pt x="0" y="99"/>
                  </a:lnTo>
                  <a:lnTo>
                    <a:pt x="0" y="512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8512200" y="5072760"/>
              <a:ext cx="39600" cy="114480"/>
            </a:xfrm>
            <a:custGeom>
              <a:avLst/>
              <a:gdLst/>
              <a:ahLst/>
              <a:rect l="l" t="t" r="r" b="b"/>
              <a:pathLst>
                <a:path w="241" h="755">
                  <a:moveTo>
                    <a:pt x="241" y="16"/>
                  </a:moveTo>
                  <a:lnTo>
                    <a:pt x="241" y="483"/>
                  </a:lnTo>
                  <a:lnTo>
                    <a:pt x="0" y="755"/>
                  </a:lnTo>
                  <a:lnTo>
                    <a:pt x="0" y="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8416080" y="5019840"/>
              <a:ext cx="147240" cy="47160"/>
            </a:xfrm>
            <a:custGeom>
              <a:avLst/>
              <a:gdLst/>
              <a:ahLst/>
              <a:rect l="l" t="t" r="r" b="b"/>
              <a:pathLst>
                <a:path w="904" h="314">
                  <a:moveTo>
                    <a:pt x="0" y="291"/>
                  </a:moveTo>
                  <a:lnTo>
                    <a:pt x="341" y="314"/>
                  </a:lnTo>
                  <a:lnTo>
                    <a:pt x="904" y="208"/>
                  </a:lnTo>
                  <a:lnTo>
                    <a:pt x="904" y="25"/>
                  </a:lnTo>
                  <a:lnTo>
                    <a:pt x="651" y="0"/>
                  </a:lnTo>
                  <a:lnTo>
                    <a:pt x="2" y="95"/>
                  </a:lnTo>
                  <a:lnTo>
                    <a:pt x="2" y="291"/>
                  </a:lnTo>
                  <a:lnTo>
                    <a:pt x="2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3a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958160" y="5288760"/>
              <a:ext cx="654120" cy="464040"/>
            </a:xfrm>
            <a:custGeom>
              <a:avLst/>
              <a:gdLst/>
              <a:ahLst/>
              <a:rect l="l" t="t" r="r" b="b"/>
              <a:pathLst>
                <a:path w="4024" h="3053">
                  <a:moveTo>
                    <a:pt x="80" y="145"/>
                  </a:moveTo>
                  <a:lnTo>
                    <a:pt x="136" y="2299"/>
                  </a:lnTo>
                  <a:lnTo>
                    <a:pt x="2841" y="2944"/>
                  </a:lnTo>
                  <a:lnTo>
                    <a:pt x="2909" y="617"/>
                  </a:lnTo>
                  <a:lnTo>
                    <a:pt x="2969" y="467"/>
                  </a:lnTo>
                  <a:lnTo>
                    <a:pt x="2907" y="2931"/>
                  </a:lnTo>
                  <a:lnTo>
                    <a:pt x="3945" y="1901"/>
                  </a:lnTo>
                  <a:lnTo>
                    <a:pt x="3951" y="0"/>
                  </a:lnTo>
                  <a:lnTo>
                    <a:pt x="4024" y="2"/>
                  </a:lnTo>
                  <a:lnTo>
                    <a:pt x="4024" y="1932"/>
                  </a:lnTo>
                  <a:lnTo>
                    <a:pt x="2892" y="3053"/>
                  </a:lnTo>
                  <a:lnTo>
                    <a:pt x="47" y="2343"/>
                  </a:lnTo>
                  <a:lnTo>
                    <a:pt x="0" y="130"/>
                  </a:lnTo>
                  <a:lnTo>
                    <a:pt x="80" y="145"/>
                  </a:lnTo>
                  <a:lnTo>
                    <a:pt x="80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489160" y="5387400"/>
              <a:ext cx="52200" cy="201600"/>
            </a:xfrm>
            <a:custGeom>
              <a:avLst/>
              <a:gdLst/>
              <a:ahLst/>
              <a:rect l="l" t="t" r="r" b="b"/>
              <a:pathLst>
                <a:path w="321" h="1327">
                  <a:moveTo>
                    <a:pt x="162" y="0"/>
                  </a:moveTo>
                  <a:lnTo>
                    <a:pt x="122" y="6"/>
                  </a:lnTo>
                  <a:lnTo>
                    <a:pt x="87" y="35"/>
                  </a:lnTo>
                  <a:lnTo>
                    <a:pt x="58" y="89"/>
                  </a:lnTo>
                  <a:lnTo>
                    <a:pt x="34" y="171"/>
                  </a:lnTo>
                  <a:lnTo>
                    <a:pt x="9" y="365"/>
                  </a:lnTo>
                  <a:lnTo>
                    <a:pt x="0" y="634"/>
                  </a:lnTo>
                  <a:lnTo>
                    <a:pt x="3" y="805"/>
                  </a:lnTo>
                  <a:lnTo>
                    <a:pt x="13" y="952"/>
                  </a:lnTo>
                  <a:lnTo>
                    <a:pt x="29" y="1075"/>
                  </a:lnTo>
                  <a:lnTo>
                    <a:pt x="56" y="1181"/>
                  </a:lnTo>
                  <a:lnTo>
                    <a:pt x="77" y="1237"/>
                  </a:lnTo>
                  <a:lnTo>
                    <a:pt x="100" y="1282"/>
                  </a:lnTo>
                  <a:lnTo>
                    <a:pt x="129" y="1311"/>
                  </a:lnTo>
                  <a:lnTo>
                    <a:pt x="162" y="1325"/>
                  </a:lnTo>
                  <a:lnTo>
                    <a:pt x="184" y="1327"/>
                  </a:lnTo>
                  <a:lnTo>
                    <a:pt x="205" y="1323"/>
                  </a:lnTo>
                  <a:lnTo>
                    <a:pt x="223" y="1311"/>
                  </a:lnTo>
                  <a:lnTo>
                    <a:pt x="238" y="1292"/>
                  </a:lnTo>
                  <a:lnTo>
                    <a:pt x="256" y="1259"/>
                  </a:lnTo>
                  <a:lnTo>
                    <a:pt x="273" y="1214"/>
                  </a:lnTo>
                  <a:lnTo>
                    <a:pt x="287" y="1160"/>
                  </a:lnTo>
                  <a:lnTo>
                    <a:pt x="300" y="1092"/>
                  </a:lnTo>
                  <a:lnTo>
                    <a:pt x="316" y="923"/>
                  </a:lnTo>
                  <a:lnTo>
                    <a:pt x="321" y="714"/>
                  </a:lnTo>
                  <a:lnTo>
                    <a:pt x="316" y="462"/>
                  </a:lnTo>
                  <a:lnTo>
                    <a:pt x="300" y="283"/>
                  </a:lnTo>
                  <a:lnTo>
                    <a:pt x="288" y="215"/>
                  </a:lnTo>
                  <a:lnTo>
                    <a:pt x="275" y="159"/>
                  </a:lnTo>
                  <a:lnTo>
                    <a:pt x="261" y="110"/>
                  </a:lnTo>
                  <a:lnTo>
                    <a:pt x="244" y="74"/>
                  </a:lnTo>
                  <a:lnTo>
                    <a:pt x="224" y="44"/>
                  </a:lnTo>
                  <a:lnTo>
                    <a:pt x="205" y="23"/>
                  </a:lnTo>
                  <a:lnTo>
                    <a:pt x="184" y="8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398800" y="5410080"/>
              <a:ext cx="24120" cy="97200"/>
            </a:xfrm>
            <a:custGeom>
              <a:avLst/>
              <a:gdLst/>
              <a:ahLst/>
              <a:rect l="l" t="t" r="r" b="b"/>
              <a:pathLst>
                <a:path w="149" h="640">
                  <a:moveTo>
                    <a:pt x="0" y="0"/>
                  </a:moveTo>
                  <a:lnTo>
                    <a:pt x="0" y="159"/>
                  </a:lnTo>
                  <a:lnTo>
                    <a:pt x="0" y="316"/>
                  </a:lnTo>
                  <a:lnTo>
                    <a:pt x="0" y="475"/>
                  </a:lnTo>
                  <a:lnTo>
                    <a:pt x="0" y="633"/>
                  </a:lnTo>
                  <a:lnTo>
                    <a:pt x="13" y="638"/>
                  </a:lnTo>
                  <a:lnTo>
                    <a:pt x="25" y="640"/>
                  </a:lnTo>
                  <a:lnTo>
                    <a:pt x="54" y="640"/>
                  </a:lnTo>
                  <a:lnTo>
                    <a:pt x="79" y="629"/>
                  </a:lnTo>
                  <a:lnTo>
                    <a:pt x="101" y="609"/>
                  </a:lnTo>
                  <a:lnTo>
                    <a:pt x="116" y="580"/>
                  </a:lnTo>
                  <a:lnTo>
                    <a:pt x="141" y="489"/>
                  </a:lnTo>
                  <a:lnTo>
                    <a:pt x="149" y="347"/>
                  </a:lnTo>
                  <a:lnTo>
                    <a:pt x="141" y="202"/>
                  </a:lnTo>
                  <a:lnTo>
                    <a:pt x="116" y="103"/>
                  </a:lnTo>
                  <a:lnTo>
                    <a:pt x="97" y="66"/>
                  </a:lnTo>
                  <a:lnTo>
                    <a:pt x="75" y="37"/>
                  </a:lnTo>
                  <a:lnTo>
                    <a:pt x="50" y="18"/>
                  </a:lnTo>
                  <a:lnTo>
                    <a:pt x="21" y="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3"/>
            <a:stretch/>
          </p:blipFill>
          <p:spPr>
            <a:xfrm>
              <a:off x="8262000" y="5390280"/>
              <a:ext cx="159120" cy="12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3" name=""/>
            <p:cNvGrpSpPr/>
            <p:nvPr/>
          </p:nvGrpSpPr>
          <p:grpSpPr>
            <a:xfrm>
              <a:off x="8216640" y="5612040"/>
              <a:ext cx="152640" cy="69840"/>
              <a:chOff x="8216640" y="5612040"/>
              <a:chExt cx="152640" cy="69840"/>
            </a:xfrm>
          </p:grpSpPr>
          <p:sp>
            <p:nvSpPr>
              <p:cNvPr id="844" name=""/>
              <p:cNvSpPr/>
              <p:nvPr/>
            </p:nvSpPr>
            <p:spPr>
              <a:xfrm>
                <a:off x="8228520" y="5624280"/>
                <a:ext cx="129600" cy="5760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268840" y="563652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81440" y="563652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295120" y="563652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08080" y="563652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268840" y="5645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281440" y="5645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295120" y="5645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308080" y="564516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68840" y="5654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281440" y="5654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95120" y="565416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08080" y="565416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268840" y="566280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81440" y="566280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295120" y="566280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308080" y="5662800"/>
                <a:ext cx="900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216640" y="5612040"/>
                <a:ext cx="152280" cy="3816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294040" y="561204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359200" y="562968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226720" y="5620680"/>
                <a:ext cx="132840" cy="2916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16640" y="562968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8800" y="5612040"/>
                <a:ext cx="74880" cy="1764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72080" y="56383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285040" y="5638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298360" y="5638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271720" y="56466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272440" y="5647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285040" y="56469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298360" y="5646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299080" y="564876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271720" y="56559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285040" y="565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285760" y="5658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86120" y="56563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298360" y="565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299080" y="56563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272800" y="5666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285040" y="566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285760" y="56653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297280" y="5664600"/>
                <a:ext cx="39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10960" y="56642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312040" y="56649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310960" y="56462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310240" y="5655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8130240" y="5570280"/>
              <a:ext cx="208080" cy="96120"/>
              <a:chOff x="8130240" y="5570280"/>
              <a:chExt cx="208080" cy="96120"/>
            </a:xfrm>
          </p:grpSpPr>
          <p:sp>
            <p:nvSpPr>
              <p:cNvPr id="890" name=""/>
              <p:cNvSpPr/>
              <p:nvPr/>
            </p:nvSpPr>
            <p:spPr>
              <a:xfrm flipH="1">
                <a:off x="8130240" y="5572440"/>
                <a:ext cx="208080" cy="9396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8296200" y="5653800"/>
                <a:ext cx="28440" cy="1188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8201880" y="564948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8237520" y="5642280"/>
                <a:ext cx="36000" cy="1260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8233920" y="5608800"/>
                <a:ext cx="13320" cy="828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8174520" y="5592960"/>
                <a:ext cx="23400" cy="684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8149680" y="5570280"/>
                <a:ext cx="37800" cy="900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8130240" y="558756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8194320" y="5623200"/>
                <a:ext cx="18720" cy="864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8358480" y="5566320"/>
              <a:ext cx="152640" cy="69840"/>
              <a:chOff x="8358480" y="5566320"/>
              <a:chExt cx="152640" cy="69840"/>
            </a:xfrm>
          </p:grpSpPr>
          <p:sp>
            <p:nvSpPr>
              <p:cNvPr id="900" name=""/>
              <p:cNvSpPr/>
              <p:nvPr/>
            </p:nvSpPr>
            <p:spPr>
              <a:xfrm>
                <a:off x="8370360" y="5578560"/>
                <a:ext cx="129600" cy="5760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410680" y="559080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423280" y="559080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436960" y="559080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449920" y="559080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410680" y="5599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423280" y="5599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436960" y="5599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449920" y="559944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410680" y="5608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423280" y="5608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436960" y="5608440"/>
                <a:ext cx="93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49920" y="5608440"/>
                <a:ext cx="9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410680" y="561708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423280" y="561708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436960" y="5617080"/>
                <a:ext cx="9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449920" y="5617080"/>
                <a:ext cx="900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358480" y="5566320"/>
                <a:ext cx="152280" cy="3816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435880" y="55663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501040" y="558396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368560" y="5574960"/>
                <a:ext cx="132840" cy="2916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358480" y="558396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360640" y="5566320"/>
                <a:ext cx="74880" cy="1764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413920" y="559260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426880" y="5592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440200" y="55926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413560" y="56008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414280" y="56019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426880" y="56012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440200" y="56008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440920" y="560304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413560" y="56102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426880" y="5610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427600" y="561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427960" y="56106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8440200" y="5610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440920" y="56106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414640" y="5620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426880" y="56188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427600" y="56196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439120" y="5618880"/>
                <a:ext cx="39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452800" y="561852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53880" y="5619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452800" y="56005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452080" y="5609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8192160" y="5547600"/>
              <a:ext cx="323280" cy="88920"/>
              <a:chOff x="8192160" y="5547600"/>
              <a:chExt cx="323280" cy="88920"/>
            </a:xfrm>
          </p:grpSpPr>
          <p:sp>
            <p:nvSpPr>
              <p:cNvPr id="946" name=""/>
              <p:cNvSpPr/>
              <p:nvPr/>
            </p:nvSpPr>
            <p:spPr>
              <a:xfrm flipH="1">
                <a:off x="8192160" y="5549760"/>
                <a:ext cx="323280" cy="8676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8449920" y="5624640"/>
                <a:ext cx="44280" cy="1080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8303040" y="5620680"/>
                <a:ext cx="51480" cy="1008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8358840" y="5614200"/>
                <a:ext cx="55800" cy="1152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8353440" y="5583240"/>
                <a:ext cx="20880" cy="756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8260920" y="5568480"/>
                <a:ext cx="36360" cy="612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8222760" y="5547600"/>
                <a:ext cx="59040" cy="828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8192160" y="5563800"/>
                <a:ext cx="32040" cy="720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8291520" y="5596560"/>
                <a:ext cx="29160" cy="828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5" name=""/>
          <p:cNvSpPr/>
          <p:nvPr/>
        </p:nvSpPr>
        <p:spPr>
          <a:xfrm>
            <a:off x="1816200" y="5468760"/>
            <a:ext cx="6216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5821200" y="5240160"/>
            <a:ext cx="563760" cy="33372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3768840" y="5040360"/>
            <a:ext cx="1306440" cy="550800"/>
          </a:xfrm>
          <a:custGeom>
            <a:avLst/>
            <a:gdLst/>
            <a:ahLst/>
            <a:rect l="l" t="t" r="r" b="b"/>
            <a:pathLst>
              <a:path w="1883" h="1149">
                <a:moveTo>
                  <a:pt x="1283" y="936"/>
                </a:moveTo>
                <a:lnTo>
                  <a:pt x="1294" y="948"/>
                </a:lnTo>
                <a:lnTo>
                  <a:pt x="1306" y="961"/>
                </a:lnTo>
                <a:lnTo>
                  <a:pt x="1318" y="972"/>
                </a:lnTo>
                <a:lnTo>
                  <a:pt x="1333" y="983"/>
                </a:lnTo>
                <a:lnTo>
                  <a:pt x="1348" y="994"/>
                </a:lnTo>
                <a:lnTo>
                  <a:pt x="1363" y="1004"/>
                </a:lnTo>
                <a:lnTo>
                  <a:pt x="1380" y="1013"/>
                </a:lnTo>
                <a:lnTo>
                  <a:pt x="1397" y="1021"/>
                </a:lnTo>
                <a:lnTo>
                  <a:pt x="1416" y="1028"/>
                </a:lnTo>
                <a:lnTo>
                  <a:pt x="1434" y="1034"/>
                </a:lnTo>
                <a:lnTo>
                  <a:pt x="1454" y="1040"/>
                </a:lnTo>
                <a:lnTo>
                  <a:pt x="1475" y="1045"/>
                </a:lnTo>
                <a:lnTo>
                  <a:pt x="1495" y="1048"/>
                </a:lnTo>
                <a:lnTo>
                  <a:pt x="1517" y="1051"/>
                </a:lnTo>
                <a:lnTo>
                  <a:pt x="1539" y="1053"/>
                </a:lnTo>
                <a:lnTo>
                  <a:pt x="1561" y="1053"/>
                </a:lnTo>
                <a:lnTo>
                  <a:pt x="1593" y="1052"/>
                </a:lnTo>
                <a:lnTo>
                  <a:pt x="1625" y="1049"/>
                </a:lnTo>
                <a:lnTo>
                  <a:pt x="1656" y="1043"/>
                </a:lnTo>
                <a:lnTo>
                  <a:pt x="1686" y="1034"/>
                </a:lnTo>
                <a:lnTo>
                  <a:pt x="1714" y="1025"/>
                </a:lnTo>
                <a:lnTo>
                  <a:pt x="1740" y="1013"/>
                </a:lnTo>
                <a:lnTo>
                  <a:pt x="1765" y="999"/>
                </a:lnTo>
                <a:lnTo>
                  <a:pt x="1788" y="985"/>
                </a:lnTo>
                <a:lnTo>
                  <a:pt x="1809" y="968"/>
                </a:lnTo>
                <a:lnTo>
                  <a:pt x="1827" y="951"/>
                </a:lnTo>
                <a:lnTo>
                  <a:pt x="1843" y="931"/>
                </a:lnTo>
                <a:lnTo>
                  <a:pt x="1857" y="911"/>
                </a:lnTo>
                <a:lnTo>
                  <a:pt x="1868" y="889"/>
                </a:lnTo>
                <a:lnTo>
                  <a:pt x="1875" y="867"/>
                </a:lnTo>
                <a:lnTo>
                  <a:pt x="1881" y="844"/>
                </a:lnTo>
                <a:lnTo>
                  <a:pt x="1882" y="820"/>
                </a:lnTo>
                <a:lnTo>
                  <a:pt x="1881" y="797"/>
                </a:lnTo>
                <a:lnTo>
                  <a:pt x="1875" y="773"/>
                </a:lnTo>
                <a:lnTo>
                  <a:pt x="1867" y="750"/>
                </a:lnTo>
                <a:lnTo>
                  <a:pt x="1857" y="729"/>
                </a:lnTo>
                <a:lnTo>
                  <a:pt x="1842" y="709"/>
                </a:lnTo>
                <a:lnTo>
                  <a:pt x="1826" y="689"/>
                </a:lnTo>
                <a:lnTo>
                  <a:pt x="1807" y="671"/>
                </a:lnTo>
                <a:lnTo>
                  <a:pt x="1786" y="654"/>
                </a:lnTo>
                <a:lnTo>
                  <a:pt x="1791" y="639"/>
                </a:lnTo>
                <a:lnTo>
                  <a:pt x="1795" y="623"/>
                </a:lnTo>
                <a:lnTo>
                  <a:pt x="1798" y="606"/>
                </a:lnTo>
                <a:lnTo>
                  <a:pt x="1798" y="588"/>
                </a:lnTo>
                <a:lnTo>
                  <a:pt x="1798" y="569"/>
                </a:lnTo>
                <a:lnTo>
                  <a:pt x="1794" y="550"/>
                </a:lnTo>
                <a:lnTo>
                  <a:pt x="1789" y="531"/>
                </a:lnTo>
                <a:lnTo>
                  <a:pt x="1783" y="514"/>
                </a:lnTo>
                <a:lnTo>
                  <a:pt x="1775" y="497"/>
                </a:lnTo>
                <a:lnTo>
                  <a:pt x="1765" y="481"/>
                </a:lnTo>
                <a:lnTo>
                  <a:pt x="1754" y="466"/>
                </a:lnTo>
                <a:lnTo>
                  <a:pt x="1742" y="453"/>
                </a:lnTo>
                <a:lnTo>
                  <a:pt x="1729" y="441"/>
                </a:lnTo>
                <a:lnTo>
                  <a:pt x="1714" y="430"/>
                </a:lnTo>
                <a:lnTo>
                  <a:pt x="1698" y="420"/>
                </a:lnTo>
                <a:lnTo>
                  <a:pt x="1681" y="412"/>
                </a:lnTo>
                <a:lnTo>
                  <a:pt x="1665" y="406"/>
                </a:lnTo>
                <a:lnTo>
                  <a:pt x="1646" y="401"/>
                </a:lnTo>
                <a:lnTo>
                  <a:pt x="1627" y="398"/>
                </a:lnTo>
                <a:lnTo>
                  <a:pt x="1608" y="397"/>
                </a:lnTo>
                <a:lnTo>
                  <a:pt x="1596" y="398"/>
                </a:lnTo>
                <a:lnTo>
                  <a:pt x="1585" y="399"/>
                </a:lnTo>
                <a:lnTo>
                  <a:pt x="1573" y="400"/>
                </a:lnTo>
                <a:lnTo>
                  <a:pt x="1562" y="403"/>
                </a:lnTo>
                <a:lnTo>
                  <a:pt x="1551" y="406"/>
                </a:lnTo>
                <a:lnTo>
                  <a:pt x="1540" y="410"/>
                </a:lnTo>
                <a:lnTo>
                  <a:pt x="1530" y="415"/>
                </a:lnTo>
                <a:lnTo>
                  <a:pt x="1520" y="419"/>
                </a:lnTo>
                <a:lnTo>
                  <a:pt x="1512" y="398"/>
                </a:lnTo>
                <a:lnTo>
                  <a:pt x="1502" y="378"/>
                </a:lnTo>
                <a:lnTo>
                  <a:pt x="1492" y="358"/>
                </a:lnTo>
                <a:lnTo>
                  <a:pt x="1480" y="340"/>
                </a:lnTo>
                <a:lnTo>
                  <a:pt x="1466" y="322"/>
                </a:lnTo>
                <a:lnTo>
                  <a:pt x="1452" y="305"/>
                </a:lnTo>
                <a:lnTo>
                  <a:pt x="1437" y="289"/>
                </a:lnTo>
                <a:lnTo>
                  <a:pt x="1421" y="275"/>
                </a:lnTo>
                <a:lnTo>
                  <a:pt x="1404" y="260"/>
                </a:lnTo>
                <a:lnTo>
                  <a:pt x="1386" y="248"/>
                </a:lnTo>
                <a:lnTo>
                  <a:pt x="1367" y="236"/>
                </a:lnTo>
                <a:lnTo>
                  <a:pt x="1348" y="226"/>
                </a:lnTo>
                <a:lnTo>
                  <a:pt x="1327" y="217"/>
                </a:lnTo>
                <a:lnTo>
                  <a:pt x="1306" y="209"/>
                </a:lnTo>
                <a:lnTo>
                  <a:pt x="1285" y="203"/>
                </a:lnTo>
                <a:lnTo>
                  <a:pt x="1262" y="198"/>
                </a:lnTo>
                <a:lnTo>
                  <a:pt x="1251" y="176"/>
                </a:lnTo>
                <a:lnTo>
                  <a:pt x="1239" y="155"/>
                </a:lnTo>
                <a:lnTo>
                  <a:pt x="1226" y="136"/>
                </a:lnTo>
                <a:lnTo>
                  <a:pt x="1211" y="118"/>
                </a:lnTo>
                <a:lnTo>
                  <a:pt x="1195" y="100"/>
                </a:lnTo>
                <a:lnTo>
                  <a:pt x="1177" y="84"/>
                </a:lnTo>
                <a:lnTo>
                  <a:pt x="1159" y="69"/>
                </a:lnTo>
                <a:lnTo>
                  <a:pt x="1139" y="55"/>
                </a:lnTo>
                <a:lnTo>
                  <a:pt x="1119" y="42"/>
                </a:lnTo>
                <a:lnTo>
                  <a:pt x="1097" y="31"/>
                </a:lnTo>
                <a:lnTo>
                  <a:pt x="1075" y="22"/>
                </a:lnTo>
                <a:lnTo>
                  <a:pt x="1052" y="14"/>
                </a:lnTo>
                <a:lnTo>
                  <a:pt x="1028" y="8"/>
                </a:lnTo>
                <a:lnTo>
                  <a:pt x="1004" y="3"/>
                </a:lnTo>
                <a:lnTo>
                  <a:pt x="979" y="1"/>
                </a:lnTo>
                <a:lnTo>
                  <a:pt x="954" y="0"/>
                </a:lnTo>
                <a:lnTo>
                  <a:pt x="926" y="1"/>
                </a:lnTo>
                <a:lnTo>
                  <a:pt x="900" y="5"/>
                </a:lnTo>
                <a:lnTo>
                  <a:pt x="873" y="10"/>
                </a:lnTo>
                <a:lnTo>
                  <a:pt x="847" y="17"/>
                </a:lnTo>
                <a:lnTo>
                  <a:pt x="823" y="26"/>
                </a:lnTo>
                <a:lnTo>
                  <a:pt x="799" y="37"/>
                </a:lnTo>
                <a:lnTo>
                  <a:pt x="777" y="50"/>
                </a:lnTo>
                <a:lnTo>
                  <a:pt x="755" y="64"/>
                </a:lnTo>
                <a:lnTo>
                  <a:pt x="734" y="80"/>
                </a:lnTo>
                <a:lnTo>
                  <a:pt x="716" y="97"/>
                </a:lnTo>
                <a:lnTo>
                  <a:pt x="698" y="116"/>
                </a:lnTo>
                <a:lnTo>
                  <a:pt x="682" y="136"/>
                </a:lnTo>
                <a:lnTo>
                  <a:pt x="667" y="158"/>
                </a:lnTo>
                <a:lnTo>
                  <a:pt x="654" y="180"/>
                </a:lnTo>
                <a:lnTo>
                  <a:pt x="642" y="203"/>
                </a:lnTo>
                <a:lnTo>
                  <a:pt x="632" y="228"/>
                </a:lnTo>
                <a:lnTo>
                  <a:pt x="622" y="222"/>
                </a:lnTo>
                <a:lnTo>
                  <a:pt x="612" y="218"/>
                </a:lnTo>
                <a:lnTo>
                  <a:pt x="601" y="214"/>
                </a:lnTo>
                <a:lnTo>
                  <a:pt x="590" y="211"/>
                </a:lnTo>
                <a:lnTo>
                  <a:pt x="579" y="208"/>
                </a:lnTo>
                <a:lnTo>
                  <a:pt x="568" y="206"/>
                </a:lnTo>
                <a:lnTo>
                  <a:pt x="556" y="206"/>
                </a:lnTo>
                <a:lnTo>
                  <a:pt x="544" y="205"/>
                </a:lnTo>
                <a:lnTo>
                  <a:pt x="525" y="206"/>
                </a:lnTo>
                <a:lnTo>
                  <a:pt x="506" y="209"/>
                </a:lnTo>
                <a:lnTo>
                  <a:pt x="488" y="214"/>
                </a:lnTo>
                <a:lnTo>
                  <a:pt x="471" y="220"/>
                </a:lnTo>
                <a:lnTo>
                  <a:pt x="453" y="228"/>
                </a:lnTo>
                <a:lnTo>
                  <a:pt x="438" y="238"/>
                </a:lnTo>
                <a:lnTo>
                  <a:pt x="423" y="249"/>
                </a:lnTo>
                <a:lnTo>
                  <a:pt x="410" y="261"/>
                </a:lnTo>
                <a:lnTo>
                  <a:pt x="398" y="275"/>
                </a:lnTo>
                <a:lnTo>
                  <a:pt x="387" y="290"/>
                </a:lnTo>
                <a:lnTo>
                  <a:pt x="377" y="305"/>
                </a:lnTo>
                <a:lnTo>
                  <a:pt x="368" y="322"/>
                </a:lnTo>
                <a:lnTo>
                  <a:pt x="363" y="340"/>
                </a:lnTo>
                <a:lnTo>
                  <a:pt x="358" y="358"/>
                </a:lnTo>
                <a:lnTo>
                  <a:pt x="355" y="377"/>
                </a:lnTo>
                <a:lnTo>
                  <a:pt x="354" y="396"/>
                </a:lnTo>
                <a:lnTo>
                  <a:pt x="354" y="403"/>
                </a:lnTo>
                <a:lnTo>
                  <a:pt x="355" y="410"/>
                </a:lnTo>
                <a:lnTo>
                  <a:pt x="355" y="416"/>
                </a:lnTo>
                <a:lnTo>
                  <a:pt x="356" y="423"/>
                </a:lnTo>
                <a:lnTo>
                  <a:pt x="320" y="426"/>
                </a:lnTo>
                <a:lnTo>
                  <a:pt x="284" y="431"/>
                </a:lnTo>
                <a:lnTo>
                  <a:pt x="250" y="440"/>
                </a:lnTo>
                <a:lnTo>
                  <a:pt x="217" y="450"/>
                </a:lnTo>
                <a:lnTo>
                  <a:pt x="186" y="461"/>
                </a:lnTo>
                <a:lnTo>
                  <a:pt x="156" y="475"/>
                </a:lnTo>
                <a:lnTo>
                  <a:pt x="129" y="490"/>
                </a:lnTo>
                <a:lnTo>
                  <a:pt x="103" y="507"/>
                </a:lnTo>
                <a:lnTo>
                  <a:pt x="81" y="527"/>
                </a:lnTo>
                <a:lnTo>
                  <a:pt x="60" y="546"/>
                </a:lnTo>
                <a:lnTo>
                  <a:pt x="42" y="568"/>
                </a:lnTo>
                <a:lnTo>
                  <a:pt x="28" y="590"/>
                </a:lnTo>
                <a:lnTo>
                  <a:pt x="15" y="614"/>
                </a:lnTo>
                <a:lnTo>
                  <a:pt x="8" y="639"/>
                </a:lnTo>
                <a:lnTo>
                  <a:pt x="1" y="664"/>
                </a:lnTo>
                <a:lnTo>
                  <a:pt x="0" y="690"/>
                </a:lnTo>
                <a:lnTo>
                  <a:pt x="2" y="718"/>
                </a:lnTo>
                <a:lnTo>
                  <a:pt x="8" y="744"/>
                </a:lnTo>
                <a:lnTo>
                  <a:pt x="17" y="770"/>
                </a:lnTo>
                <a:lnTo>
                  <a:pt x="31" y="794"/>
                </a:lnTo>
                <a:lnTo>
                  <a:pt x="46" y="818"/>
                </a:lnTo>
                <a:lnTo>
                  <a:pt x="66" y="840"/>
                </a:lnTo>
                <a:lnTo>
                  <a:pt x="88" y="860"/>
                </a:lnTo>
                <a:lnTo>
                  <a:pt x="113" y="879"/>
                </a:lnTo>
                <a:lnTo>
                  <a:pt x="139" y="896"/>
                </a:lnTo>
                <a:lnTo>
                  <a:pt x="169" y="912"/>
                </a:lnTo>
                <a:lnTo>
                  <a:pt x="200" y="925"/>
                </a:lnTo>
                <a:lnTo>
                  <a:pt x="234" y="936"/>
                </a:lnTo>
                <a:lnTo>
                  <a:pt x="269" y="946"/>
                </a:lnTo>
                <a:lnTo>
                  <a:pt x="305" y="952"/>
                </a:lnTo>
                <a:lnTo>
                  <a:pt x="343" y="956"/>
                </a:lnTo>
                <a:lnTo>
                  <a:pt x="382" y="958"/>
                </a:lnTo>
                <a:lnTo>
                  <a:pt x="384" y="958"/>
                </a:lnTo>
                <a:lnTo>
                  <a:pt x="387" y="958"/>
                </a:lnTo>
                <a:lnTo>
                  <a:pt x="390" y="958"/>
                </a:lnTo>
                <a:lnTo>
                  <a:pt x="393" y="958"/>
                </a:lnTo>
                <a:lnTo>
                  <a:pt x="400" y="968"/>
                </a:lnTo>
                <a:lnTo>
                  <a:pt x="406" y="977"/>
                </a:lnTo>
                <a:lnTo>
                  <a:pt x="415" y="987"/>
                </a:lnTo>
                <a:lnTo>
                  <a:pt x="423" y="996"/>
                </a:lnTo>
                <a:lnTo>
                  <a:pt x="431" y="1004"/>
                </a:lnTo>
                <a:lnTo>
                  <a:pt x="441" y="1013"/>
                </a:lnTo>
                <a:lnTo>
                  <a:pt x="451" y="1020"/>
                </a:lnTo>
                <a:lnTo>
                  <a:pt x="461" y="1026"/>
                </a:lnTo>
                <a:lnTo>
                  <a:pt x="472" y="1031"/>
                </a:lnTo>
                <a:lnTo>
                  <a:pt x="484" y="1038"/>
                </a:lnTo>
                <a:lnTo>
                  <a:pt x="495" y="1042"/>
                </a:lnTo>
                <a:lnTo>
                  <a:pt x="507" y="1046"/>
                </a:lnTo>
                <a:lnTo>
                  <a:pt x="519" y="1049"/>
                </a:lnTo>
                <a:lnTo>
                  <a:pt x="533" y="1051"/>
                </a:lnTo>
                <a:lnTo>
                  <a:pt x="545" y="1052"/>
                </a:lnTo>
                <a:lnTo>
                  <a:pt x="558" y="1053"/>
                </a:lnTo>
                <a:lnTo>
                  <a:pt x="567" y="1053"/>
                </a:lnTo>
                <a:lnTo>
                  <a:pt x="577" y="1052"/>
                </a:lnTo>
                <a:lnTo>
                  <a:pt x="586" y="1051"/>
                </a:lnTo>
                <a:lnTo>
                  <a:pt x="595" y="1049"/>
                </a:lnTo>
                <a:lnTo>
                  <a:pt x="604" y="1048"/>
                </a:lnTo>
                <a:lnTo>
                  <a:pt x="612" y="1045"/>
                </a:lnTo>
                <a:lnTo>
                  <a:pt x="621" y="1042"/>
                </a:lnTo>
                <a:lnTo>
                  <a:pt x="629" y="1039"/>
                </a:lnTo>
                <a:lnTo>
                  <a:pt x="637" y="1036"/>
                </a:lnTo>
                <a:lnTo>
                  <a:pt x="645" y="1031"/>
                </a:lnTo>
                <a:lnTo>
                  <a:pt x="653" y="1028"/>
                </a:lnTo>
                <a:lnTo>
                  <a:pt x="660" y="1023"/>
                </a:lnTo>
                <a:lnTo>
                  <a:pt x="667" y="1018"/>
                </a:lnTo>
                <a:lnTo>
                  <a:pt x="675" y="1013"/>
                </a:lnTo>
                <a:lnTo>
                  <a:pt x="682" y="1007"/>
                </a:lnTo>
                <a:lnTo>
                  <a:pt x="689" y="1001"/>
                </a:lnTo>
                <a:lnTo>
                  <a:pt x="700" y="1018"/>
                </a:lnTo>
                <a:lnTo>
                  <a:pt x="713" y="1033"/>
                </a:lnTo>
                <a:lnTo>
                  <a:pt x="726" y="1048"/>
                </a:lnTo>
                <a:lnTo>
                  <a:pt x="741" y="1063"/>
                </a:lnTo>
                <a:lnTo>
                  <a:pt x="757" y="1075"/>
                </a:lnTo>
                <a:lnTo>
                  <a:pt x="772" y="1087"/>
                </a:lnTo>
                <a:lnTo>
                  <a:pt x="790" y="1098"/>
                </a:lnTo>
                <a:lnTo>
                  <a:pt x="807" y="1108"/>
                </a:lnTo>
                <a:lnTo>
                  <a:pt x="825" y="1118"/>
                </a:lnTo>
                <a:lnTo>
                  <a:pt x="845" y="1126"/>
                </a:lnTo>
                <a:lnTo>
                  <a:pt x="864" y="1132"/>
                </a:lnTo>
                <a:lnTo>
                  <a:pt x="883" y="1138"/>
                </a:lnTo>
                <a:lnTo>
                  <a:pt x="904" y="1143"/>
                </a:lnTo>
                <a:lnTo>
                  <a:pt x="924" y="1146"/>
                </a:lnTo>
                <a:lnTo>
                  <a:pt x="946" y="1148"/>
                </a:lnTo>
                <a:lnTo>
                  <a:pt x="967" y="1148"/>
                </a:lnTo>
                <a:lnTo>
                  <a:pt x="994" y="1148"/>
                </a:lnTo>
                <a:lnTo>
                  <a:pt x="1020" y="1144"/>
                </a:lnTo>
                <a:lnTo>
                  <a:pt x="1045" y="1139"/>
                </a:lnTo>
                <a:lnTo>
                  <a:pt x="1070" y="1133"/>
                </a:lnTo>
                <a:lnTo>
                  <a:pt x="1094" y="1125"/>
                </a:lnTo>
                <a:lnTo>
                  <a:pt x="1117" y="1114"/>
                </a:lnTo>
                <a:lnTo>
                  <a:pt x="1139" y="1103"/>
                </a:lnTo>
                <a:lnTo>
                  <a:pt x="1160" y="1089"/>
                </a:lnTo>
                <a:lnTo>
                  <a:pt x="1180" y="1074"/>
                </a:lnTo>
                <a:lnTo>
                  <a:pt x="1198" y="1058"/>
                </a:lnTo>
                <a:lnTo>
                  <a:pt x="1216" y="1041"/>
                </a:lnTo>
                <a:lnTo>
                  <a:pt x="1232" y="1022"/>
                </a:lnTo>
                <a:lnTo>
                  <a:pt x="1247" y="1002"/>
                </a:lnTo>
                <a:lnTo>
                  <a:pt x="1261" y="981"/>
                </a:lnTo>
                <a:lnTo>
                  <a:pt x="1273" y="959"/>
                </a:lnTo>
                <a:lnTo>
                  <a:pt x="1283" y="93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874680" y="5187960"/>
            <a:ext cx="1056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IP/AT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008600" y="3259080"/>
            <a:ext cx="12571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80920" y="3706920"/>
            <a:ext cx="90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762120" y="3009960"/>
          <a:ext cx="97776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009960"/>
                    <a:ext cx="9777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1639800" y="3162240"/>
            <a:ext cx="46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639800" y="3638520"/>
            <a:ext cx="49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734200" y="5473800"/>
            <a:ext cx="49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997440" y="4095720"/>
            <a:ext cx="766800" cy="6904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99000" y="4095720"/>
            <a:ext cx="766800" cy="690480"/>
          </a:xfrm>
          <a:prstGeom prst="diamond">
            <a:avLst/>
          </a:prstGeom>
          <a:solidFill>
            <a:srgbClr val="af41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749840" y="42991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543000" y="24400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AP/SS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99000" y="2320920"/>
            <a:ext cx="105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6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6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534440" y="3552840"/>
            <a:ext cx="0" cy="18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678720" y="5130720"/>
            <a:ext cx="1068120" cy="540000"/>
          </a:xfrm>
          <a:custGeom>
            <a:avLst/>
            <a:gdLst/>
            <a:ahLst/>
            <a:rect l="l" t="t" r="r" b="b"/>
            <a:pathLst>
              <a:path w="1883" h="1149">
                <a:moveTo>
                  <a:pt x="1283" y="936"/>
                </a:moveTo>
                <a:lnTo>
                  <a:pt x="1294" y="948"/>
                </a:lnTo>
                <a:lnTo>
                  <a:pt x="1306" y="961"/>
                </a:lnTo>
                <a:lnTo>
                  <a:pt x="1318" y="972"/>
                </a:lnTo>
                <a:lnTo>
                  <a:pt x="1333" y="983"/>
                </a:lnTo>
                <a:lnTo>
                  <a:pt x="1348" y="994"/>
                </a:lnTo>
                <a:lnTo>
                  <a:pt x="1363" y="1004"/>
                </a:lnTo>
                <a:lnTo>
                  <a:pt x="1380" y="1013"/>
                </a:lnTo>
                <a:lnTo>
                  <a:pt x="1397" y="1021"/>
                </a:lnTo>
                <a:lnTo>
                  <a:pt x="1416" y="1028"/>
                </a:lnTo>
                <a:lnTo>
                  <a:pt x="1434" y="1034"/>
                </a:lnTo>
                <a:lnTo>
                  <a:pt x="1454" y="1040"/>
                </a:lnTo>
                <a:lnTo>
                  <a:pt x="1475" y="1045"/>
                </a:lnTo>
                <a:lnTo>
                  <a:pt x="1495" y="1048"/>
                </a:lnTo>
                <a:lnTo>
                  <a:pt x="1517" y="1051"/>
                </a:lnTo>
                <a:lnTo>
                  <a:pt x="1539" y="1053"/>
                </a:lnTo>
                <a:lnTo>
                  <a:pt x="1561" y="1053"/>
                </a:lnTo>
                <a:lnTo>
                  <a:pt x="1593" y="1052"/>
                </a:lnTo>
                <a:lnTo>
                  <a:pt x="1625" y="1049"/>
                </a:lnTo>
                <a:lnTo>
                  <a:pt x="1656" y="1043"/>
                </a:lnTo>
                <a:lnTo>
                  <a:pt x="1686" y="1034"/>
                </a:lnTo>
                <a:lnTo>
                  <a:pt x="1714" y="1025"/>
                </a:lnTo>
                <a:lnTo>
                  <a:pt x="1740" y="1013"/>
                </a:lnTo>
                <a:lnTo>
                  <a:pt x="1765" y="999"/>
                </a:lnTo>
                <a:lnTo>
                  <a:pt x="1788" y="985"/>
                </a:lnTo>
                <a:lnTo>
                  <a:pt x="1809" y="968"/>
                </a:lnTo>
                <a:lnTo>
                  <a:pt x="1827" y="951"/>
                </a:lnTo>
                <a:lnTo>
                  <a:pt x="1843" y="931"/>
                </a:lnTo>
                <a:lnTo>
                  <a:pt x="1857" y="911"/>
                </a:lnTo>
                <a:lnTo>
                  <a:pt x="1868" y="889"/>
                </a:lnTo>
                <a:lnTo>
                  <a:pt x="1875" y="867"/>
                </a:lnTo>
                <a:lnTo>
                  <a:pt x="1881" y="844"/>
                </a:lnTo>
                <a:lnTo>
                  <a:pt x="1882" y="820"/>
                </a:lnTo>
                <a:lnTo>
                  <a:pt x="1881" y="797"/>
                </a:lnTo>
                <a:lnTo>
                  <a:pt x="1875" y="773"/>
                </a:lnTo>
                <a:lnTo>
                  <a:pt x="1867" y="750"/>
                </a:lnTo>
                <a:lnTo>
                  <a:pt x="1857" y="729"/>
                </a:lnTo>
                <a:lnTo>
                  <a:pt x="1842" y="709"/>
                </a:lnTo>
                <a:lnTo>
                  <a:pt x="1826" y="689"/>
                </a:lnTo>
                <a:lnTo>
                  <a:pt x="1807" y="671"/>
                </a:lnTo>
                <a:lnTo>
                  <a:pt x="1786" y="654"/>
                </a:lnTo>
                <a:lnTo>
                  <a:pt x="1791" y="639"/>
                </a:lnTo>
                <a:lnTo>
                  <a:pt x="1795" y="623"/>
                </a:lnTo>
                <a:lnTo>
                  <a:pt x="1798" y="606"/>
                </a:lnTo>
                <a:lnTo>
                  <a:pt x="1798" y="588"/>
                </a:lnTo>
                <a:lnTo>
                  <a:pt x="1798" y="569"/>
                </a:lnTo>
                <a:lnTo>
                  <a:pt x="1794" y="550"/>
                </a:lnTo>
                <a:lnTo>
                  <a:pt x="1789" y="531"/>
                </a:lnTo>
                <a:lnTo>
                  <a:pt x="1783" y="514"/>
                </a:lnTo>
                <a:lnTo>
                  <a:pt x="1775" y="497"/>
                </a:lnTo>
                <a:lnTo>
                  <a:pt x="1765" y="481"/>
                </a:lnTo>
                <a:lnTo>
                  <a:pt x="1754" y="466"/>
                </a:lnTo>
                <a:lnTo>
                  <a:pt x="1742" y="453"/>
                </a:lnTo>
                <a:lnTo>
                  <a:pt x="1729" y="441"/>
                </a:lnTo>
                <a:lnTo>
                  <a:pt x="1714" y="430"/>
                </a:lnTo>
                <a:lnTo>
                  <a:pt x="1698" y="420"/>
                </a:lnTo>
                <a:lnTo>
                  <a:pt x="1681" y="412"/>
                </a:lnTo>
                <a:lnTo>
                  <a:pt x="1665" y="406"/>
                </a:lnTo>
                <a:lnTo>
                  <a:pt x="1646" y="401"/>
                </a:lnTo>
                <a:lnTo>
                  <a:pt x="1627" y="398"/>
                </a:lnTo>
                <a:lnTo>
                  <a:pt x="1608" y="397"/>
                </a:lnTo>
                <a:lnTo>
                  <a:pt x="1596" y="398"/>
                </a:lnTo>
                <a:lnTo>
                  <a:pt x="1585" y="399"/>
                </a:lnTo>
                <a:lnTo>
                  <a:pt x="1573" y="400"/>
                </a:lnTo>
                <a:lnTo>
                  <a:pt x="1562" y="403"/>
                </a:lnTo>
                <a:lnTo>
                  <a:pt x="1551" y="406"/>
                </a:lnTo>
                <a:lnTo>
                  <a:pt x="1540" y="410"/>
                </a:lnTo>
                <a:lnTo>
                  <a:pt x="1530" y="415"/>
                </a:lnTo>
                <a:lnTo>
                  <a:pt x="1520" y="419"/>
                </a:lnTo>
                <a:lnTo>
                  <a:pt x="1512" y="398"/>
                </a:lnTo>
                <a:lnTo>
                  <a:pt x="1502" y="378"/>
                </a:lnTo>
                <a:lnTo>
                  <a:pt x="1492" y="358"/>
                </a:lnTo>
                <a:lnTo>
                  <a:pt x="1480" y="340"/>
                </a:lnTo>
                <a:lnTo>
                  <a:pt x="1466" y="322"/>
                </a:lnTo>
                <a:lnTo>
                  <a:pt x="1452" y="305"/>
                </a:lnTo>
                <a:lnTo>
                  <a:pt x="1437" y="289"/>
                </a:lnTo>
                <a:lnTo>
                  <a:pt x="1421" y="275"/>
                </a:lnTo>
                <a:lnTo>
                  <a:pt x="1404" y="260"/>
                </a:lnTo>
                <a:lnTo>
                  <a:pt x="1386" y="248"/>
                </a:lnTo>
                <a:lnTo>
                  <a:pt x="1367" y="236"/>
                </a:lnTo>
                <a:lnTo>
                  <a:pt x="1348" y="226"/>
                </a:lnTo>
                <a:lnTo>
                  <a:pt x="1327" y="217"/>
                </a:lnTo>
                <a:lnTo>
                  <a:pt x="1306" y="209"/>
                </a:lnTo>
                <a:lnTo>
                  <a:pt x="1285" y="203"/>
                </a:lnTo>
                <a:lnTo>
                  <a:pt x="1262" y="198"/>
                </a:lnTo>
                <a:lnTo>
                  <a:pt x="1251" y="176"/>
                </a:lnTo>
                <a:lnTo>
                  <a:pt x="1239" y="155"/>
                </a:lnTo>
                <a:lnTo>
                  <a:pt x="1226" y="136"/>
                </a:lnTo>
                <a:lnTo>
                  <a:pt x="1211" y="118"/>
                </a:lnTo>
                <a:lnTo>
                  <a:pt x="1195" y="100"/>
                </a:lnTo>
                <a:lnTo>
                  <a:pt x="1177" y="84"/>
                </a:lnTo>
                <a:lnTo>
                  <a:pt x="1159" y="69"/>
                </a:lnTo>
                <a:lnTo>
                  <a:pt x="1139" y="55"/>
                </a:lnTo>
                <a:lnTo>
                  <a:pt x="1119" y="42"/>
                </a:lnTo>
                <a:lnTo>
                  <a:pt x="1097" y="31"/>
                </a:lnTo>
                <a:lnTo>
                  <a:pt x="1075" y="22"/>
                </a:lnTo>
                <a:lnTo>
                  <a:pt x="1052" y="14"/>
                </a:lnTo>
                <a:lnTo>
                  <a:pt x="1028" y="8"/>
                </a:lnTo>
                <a:lnTo>
                  <a:pt x="1004" y="3"/>
                </a:lnTo>
                <a:lnTo>
                  <a:pt x="979" y="1"/>
                </a:lnTo>
                <a:lnTo>
                  <a:pt x="954" y="0"/>
                </a:lnTo>
                <a:lnTo>
                  <a:pt x="926" y="1"/>
                </a:lnTo>
                <a:lnTo>
                  <a:pt x="900" y="5"/>
                </a:lnTo>
                <a:lnTo>
                  <a:pt x="873" y="10"/>
                </a:lnTo>
                <a:lnTo>
                  <a:pt x="847" y="17"/>
                </a:lnTo>
                <a:lnTo>
                  <a:pt x="823" y="26"/>
                </a:lnTo>
                <a:lnTo>
                  <a:pt x="799" y="37"/>
                </a:lnTo>
                <a:lnTo>
                  <a:pt x="777" y="50"/>
                </a:lnTo>
                <a:lnTo>
                  <a:pt x="755" y="64"/>
                </a:lnTo>
                <a:lnTo>
                  <a:pt x="734" y="80"/>
                </a:lnTo>
                <a:lnTo>
                  <a:pt x="716" y="97"/>
                </a:lnTo>
                <a:lnTo>
                  <a:pt x="698" y="116"/>
                </a:lnTo>
                <a:lnTo>
                  <a:pt x="682" y="136"/>
                </a:lnTo>
                <a:lnTo>
                  <a:pt x="667" y="158"/>
                </a:lnTo>
                <a:lnTo>
                  <a:pt x="654" y="180"/>
                </a:lnTo>
                <a:lnTo>
                  <a:pt x="642" y="203"/>
                </a:lnTo>
                <a:lnTo>
                  <a:pt x="632" y="228"/>
                </a:lnTo>
                <a:lnTo>
                  <a:pt x="622" y="222"/>
                </a:lnTo>
                <a:lnTo>
                  <a:pt x="612" y="218"/>
                </a:lnTo>
                <a:lnTo>
                  <a:pt x="601" y="214"/>
                </a:lnTo>
                <a:lnTo>
                  <a:pt x="590" y="211"/>
                </a:lnTo>
                <a:lnTo>
                  <a:pt x="579" y="208"/>
                </a:lnTo>
                <a:lnTo>
                  <a:pt x="568" y="206"/>
                </a:lnTo>
                <a:lnTo>
                  <a:pt x="556" y="206"/>
                </a:lnTo>
                <a:lnTo>
                  <a:pt x="544" y="205"/>
                </a:lnTo>
                <a:lnTo>
                  <a:pt x="525" y="206"/>
                </a:lnTo>
                <a:lnTo>
                  <a:pt x="506" y="209"/>
                </a:lnTo>
                <a:lnTo>
                  <a:pt x="488" y="214"/>
                </a:lnTo>
                <a:lnTo>
                  <a:pt x="471" y="220"/>
                </a:lnTo>
                <a:lnTo>
                  <a:pt x="453" y="228"/>
                </a:lnTo>
                <a:lnTo>
                  <a:pt x="438" y="238"/>
                </a:lnTo>
                <a:lnTo>
                  <a:pt x="423" y="249"/>
                </a:lnTo>
                <a:lnTo>
                  <a:pt x="410" y="261"/>
                </a:lnTo>
                <a:lnTo>
                  <a:pt x="398" y="275"/>
                </a:lnTo>
                <a:lnTo>
                  <a:pt x="387" y="290"/>
                </a:lnTo>
                <a:lnTo>
                  <a:pt x="377" y="305"/>
                </a:lnTo>
                <a:lnTo>
                  <a:pt x="368" y="322"/>
                </a:lnTo>
                <a:lnTo>
                  <a:pt x="363" y="340"/>
                </a:lnTo>
                <a:lnTo>
                  <a:pt x="358" y="358"/>
                </a:lnTo>
                <a:lnTo>
                  <a:pt x="355" y="377"/>
                </a:lnTo>
                <a:lnTo>
                  <a:pt x="354" y="396"/>
                </a:lnTo>
                <a:lnTo>
                  <a:pt x="354" y="403"/>
                </a:lnTo>
                <a:lnTo>
                  <a:pt x="355" y="410"/>
                </a:lnTo>
                <a:lnTo>
                  <a:pt x="355" y="416"/>
                </a:lnTo>
                <a:lnTo>
                  <a:pt x="356" y="423"/>
                </a:lnTo>
                <a:lnTo>
                  <a:pt x="320" y="426"/>
                </a:lnTo>
                <a:lnTo>
                  <a:pt x="284" y="431"/>
                </a:lnTo>
                <a:lnTo>
                  <a:pt x="250" y="440"/>
                </a:lnTo>
                <a:lnTo>
                  <a:pt x="217" y="450"/>
                </a:lnTo>
                <a:lnTo>
                  <a:pt x="186" y="461"/>
                </a:lnTo>
                <a:lnTo>
                  <a:pt x="156" y="475"/>
                </a:lnTo>
                <a:lnTo>
                  <a:pt x="129" y="490"/>
                </a:lnTo>
                <a:lnTo>
                  <a:pt x="103" y="507"/>
                </a:lnTo>
                <a:lnTo>
                  <a:pt x="81" y="527"/>
                </a:lnTo>
                <a:lnTo>
                  <a:pt x="60" y="546"/>
                </a:lnTo>
                <a:lnTo>
                  <a:pt x="42" y="568"/>
                </a:lnTo>
                <a:lnTo>
                  <a:pt x="28" y="590"/>
                </a:lnTo>
                <a:lnTo>
                  <a:pt x="15" y="614"/>
                </a:lnTo>
                <a:lnTo>
                  <a:pt x="8" y="639"/>
                </a:lnTo>
                <a:lnTo>
                  <a:pt x="1" y="664"/>
                </a:lnTo>
                <a:lnTo>
                  <a:pt x="0" y="690"/>
                </a:lnTo>
                <a:lnTo>
                  <a:pt x="2" y="718"/>
                </a:lnTo>
                <a:lnTo>
                  <a:pt x="8" y="744"/>
                </a:lnTo>
                <a:lnTo>
                  <a:pt x="17" y="770"/>
                </a:lnTo>
                <a:lnTo>
                  <a:pt x="31" y="794"/>
                </a:lnTo>
                <a:lnTo>
                  <a:pt x="46" y="818"/>
                </a:lnTo>
                <a:lnTo>
                  <a:pt x="66" y="840"/>
                </a:lnTo>
                <a:lnTo>
                  <a:pt x="88" y="860"/>
                </a:lnTo>
                <a:lnTo>
                  <a:pt x="113" y="879"/>
                </a:lnTo>
                <a:lnTo>
                  <a:pt x="139" y="896"/>
                </a:lnTo>
                <a:lnTo>
                  <a:pt x="169" y="912"/>
                </a:lnTo>
                <a:lnTo>
                  <a:pt x="200" y="925"/>
                </a:lnTo>
                <a:lnTo>
                  <a:pt x="234" y="936"/>
                </a:lnTo>
                <a:lnTo>
                  <a:pt x="269" y="946"/>
                </a:lnTo>
                <a:lnTo>
                  <a:pt x="305" y="952"/>
                </a:lnTo>
                <a:lnTo>
                  <a:pt x="343" y="956"/>
                </a:lnTo>
                <a:lnTo>
                  <a:pt x="382" y="958"/>
                </a:lnTo>
                <a:lnTo>
                  <a:pt x="384" y="958"/>
                </a:lnTo>
                <a:lnTo>
                  <a:pt x="387" y="958"/>
                </a:lnTo>
                <a:lnTo>
                  <a:pt x="390" y="958"/>
                </a:lnTo>
                <a:lnTo>
                  <a:pt x="393" y="958"/>
                </a:lnTo>
                <a:lnTo>
                  <a:pt x="400" y="968"/>
                </a:lnTo>
                <a:lnTo>
                  <a:pt x="406" y="977"/>
                </a:lnTo>
                <a:lnTo>
                  <a:pt x="415" y="987"/>
                </a:lnTo>
                <a:lnTo>
                  <a:pt x="423" y="996"/>
                </a:lnTo>
                <a:lnTo>
                  <a:pt x="431" y="1004"/>
                </a:lnTo>
                <a:lnTo>
                  <a:pt x="441" y="1013"/>
                </a:lnTo>
                <a:lnTo>
                  <a:pt x="451" y="1020"/>
                </a:lnTo>
                <a:lnTo>
                  <a:pt x="461" y="1026"/>
                </a:lnTo>
                <a:lnTo>
                  <a:pt x="472" y="1031"/>
                </a:lnTo>
                <a:lnTo>
                  <a:pt x="484" y="1038"/>
                </a:lnTo>
                <a:lnTo>
                  <a:pt x="495" y="1042"/>
                </a:lnTo>
                <a:lnTo>
                  <a:pt x="507" y="1046"/>
                </a:lnTo>
                <a:lnTo>
                  <a:pt x="519" y="1049"/>
                </a:lnTo>
                <a:lnTo>
                  <a:pt x="533" y="1051"/>
                </a:lnTo>
                <a:lnTo>
                  <a:pt x="545" y="1052"/>
                </a:lnTo>
                <a:lnTo>
                  <a:pt x="558" y="1053"/>
                </a:lnTo>
                <a:lnTo>
                  <a:pt x="567" y="1053"/>
                </a:lnTo>
                <a:lnTo>
                  <a:pt x="577" y="1052"/>
                </a:lnTo>
                <a:lnTo>
                  <a:pt x="586" y="1051"/>
                </a:lnTo>
                <a:lnTo>
                  <a:pt x="595" y="1049"/>
                </a:lnTo>
                <a:lnTo>
                  <a:pt x="604" y="1048"/>
                </a:lnTo>
                <a:lnTo>
                  <a:pt x="612" y="1045"/>
                </a:lnTo>
                <a:lnTo>
                  <a:pt x="621" y="1042"/>
                </a:lnTo>
                <a:lnTo>
                  <a:pt x="629" y="1039"/>
                </a:lnTo>
                <a:lnTo>
                  <a:pt x="637" y="1036"/>
                </a:lnTo>
                <a:lnTo>
                  <a:pt x="645" y="1031"/>
                </a:lnTo>
                <a:lnTo>
                  <a:pt x="653" y="1028"/>
                </a:lnTo>
                <a:lnTo>
                  <a:pt x="660" y="1023"/>
                </a:lnTo>
                <a:lnTo>
                  <a:pt x="667" y="1018"/>
                </a:lnTo>
                <a:lnTo>
                  <a:pt x="675" y="1013"/>
                </a:lnTo>
                <a:lnTo>
                  <a:pt x="682" y="1007"/>
                </a:lnTo>
                <a:lnTo>
                  <a:pt x="689" y="1001"/>
                </a:lnTo>
                <a:lnTo>
                  <a:pt x="700" y="1018"/>
                </a:lnTo>
                <a:lnTo>
                  <a:pt x="713" y="1033"/>
                </a:lnTo>
                <a:lnTo>
                  <a:pt x="726" y="1048"/>
                </a:lnTo>
                <a:lnTo>
                  <a:pt x="741" y="1063"/>
                </a:lnTo>
                <a:lnTo>
                  <a:pt x="757" y="1075"/>
                </a:lnTo>
                <a:lnTo>
                  <a:pt x="772" y="1087"/>
                </a:lnTo>
                <a:lnTo>
                  <a:pt x="790" y="1098"/>
                </a:lnTo>
                <a:lnTo>
                  <a:pt x="807" y="1108"/>
                </a:lnTo>
                <a:lnTo>
                  <a:pt x="825" y="1118"/>
                </a:lnTo>
                <a:lnTo>
                  <a:pt x="845" y="1126"/>
                </a:lnTo>
                <a:lnTo>
                  <a:pt x="864" y="1132"/>
                </a:lnTo>
                <a:lnTo>
                  <a:pt x="883" y="1138"/>
                </a:lnTo>
                <a:lnTo>
                  <a:pt x="904" y="1143"/>
                </a:lnTo>
                <a:lnTo>
                  <a:pt x="924" y="1146"/>
                </a:lnTo>
                <a:lnTo>
                  <a:pt x="946" y="1148"/>
                </a:lnTo>
                <a:lnTo>
                  <a:pt x="967" y="1148"/>
                </a:lnTo>
                <a:lnTo>
                  <a:pt x="994" y="1148"/>
                </a:lnTo>
                <a:lnTo>
                  <a:pt x="1020" y="1144"/>
                </a:lnTo>
                <a:lnTo>
                  <a:pt x="1045" y="1139"/>
                </a:lnTo>
                <a:lnTo>
                  <a:pt x="1070" y="1133"/>
                </a:lnTo>
                <a:lnTo>
                  <a:pt x="1094" y="1125"/>
                </a:lnTo>
                <a:lnTo>
                  <a:pt x="1117" y="1114"/>
                </a:lnTo>
                <a:lnTo>
                  <a:pt x="1139" y="1103"/>
                </a:lnTo>
                <a:lnTo>
                  <a:pt x="1160" y="1089"/>
                </a:lnTo>
                <a:lnTo>
                  <a:pt x="1180" y="1074"/>
                </a:lnTo>
                <a:lnTo>
                  <a:pt x="1198" y="1058"/>
                </a:lnTo>
                <a:lnTo>
                  <a:pt x="1216" y="1041"/>
                </a:lnTo>
                <a:lnTo>
                  <a:pt x="1232" y="1022"/>
                </a:lnTo>
                <a:lnTo>
                  <a:pt x="1247" y="1002"/>
                </a:lnTo>
                <a:lnTo>
                  <a:pt x="1261" y="981"/>
                </a:lnTo>
                <a:lnTo>
                  <a:pt x="1273" y="959"/>
                </a:lnTo>
                <a:lnTo>
                  <a:pt x="1283" y="93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973560" y="5337000"/>
            <a:ext cx="54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Real, Public, Implementa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5" name=""/>
          <p:cNvSpPr/>
          <p:nvPr/>
        </p:nvSpPr>
        <p:spPr>
          <a:xfrm>
            <a:off x="7477200" y="4191120"/>
            <a:ext cx="60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914400" y="2895480"/>
            <a:ext cx="2295000" cy="1841400"/>
            <a:chOff x="914400" y="2895480"/>
            <a:chExt cx="2295000" cy="1841400"/>
          </a:xfrm>
        </p:grpSpPr>
        <p:sp>
          <p:nvSpPr>
            <p:cNvPr id="977" name=""/>
            <p:cNvSpPr/>
            <p:nvPr/>
          </p:nvSpPr>
          <p:spPr>
            <a:xfrm>
              <a:off x="2106360" y="3282840"/>
              <a:ext cx="407520" cy="1407960"/>
            </a:xfrm>
            <a:custGeom>
              <a:avLst/>
              <a:gdLst/>
              <a:ahLst/>
              <a:rect l="l" t="t" r="r" b="b"/>
              <a:pathLst>
                <a:path w="1044" h="3686">
                  <a:moveTo>
                    <a:pt x="1044" y="615"/>
                  </a:moveTo>
                  <a:lnTo>
                    <a:pt x="541" y="0"/>
                  </a:lnTo>
                  <a:lnTo>
                    <a:pt x="62" y="1222"/>
                  </a:lnTo>
                  <a:lnTo>
                    <a:pt x="0" y="3686"/>
                  </a:lnTo>
                  <a:lnTo>
                    <a:pt x="1038" y="2656"/>
                  </a:lnTo>
                  <a:lnTo>
                    <a:pt x="1044" y="755"/>
                  </a:lnTo>
                  <a:lnTo>
                    <a:pt x="1044" y="615"/>
                  </a:lnTo>
                  <a:lnTo>
                    <a:pt x="1044" y="615"/>
                  </a:lnTo>
                  <a:lnTo>
                    <a:pt x="1044" y="61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6880" y="3317760"/>
              <a:ext cx="371160" cy="1239840"/>
            </a:xfrm>
            <a:custGeom>
              <a:avLst/>
              <a:gdLst/>
              <a:ahLst/>
              <a:rect l="l" t="t" r="r" b="b"/>
              <a:pathLst>
                <a:path w="948" h="3251">
                  <a:moveTo>
                    <a:pt x="944" y="549"/>
                  </a:moveTo>
                  <a:lnTo>
                    <a:pt x="500" y="0"/>
                  </a:lnTo>
                  <a:lnTo>
                    <a:pt x="388" y="180"/>
                  </a:lnTo>
                  <a:lnTo>
                    <a:pt x="566" y="83"/>
                  </a:lnTo>
                  <a:lnTo>
                    <a:pt x="258" y="516"/>
                  </a:lnTo>
                  <a:lnTo>
                    <a:pt x="684" y="225"/>
                  </a:lnTo>
                  <a:lnTo>
                    <a:pt x="151" y="797"/>
                  </a:lnTo>
                  <a:lnTo>
                    <a:pt x="824" y="395"/>
                  </a:lnTo>
                  <a:lnTo>
                    <a:pt x="33" y="1133"/>
                  </a:lnTo>
                  <a:lnTo>
                    <a:pt x="942" y="553"/>
                  </a:lnTo>
                  <a:lnTo>
                    <a:pt x="48" y="1402"/>
                  </a:lnTo>
                  <a:lnTo>
                    <a:pt x="940" y="797"/>
                  </a:lnTo>
                  <a:lnTo>
                    <a:pt x="38" y="1709"/>
                  </a:lnTo>
                  <a:lnTo>
                    <a:pt x="942" y="1051"/>
                  </a:lnTo>
                  <a:lnTo>
                    <a:pt x="33" y="2019"/>
                  </a:lnTo>
                  <a:lnTo>
                    <a:pt x="948" y="1338"/>
                  </a:lnTo>
                  <a:lnTo>
                    <a:pt x="23" y="2327"/>
                  </a:lnTo>
                  <a:lnTo>
                    <a:pt x="942" y="1643"/>
                  </a:lnTo>
                  <a:lnTo>
                    <a:pt x="15" y="2634"/>
                  </a:lnTo>
                  <a:lnTo>
                    <a:pt x="940" y="1959"/>
                  </a:lnTo>
                  <a:lnTo>
                    <a:pt x="7" y="2944"/>
                  </a:lnTo>
                  <a:lnTo>
                    <a:pt x="934" y="2260"/>
                  </a:lnTo>
                  <a:lnTo>
                    <a:pt x="0" y="3251"/>
                  </a:lnTo>
                  <a:lnTo>
                    <a:pt x="929" y="2521"/>
                  </a:lnTo>
                  <a:lnTo>
                    <a:pt x="944" y="549"/>
                  </a:lnTo>
                  <a:lnTo>
                    <a:pt x="944" y="549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14400" y="3232080"/>
              <a:ext cx="1669680" cy="609480"/>
            </a:xfrm>
            <a:custGeom>
              <a:avLst/>
              <a:gdLst/>
              <a:ahLst/>
              <a:rect l="l" t="t" r="r" b="b"/>
              <a:pathLst>
                <a:path w="4274" h="1594">
                  <a:moveTo>
                    <a:pt x="11" y="993"/>
                  </a:moveTo>
                  <a:lnTo>
                    <a:pt x="147" y="1020"/>
                  </a:lnTo>
                  <a:lnTo>
                    <a:pt x="227" y="1035"/>
                  </a:lnTo>
                  <a:lnTo>
                    <a:pt x="3021" y="1594"/>
                  </a:lnTo>
                  <a:lnTo>
                    <a:pt x="3041" y="1549"/>
                  </a:lnTo>
                  <a:lnTo>
                    <a:pt x="3056" y="1507"/>
                  </a:lnTo>
                  <a:lnTo>
                    <a:pt x="3326" y="822"/>
                  </a:lnTo>
                  <a:lnTo>
                    <a:pt x="3597" y="135"/>
                  </a:lnTo>
                  <a:lnTo>
                    <a:pt x="4098" y="750"/>
                  </a:lnTo>
                  <a:lnTo>
                    <a:pt x="4098" y="892"/>
                  </a:lnTo>
                  <a:lnTo>
                    <a:pt x="4171" y="892"/>
                  </a:lnTo>
                  <a:lnTo>
                    <a:pt x="4224" y="892"/>
                  </a:lnTo>
                  <a:lnTo>
                    <a:pt x="4274" y="832"/>
                  </a:lnTo>
                  <a:lnTo>
                    <a:pt x="3586" y="0"/>
                  </a:lnTo>
                  <a:lnTo>
                    <a:pt x="2979" y="1484"/>
                  </a:lnTo>
                  <a:lnTo>
                    <a:pt x="0" y="905"/>
                  </a:lnTo>
                  <a:lnTo>
                    <a:pt x="11" y="995"/>
                  </a:lnTo>
                  <a:lnTo>
                    <a:pt x="11" y="995"/>
                  </a:lnTo>
                  <a:lnTo>
                    <a:pt x="11" y="9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8720" y="3111480"/>
              <a:ext cx="1382400" cy="663480"/>
            </a:xfrm>
            <a:custGeom>
              <a:avLst/>
              <a:gdLst/>
              <a:ahLst/>
              <a:rect l="l" t="t" r="r" b="b"/>
              <a:pathLst>
                <a:path w="3542" h="1740">
                  <a:moveTo>
                    <a:pt x="0" y="1178"/>
                  </a:moveTo>
                  <a:lnTo>
                    <a:pt x="2942" y="1740"/>
                  </a:lnTo>
                  <a:lnTo>
                    <a:pt x="3542" y="301"/>
                  </a:lnTo>
                  <a:lnTo>
                    <a:pt x="1028" y="0"/>
                  </a:lnTo>
                  <a:lnTo>
                    <a:pt x="0" y="1180"/>
                  </a:lnTo>
                  <a:lnTo>
                    <a:pt x="0" y="1180"/>
                  </a:lnTo>
                  <a:lnTo>
                    <a:pt x="0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02960" y="3628800"/>
              <a:ext cx="1104480" cy="1103400"/>
            </a:xfrm>
            <a:custGeom>
              <a:avLst/>
              <a:gdLst/>
              <a:ahLst/>
              <a:rect l="l" t="t" r="r" b="b"/>
              <a:pathLst>
                <a:path w="2827" h="2795">
                  <a:moveTo>
                    <a:pt x="0" y="0"/>
                  </a:moveTo>
                  <a:lnTo>
                    <a:pt x="54" y="2150"/>
                  </a:lnTo>
                  <a:lnTo>
                    <a:pt x="2761" y="2795"/>
                  </a:lnTo>
                  <a:lnTo>
                    <a:pt x="2827" y="468"/>
                  </a:lnTo>
                  <a:lnTo>
                    <a:pt x="2792" y="5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230120" y="2995560"/>
              <a:ext cx="196560" cy="19692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512"/>
                  </a:moveTo>
                  <a:lnTo>
                    <a:pt x="223" y="260"/>
                  </a:lnTo>
                  <a:lnTo>
                    <a:pt x="506" y="295"/>
                  </a:lnTo>
                  <a:lnTo>
                    <a:pt x="504" y="0"/>
                  </a:lnTo>
                  <a:lnTo>
                    <a:pt x="0" y="99"/>
                  </a:lnTo>
                  <a:lnTo>
                    <a:pt x="0" y="512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20320" y="3027240"/>
              <a:ext cx="93600" cy="290520"/>
            </a:xfrm>
            <a:custGeom>
              <a:avLst/>
              <a:gdLst/>
              <a:ahLst/>
              <a:rect l="l" t="t" r="r" b="b"/>
              <a:pathLst>
                <a:path w="241" h="755">
                  <a:moveTo>
                    <a:pt x="241" y="16"/>
                  </a:moveTo>
                  <a:lnTo>
                    <a:pt x="241" y="483"/>
                  </a:lnTo>
                  <a:lnTo>
                    <a:pt x="0" y="755"/>
                  </a:lnTo>
                  <a:lnTo>
                    <a:pt x="0" y="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c54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087200" y="2895480"/>
              <a:ext cx="355320" cy="120600"/>
            </a:xfrm>
            <a:custGeom>
              <a:avLst/>
              <a:gdLst/>
              <a:ahLst/>
              <a:rect l="l" t="t" r="r" b="b"/>
              <a:pathLst>
                <a:path w="904" h="314">
                  <a:moveTo>
                    <a:pt x="0" y="291"/>
                  </a:moveTo>
                  <a:lnTo>
                    <a:pt x="341" y="314"/>
                  </a:lnTo>
                  <a:lnTo>
                    <a:pt x="904" y="208"/>
                  </a:lnTo>
                  <a:lnTo>
                    <a:pt x="904" y="25"/>
                  </a:lnTo>
                  <a:lnTo>
                    <a:pt x="651" y="0"/>
                  </a:lnTo>
                  <a:lnTo>
                    <a:pt x="2" y="95"/>
                  </a:lnTo>
                  <a:lnTo>
                    <a:pt x="2" y="291"/>
                  </a:lnTo>
                  <a:lnTo>
                    <a:pt x="2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3a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72720" y="3571920"/>
              <a:ext cx="1571400" cy="1164960"/>
            </a:xfrm>
            <a:custGeom>
              <a:avLst/>
              <a:gdLst/>
              <a:ahLst/>
              <a:rect l="l" t="t" r="r" b="b"/>
              <a:pathLst>
                <a:path w="4024" h="3053">
                  <a:moveTo>
                    <a:pt x="80" y="145"/>
                  </a:moveTo>
                  <a:lnTo>
                    <a:pt x="136" y="2299"/>
                  </a:lnTo>
                  <a:lnTo>
                    <a:pt x="2841" y="2944"/>
                  </a:lnTo>
                  <a:lnTo>
                    <a:pt x="2909" y="617"/>
                  </a:lnTo>
                  <a:lnTo>
                    <a:pt x="2969" y="467"/>
                  </a:lnTo>
                  <a:lnTo>
                    <a:pt x="2907" y="2931"/>
                  </a:lnTo>
                  <a:lnTo>
                    <a:pt x="3945" y="1901"/>
                  </a:lnTo>
                  <a:lnTo>
                    <a:pt x="3951" y="0"/>
                  </a:lnTo>
                  <a:lnTo>
                    <a:pt x="4024" y="2"/>
                  </a:lnTo>
                  <a:lnTo>
                    <a:pt x="4024" y="1932"/>
                  </a:lnTo>
                  <a:lnTo>
                    <a:pt x="2892" y="3053"/>
                  </a:lnTo>
                  <a:lnTo>
                    <a:pt x="47" y="2343"/>
                  </a:lnTo>
                  <a:lnTo>
                    <a:pt x="0" y="130"/>
                  </a:lnTo>
                  <a:lnTo>
                    <a:pt x="80" y="145"/>
                  </a:lnTo>
                  <a:lnTo>
                    <a:pt x="80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41280" y="4167000"/>
              <a:ext cx="1068120" cy="569880"/>
            </a:xfrm>
            <a:custGeom>
              <a:avLst/>
              <a:gdLst/>
              <a:ahLst/>
              <a:rect l="l" t="t" r="r" b="b"/>
              <a:pathLst>
                <a:path w="2734" h="1492">
                  <a:moveTo>
                    <a:pt x="0" y="1492"/>
                  </a:moveTo>
                  <a:lnTo>
                    <a:pt x="1121" y="386"/>
                  </a:lnTo>
                  <a:lnTo>
                    <a:pt x="1121" y="0"/>
                  </a:lnTo>
                  <a:lnTo>
                    <a:pt x="2734" y="258"/>
                  </a:lnTo>
                  <a:lnTo>
                    <a:pt x="0" y="1492"/>
                  </a:lnTo>
                  <a:lnTo>
                    <a:pt x="0" y="1492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144440" y="3817800"/>
              <a:ext cx="124920" cy="506520"/>
            </a:xfrm>
            <a:custGeom>
              <a:avLst/>
              <a:gdLst/>
              <a:ahLst/>
              <a:rect l="l" t="t" r="r" b="b"/>
              <a:pathLst>
                <a:path w="321" h="1327">
                  <a:moveTo>
                    <a:pt x="162" y="0"/>
                  </a:moveTo>
                  <a:lnTo>
                    <a:pt x="122" y="6"/>
                  </a:lnTo>
                  <a:lnTo>
                    <a:pt x="87" y="35"/>
                  </a:lnTo>
                  <a:lnTo>
                    <a:pt x="58" y="89"/>
                  </a:lnTo>
                  <a:lnTo>
                    <a:pt x="34" y="171"/>
                  </a:lnTo>
                  <a:lnTo>
                    <a:pt x="9" y="365"/>
                  </a:lnTo>
                  <a:lnTo>
                    <a:pt x="0" y="634"/>
                  </a:lnTo>
                  <a:lnTo>
                    <a:pt x="3" y="805"/>
                  </a:lnTo>
                  <a:lnTo>
                    <a:pt x="13" y="952"/>
                  </a:lnTo>
                  <a:lnTo>
                    <a:pt x="29" y="1075"/>
                  </a:lnTo>
                  <a:lnTo>
                    <a:pt x="56" y="1181"/>
                  </a:lnTo>
                  <a:lnTo>
                    <a:pt x="77" y="1237"/>
                  </a:lnTo>
                  <a:lnTo>
                    <a:pt x="100" y="1282"/>
                  </a:lnTo>
                  <a:lnTo>
                    <a:pt x="129" y="1311"/>
                  </a:lnTo>
                  <a:lnTo>
                    <a:pt x="162" y="1325"/>
                  </a:lnTo>
                  <a:lnTo>
                    <a:pt x="184" y="1327"/>
                  </a:lnTo>
                  <a:lnTo>
                    <a:pt x="205" y="1323"/>
                  </a:lnTo>
                  <a:lnTo>
                    <a:pt x="223" y="1311"/>
                  </a:lnTo>
                  <a:lnTo>
                    <a:pt x="238" y="1292"/>
                  </a:lnTo>
                  <a:lnTo>
                    <a:pt x="256" y="1259"/>
                  </a:lnTo>
                  <a:lnTo>
                    <a:pt x="273" y="1214"/>
                  </a:lnTo>
                  <a:lnTo>
                    <a:pt x="287" y="1160"/>
                  </a:lnTo>
                  <a:lnTo>
                    <a:pt x="300" y="1092"/>
                  </a:lnTo>
                  <a:lnTo>
                    <a:pt x="316" y="923"/>
                  </a:lnTo>
                  <a:lnTo>
                    <a:pt x="321" y="714"/>
                  </a:lnTo>
                  <a:lnTo>
                    <a:pt x="316" y="462"/>
                  </a:lnTo>
                  <a:lnTo>
                    <a:pt x="300" y="283"/>
                  </a:lnTo>
                  <a:lnTo>
                    <a:pt x="288" y="215"/>
                  </a:lnTo>
                  <a:lnTo>
                    <a:pt x="275" y="159"/>
                  </a:lnTo>
                  <a:lnTo>
                    <a:pt x="261" y="110"/>
                  </a:lnTo>
                  <a:lnTo>
                    <a:pt x="244" y="74"/>
                  </a:lnTo>
                  <a:lnTo>
                    <a:pt x="224" y="44"/>
                  </a:lnTo>
                  <a:lnTo>
                    <a:pt x="205" y="23"/>
                  </a:lnTo>
                  <a:lnTo>
                    <a:pt x="184" y="8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27040" y="3911400"/>
              <a:ext cx="58320" cy="244440"/>
            </a:xfrm>
            <a:custGeom>
              <a:avLst/>
              <a:gdLst/>
              <a:ahLst/>
              <a:rect l="l" t="t" r="r" b="b"/>
              <a:pathLst>
                <a:path w="149" h="640">
                  <a:moveTo>
                    <a:pt x="0" y="0"/>
                  </a:moveTo>
                  <a:lnTo>
                    <a:pt x="0" y="159"/>
                  </a:lnTo>
                  <a:lnTo>
                    <a:pt x="0" y="316"/>
                  </a:lnTo>
                  <a:lnTo>
                    <a:pt x="0" y="475"/>
                  </a:lnTo>
                  <a:lnTo>
                    <a:pt x="0" y="633"/>
                  </a:lnTo>
                  <a:lnTo>
                    <a:pt x="13" y="638"/>
                  </a:lnTo>
                  <a:lnTo>
                    <a:pt x="25" y="640"/>
                  </a:lnTo>
                  <a:lnTo>
                    <a:pt x="54" y="640"/>
                  </a:lnTo>
                  <a:lnTo>
                    <a:pt x="79" y="629"/>
                  </a:lnTo>
                  <a:lnTo>
                    <a:pt x="101" y="609"/>
                  </a:lnTo>
                  <a:lnTo>
                    <a:pt x="116" y="580"/>
                  </a:lnTo>
                  <a:lnTo>
                    <a:pt x="141" y="489"/>
                  </a:lnTo>
                  <a:lnTo>
                    <a:pt x="149" y="347"/>
                  </a:lnTo>
                  <a:lnTo>
                    <a:pt x="141" y="202"/>
                  </a:lnTo>
                  <a:lnTo>
                    <a:pt x="116" y="103"/>
                  </a:lnTo>
                  <a:lnTo>
                    <a:pt x="97" y="66"/>
                  </a:lnTo>
                  <a:lnTo>
                    <a:pt x="75" y="37"/>
                  </a:lnTo>
                  <a:lnTo>
                    <a:pt x="50" y="18"/>
                  </a:lnTo>
                  <a:lnTo>
                    <a:pt x="21" y="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1137960" y="3720960"/>
              <a:ext cx="345600" cy="357120"/>
              <a:chOff x="1137960" y="3720960"/>
              <a:chExt cx="345600" cy="357120"/>
            </a:xfrm>
          </p:grpSpPr>
          <p:sp>
            <p:nvSpPr>
              <p:cNvPr id="990" name=""/>
              <p:cNvSpPr/>
              <p:nvPr/>
            </p:nvSpPr>
            <p:spPr>
              <a:xfrm>
                <a:off x="1302840" y="4002120"/>
                <a:ext cx="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37960" y="3720960"/>
                <a:ext cx="345600" cy="2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2" name=""/>
            <p:cNvGrpSpPr/>
            <p:nvPr/>
          </p:nvGrpSpPr>
          <p:grpSpPr>
            <a:xfrm>
              <a:off x="1534680" y="3778200"/>
              <a:ext cx="344160" cy="352440"/>
              <a:chOff x="1534680" y="3778200"/>
              <a:chExt cx="344160" cy="352440"/>
            </a:xfrm>
          </p:grpSpPr>
          <p:sp>
            <p:nvSpPr>
              <p:cNvPr id="993" name=""/>
              <p:cNvSpPr/>
              <p:nvPr/>
            </p:nvSpPr>
            <p:spPr>
              <a:xfrm>
                <a:off x="1698480" y="4060080"/>
                <a:ext cx="0" cy="7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4680" y="3778200"/>
                <a:ext cx="34416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5" name=""/>
            <p:cNvSpPr/>
            <p:nvPr/>
          </p:nvSpPr>
          <p:spPr>
            <a:xfrm>
              <a:off x="1137960" y="4071960"/>
              <a:ext cx="10202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696680" y="4178160"/>
              <a:ext cx="593280" cy="187200"/>
              <a:chOff x="1696680" y="4178160"/>
              <a:chExt cx="593280" cy="187200"/>
            </a:xfrm>
          </p:grpSpPr>
          <p:sp>
            <p:nvSpPr>
              <p:cNvPr id="997" name=""/>
              <p:cNvSpPr/>
              <p:nvPr/>
            </p:nvSpPr>
            <p:spPr>
              <a:xfrm>
                <a:off x="1696680" y="4182840"/>
                <a:ext cx="593280" cy="18252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735200" y="4340520"/>
                <a:ext cx="81000" cy="2304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991520" y="4331880"/>
                <a:ext cx="94680" cy="2124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881360" y="4318560"/>
                <a:ext cx="102600" cy="2484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955880" y="4253040"/>
                <a:ext cx="38520" cy="1620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096280" y="4222440"/>
                <a:ext cx="66960" cy="1332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125800" y="4178160"/>
                <a:ext cx="108360" cy="1764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230200" y="4212000"/>
                <a:ext cx="59040" cy="1548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053440" y="4281480"/>
                <a:ext cx="53280" cy="1728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2117520" y="3935160"/>
              <a:ext cx="126720" cy="36684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1601640" y="4416480"/>
              <a:ext cx="311760" cy="155520"/>
              <a:chOff x="1601640" y="4416480"/>
              <a:chExt cx="311760" cy="155520"/>
            </a:xfrm>
          </p:grpSpPr>
          <p:sp>
            <p:nvSpPr>
              <p:cNvPr id="1008" name=""/>
              <p:cNvSpPr/>
              <p:nvPr/>
            </p:nvSpPr>
            <p:spPr>
              <a:xfrm>
                <a:off x="1626120" y="4443840"/>
                <a:ext cx="264960" cy="128160"/>
              </a:xfrm>
              <a:custGeom>
                <a:avLst/>
                <a:gdLst/>
                <a:ahLst/>
                <a:rect l="l" t="t" r="r" b="b"/>
                <a:pathLst>
                  <a:path w="2892" h="1905">
                    <a:moveTo>
                      <a:pt x="2892" y="1778"/>
                    </a:moveTo>
                    <a:lnTo>
                      <a:pt x="2884" y="1605"/>
                    </a:lnTo>
                    <a:lnTo>
                      <a:pt x="2862" y="1442"/>
                    </a:lnTo>
                    <a:lnTo>
                      <a:pt x="2831" y="1289"/>
                    </a:lnTo>
                    <a:lnTo>
                      <a:pt x="2789" y="1147"/>
                    </a:lnTo>
                    <a:lnTo>
                      <a:pt x="2740" y="1019"/>
                    </a:lnTo>
                    <a:lnTo>
                      <a:pt x="2682" y="903"/>
                    </a:lnTo>
                    <a:lnTo>
                      <a:pt x="2622" y="797"/>
                    </a:lnTo>
                    <a:lnTo>
                      <a:pt x="2562" y="702"/>
                    </a:lnTo>
                    <a:lnTo>
                      <a:pt x="2502" y="616"/>
                    </a:lnTo>
                    <a:lnTo>
                      <a:pt x="2442" y="545"/>
                    </a:lnTo>
                    <a:lnTo>
                      <a:pt x="2335" y="432"/>
                    </a:lnTo>
                    <a:lnTo>
                      <a:pt x="2261" y="364"/>
                    </a:lnTo>
                    <a:lnTo>
                      <a:pt x="2232" y="343"/>
                    </a:lnTo>
                    <a:lnTo>
                      <a:pt x="2232" y="0"/>
                    </a:lnTo>
                    <a:lnTo>
                      <a:pt x="659" y="0"/>
                    </a:lnTo>
                    <a:lnTo>
                      <a:pt x="659" y="343"/>
                    </a:lnTo>
                    <a:lnTo>
                      <a:pt x="630" y="364"/>
                    </a:lnTo>
                    <a:lnTo>
                      <a:pt x="555" y="432"/>
                    </a:lnTo>
                    <a:lnTo>
                      <a:pt x="452" y="545"/>
                    </a:lnTo>
                    <a:lnTo>
                      <a:pt x="392" y="616"/>
                    </a:lnTo>
                    <a:lnTo>
                      <a:pt x="332" y="702"/>
                    </a:lnTo>
                    <a:lnTo>
                      <a:pt x="270" y="797"/>
                    </a:lnTo>
                    <a:lnTo>
                      <a:pt x="211" y="903"/>
                    </a:lnTo>
                    <a:lnTo>
                      <a:pt x="155" y="1019"/>
                    </a:lnTo>
                    <a:lnTo>
                      <a:pt x="105" y="1147"/>
                    </a:lnTo>
                    <a:lnTo>
                      <a:pt x="62" y="1289"/>
                    </a:lnTo>
                    <a:lnTo>
                      <a:pt x="31" y="1442"/>
                    </a:lnTo>
                    <a:lnTo>
                      <a:pt x="10" y="1605"/>
                    </a:lnTo>
                    <a:lnTo>
                      <a:pt x="0" y="1778"/>
                    </a:lnTo>
                    <a:lnTo>
                      <a:pt x="66" y="1789"/>
                    </a:lnTo>
                    <a:lnTo>
                      <a:pt x="250" y="1816"/>
                    </a:lnTo>
                    <a:lnTo>
                      <a:pt x="541" y="1853"/>
                    </a:lnTo>
                    <a:lnTo>
                      <a:pt x="719" y="1871"/>
                    </a:lnTo>
                    <a:lnTo>
                      <a:pt x="913" y="1884"/>
                    </a:lnTo>
                    <a:lnTo>
                      <a:pt x="1127" y="1900"/>
                    </a:lnTo>
                    <a:lnTo>
                      <a:pt x="1354" y="1902"/>
                    </a:lnTo>
                    <a:lnTo>
                      <a:pt x="1594" y="1905"/>
                    </a:lnTo>
                    <a:lnTo>
                      <a:pt x="1842" y="1900"/>
                    </a:lnTo>
                    <a:lnTo>
                      <a:pt x="2100" y="1884"/>
                    </a:lnTo>
                    <a:lnTo>
                      <a:pt x="2360" y="1859"/>
                    </a:lnTo>
                    <a:lnTo>
                      <a:pt x="2626" y="1824"/>
                    </a:lnTo>
                    <a:lnTo>
                      <a:pt x="2892" y="17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08200" y="4470840"/>
                <a:ext cx="1908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34480" y="447084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61840" y="447084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788480" y="4470840"/>
                <a:ext cx="1872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708200" y="4490640"/>
                <a:ext cx="1908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734480" y="449064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761840" y="449064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88480" y="4490640"/>
                <a:ext cx="1872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08200" y="4509720"/>
                <a:ext cx="1908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734480" y="450972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761840" y="4509720"/>
                <a:ext cx="194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788480" y="4509720"/>
                <a:ext cx="1872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708200" y="4529520"/>
                <a:ext cx="19080" cy="1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734480" y="4529520"/>
                <a:ext cx="19440" cy="1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61840" y="4529520"/>
                <a:ext cx="19440" cy="1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88480" y="4529520"/>
                <a:ext cx="18720" cy="1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02000" y="4416480"/>
                <a:ext cx="311400" cy="84600"/>
              </a:xfrm>
              <a:custGeom>
                <a:avLst/>
                <a:gdLst/>
                <a:ahLst/>
                <a:rect l="l" t="t" r="r" b="b"/>
                <a:pathLst>
                  <a:path w="3404" h="1258">
                    <a:moveTo>
                      <a:pt x="1720" y="0"/>
                    </a:moveTo>
                    <a:lnTo>
                      <a:pt x="1947" y="0"/>
                    </a:lnTo>
                    <a:lnTo>
                      <a:pt x="2184" y="3"/>
                    </a:lnTo>
                    <a:lnTo>
                      <a:pt x="2302" y="7"/>
                    </a:lnTo>
                    <a:lnTo>
                      <a:pt x="2422" y="19"/>
                    </a:lnTo>
                    <a:lnTo>
                      <a:pt x="2539" y="36"/>
                    </a:lnTo>
                    <a:lnTo>
                      <a:pt x="2653" y="58"/>
                    </a:lnTo>
                    <a:lnTo>
                      <a:pt x="2766" y="89"/>
                    </a:lnTo>
                    <a:lnTo>
                      <a:pt x="2872" y="124"/>
                    </a:lnTo>
                    <a:lnTo>
                      <a:pt x="2971" y="174"/>
                    </a:lnTo>
                    <a:lnTo>
                      <a:pt x="3066" y="230"/>
                    </a:lnTo>
                    <a:lnTo>
                      <a:pt x="3152" y="302"/>
                    </a:lnTo>
                    <a:lnTo>
                      <a:pt x="3231" y="383"/>
                    </a:lnTo>
                    <a:lnTo>
                      <a:pt x="3297" y="480"/>
                    </a:lnTo>
                    <a:lnTo>
                      <a:pt x="3330" y="531"/>
                    </a:lnTo>
                    <a:lnTo>
                      <a:pt x="3355" y="589"/>
                    </a:lnTo>
                    <a:lnTo>
                      <a:pt x="3382" y="663"/>
                    </a:lnTo>
                    <a:lnTo>
                      <a:pt x="3400" y="734"/>
                    </a:lnTo>
                    <a:lnTo>
                      <a:pt x="3404" y="802"/>
                    </a:lnTo>
                    <a:lnTo>
                      <a:pt x="3404" y="866"/>
                    </a:lnTo>
                    <a:lnTo>
                      <a:pt x="3394" y="926"/>
                    </a:lnTo>
                    <a:lnTo>
                      <a:pt x="3379" y="982"/>
                    </a:lnTo>
                    <a:lnTo>
                      <a:pt x="3357" y="1031"/>
                    </a:lnTo>
                    <a:lnTo>
                      <a:pt x="3336" y="1077"/>
                    </a:lnTo>
                    <a:lnTo>
                      <a:pt x="3284" y="1155"/>
                    </a:lnTo>
                    <a:lnTo>
                      <a:pt x="3235" y="1213"/>
                    </a:lnTo>
                    <a:lnTo>
                      <a:pt x="3194" y="1244"/>
                    </a:lnTo>
                    <a:lnTo>
                      <a:pt x="3181" y="1258"/>
                    </a:lnTo>
                    <a:lnTo>
                      <a:pt x="2547" y="709"/>
                    </a:lnTo>
                    <a:lnTo>
                      <a:pt x="2547" y="294"/>
                    </a:lnTo>
                    <a:lnTo>
                      <a:pt x="861" y="294"/>
                    </a:lnTo>
                    <a:lnTo>
                      <a:pt x="861" y="709"/>
                    </a:lnTo>
                    <a:lnTo>
                      <a:pt x="225" y="1258"/>
                    </a:lnTo>
                    <a:lnTo>
                      <a:pt x="210" y="1244"/>
                    </a:lnTo>
                    <a:lnTo>
                      <a:pt x="171" y="1213"/>
                    </a:lnTo>
                    <a:lnTo>
                      <a:pt x="120" y="1155"/>
                    </a:lnTo>
                    <a:lnTo>
                      <a:pt x="68" y="1077"/>
                    </a:lnTo>
                    <a:lnTo>
                      <a:pt x="47" y="1031"/>
                    </a:lnTo>
                    <a:lnTo>
                      <a:pt x="25" y="982"/>
                    </a:lnTo>
                    <a:lnTo>
                      <a:pt x="12" y="926"/>
                    </a:lnTo>
                    <a:lnTo>
                      <a:pt x="0" y="866"/>
                    </a:lnTo>
                    <a:lnTo>
                      <a:pt x="0" y="802"/>
                    </a:lnTo>
                    <a:lnTo>
                      <a:pt x="8" y="734"/>
                    </a:lnTo>
                    <a:lnTo>
                      <a:pt x="22" y="663"/>
                    </a:lnTo>
                    <a:lnTo>
                      <a:pt x="51" y="589"/>
                    </a:lnTo>
                    <a:lnTo>
                      <a:pt x="111" y="480"/>
                    </a:lnTo>
                    <a:lnTo>
                      <a:pt x="179" y="383"/>
                    </a:lnTo>
                    <a:lnTo>
                      <a:pt x="260" y="302"/>
                    </a:lnTo>
                    <a:lnTo>
                      <a:pt x="347" y="230"/>
                    </a:lnTo>
                    <a:lnTo>
                      <a:pt x="444" y="174"/>
                    </a:lnTo>
                    <a:lnTo>
                      <a:pt x="549" y="124"/>
                    </a:lnTo>
                    <a:lnTo>
                      <a:pt x="660" y="89"/>
                    </a:lnTo>
                    <a:lnTo>
                      <a:pt x="774" y="58"/>
                    </a:lnTo>
                    <a:lnTo>
                      <a:pt x="894" y="36"/>
                    </a:lnTo>
                    <a:lnTo>
                      <a:pt x="1014" y="19"/>
                    </a:lnTo>
                    <a:lnTo>
                      <a:pt x="1135" y="7"/>
                    </a:lnTo>
                    <a:lnTo>
                      <a:pt x="1259" y="3"/>
                    </a:lnTo>
                    <a:lnTo>
                      <a:pt x="1497" y="0"/>
                    </a:lnTo>
                    <a:lnTo>
                      <a:pt x="17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59680" y="4416480"/>
                <a:ext cx="149760" cy="39600"/>
              </a:xfrm>
              <a:custGeom>
                <a:avLst/>
                <a:gdLst/>
                <a:ahLst/>
                <a:rect l="l" t="t" r="r" b="b"/>
                <a:pathLst>
                  <a:path w="1637" h="593">
                    <a:moveTo>
                      <a:pt x="0" y="7"/>
                    </a:moveTo>
                    <a:lnTo>
                      <a:pt x="53" y="6"/>
                    </a:lnTo>
                    <a:lnTo>
                      <a:pt x="167" y="6"/>
                    </a:lnTo>
                    <a:lnTo>
                      <a:pt x="225" y="7"/>
                    </a:lnTo>
                    <a:lnTo>
                      <a:pt x="284" y="6"/>
                    </a:lnTo>
                    <a:lnTo>
                      <a:pt x="342" y="7"/>
                    </a:lnTo>
                    <a:lnTo>
                      <a:pt x="402" y="7"/>
                    </a:lnTo>
                    <a:lnTo>
                      <a:pt x="462" y="9"/>
                    </a:lnTo>
                    <a:lnTo>
                      <a:pt x="522" y="13"/>
                    </a:lnTo>
                    <a:lnTo>
                      <a:pt x="580" y="17"/>
                    </a:lnTo>
                    <a:lnTo>
                      <a:pt x="640" y="21"/>
                    </a:lnTo>
                    <a:lnTo>
                      <a:pt x="701" y="27"/>
                    </a:lnTo>
                    <a:lnTo>
                      <a:pt x="759" y="33"/>
                    </a:lnTo>
                    <a:lnTo>
                      <a:pt x="817" y="42"/>
                    </a:lnTo>
                    <a:lnTo>
                      <a:pt x="875" y="52"/>
                    </a:lnTo>
                    <a:lnTo>
                      <a:pt x="933" y="64"/>
                    </a:lnTo>
                    <a:lnTo>
                      <a:pt x="988" y="77"/>
                    </a:lnTo>
                    <a:lnTo>
                      <a:pt x="1044" y="93"/>
                    </a:lnTo>
                    <a:lnTo>
                      <a:pt x="1098" y="110"/>
                    </a:lnTo>
                    <a:lnTo>
                      <a:pt x="1149" y="132"/>
                    </a:lnTo>
                    <a:lnTo>
                      <a:pt x="1201" y="153"/>
                    </a:lnTo>
                    <a:lnTo>
                      <a:pt x="1251" y="178"/>
                    </a:lnTo>
                    <a:lnTo>
                      <a:pt x="1298" y="205"/>
                    </a:lnTo>
                    <a:lnTo>
                      <a:pt x="1344" y="236"/>
                    </a:lnTo>
                    <a:lnTo>
                      <a:pt x="1389" y="269"/>
                    </a:lnTo>
                    <a:lnTo>
                      <a:pt x="1430" y="306"/>
                    </a:lnTo>
                    <a:lnTo>
                      <a:pt x="1469" y="345"/>
                    </a:lnTo>
                    <a:lnTo>
                      <a:pt x="1507" y="387"/>
                    </a:lnTo>
                    <a:lnTo>
                      <a:pt x="1542" y="432"/>
                    </a:lnTo>
                    <a:lnTo>
                      <a:pt x="1575" y="482"/>
                    </a:lnTo>
                    <a:lnTo>
                      <a:pt x="1604" y="535"/>
                    </a:lnTo>
                    <a:lnTo>
                      <a:pt x="1631" y="593"/>
                    </a:lnTo>
                    <a:lnTo>
                      <a:pt x="1637" y="591"/>
                    </a:lnTo>
                    <a:lnTo>
                      <a:pt x="1610" y="533"/>
                    </a:lnTo>
                    <a:lnTo>
                      <a:pt x="1579" y="480"/>
                    </a:lnTo>
                    <a:lnTo>
                      <a:pt x="1546" y="428"/>
                    </a:lnTo>
                    <a:lnTo>
                      <a:pt x="1511" y="384"/>
                    </a:lnTo>
                    <a:lnTo>
                      <a:pt x="1474" y="341"/>
                    </a:lnTo>
                    <a:lnTo>
                      <a:pt x="1436" y="300"/>
                    </a:lnTo>
                    <a:lnTo>
                      <a:pt x="1393" y="265"/>
                    </a:lnTo>
                    <a:lnTo>
                      <a:pt x="1346" y="230"/>
                    </a:lnTo>
                    <a:lnTo>
                      <a:pt x="1302" y="201"/>
                    </a:lnTo>
                    <a:lnTo>
                      <a:pt x="1253" y="172"/>
                    </a:lnTo>
                    <a:lnTo>
                      <a:pt x="1203" y="147"/>
                    </a:lnTo>
                    <a:lnTo>
                      <a:pt x="1152" y="126"/>
                    </a:lnTo>
                    <a:lnTo>
                      <a:pt x="1098" y="104"/>
                    </a:lnTo>
                    <a:lnTo>
                      <a:pt x="1046" y="87"/>
                    </a:lnTo>
                    <a:lnTo>
                      <a:pt x="990" y="71"/>
                    </a:lnTo>
                    <a:lnTo>
                      <a:pt x="933" y="58"/>
                    </a:lnTo>
                    <a:lnTo>
                      <a:pt x="877" y="46"/>
                    </a:lnTo>
                    <a:lnTo>
                      <a:pt x="819" y="37"/>
                    </a:lnTo>
                    <a:lnTo>
                      <a:pt x="761" y="27"/>
                    </a:lnTo>
                    <a:lnTo>
                      <a:pt x="701" y="19"/>
                    </a:lnTo>
                    <a:lnTo>
                      <a:pt x="640" y="15"/>
                    </a:lnTo>
                    <a:lnTo>
                      <a:pt x="580" y="9"/>
                    </a:lnTo>
                    <a:lnTo>
                      <a:pt x="522" y="7"/>
                    </a:lnTo>
                    <a:lnTo>
                      <a:pt x="462" y="4"/>
                    </a:lnTo>
                    <a:lnTo>
                      <a:pt x="402" y="2"/>
                    </a:lnTo>
                    <a:lnTo>
                      <a:pt x="342" y="0"/>
                    </a:lnTo>
                    <a:lnTo>
                      <a:pt x="284" y="0"/>
                    </a:lnTo>
                    <a:lnTo>
                      <a:pt x="225" y="0"/>
                    </a:lnTo>
                    <a:lnTo>
                      <a:pt x="167" y="0"/>
                    </a:lnTo>
                    <a:lnTo>
                      <a:pt x="53" y="0"/>
                    </a:lnTo>
                    <a:lnTo>
                      <a:pt x="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892880" y="4456080"/>
                <a:ext cx="20520" cy="45360"/>
              </a:xfrm>
              <a:custGeom>
                <a:avLst/>
                <a:gdLst/>
                <a:ahLst/>
                <a:rect l="l" t="t" r="r" b="b"/>
                <a:pathLst>
                  <a:path w="229" h="675">
                    <a:moveTo>
                      <a:pt x="174" y="2"/>
                    </a:moveTo>
                    <a:lnTo>
                      <a:pt x="174" y="2"/>
                    </a:lnTo>
                    <a:lnTo>
                      <a:pt x="188" y="39"/>
                    </a:lnTo>
                    <a:lnTo>
                      <a:pt x="200" y="76"/>
                    </a:lnTo>
                    <a:lnTo>
                      <a:pt x="209" y="112"/>
                    </a:lnTo>
                    <a:lnTo>
                      <a:pt x="217" y="147"/>
                    </a:lnTo>
                    <a:lnTo>
                      <a:pt x="221" y="180"/>
                    </a:lnTo>
                    <a:lnTo>
                      <a:pt x="223" y="213"/>
                    </a:lnTo>
                    <a:lnTo>
                      <a:pt x="223" y="246"/>
                    </a:lnTo>
                    <a:lnTo>
                      <a:pt x="221" y="277"/>
                    </a:lnTo>
                    <a:lnTo>
                      <a:pt x="217" y="306"/>
                    </a:lnTo>
                    <a:lnTo>
                      <a:pt x="211" y="335"/>
                    </a:lnTo>
                    <a:lnTo>
                      <a:pt x="204" y="364"/>
                    </a:lnTo>
                    <a:lnTo>
                      <a:pt x="196" y="392"/>
                    </a:lnTo>
                    <a:lnTo>
                      <a:pt x="186" y="417"/>
                    </a:lnTo>
                    <a:lnTo>
                      <a:pt x="176" y="440"/>
                    </a:lnTo>
                    <a:lnTo>
                      <a:pt x="165" y="465"/>
                    </a:lnTo>
                    <a:lnTo>
                      <a:pt x="155" y="487"/>
                    </a:lnTo>
                    <a:lnTo>
                      <a:pt x="141" y="508"/>
                    </a:lnTo>
                    <a:lnTo>
                      <a:pt x="128" y="527"/>
                    </a:lnTo>
                    <a:lnTo>
                      <a:pt x="114" y="547"/>
                    </a:lnTo>
                    <a:lnTo>
                      <a:pt x="103" y="564"/>
                    </a:lnTo>
                    <a:lnTo>
                      <a:pt x="89" y="580"/>
                    </a:lnTo>
                    <a:lnTo>
                      <a:pt x="76" y="595"/>
                    </a:lnTo>
                    <a:lnTo>
                      <a:pt x="64" y="609"/>
                    </a:lnTo>
                    <a:lnTo>
                      <a:pt x="52" y="622"/>
                    </a:lnTo>
                    <a:lnTo>
                      <a:pt x="41" y="632"/>
                    </a:lnTo>
                    <a:lnTo>
                      <a:pt x="31" y="642"/>
                    </a:lnTo>
                    <a:lnTo>
                      <a:pt x="23" y="649"/>
                    </a:lnTo>
                    <a:lnTo>
                      <a:pt x="15" y="657"/>
                    </a:lnTo>
                    <a:lnTo>
                      <a:pt x="10" y="661"/>
                    </a:lnTo>
                    <a:lnTo>
                      <a:pt x="6" y="665"/>
                    </a:lnTo>
                    <a:lnTo>
                      <a:pt x="0" y="669"/>
                    </a:lnTo>
                    <a:lnTo>
                      <a:pt x="0" y="671"/>
                    </a:lnTo>
                    <a:lnTo>
                      <a:pt x="4" y="675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8" y="671"/>
                    </a:lnTo>
                    <a:lnTo>
                      <a:pt x="13" y="667"/>
                    </a:lnTo>
                    <a:lnTo>
                      <a:pt x="19" y="661"/>
                    </a:lnTo>
                    <a:lnTo>
                      <a:pt x="27" y="655"/>
                    </a:lnTo>
                    <a:lnTo>
                      <a:pt x="37" y="646"/>
                    </a:lnTo>
                    <a:lnTo>
                      <a:pt x="46" y="636"/>
                    </a:lnTo>
                    <a:lnTo>
                      <a:pt x="58" y="626"/>
                    </a:lnTo>
                    <a:lnTo>
                      <a:pt x="70" y="613"/>
                    </a:lnTo>
                    <a:lnTo>
                      <a:pt x="79" y="599"/>
                    </a:lnTo>
                    <a:lnTo>
                      <a:pt x="93" y="585"/>
                    </a:lnTo>
                    <a:lnTo>
                      <a:pt x="107" y="568"/>
                    </a:lnTo>
                    <a:lnTo>
                      <a:pt x="118" y="551"/>
                    </a:lnTo>
                    <a:lnTo>
                      <a:pt x="132" y="531"/>
                    </a:lnTo>
                    <a:lnTo>
                      <a:pt x="145" y="512"/>
                    </a:lnTo>
                    <a:lnTo>
                      <a:pt x="159" y="490"/>
                    </a:lnTo>
                    <a:lnTo>
                      <a:pt x="171" y="467"/>
                    </a:lnTo>
                    <a:lnTo>
                      <a:pt x="182" y="444"/>
                    </a:lnTo>
                    <a:lnTo>
                      <a:pt x="192" y="419"/>
                    </a:lnTo>
                    <a:lnTo>
                      <a:pt x="202" y="392"/>
                    </a:lnTo>
                    <a:lnTo>
                      <a:pt x="209" y="366"/>
                    </a:lnTo>
                    <a:lnTo>
                      <a:pt x="217" y="337"/>
                    </a:lnTo>
                    <a:lnTo>
                      <a:pt x="223" y="308"/>
                    </a:lnTo>
                    <a:lnTo>
                      <a:pt x="227" y="277"/>
                    </a:lnTo>
                    <a:lnTo>
                      <a:pt x="229" y="246"/>
                    </a:lnTo>
                    <a:lnTo>
                      <a:pt x="229" y="213"/>
                    </a:lnTo>
                    <a:lnTo>
                      <a:pt x="227" y="180"/>
                    </a:lnTo>
                    <a:lnTo>
                      <a:pt x="223" y="145"/>
                    </a:lnTo>
                    <a:lnTo>
                      <a:pt x="215" y="111"/>
                    </a:lnTo>
                    <a:lnTo>
                      <a:pt x="207" y="74"/>
                    </a:lnTo>
                    <a:lnTo>
                      <a:pt x="194" y="3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622160" y="4436280"/>
                <a:ext cx="271080" cy="65160"/>
              </a:xfrm>
              <a:custGeom>
                <a:avLst/>
                <a:gdLst/>
                <a:ahLst/>
                <a:rect l="l" t="t" r="r" b="b"/>
                <a:pathLst>
                  <a:path w="2962" h="970">
                    <a:moveTo>
                      <a:pt x="2962" y="964"/>
                    </a:moveTo>
                    <a:lnTo>
                      <a:pt x="2328" y="415"/>
                    </a:lnTo>
                    <a:lnTo>
                      <a:pt x="2328" y="417"/>
                    </a:lnTo>
                    <a:lnTo>
                      <a:pt x="2328" y="2"/>
                    </a:lnTo>
                    <a:lnTo>
                      <a:pt x="2328" y="2"/>
                    </a:lnTo>
                    <a:lnTo>
                      <a:pt x="2328" y="0"/>
                    </a:lnTo>
                    <a:lnTo>
                      <a:pt x="2326" y="0"/>
                    </a:lnTo>
                    <a:lnTo>
                      <a:pt x="2326" y="0"/>
                    </a:lnTo>
                    <a:lnTo>
                      <a:pt x="640" y="0"/>
                    </a:lnTo>
                    <a:lnTo>
                      <a:pt x="640" y="0"/>
                    </a:lnTo>
                    <a:lnTo>
                      <a:pt x="638" y="0"/>
                    </a:lnTo>
                    <a:lnTo>
                      <a:pt x="638" y="2"/>
                    </a:lnTo>
                    <a:lnTo>
                      <a:pt x="638" y="2"/>
                    </a:lnTo>
                    <a:lnTo>
                      <a:pt x="638" y="417"/>
                    </a:lnTo>
                    <a:lnTo>
                      <a:pt x="638" y="415"/>
                    </a:lnTo>
                    <a:lnTo>
                      <a:pt x="0" y="964"/>
                    </a:lnTo>
                    <a:lnTo>
                      <a:pt x="6" y="970"/>
                    </a:lnTo>
                    <a:lnTo>
                      <a:pt x="644" y="419"/>
                    </a:lnTo>
                    <a:lnTo>
                      <a:pt x="644" y="419"/>
                    </a:lnTo>
                    <a:lnTo>
                      <a:pt x="644" y="417"/>
                    </a:lnTo>
                    <a:lnTo>
                      <a:pt x="644" y="417"/>
                    </a:lnTo>
                    <a:lnTo>
                      <a:pt x="644" y="2"/>
                    </a:lnTo>
                    <a:lnTo>
                      <a:pt x="640" y="6"/>
                    </a:lnTo>
                    <a:lnTo>
                      <a:pt x="2326" y="6"/>
                    </a:lnTo>
                    <a:lnTo>
                      <a:pt x="2322" y="2"/>
                    </a:lnTo>
                    <a:lnTo>
                      <a:pt x="2322" y="417"/>
                    </a:lnTo>
                    <a:lnTo>
                      <a:pt x="2322" y="417"/>
                    </a:lnTo>
                    <a:lnTo>
                      <a:pt x="2322" y="419"/>
                    </a:lnTo>
                    <a:lnTo>
                      <a:pt x="2322" y="419"/>
                    </a:lnTo>
                    <a:lnTo>
                      <a:pt x="2958" y="970"/>
                    </a:lnTo>
                    <a:lnTo>
                      <a:pt x="2962" y="9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1640" y="4456080"/>
                <a:ext cx="20880" cy="45360"/>
              </a:xfrm>
              <a:custGeom>
                <a:avLst/>
                <a:gdLst/>
                <a:ahLst/>
                <a:rect l="l" t="t" r="r" b="b"/>
                <a:pathLst>
                  <a:path w="233" h="675">
                    <a:moveTo>
                      <a:pt x="231" y="675"/>
                    </a:moveTo>
                    <a:lnTo>
                      <a:pt x="233" y="669"/>
                    </a:lnTo>
                    <a:lnTo>
                      <a:pt x="231" y="667"/>
                    </a:lnTo>
                    <a:lnTo>
                      <a:pt x="227" y="665"/>
                    </a:lnTo>
                    <a:lnTo>
                      <a:pt x="221" y="661"/>
                    </a:lnTo>
                    <a:lnTo>
                      <a:pt x="218" y="657"/>
                    </a:lnTo>
                    <a:lnTo>
                      <a:pt x="210" y="649"/>
                    </a:lnTo>
                    <a:lnTo>
                      <a:pt x="200" y="642"/>
                    </a:lnTo>
                    <a:lnTo>
                      <a:pt x="190" y="632"/>
                    </a:lnTo>
                    <a:lnTo>
                      <a:pt x="179" y="622"/>
                    </a:lnTo>
                    <a:lnTo>
                      <a:pt x="167" y="609"/>
                    </a:lnTo>
                    <a:lnTo>
                      <a:pt x="156" y="595"/>
                    </a:lnTo>
                    <a:lnTo>
                      <a:pt x="142" y="580"/>
                    </a:lnTo>
                    <a:lnTo>
                      <a:pt x="128" y="564"/>
                    </a:lnTo>
                    <a:lnTo>
                      <a:pt x="117" y="547"/>
                    </a:lnTo>
                    <a:lnTo>
                      <a:pt x="103" y="527"/>
                    </a:lnTo>
                    <a:lnTo>
                      <a:pt x="90" y="508"/>
                    </a:lnTo>
                    <a:lnTo>
                      <a:pt x="78" y="487"/>
                    </a:lnTo>
                    <a:lnTo>
                      <a:pt x="64" y="465"/>
                    </a:lnTo>
                    <a:lnTo>
                      <a:pt x="43" y="417"/>
                    </a:lnTo>
                    <a:lnTo>
                      <a:pt x="35" y="392"/>
                    </a:lnTo>
                    <a:lnTo>
                      <a:pt x="26" y="364"/>
                    </a:lnTo>
                    <a:lnTo>
                      <a:pt x="20" y="335"/>
                    </a:lnTo>
                    <a:lnTo>
                      <a:pt x="14" y="306"/>
                    </a:lnTo>
                    <a:lnTo>
                      <a:pt x="10" y="277"/>
                    </a:lnTo>
                    <a:lnTo>
                      <a:pt x="8" y="246"/>
                    </a:lnTo>
                    <a:lnTo>
                      <a:pt x="6" y="213"/>
                    </a:lnTo>
                    <a:lnTo>
                      <a:pt x="10" y="180"/>
                    </a:lnTo>
                    <a:lnTo>
                      <a:pt x="14" y="147"/>
                    </a:lnTo>
                    <a:lnTo>
                      <a:pt x="20" y="112"/>
                    </a:lnTo>
                    <a:lnTo>
                      <a:pt x="29" y="76"/>
                    </a:lnTo>
                    <a:lnTo>
                      <a:pt x="43" y="39"/>
                    </a:lnTo>
                    <a:lnTo>
                      <a:pt x="59" y="2"/>
                    </a:lnTo>
                    <a:lnTo>
                      <a:pt x="53" y="0"/>
                    </a:lnTo>
                    <a:lnTo>
                      <a:pt x="37" y="37"/>
                    </a:lnTo>
                    <a:lnTo>
                      <a:pt x="24" y="74"/>
                    </a:lnTo>
                    <a:lnTo>
                      <a:pt x="14" y="111"/>
                    </a:lnTo>
                    <a:lnTo>
                      <a:pt x="8" y="145"/>
                    </a:lnTo>
                    <a:lnTo>
                      <a:pt x="4" y="180"/>
                    </a:lnTo>
                    <a:lnTo>
                      <a:pt x="0" y="213"/>
                    </a:lnTo>
                    <a:lnTo>
                      <a:pt x="2" y="246"/>
                    </a:lnTo>
                    <a:lnTo>
                      <a:pt x="4" y="277"/>
                    </a:lnTo>
                    <a:lnTo>
                      <a:pt x="6" y="308"/>
                    </a:lnTo>
                    <a:lnTo>
                      <a:pt x="14" y="337"/>
                    </a:lnTo>
                    <a:lnTo>
                      <a:pt x="20" y="366"/>
                    </a:lnTo>
                    <a:lnTo>
                      <a:pt x="29" y="392"/>
                    </a:lnTo>
                    <a:lnTo>
                      <a:pt x="37" y="419"/>
                    </a:lnTo>
                    <a:lnTo>
                      <a:pt x="49" y="444"/>
                    </a:lnTo>
                    <a:lnTo>
                      <a:pt x="59" y="467"/>
                    </a:lnTo>
                    <a:lnTo>
                      <a:pt x="72" y="490"/>
                    </a:lnTo>
                    <a:lnTo>
                      <a:pt x="84" y="512"/>
                    </a:lnTo>
                    <a:lnTo>
                      <a:pt x="97" y="531"/>
                    </a:lnTo>
                    <a:lnTo>
                      <a:pt x="111" y="551"/>
                    </a:lnTo>
                    <a:lnTo>
                      <a:pt x="125" y="568"/>
                    </a:lnTo>
                    <a:lnTo>
                      <a:pt x="138" y="585"/>
                    </a:lnTo>
                    <a:lnTo>
                      <a:pt x="150" y="599"/>
                    </a:lnTo>
                    <a:lnTo>
                      <a:pt x="163" y="613"/>
                    </a:lnTo>
                    <a:lnTo>
                      <a:pt x="175" y="626"/>
                    </a:lnTo>
                    <a:lnTo>
                      <a:pt x="185" y="636"/>
                    </a:lnTo>
                    <a:lnTo>
                      <a:pt x="196" y="646"/>
                    </a:lnTo>
                    <a:lnTo>
                      <a:pt x="204" y="655"/>
                    </a:lnTo>
                    <a:lnTo>
                      <a:pt x="212" y="661"/>
                    </a:lnTo>
                    <a:lnTo>
                      <a:pt x="220" y="667"/>
                    </a:lnTo>
                    <a:lnTo>
                      <a:pt x="223" y="671"/>
                    </a:lnTo>
                    <a:lnTo>
                      <a:pt x="227" y="673"/>
                    </a:lnTo>
                    <a:lnTo>
                      <a:pt x="227" y="675"/>
                    </a:lnTo>
                    <a:lnTo>
                      <a:pt x="231" y="669"/>
                    </a:lnTo>
                    <a:lnTo>
                      <a:pt x="231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06320" y="4416480"/>
                <a:ext cx="153000" cy="39600"/>
              </a:xfrm>
              <a:custGeom>
                <a:avLst/>
                <a:gdLst/>
                <a:ahLst/>
                <a:rect l="l" t="t" r="r" b="b"/>
                <a:pathLst>
                  <a:path w="1673" h="593">
                    <a:moveTo>
                      <a:pt x="6" y="593"/>
                    </a:moveTo>
                    <a:lnTo>
                      <a:pt x="33" y="535"/>
                    </a:lnTo>
                    <a:lnTo>
                      <a:pt x="62" y="482"/>
                    </a:lnTo>
                    <a:lnTo>
                      <a:pt x="97" y="432"/>
                    </a:lnTo>
                    <a:lnTo>
                      <a:pt x="132" y="387"/>
                    </a:lnTo>
                    <a:lnTo>
                      <a:pt x="170" y="345"/>
                    </a:lnTo>
                    <a:lnTo>
                      <a:pt x="213" y="306"/>
                    </a:lnTo>
                    <a:lnTo>
                      <a:pt x="256" y="269"/>
                    </a:lnTo>
                    <a:lnTo>
                      <a:pt x="300" y="236"/>
                    </a:lnTo>
                    <a:lnTo>
                      <a:pt x="349" y="205"/>
                    </a:lnTo>
                    <a:lnTo>
                      <a:pt x="399" y="178"/>
                    </a:lnTo>
                    <a:lnTo>
                      <a:pt x="450" y="153"/>
                    </a:lnTo>
                    <a:lnTo>
                      <a:pt x="502" y="132"/>
                    </a:lnTo>
                    <a:lnTo>
                      <a:pt x="556" y="110"/>
                    </a:lnTo>
                    <a:lnTo>
                      <a:pt x="613" y="93"/>
                    </a:lnTo>
                    <a:lnTo>
                      <a:pt x="669" y="77"/>
                    </a:lnTo>
                    <a:lnTo>
                      <a:pt x="729" y="64"/>
                    </a:lnTo>
                    <a:lnTo>
                      <a:pt x="785" y="52"/>
                    </a:lnTo>
                    <a:lnTo>
                      <a:pt x="845" y="42"/>
                    </a:lnTo>
                    <a:lnTo>
                      <a:pt x="905" y="33"/>
                    </a:lnTo>
                    <a:lnTo>
                      <a:pt x="966" y="27"/>
                    </a:lnTo>
                    <a:lnTo>
                      <a:pt x="1026" y="21"/>
                    </a:lnTo>
                    <a:lnTo>
                      <a:pt x="1088" y="17"/>
                    </a:lnTo>
                    <a:lnTo>
                      <a:pt x="1148" y="13"/>
                    </a:lnTo>
                    <a:lnTo>
                      <a:pt x="1210" y="9"/>
                    </a:lnTo>
                    <a:lnTo>
                      <a:pt x="1330" y="7"/>
                    </a:lnTo>
                    <a:lnTo>
                      <a:pt x="1388" y="6"/>
                    </a:lnTo>
                    <a:lnTo>
                      <a:pt x="1448" y="7"/>
                    </a:lnTo>
                    <a:lnTo>
                      <a:pt x="1505" y="6"/>
                    </a:lnTo>
                    <a:lnTo>
                      <a:pt x="1617" y="6"/>
                    </a:lnTo>
                    <a:lnTo>
                      <a:pt x="1673" y="7"/>
                    </a:lnTo>
                    <a:lnTo>
                      <a:pt x="1673" y="2"/>
                    </a:lnTo>
                    <a:lnTo>
                      <a:pt x="1617" y="0"/>
                    </a:lnTo>
                    <a:lnTo>
                      <a:pt x="1505" y="0"/>
                    </a:lnTo>
                    <a:lnTo>
                      <a:pt x="1448" y="0"/>
                    </a:lnTo>
                    <a:lnTo>
                      <a:pt x="1388" y="0"/>
                    </a:lnTo>
                    <a:lnTo>
                      <a:pt x="1330" y="0"/>
                    </a:lnTo>
                    <a:lnTo>
                      <a:pt x="1210" y="4"/>
                    </a:lnTo>
                    <a:lnTo>
                      <a:pt x="1148" y="7"/>
                    </a:lnTo>
                    <a:lnTo>
                      <a:pt x="1088" y="9"/>
                    </a:lnTo>
                    <a:lnTo>
                      <a:pt x="1026" y="15"/>
                    </a:lnTo>
                    <a:lnTo>
                      <a:pt x="966" y="19"/>
                    </a:lnTo>
                    <a:lnTo>
                      <a:pt x="903" y="27"/>
                    </a:lnTo>
                    <a:lnTo>
                      <a:pt x="843" y="37"/>
                    </a:lnTo>
                    <a:lnTo>
                      <a:pt x="785" y="46"/>
                    </a:lnTo>
                    <a:lnTo>
                      <a:pt x="727" y="58"/>
                    </a:lnTo>
                    <a:lnTo>
                      <a:pt x="669" y="71"/>
                    </a:lnTo>
                    <a:lnTo>
                      <a:pt x="611" y="87"/>
                    </a:lnTo>
                    <a:lnTo>
                      <a:pt x="554" y="104"/>
                    </a:lnTo>
                    <a:lnTo>
                      <a:pt x="500" y="126"/>
                    </a:lnTo>
                    <a:lnTo>
                      <a:pt x="448" y="147"/>
                    </a:lnTo>
                    <a:lnTo>
                      <a:pt x="395" y="172"/>
                    </a:lnTo>
                    <a:lnTo>
                      <a:pt x="347" y="201"/>
                    </a:lnTo>
                    <a:lnTo>
                      <a:pt x="298" y="230"/>
                    </a:lnTo>
                    <a:lnTo>
                      <a:pt x="252" y="265"/>
                    </a:lnTo>
                    <a:lnTo>
                      <a:pt x="207" y="300"/>
                    </a:lnTo>
                    <a:lnTo>
                      <a:pt x="167" y="341"/>
                    </a:lnTo>
                    <a:lnTo>
                      <a:pt x="128" y="384"/>
                    </a:lnTo>
                    <a:lnTo>
                      <a:pt x="91" y="428"/>
                    </a:lnTo>
                    <a:lnTo>
                      <a:pt x="58" y="480"/>
                    </a:lnTo>
                    <a:lnTo>
                      <a:pt x="27" y="533"/>
                    </a:lnTo>
                    <a:lnTo>
                      <a:pt x="0" y="591"/>
                    </a:lnTo>
                    <a:lnTo>
                      <a:pt x="6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15400" y="447516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52" h="138">
                    <a:moveTo>
                      <a:pt x="52" y="138"/>
                    </a:moveTo>
                    <a:lnTo>
                      <a:pt x="32" y="138"/>
                    </a:lnTo>
                    <a:lnTo>
                      <a:pt x="32" y="39"/>
                    </a:lnTo>
                    <a:lnTo>
                      <a:pt x="0" y="39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1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52" y="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41320" y="447516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97" h="138">
                    <a:moveTo>
                      <a:pt x="4" y="49"/>
                    </a:moveTo>
                    <a:lnTo>
                      <a:pt x="4" y="41"/>
                    </a:lnTo>
                    <a:lnTo>
                      <a:pt x="5" y="35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38" y="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7" y="6"/>
                    </a:lnTo>
                    <a:lnTo>
                      <a:pt x="83" y="10"/>
                    </a:lnTo>
                    <a:lnTo>
                      <a:pt x="89" y="16"/>
                    </a:lnTo>
                    <a:lnTo>
                      <a:pt x="93" y="23"/>
                    </a:lnTo>
                    <a:lnTo>
                      <a:pt x="95" y="31"/>
                    </a:lnTo>
                    <a:lnTo>
                      <a:pt x="97" y="41"/>
                    </a:lnTo>
                    <a:lnTo>
                      <a:pt x="95" y="50"/>
                    </a:lnTo>
                    <a:lnTo>
                      <a:pt x="93" y="56"/>
                    </a:lnTo>
                    <a:lnTo>
                      <a:pt x="91" y="64"/>
                    </a:lnTo>
                    <a:lnTo>
                      <a:pt x="85" y="70"/>
                    </a:lnTo>
                    <a:lnTo>
                      <a:pt x="73" y="80"/>
                    </a:lnTo>
                    <a:lnTo>
                      <a:pt x="58" y="87"/>
                    </a:lnTo>
                    <a:lnTo>
                      <a:pt x="44" y="95"/>
                    </a:lnTo>
                    <a:lnTo>
                      <a:pt x="37" y="99"/>
                    </a:lnTo>
                    <a:lnTo>
                      <a:pt x="33" y="103"/>
                    </a:lnTo>
                    <a:lnTo>
                      <a:pt x="25" y="111"/>
                    </a:lnTo>
                    <a:lnTo>
                      <a:pt x="21" y="116"/>
                    </a:lnTo>
                    <a:lnTo>
                      <a:pt x="19" y="122"/>
                    </a:lnTo>
                    <a:lnTo>
                      <a:pt x="97" y="122"/>
                    </a:lnTo>
                    <a:lnTo>
                      <a:pt x="97" y="138"/>
                    </a:lnTo>
                    <a:lnTo>
                      <a:pt x="0" y="138"/>
                    </a:lnTo>
                    <a:lnTo>
                      <a:pt x="2" y="128"/>
                    </a:lnTo>
                    <a:lnTo>
                      <a:pt x="4" y="118"/>
                    </a:lnTo>
                    <a:lnTo>
                      <a:pt x="5" y="111"/>
                    </a:lnTo>
                    <a:lnTo>
                      <a:pt x="9" y="105"/>
                    </a:lnTo>
                    <a:lnTo>
                      <a:pt x="21" y="93"/>
                    </a:lnTo>
                    <a:lnTo>
                      <a:pt x="33" y="83"/>
                    </a:lnTo>
                    <a:lnTo>
                      <a:pt x="50" y="74"/>
                    </a:lnTo>
                    <a:lnTo>
                      <a:pt x="62" y="66"/>
                    </a:lnTo>
                    <a:lnTo>
                      <a:pt x="69" y="60"/>
                    </a:lnTo>
                    <a:lnTo>
                      <a:pt x="75" y="52"/>
                    </a:lnTo>
                    <a:lnTo>
                      <a:pt x="77" y="47"/>
                    </a:lnTo>
                    <a:lnTo>
                      <a:pt x="77" y="41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9"/>
                    </a:lnTo>
                    <a:lnTo>
                      <a:pt x="62" y="17"/>
                    </a:lnTo>
                    <a:lnTo>
                      <a:pt x="56" y="16"/>
                    </a:lnTo>
                    <a:lnTo>
                      <a:pt x="50" y="16"/>
                    </a:lnTo>
                    <a:lnTo>
                      <a:pt x="40" y="16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39"/>
                    </a:lnTo>
                    <a:lnTo>
                      <a:pt x="21" y="49"/>
                    </a:lnTo>
                    <a:lnTo>
                      <a:pt x="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768320" y="44751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97" h="142">
                    <a:moveTo>
                      <a:pt x="37" y="60"/>
                    </a:moveTo>
                    <a:lnTo>
                      <a:pt x="47" y="60"/>
                    </a:lnTo>
                    <a:lnTo>
                      <a:pt x="57" y="58"/>
                    </a:lnTo>
                    <a:lnTo>
                      <a:pt x="66" y="54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4" y="43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8" y="23"/>
                    </a:lnTo>
                    <a:lnTo>
                      <a:pt x="64" y="19"/>
                    </a:lnTo>
                    <a:lnTo>
                      <a:pt x="61" y="17"/>
                    </a:lnTo>
                    <a:lnTo>
                      <a:pt x="55" y="16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3" y="17"/>
                    </a:lnTo>
                    <a:lnTo>
                      <a:pt x="28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0" y="45"/>
                    </a:lnTo>
                    <a:lnTo>
                      <a:pt x="4" y="45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6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80" y="10"/>
                    </a:lnTo>
                    <a:lnTo>
                      <a:pt x="86" y="16"/>
                    </a:lnTo>
                    <a:lnTo>
                      <a:pt x="90" y="21"/>
                    </a:lnTo>
                    <a:lnTo>
                      <a:pt x="92" y="29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0" y="47"/>
                    </a:lnTo>
                    <a:lnTo>
                      <a:pt x="86" y="56"/>
                    </a:lnTo>
                    <a:lnTo>
                      <a:pt x="80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84" y="70"/>
                    </a:lnTo>
                    <a:lnTo>
                      <a:pt x="90" y="76"/>
                    </a:lnTo>
                    <a:lnTo>
                      <a:pt x="95" y="85"/>
                    </a:lnTo>
                    <a:lnTo>
                      <a:pt x="95" y="9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93" y="114"/>
                    </a:lnTo>
                    <a:lnTo>
                      <a:pt x="90" y="122"/>
                    </a:lnTo>
                    <a:lnTo>
                      <a:pt x="86" y="128"/>
                    </a:lnTo>
                    <a:lnTo>
                      <a:pt x="78" y="134"/>
                    </a:lnTo>
                    <a:lnTo>
                      <a:pt x="70" y="138"/>
                    </a:lnTo>
                    <a:lnTo>
                      <a:pt x="59" y="142"/>
                    </a:lnTo>
                    <a:lnTo>
                      <a:pt x="47" y="142"/>
                    </a:lnTo>
                    <a:lnTo>
                      <a:pt x="33" y="142"/>
                    </a:lnTo>
                    <a:lnTo>
                      <a:pt x="22" y="136"/>
                    </a:lnTo>
                    <a:lnTo>
                      <a:pt x="16" y="132"/>
                    </a:lnTo>
                    <a:lnTo>
                      <a:pt x="12" y="128"/>
                    </a:lnTo>
                    <a:lnTo>
                      <a:pt x="4" y="118"/>
                    </a:lnTo>
                    <a:lnTo>
                      <a:pt x="2" y="109"/>
                    </a:lnTo>
                    <a:lnTo>
                      <a:pt x="0" y="97"/>
                    </a:lnTo>
                    <a:lnTo>
                      <a:pt x="18" y="97"/>
                    </a:lnTo>
                    <a:lnTo>
                      <a:pt x="20" y="107"/>
                    </a:lnTo>
                    <a:lnTo>
                      <a:pt x="24" y="116"/>
                    </a:lnTo>
                    <a:lnTo>
                      <a:pt x="28" y="120"/>
                    </a:lnTo>
                    <a:lnTo>
                      <a:pt x="31" y="124"/>
                    </a:lnTo>
                    <a:lnTo>
                      <a:pt x="39" y="126"/>
                    </a:lnTo>
                    <a:lnTo>
                      <a:pt x="47" y="126"/>
                    </a:lnTo>
                    <a:lnTo>
                      <a:pt x="55" y="126"/>
                    </a:lnTo>
                    <a:lnTo>
                      <a:pt x="61" y="124"/>
                    </a:lnTo>
                    <a:lnTo>
                      <a:pt x="66" y="122"/>
                    </a:lnTo>
                    <a:lnTo>
                      <a:pt x="70" y="118"/>
                    </a:lnTo>
                    <a:lnTo>
                      <a:pt x="74" y="116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8" y="99"/>
                    </a:lnTo>
                    <a:lnTo>
                      <a:pt x="78" y="93"/>
                    </a:lnTo>
                    <a:lnTo>
                      <a:pt x="74" y="87"/>
                    </a:lnTo>
                    <a:lnTo>
                      <a:pt x="70" y="81"/>
                    </a:lnTo>
                    <a:lnTo>
                      <a:pt x="66" y="78"/>
                    </a:lnTo>
                    <a:lnTo>
                      <a:pt x="57" y="76"/>
                    </a:lnTo>
                    <a:lnTo>
                      <a:pt x="47" y="74"/>
                    </a:lnTo>
                    <a:lnTo>
                      <a:pt x="37" y="74"/>
                    </a:lnTo>
                    <a:lnTo>
                      <a:pt x="37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13960" y="449388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9" h="140">
                    <a:moveTo>
                      <a:pt x="78" y="107"/>
                    </a:moveTo>
                    <a:lnTo>
                      <a:pt x="78" y="140"/>
                    </a:lnTo>
                    <a:lnTo>
                      <a:pt x="60" y="140"/>
                    </a:lnTo>
                    <a:lnTo>
                      <a:pt x="60" y="107"/>
                    </a:lnTo>
                    <a:lnTo>
                      <a:pt x="0" y="107"/>
                    </a:lnTo>
                    <a:lnTo>
                      <a:pt x="0" y="90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91"/>
                    </a:lnTo>
                    <a:lnTo>
                      <a:pt x="99" y="91"/>
                    </a:lnTo>
                    <a:lnTo>
                      <a:pt x="99" y="107"/>
                    </a:lnTo>
                    <a:lnTo>
                      <a:pt x="7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15400" y="44953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0" y="64"/>
                    </a:moveTo>
                    <a:lnTo>
                      <a:pt x="45" y="64"/>
                    </a:lnTo>
                    <a:lnTo>
                      <a:pt x="45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41320" y="44938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95" h="140">
                    <a:moveTo>
                      <a:pt x="23" y="54"/>
                    </a:moveTo>
                    <a:lnTo>
                      <a:pt x="27" y="53"/>
                    </a:lnTo>
                    <a:lnTo>
                      <a:pt x="33" y="49"/>
                    </a:lnTo>
                    <a:lnTo>
                      <a:pt x="40" y="47"/>
                    </a:lnTo>
                    <a:lnTo>
                      <a:pt x="48" y="47"/>
                    </a:lnTo>
                    <a:lnTo>
                      <a:pt x="58" y="47"/>
                    </a:lnTo>
                    <a:lnTo>
                      <a:pt x="66" y="49"/>
                    </a:lnTo>
                    <a:lnTo>
                      <a:pt x="73" y="53"/>
                    </a:lnTo>
                    <a:lnTo>
                      <a:pt x="81" y="56"/>
                    </a:lnTo>
                    <a:lnTo>
                      <a:pt x="87" y="64"/>
                    </a:lnTo>
                    <a:lnTo>
                      <a:pt x="91" y="72"/>
                    </a:lnTo>
                    <a:lnTo>
                      <a:pt x="95" y="80"/>
                    </a:lnTo>
                    <a:lnTo>
                      <a:pt x="95" y="91"/>
                    </a:lnTo>
                    <a:lnTo>
                      <a:pt x="95" y="97"/>
                    </a:lnTo>
                    <a:lnTo>
                      <a:pt x="95" y="105"/>
                    </a:lnTo>
                    <a:lnTo>
                      <a:pt x="91" y="113"/>
                    </a:lnTo>
                    <a:lnTo>
                      <a:pt x="87" y="120"/>
                    </a:lnTo>
                    <a:lnTo>
                      <a:pt x="79" y="128"/>
                    </a:lnTo>
                    <a:lnTo>
                      <a:pt x="71" y="134"/>
                    </a:lnTo>
                    <a:lnTo>
                      <a:pt x="60" y="138"/>
                    </a:lnTo>
                    <a:lnTo>
                      <a:pt x="44" y="140"/>
                    </a:lnTo>
                    <a:lnTo>
                      <a:pt x="31" y="138"/>
                    </a:lnTo>
                    <a:lnTo>
                      <a:pt x="23" y="136"/>
                    </a:lnTo>
                    <a:lnTo>
                      <a:pt x="17" y="132"/>
                    </a:lnTo>
                    <a:lnTo>
                      <a:pt x="9" y="128"/>
                    </a:lnTo>
                    <a:lnTo>
                      <a:pt x="5" y="120"/>
                    </a:lnTo>
                    <a:lnTo>
                      <a:pt x="2" y="113"/>
                    </a:lnTo>
                    <a:lnTo>
                      <a:pt x="0" y="101"/>
                    </a:lnTo>
                    <a:lnTo>
                      <a:pt x="17" y="101"/>
                    </a:lnTo>
                    <a:lnTo>
                      <a:pt x="19" y="107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6" y="122"/>
                    </a:lnTo>
                    <a:lnTo>
                      <a:pt x="48" y="124"/>
                    </a:lnTo>
                    <a:lnTo>
                      <a:pt x="54" y="124"/>
                    </a:lnTo>
                    <a:lnTo>
                      <a:pt x="60" y="122"/>
                    </a:lnTo>
                    <a:lnTo>
                      <a:pt x="66" y="118"/>
                    </a:lnTo>
                    <a:lnTo>
                      <a:pt x="69" y="115"/>
                    </a:lnTo>
                    <a:lnTo>
                      <a:pt x="71" y="111"/>
                    </a:lnTo>
                    <a:lnTo>
                      <a:pt x="75" y="105"/>
                    </a:lnTo>
                    <a:lnTo>
                      <a:pt x="75" y="99"/>
                    </a:lnTo>
                    <a:lnTo>
                      <a:pt x="77" y="93"/>
                    </a:lnTo>
                    <a:lnTo>
                      <a:pt x="75" y="86"/>
                    </a:lnTo>
                    <a:lnTo>
                      <a:pt x="75" y="80"/>
                    </a:lnTo>
                    <a:lnTo>
                      <a:pt x="71" y="74"/>
                    </a:lnTo>
                    <a:lnTo>
                      <a:pt x="67" y="70"/>
                    </a:lnTo>
                    <a:lnTo>
                      <a:pt x="62" y="66"/>
                    </a:lnTo>
                    <a:lnTo>
                      <a:pt x="58" y="64"/>
                    </a:lnTo>
                    <a:lnTo>
                      <a:pt x="52" y="62"/>
                    </a:lnTo>
                    <a:lnTo>
                      <a:pt x="46" y="62"/>
                    </a:lnTo>
                    <a:lnTo>
                      <a:pt x="38" y="62"/>
                    </a:lnTo>
                    <a:lnTo>
                      <a:pt x="31" y="66"/>
                    </a:lnTo>
                    <a:lnTo>
                      <a:pt x="25" y="70"/>
                    </a:lnTo>
                    <a:lnTo>
                      <a:pt x="19" y="76"/>
                    </a:lnTo>
                    <a:lnTo>
                      <a:pt x="5" y="74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87" y="16"/>
                    </a:lnTo>
                    <a:lnTo>
                      <a:pt x="29" y="16"/>
                    </a:lnTo>
                    <a:lnTo>
                      <a:pt x="2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68320" y="449388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95" h="144">
                    <a:moveTo>
                      <a:pt x="76" y="37"/>
                    </a:moveTo>
                    <a:lnTo>
                      <a:pt x="74" y="29"/>
                    </a:lnTo>
                    <a:lnTo>
                      <a:pt x="68" y="22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22"/>
                    </a:lnTo>
                    <a:lnTo>
                      <a:pt x="29" y="29"/>
                    </a:lnTo>
                    <a:lnTo>
                      <a:pt x="26" y="37"/>
                    </a:lnTo>
                    <a:lnTo>
                      <a:pt x="20" y="55"/>
                    </a:lnTo>
                    <a:lnTo>
                      <a:pt x="18" y="60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9" y="53"/>
                    </a:lnTo>
                    <a:lnTo>
                      <a:pt x="45" y="51"/>
                    </a:lnTo>
                    <a:lnTo>
                      <a:pt x="53" y="51"/>
                    </a:lnTo>
                    <a:lnTo>
                      <a:pt x="59" y="51"/>
                    </a:lnTo>
                    <a:lnTo>
                      <a:pt x="66" y="53"/>
                    </a:lnTo>
                    <a:lnTo>
                      <a:pt x="74" y="57"/>
                    </a:lnTo>
                    <a:lnTo>
                      <a:pt x="80" y="60"/>
                    </a:lnTo>
                    <a:lnTo>
                      <a:pt x="86" y="66"/>
                    </a:lnTo>
                    <a:lnTo>
                      <a:pt x="92" y="74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5" y="105"/>
                    </a:lnTo>
                    <a:lnTo>
                      <a:pt x="93" y="115"/>
                    </a:lnTo>
                    <a:lnTo>
                      <a:pt x="90" y="122"/>
                    </a:lnTo>
                    <a:lnTo>
                      <a:pt x="84" y="130"/>
                    </a:lnTo>
                    <a:lnTo>
                      <a:pt x="76" y="136"/>
                    </a:lnTo>
                    <a:lnTo>
                      <a:pt x="70" y="140"/>
                    </a:lnTo>
                    <a:lnTo>
                      <a:pt x="61" y="142"/>
                    </a:lnTo>
                    <a:lnTo>
                      <a:pt x="53" y="144"/>
                    </a:lnTo>
                    <a:lnTo>
                      <a:pt x="47" y="144"/>
                    </a:lnTo>
                    <a:lnTo>
                      <a:pt x="39" y="142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2" y="124"/>
                    </a:lnTo>
                    <a:lnTo>
                      <a:pt x="6" y="113"/>
                    </a:lnTo>
                    <a:lnTo>
                      <a:pt x="2" y="101"/>
                    </a:lnTo>
                    <a:lnTo>
                      <a:pt x="2" y="90"/>
                    </a:lnTo>
                    <a:lnTo>
                      <a:pt x="0" y="76"/>
                    </a:lnTo>
                    <a:lnTo>
                      <a:pt x="2" y="64"/>
                    </a:lnTo>
                    <a:lnTo>
                      <a:pt x="2" y="51"/>
                    </a:lnTo>
                    <a:lnTo>
                      <a:pt x="6" y="39"/>
                    </a:lnTo>
                    <a:lnTo>
                      <a:pt x="12" y="27"/>
                    </a:lnTo>
                    <a:lnTo>
                      <a:pt x="18" y="16"/>
                    </a:lnTo>
                    <a:lnTo>
                      <a:pt x="28" y="8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72" y="4"/>
                    </a:lnTo>
                    <a:lnTo>
                      <a:pt x="78" y="8"/>
                    </a:lnTo>
                    <a:lnTo>
                      <a:pt x="84" y="14"/>
                    </a:lnTo>
                    <a:lnTo>
                      <a:pt x="88" y="20"/>
                    </a:lnTo>
                    <a:lnTo>
                      <a:pt x="92" y="27"/>
                    </a:lnTo>
                    <a:lnTo>
                      <a:pt x="93" y="37"/>
                    </a:lnTo>
                    <a:lnTo>
                      <a:pt x="76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70480" y="44982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35" y="60"/>
                    </a:lnTo>
                    <a:lnTo>
                      <a:pt x="40" y="60"/>
                    </a:lnTo>
                    <a:lnTo>
                      <a:pt x="44" y="56"/>
                    </a:lnTo>
                    <a:lnTo>
                      <a:pt x="48" y="53"/>
                    </a:lnTo>
                    <a:lnTo>
                      <a:pt x="52" y="49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56" y="31"/>
                    </a:lnTo>
                    <a:lnTo>
                      <a:pt x="54" y="22"/>
                    </a:lnTo>
                    <a:lnTo>
                      <a:pt x="50" y="12"/>
                    </a:lnTo>
                    <a:lnTo>
                      <a:pt x="46" y="6"/>
                    </a:lnTo>
                    <a:lnTo>
                      <a:pt x="42" y="4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21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14320" y="451404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97" h="135">
                    <a:moveTo>
                      <a:pt x="0" y="0"/>
                    </a:moveTo>
                    <a:lnTo>
                      <a:pt x="97" y="0"/>
                    </a:lnTo>
                    <a:lnTo>
                      <a:pt x="97" y="15"/>
                    </a:lnTo>
                    <a:lnTo>
                      <a:pt x="89" y="23"/>
                    </a:lnTo>
                    <a:lnTo>
                      <a:pt x="83" y="33"/>
                    </a:lnTo>
                    <a:lnTo>
                      <a:pt x="74" y="42"/>
                    </a:lnTo>
                    <a:lnTo>
                      <a:pt x="66" y="58"/>
                    </a:lnTo>
                    <a:lnTo>
                      <a:pt x="58" y="73"/>
                    </a:lnTo>
                    <a:lnTo>
                      <a:pt x="50" y="93"/>
                    </a:lnTo>
                    <a:lnTo>
                      <a:pt x="44" y="114"/>
                    </a:lnTo>
                    <a:lnTo>
                      <a:pt x="39" y="135"/>
                    </a:lnTo>
                    <a:lnTo>
                      <a:pt x="19" y="135"/>
                    </a:lnTo>
                    <a:lnTo>
                      <a:pt x="23" y="122"/>
                    </a:lnTo>
                    <a:lnTo>
                      <a:pt x="27" y="106"/>
                    </a:lnTo>
                    <a:lnTo>
                      <a:pt x="33" y="91"/>
                    </a:lnTo>
                    <a:lnTo>
                      <a:pt x="41" y="73"/>
                    </a:lnTo>
                    <a:lnTo>
                      <a:pt x="56" y="44"/>
                    </a:lnTo>
                    <a:lnTo>
                      <a:pt x="68" y="29"/>
                    </a:lnTo>
                    <a:lnTo>
                      <a:pt x="77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41320" y="45140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73" y="66"/>
                    </a:moveTo>
                    <a:lnTo>
                      <a:pt x="79" y="70"/>
                    </a:lnTo>
                    <a:lnTo>
                      <a:pt x="85" y="73"/>
                    </a:lnTo>
                    <a:lnTo>
                      <a:pt x="91" y="81"/>
                    </a:lnTo>
                    <a:lnTo>
                      <a:pt x="95" y="91"/>
                    </a:lnTo>
                    <a:lnTo>
                      <a:pt x="97" y="101"/>
                    </a:lnTo>
                    <a:lnTo>
                      <a:pt x="95" y="108"/>
                    </a:lnTo>
                    <a:lnTo>
                      <a:pt x="93" y="116"/>
                    </a:lnTo>
                    <a:lnTo>
                      <a:pt x="89" y="124"/>
                    </a:lnTo>
                    <a:lnTo>
                      <a:pt x="85" y="130"/>
                    </a:lnTo>
                    <a:lnTo>
                      <a:pt x="79" y="136"/>
                    </a:lnTo>
                    <a:lnTo>
                      <a:pt x="69" y="139"/>
                    </a:lnTo>
                    <a:lnTo>
                      <a:pt x="60" y="143"/>
                    </a:lnTo>
                    <a:lnTo>
                      <a:pt x="48" y="143"/>
                    </a:lnTo>
                    <a:lnTo>
                      <a:pt x="42" y="143"/>
                    </a:lnTo>
                    <a:lnTo>
                      <a:pt x="33" y="143"/>
                    </a:lnTo>
                    <a:lnTo>
                      <a:pt x="23" y="139"/>
                    </a:lnTo>
                    <a:lnTo>
                      <a:pt x="15" y="134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2" y="114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7" y="79"/>
                    </a:lnTo>
                    <a:lnTo>
                      <a:pt x="15" y="72"/>
                    </a:lnTo>
                    <a:lnTo>
                      <a:pt x="25" y="66"/>
                    </a:lnTo>
                    <a:lnTo>
                      <a:pt x="17" y="62"/>
                    </a:lnTo>
                    <a:lnTo>
                      <a:pt x="11" y="56"/>
                    </a:lnTo>
                    <a:lnTo>
                      <a:pt x="7" y="48"/>
                    </a:lnTo>
                    <a:lnTo>
                      <a:pt x="5" y="39"/>
                    </a:lnTo>
                    <a:lnTo>
                      <a:pt x="7" y="33"/>
                    </a:lnTo>
                    <a:lnTo>
                      <a:pt x="7" y="27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19" y="10"/>
                    </a:lnTo>
                    <a:lnTo>
                      <a:pt x="27" y="4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8" y="2"/>
                    </a:lnTo>
                    <a:lnTo>
                      <a:pt x="67" y="4"/>
                    </a:lnTo>
                    <a:lnTo>
                      <a:pt x="75" y="8"/>
                    </a:lnTo>
                    <a:lnTo>
                      <a:pt x="81" y="13"/>
                    </a:lnTo>
                    <a:lnTo>
                      <a:pt x="85" y="17"/>
                    </a:lnTo>
                    <a:lnTo>
                      <a:pt x="89" y="25"/>
                    </a:lnTo>
                    <a:lnTo>
                      <a:pt x="91" y="31"/>
                    </a:lnTo>
                    <a:lnTo>
                      <a:pt x="91" y="37"/>
                    </a:lnTo>
                    <a:lnTo>
                      <a:pt x="91" y="44"/>
                    </a:lnTo>
                    <a:lnTo>
                      <a:pt x="89" y="48"/>
                    </a:lnTo>
                    <a:lnTo>
                      <a:pt x="85" y="58"/>
                    </a:lnTo>
                    <a:lnTo>
                      <a:pt x="79" y="62"/>
                    </a:lnTo>
                    <a:lnTo>
                      <a:pt x="7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43120" y="4519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26"/>
                    </a:moveTo>
                    <a:lnTo>
                      <a:pt x="2" y="35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6" y="51"/>
                    </a:lnTo>
                    <a:lnTo>
                      <a:pt x="21" y="53"/>
                    </a:lnTo>
                    <a:lnTo>
                      <a:pt x="29" y="53"/>
                    </a:lnTo>
                    <a:lnTo>
                      <a:pt x="41" y="53"/>
                    </a:lnTo>
                    <a:lnTo>
                      <a:pt x="48" y="49"/>
                    </a:lnTo>
                    <a:lnTo>
                      <a:pt x="52" y="45"/>
                    </a:lnTo>
                    <a:lnTo>
                      <a:pt x="56" y="41"/>
                    </a:lnTo>
                    <a:lnTo>
                      <a:pt x="58" y="35"/>
                    </a:lnTo>
                    <a:lnTo>
                      <a:pt x="58" y="28"/>
                    </a:lnTo>
                    <a:lnTo>
                      <a:pt x="58" y="20"/>
                    </a:lnTo>
                    <a:lnTo>
                      <a:pt x="56" y="16"/>
                    </a:lnTo>
                    <a:lnTo>
                      <a:pt x="52" y="10"/>
                    </a:lnTo>
                    <a:lnTo>
                      <a:pt x="50" y="6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43480" y="4515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50" y="22"/>
                    </a:moveTo>
                    <a:lnTo>
                      <a:pt x="48" y="16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5" y="43"/>
                    </a:lnTo>
                    <a:lnTo>
                      <a:pt x="25" y="45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31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68680" y="45140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0" y="48"/>
                    </a:moveTo>
                    <a:lnTo>
                      <a:pt x="0" y="39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10" y="15"/>
                    </a:lnTo>
                    <a:lnTo>
                      <a:pt x="18" y="10"/>
                    </a:lnTo>
                    <a:lnTo>
                      <a:pt x="26" y="4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59" y="4"/>
                    </a:lnTo>
                    <a:lnTo>
                      <a:pt x="70" y="8"/>
                    </a:lnTo>
                    <a:lnTo>
                      <a:pt x="80" y="15"/>
                    </a:lnTo>
                    <a:lnTo>
                      <a:pt x="86" y="25"/>
                    </a:lnTo>
                    <a:lnTo>
                      <a:pt x="90" y="35"/>
                    </a:lnTo>
                    <a:lnTo>
                      <a:pt x="91" y="46"/>
                    </a:lnTo>
                    <a:lnTo>
                      <a:pt x="93" y="56"/>
                    </a:lnTo>
                    <a:lnTo>
                      <a:pt x="93" y="66"/>
                    </a:lnTo>
                    <a:lnTo>
                      <a:pt x="93" y="73"/>
                    </a:lnTo>
                    <a:lnTo>
                      <a:pt x="91" y="85"/>
                    </a:lnTo>
                    <a:lnTo>
                      <a:pt x="90" y="97"/>
                    </a:lnTo>
                    <a:lnTo>
                      <a:pt x="86" y="110"/>
                    </a:lnTo>
                    <a:lnTo>
                      <a:pt x="80" y="124"/>
                    </a:lnTo>
                    <a:lnTo>
                      <a:pt x="70" y="134"/>
                    </a:lnTo>
                    <a:lnTo>
                      <a:pt x="64" y="137"/>
                    </a:lnTo>
                    <a:lnTo>
                      <a:pt x="59" y="141"/>
                    </a:lnTo>
                    <a:lnTo>
                      <a:pt x="51" y="143"/>
                    </a:lnTo>
                    <a:lnTo>
                      <a:pt x="43" y="143"/>
                    </a:lnTo>
                    <a:lnTo>
                      <a:pt x="31" y="143"/>
                    </a:lnTo>
                    <a:lnTo>
                      <a:pt x="22" y="139"/>
                    </a:lnTo>
                    <a:lnTo>
                      <a:pt x="16" y="136"/>
                    </a:lnTo>
                    <a:lnTo>
                      <a:pt x="10" y="130"/>
                    </a:lnTo>
                    <a:lnTo>
                      <a:pt x="6" y="124"/>
                    </a:lnTo>
                    <a:lnTo>
                      <a:pt x="2" y="118"/>
                    </a:lnTo>
                    <a:lnTo>
                      <a:pt x="2" y="112"/>
                    </a:lnTo>
                    <a:lnTo>
                      <a:pt x="0" y="106"/>
                    </a:lnTo>
                    <a:lnTo>
                      <a:pt x="20" y="106"/>
                    </a:lnTo>
                    <a:lnTo>
                      <a:pt x="22" y="116"/>
                    </a:lnTo>
                    <a:lnTo>
                      <a:pt x="26" y="124"/>
                    </a:lnTo>
                    <a:lnTo>
                      <a:pt x="33" y="128"/>
                    </a:lnTo>
                    <a:lnTo>
                      <a:pt x="43" y="130"/>
                    </a:lnTo>
                    <a:lnTo>
                      <a:pt x="49" y="130"/>
                    </a:lnTo>
                    <a:lnTo>
                      <a:pt x="55" y="126"/>
                    </a:lnTo>
                    <a:lnTo>
                      <a:pt x="60" y="124"/>
                    </a:lnTo>
                    <a:lnTo>
                      <a:pt x="64" y="116"/>
                    </a:lnTo>
                    <a:lnTo>
                      <a:pt x="68" y="110"/>
                    </a:lnTo>
                    <a:lnTo>
                      <a:pt x="72" y="101"/>
                    </a:lnTo>
                    <a:lnTo>
                      <a:pt x="74" y="91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0" y="85"/>
                    </a:lnTo>
                    <a:lnTo>
                      <a:pt x="62" y="89"/>
                    </a:lnTo>
                    <a:lnTo>
                      <a:pt x="53" y="93"/>
                    </a:lnTo>
                    <a:lnTo>
                      <a:pt x="43" y="95"/>
                    </a:lnTo>
                    <a:lnTo>
                      <a:pt x="33" y="93"/>
                    </a:lnTo>
                    <a:lnTo>
                      <a:pt x="26" y="91"/>
                    </a:lnTo>
                    <a:lnTo>
                      <a:pt x="18" y="87"/>
                    </a:lnTo>
                    <a:lnTo>
                      <a:pt x="12" y="81"/>
                    </a:lnTo>
                    <a:lnTo>
                      <a:pt x="6" y="75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70120" y="45151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31"/>
                    </a:moveTo>
                    <a:lnTo>
                      <a:pt x="54" y="20"/>
                    </a:lnTo>
                    <a:lnTo>
                      <a:pt x="52" y="14"/>
                    </a:lnTo>
                    <a:lnTo>
                      <a:pt x="48" y="10"/>
                    </a:lnTo>
                    <a:lnTo>
                      <a:pt x="44" y="6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9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3" y="60"/>
                    </a:lnTo>
                    <a:lnTo>
                      <a:pt x="19" y="62"/>
                    </a:lnTo>
                    <a:lnTo>
                      <a:pt x="27" y="62"/>
                    </a:lnTo>
                    <a:lnTo>
                      <a:pt x="37" y="62"/>
                    </a:lnTo>
                    <a:lnTo>
                      <a:pt x="44" y="57"/>
                    </a:lnTo>
                    <a:lnTo>
                      <a:pt x="50" y="53"/>
                    </a:lnTo>
                    <a:lnTo>
                      <a:pt x="52" y="47"/>
                    </a:lnTo>
                    <a:lnTo>
                      <a:pt x="54" y="4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716120" y="453708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62" h="58">
                    <a:moveTo>
                      <a:pt x="4" y="16"/>
                    </a:moveTo>
                    <a:lnTo>
                      <a:pt x="25" y="23"/>
                    </a:lnTo>
                    <a:lnTo>
                      <a:pt x="25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58" y="16"/>
                    </a:lnTo>
                    <a:lnTo>
                      <a:pt x="62" y="25"/>
                    </a:lnTo>
                    <a:lnTo>
                      <a:pt x="41" y="33"/>
                    </a:lnTo>
                    <a:lnTo>
                      <a:pt x="53" y="50"/>
                    </a:lnTo>
                    <a:lnTo>
                      <a:pt x="43" y="58"/>
                    </a:lnTo>
                    <a:lnTo>
                      <a:pt x="31" y="39"/>
                    </a:lnTo>
                    <a:lnTo>
                      <a:pt x="18" y="58"/>
                    </a:lnTo>
                    <a:lnTo>
                      <a:pt x="8" y="50"/>
                    </a:lnTo>
                    <a:lnTo>
                      <a:pt x="22" y="33"/>
                    </a:lnTo>
                    <a:lnTo>
                      <a:pt x="0" y="2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741320" y="45338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97" h="144">
                    <a:moveTo>
                      <a:pt x="48" y="144"/>
                    </a:moveTo>
                    <a:lnTo>
                      <a:pt x="40" y="144"/>
                    </a:lnTo>
                    <a:lnTo>
                      <a:pt x="35" y="142"/>
                    </a:lnTo>
                    <a:lnTo>
                      <a:pt x="23" y="136"/>
                    </a:lnTo>
                    <a:lnTo>
                      <a:pt x="15" y="128"/>
                    </a:lnTo>
                    <a:lnTo>
                      <a:pt x="9" y="119"/>
                    </a:lnTo>
                    <a:lnTo>
                      <a:pt x="5" y="109"/>
                    </a:lnTo>
                    <a:lnTo>
                      <a:pt x="2" y="95"/>
                    </a:lnTo>
                    <a:lnTo>
                      <a:pt x="2" y="84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5" y="37"/>
                    </a:lnTo>
                    <a:lnTo>
                      <a:pt x="9" y="26"/>
                    </a:lnTo>
                    <a:lnTo>
                      <a:pt x="15" y="16"/>
                    </a:lnTo>
                    <a:lnTo>
                      <a:pt x="23" y="8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2" y="2"/>
                    </a:lnTo>
                    <a:lnTo>
                      <a:pt x="71" y="8"/>
                    </a:lnTo>
                    <a:lnTo>
                      <a:pt x="81" y="16"/>
                    </a:lnTo>
                    <a:lnTo>
                      <a:pt x="87" y="26"/>
                    </a:lnTo>
                    <a:lnTo>
                      <a:pt x="91" y="37"/>
                    </a:lnTo>
                    <a:lnTo>
                      <a:pt x="95" y="49"/>
                    </a:lnTo>
                    <a:lnTo>
                      <a:pt x="95" y="61"/>
                    </a:lnTo>
                    <a:lnTo>
                      <a:pt x="97" y="72"/>
                    </a:lnTo>
                    <a:lnTo>
                      <a:pt x="95" y="84"/>
                    </a:lnTo>
                    <a:lnTo>
                      <a:pt x="95" y="95"/>
                    </a:lnTo>
                    <a:lnTo>
                      <a:pt x="91" y="109"/>
                    </a:lnTo>
                    <a:lnTo>
                      <a:pt x="87" y="119"/>
                    </a:lnTo>
                    <a:lnTo>
                      <a:pt x="81" y="128"/>
                    </a:lnTo>
                    <a:lnTo>
                      <a:pt x="71" y="136"/>
                    </a:lnTo>
                    <a:lnTo>
                      <a:pt x="62" y="142"/>
                    </a:lnTo>
                    <a:lnTo>
                      <a:pt x="56" y="144"/>
                    </a:lnTo>
                    <a:lnTo>
                      <a:pt x="48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43120" y="453492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8" h="112">
                    <a:moveTo>
                      <a:pt x="29" y="0"/>
                    </a:moveTo>
                    <a:lnTo>
                      <a:pt x="23" y="2"/>
                    </a:lnTo>
                    <a:lnTo>
                      <a:pt x="17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4" y="23"/>
                    </a:lnTo>
                    <a:lnTo>
                      <a:pt x="2" y="33"/>
                    </a:lnTo>
                    <a:lnTo>
                      <a:pt x="0" y="43"/>
                    </a:lnTo>
                    <a:lnTo>
                      <a:pt x="0" y="56"/>
                    </a:lnTo>
                    <a:lnTo>
                      <a:pt x="0" y="70"/>
                    </a:lnTo>
                    <a:lnTo>
                      <a:pt x="2" y="79"/>
                    </a:lnTo>
                    <a:lnTo>
                      <a:pt x="4" y="89"/>
                    </a:lnTo>
                    <a:lnTo>
                      <a:pt x="8" y="97"/>
                    </a:lnTo>
                    <a:lnTo>
                      <a:pt x="12" y="105"/>
                    </a:lnTo>
                    <a:lnTo>
                      <a:pt x="17" y="109"/>
                    </a:lnTo>
                    <a:lnTo>
                      <a:pt x="23" y="112"/>
                    </a:lnTo>
                    <a:lnTo>
                      <a:pt x="29" y="112"/>
                    </a:lnTo>
                    <a:lnTo>
                      <a:pt x="37" y="112"/>
                    </a:lnTo>
                    <a:lnTo>
                      <a:pt x="43" y="109"/>
                    </a:lnTo>
                    <a:lnTo>
                      <a:pt x="47" y="105"/>
                    </a:lnTo>
                    <a:lnTo>
                      <a:pt x="52" y="97"/>
                    </a:lnTo>
                    <a:lnTo>
                      <a:pt x="54" y="89"/>
                    </a:lnTo>
                    <a:lnTo>
                      <a:pt x="56" y="79"/>
                    </a:lnTo>
                    <a:lnTo>
                      <a:pt x="58" y="70"/>
                    </a:lnTo>
                    <a:lnTo>
                      <a:pt x="58" y="56"/>
                    </a:lnTo>
                    <a:lnTo>
                      <a:pt x="58" y="43"/>
                    </a:lnTo>
                    <a:lnTo>
                      <a:pt x="56" y="33"/>
                    </a:lnTo>
                    <a:lnTo>
                      <a:pt x="54" y="23"/>
                    </a:lnTo>
                    <a:lnTo>
                      <a:pt x="52" y="16"/>
                    </a:lnTo>
                    <a:lnTo>
                      <a:pt x="47" y="8"/>
                    </a:lnTo>
                    <a:lnTo>
                      <a:pt x="43" y="4"/>
                    </a:lnTo>
                    <a:lnTo>
                      <a:pt x="3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66520" y="4533480"/>
                <a:ext cx="82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94960" y="453276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119" h="143">
                    <a:moveTo>
                      <a:pt x="20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84" y="2"/>
                    </a:lnTo>
                    <a:lnTo>
                      <a:pt x="92" y="4"/>
                    </a:lnTo>
                    <a:lnTo>
                      <a:pt x="99" y="8"/>
                    </a:lnTo>
                    <a:lnTo>
                      <a:pt x="105" y="13"/>
                    </a:lnTo>
                    <a:lnTo>
                      <a:pt x="109" y="19"/>
                    </a:lnTo>
                    <a:lnTo>
                      <a:pt x="113" y="27"/>
                    </a:lnTo>
                    <a:lnTo>
                      <a:pt x="113" y="39"/>
                    </a:lnTo>
                    <a:lnTo>
                      <a:pt x="113" y="46"/>
                    </a:lnTo>
                    <a:lnTo>
                      <a:pt x="111" y="52"/>
                    </a:lnTo>
                    <a:lnTo>
                      <a:pt x="107" y="62"/>
                    </a:lnTo>
                    <a:lnTo>
                      <a:pt x="99" y="68"/>
                    </a:lnTo>
                    <a:lnTo>
                      <a:pt x="94" y="72"/>
                    </a:lnTo>
                    <a:lnTo>
                      <a:pt x="99" y="76"/>
                    </a:lnTo>
                    <a:lnTo>
                      <a:pt x="105" y="79"/>
                    </a:lnTo>
                    <a:lnTo>
                      <a:pt x="107" y="83"/>
                    </a:lnTo>
                    <a:lnTo>
                      <a:pt x="109" y="87"/>
                    </a:lnTo>
                    <a:lnTo>
                      <a:pt x="109" y="93"/>
                    </a:lnTo>
                    <a:lnTo>
                      <a:pt x="111" y="99"/>
                    </a:lnTo>
                    <a:lnTo>
                      <a:pt x="111" y="124"/>
                    </a:lnTo>
                    <a:lnTo>
                      <a:pt x="111" y="126"/>
                    </a:lnTo>
                    <a:lnTo>
                      <a:pt x="111" y="130"/>
                    </a:lnTo>
                    <a:lnTo>
                      <a:pt x="113" y="134"/>
                    </a:lnTo>
                    <a:lnTo>
                      <a:pt x="115" y="138"/>
                    </a:lnTo>
                    <a:lnTo>
                      <a:pt x="119" y="140"/>
                    </a:lnTo>
                    <a:lnTo>
                      <a:pt x="119" y="143"/>
                    </a:lnTo>
                    <a:lnTo>
                      <a:pt x="95" y="143"/>
                    </a:lnTo>
                    <a:lnTo>
                      <a:pt x="94" y="134"/>
                    </a:lnTo>
                    <a:lnTo>
                      <a:pt x="92" y="124"/>
                    </a:lnTo>
                    <a:lnTo>
                      <a:pt x="92" y="114"/>
                    </a:lnTo>
                    <a:lnTo>
                      <a:pt x="92" y="107"/>
                    </a:lnTo>
                    <a:lnTo>
                      <a:pt x="92" y="99"/>
                    </a:lnTo>
                    <a:lnTo>
                      <a:pt x="88" y="89"/>
                    </a:lnTo>
                    <a:lnTo>
                      <a:pt x="84" y="87"/>
                    </a:lnTo>
                    <a:lnTo>
                      <a:pt x="80" y="83"/>
                    </a:lnTo>
                    <a:lnTo>
                      <a:pt x="74" y="83"/>
                    </a:lnTo>
                    <a:lnTo>
                      <a:pt x="66" y="81"/>
                    </a:lnTo>
                    <a:lnTo>
                      <a:pt x="20" y="81"/>
                    </a:lnTo>
                    <a:lnTo>
                      <a:pt x="2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96400" y="4534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0" y="49"/>
                    </a:moveTo>
                    <a:lnTo>
                      <a:pt x="44" y="49"/>
                    </a:lnTo>
                    <a:lnTo>
                      <a:pt x="54" y="47"/>
                    </a:lnTo>
                    <a:lnTo>
                      <a:pt x="64" y="43"/>
                    </a:lnTo>
                    <a:lnTo>
                      <a:pt x="68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4" y="24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68" y="6"/>
                    </a:lnTo>
                    <a:lnTo>
                      <a:pt x="64" y="4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94240" y="44924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50" h="139">
                    <a:moveTo>
                      <a:pt x="50" y="139"/>
                    </a:moveTo>
                    <a:lnTo>
                      <a:pt x="33" y="1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7" y="25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4" y="8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92800" y="451368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54"/>
                    </a:moveTo>
                    <a:lnTo>
                      <a:pt x="4" y="33"/>
                    </a:lnTo>
                    <a:lnTo>
                      <a:pt x="14" y="15"/>
                    </a:lnTo>
                    <a:lnTo>
                      <a:pt x="33" y="4"/>
                    </a:lnTo>
                    <a:lnTo>
                      <a:pt x="52" y="0"/>
                    </a:lnTo>
                    <a:lnTo>
                      <a:pt x="74" y="4"/>
                    </a:lnTo>
                    <a:lnTo>
                      <a:pt x="93" y="15"/>
                    </a:lnTo>
                    <a:lnTo>
                      <a:pt x="103" y="33"/>
                    </a:lnTo>
                    <a:lnTo>
                      <a:pt x="107" y="54"/>
                    </a:lnTo>
                    <a:lnTo>
                      <a:pt x="103" y="76"/>
                    </a:lnTo>
                    <a:lnTo>
                      <a:pt x="93" y="93"/>
                    </a:lnTo>
                    <a:lnTo>
                      <a:pt x="74" y="105"/>
                    </a:lnTo>
                    <a:lnTo>
                      <a:pt x="52" y="107"/>
                    </a:lnTo>
                    <a:lnTo>
                      <a:pt x="33" y="105"/>
                    </a:lnTo>
                    <a:lnTo>
                      <a:pt x="14" y="93"/>
                    </a:lnTo>
                    <a:lnTo>
                      <a:pt x="4" y="7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1719000" y="4360680"/>
              <a:ext cx="421920" cy="150840"/>
              <a:chOff x="1719000" y="4360680"/>
              <a:chExt cx="421920" cy="150840"/>
            </a:xfrm>
          </p:grpSpPr>
          <p:sp>
            <p:nvSpPr>
              <p:cNvPr id="1054" name=""/>
              <p:cNvSpPr/>
              <p:nvPr/>
            </p:nvSpPr>
            <p:spPr>
              <a:xfrm>
                <a:off x="1719000" y="4364280"/>
                <a:ext cx="421920" cy="147240"/>
              </a:xfrm>
              <a:custGeom>
                <a:avLst/>
                <a:gdLst/>
                <a:ahLst/>
                <a:rect l="l" t="t" r="r" b="b"/>
                <a:pathLst>
                  <a:path w="2087" h="2296">
                    <a:moveTo>
                      <a:pt x="35" y="1605"/>
                    </a:moveTo>
                    <a:lnTo>
                      <a:pt x="108" y="1711"/>
                    </a:lnTo>
                    <a:lnTo>
                      <a:pt x="0" y="1911"/>
                    </a:lnTo>
                    <a:lnTo>
                      <a:pt x="303" y="1869"/>
                    </a:lnTo>
                    <a:lnTo>
                      <a:pt x="254" y="2122"/>
                    </a:lnTo>
                    <a:lnTo>
                      <a:pt x="434" y="2002"/>
                    </a:lnTo>
                    <a:lnTo>
                      <a:pt x="471" y="2296"/>
                    </a:lnTo>
                    <a:lnTo>
                      <a:pt x="557" y="2163"/>
                    </a:lnTo>
                    <a:lnTo>
                      <a:pt x="666" y="2296"/>
                    </a:lnTo>
                    <a:lnTo>
                      <a:pt x="775" y="2057"/>
                    </a:lnTo>
                    <a:lnTo>
                      <a:pt x="922" y="2268"/>
                    </a:lnTo>
                    <a:lnTo>
                      <a:pt x="970" y="1990"/>
                    </a:lnTo>
                    <a:lnTo>
                      <a:pt x="1261" y="2057"/>
                    </a:lnTo>
                    <a:lnTo>
                      <a:pt x="1152" y="1844"/>
                    </a:lnTo>
                    <a:lnTo>
                      <a:pt x="1456" y="1776"/>
                    </a:lnTo>
                    <a:lnTo>
                      <a:pt x="1261" y="1592"/>
                    </a:lnTo>
                    <a:lnTo>
                      <a:pt x="1444" y="1515"/>
                    </a:lnTo>
                    <a:lnTo>
                      <a:pt x="1177" y="1367"/>
                    </a:lnTo>
                    <a:lnTo>
                      <a:pt x="1334" y="1196"/>
                    </a:lnTo>
                    <a:lnTo>
                      <a:pt x="1055" y="1156"/>
                    </a:lnTo>
                    <a:lnTo>
                      <a:pt x="1286" y="1008"/>
                    </a:lnTo>
                    <a:lnTo>
                      <a:pt x="1139" y="887"/>
                    </a:lnTo>
                    <a:lnTo>
                      <a:pt x="1359" y="784"/>
                    </a:lnTo>
                    <a:lnTo>
                      <a:pt x="1237" y="649"/>
                    </a:lnTo>
                    <a:lnTo>
                      <a:pt x="1516" y="610"/>
                    </a:lnTo>
                    <a:lnTo>
                      <a:pt x="1420" y="450"/>
                    </a:lnTo>
                    <a:lnTo>
                      <a:pt x="1601" y="450"/>
                    </a:lnTo>
                    <a:lnTo>
                      <a:pt x="1612" y="237"/>
                    </a:lnTo>
                    <a:lnTo>
                      <a:pt x="1783" y="425"/>
                    </a:lnTo>
                    <a:lnTo>
                      <a:pt x="1856" y="212"/>
                    </a:lnTo>
                    <a:lnTo>
                      <a:pt x="1978" y="437"/>
                    </a:lnTo>
                    <a:lnTo>
                      <a:pt x="2087" y="370"/>
                    </a:lnTo>
                    <a:lnTo>
                      <a:pt x="1930" y="0"/>
                    </a:lnTo>
                    <a:lnTo>
                      <a:pt x="1772" y="212"/>
                    </a:lnTo>
                    <a:lnTo>
                      <a:pt x="1577" y="66"/>
                    </a:lnTo>
                    <a:lnTo>
                      <a:pt x="1516" y="332"/>
                    </a:lnTo>
                    <a:lnTo>
                      <a:pt x="1273" y="344"/>
                    </a:lnTo>
                    <a:lnTo>
                      <a:pt x="1309" y="544"/>
                    </a:lnTo>
                    <a:lnTo>
                      <a:pt x="1079" y="596"/>
                    </a:lnTo>
                    <a:lnTo>
                      <a:pt x="1177" y="754"/>
                    </a:lnTo>
                    <a:lnTo>
                      <a:pt x="1006" y="875"/>
                    </a:lnTo>
                    <a:lnTo>
                      <a:pt x="1116" y="980"/>
                    </a:lnTo>
                    <a:lnTo>
                      <a:pt x="909" y="1156"/>
                    </a:lnTo>
                    <a:lnTo>
                      <a:pt x="1105" y="1261"/>
                    </a:lnTo>
                    <a:lnTo>
                      <a:pt x="1043" y="1407"/>
                    </a:lnTo>
                    <a:lnTo>
                      <a:pt x="1188" y="1500"/>
                    </a:lnTo>
                    <a:lnTo>
                      <a:pt x="1105" y="1592"/>
                    </a:lnTo>
                    <a:lnTo>
                      <a:pt x="1213" y="1725"/>
                    </a:lnTo>
                    <a:lnTo>
                      <a:pt x="1043" y="1725"/>
                    </a:lnTo>
                    <a:lnTo>
                      <a:pt x="1066" y="1884"/>
                    </a:lnTo>
                    <a:lnTo>
                      <a:pt x="886" y="1831"/>
                    </a:lnTo>
                    <a:lnTo>
                      <a:pt x="873" y="1977"/>
                    </a:lnTo>
                    <a:lnTo>
                      <a:pt x="763" y="1856"/>
                    </a:lnTo>
                    <a:lnTo>
                      <a:pt x="655" y="2122"/>
                    </a:lnTo>
                    <a:lnTo>
                      <a:pt x="575" y="2021"/>
                    </a:lnTo>
                    <a:lnTo>
                      <a:pt x="520" y="2107"/>
                    </a:lnTo>
                    <a:lnTo>
                      <a:pt x="521" y="1913"/>
                    </a:lnTo>
                    <a:lnTo>
                      <a:pt x="393" y="1919"/>
                    </a:lnTo>
                    <a:lnTo>
                      <a:pt x="425" y="1764"/>
                    </a:lnTo>
                    <a:lnTo>
                      <a:pt x="228" y="1776"/>
                    </a:lnTo>
                    <a:lnTo>
                      <a:pt x="260" y="1675"/>
                    </a:lnTo>
                    <a:lnTo>
                      <a:pt x="157" y="1542"/>
                    </a:lnTo>
                    <a:lnTo>
                      <a:pt x="36" y="1605"/>
                    </a:lnTo>
                    <a:lnTo>
                      <a:pt x="36" y="1605"/>
                    </a:lnTo>
                    <a:lnTo>
                      <a:pt x="35" y="1605"/>
                    </a:lnTo>
                    <a:close/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46360" y="4491360"/>
                <a:ext cx="57600" cy="18720"/>
              </a:xfrm>
              <a:custGeom>
                <a:avLst/>
                <a:gdLst/>
                <a:ahLst/>
                <a:rect l="l" t="t" r="r" b="b"/>
                <a:pathLst>
                  <a:path w="287" h="294">
                    <a:moveTo>
                      <a:pt x="88" y="0"/>
                    </a:moveTo>
                    <a:lnTo>
                      <a:pt x="51" y="251"/>
                    </a:lnTo>
                    <a:lnTo>
                      <a:pt x="263" y="121"/>
                    </a:lnTo>
                    <a:lnTo>
                      <a:pt x="287" y="257"/>
                    </a:lnTo>
                    <a:lnTo>
                      <a:pt x="237" y="171"/>
                    </a:lnTo>
                    <a:lnTo>
                      <a:pt x="0" y="29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928880" y="4484520"/>
                <a:ext cx="67320" cy="16920"/>
              </a:xfrm>
              <a:custGeom>
                <a:avLst/>
                <a:gdLst/>
                <a:ahLst/>
                <a:rect l="l" t="t" r="r" b="b"/>
                <a:pathLst>
                  <a:path w="335" h="268">
                    <a:moveTo>
                      <a:pt x="213" y="0"/>
                    </a:moveTo>
                    <a:lnTo>
                      <a:pt x="280" y="226"/>
                    </a:lnTo>
                    <a:lnTo>
                      <a:pt x="0" y="179"/>
                    </a:lnTo>
                    <a:lnTo>
                      <a:pt x="335" y="268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850400" y="4473720"/>
                <a:ext cx="73080" cy="19800"/>
              </a:xfrm>
              <a:custGeom>
                <a:avLst/>
                <a:gdLst/>
                <a:ahLst/>
                <a:rect l="l" t="t" r="r" b="b"/>
                <a:pathLst>
                  <a:path w="362" h="312">
                    <a:moveTo>
                      <a:pt x="0" y="311"/>
                    </a:moveTo>
                    <a:lnTo>
                      <a:pt x="81" y="54"/>
                    </a:lnTo>
                    <a:lnTo>
                      <a:pt x="186" y="148"/>
                    </a:lnTo>
                    <a:lnTo>
                      <a:pt x="207" y="33"/>
                    </a:lnTo>
                    <a:lnTo>
                      <a:pt x="362" y="102"/>
                    </a:lnTo>
                    <a:lnTo>
                      <a:pt x="193" y="0"/>
                    </a:lnTo>
                    <a:lnTo>
                      <a:pt x="169" y="102"/>
                    </a:lnTo>
                    <a:lnTo>
                      <a:pt x="61" y="12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03320" y="4421160"/>
                <a:ext cx="27360" cy="12960"/>
              </a:xfrm>
              <a:custGeom>
                <a:avLst/>
                <a:gdLst/>
                <a:ahLst/>
                <a:rect l="l" t="t" r="r" b="b"/>
                <a:pathLst>
                  <a:path w="135" h="205">
                    <a:moveTo>
                      <a:pt x="62" y="0"/>
                    </a:moveTo>
                    <a:lnTo>
                      <a:pt x="135" y="88"/>
                    </a:lnTo>
                    <a:lnTo>
                      <a:pt x="0" y="205"/>
                    </a:lnTo>
                    <a:lnTo>
                      <a:pt x="93" y="81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03040" y="4396320"/>
                <a:ext cx="47520" cy="10440"/>
              </a:xfrm>
              <a:custGeom>
                <a:avLst/>
                <a:gdLst/>
                <a:ahLst/>
                <a:rect l="l" t="t" r="r" b="b"/>
                <a:pathLst>
                  <a:path w="236" h="169">
                    <a:moveTo>
                      <a:pt x="0" y="169"/>
                    </a:moveTo>
                    <a:lnTo>
                      <a:pt x="199" y="122"/>
                    </a:lnTo>
                    <a:lnTo>
                      <a:pt x="99" y="0"/>
                    </a:lnTo>
                    <a:lnTo>
                      <a:pt x="236" y="130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23920" y="4360680"/>
                <a:ext cx="77040" cy="14040"/>
              </a:xfrm>
              <a:custGeom>
                <a:avLst/>
                <a:gdLst/>
                <a:ahLst/>
                <a:rect l="l" t="t" r="r" b="b"/>
                <a:pathLst>
                  <a:path w="382" h="224">
                    <a:moveTo>
                      <a:pt x="0" y="224"/>
                    </a:moveTo>
                    <a:lnTo>
                      <a:pt x="44" y="46"/>
                    </a:lnTo>
                    <a:lnTo>
                      <a:pt x="255" y="204"/>
                    </a:lnTo>
                    <a:lnTo>
                      <a:pt x="382" y="46"/>
                    </a:lnTo>
                    <a:lnTo>
                      <a:pt x="255" y="150"/>
                    </a:lnTo>
                    <a:lnTo>
                      <a:pt x="12" y="0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98440" y="4388040"/>
                <a:ext cx="41760" cy="12240"/>
              </a:xfrm>
              <a:custGeom>
                <a:avLst/>
                <a:gdLst/>
                <a:ahLst/>
                <a:rect l="l" t="t" r="r" b="b"/>
                <a:pathLst>
                  <a:path w="207" h="195">
                    <a:moveTo>
                      <a:pt x="0" y="0"/>
                    </a:moveTo>
                    <a:lnTo>
                      <a:pt x="82" y="195"/>
                    </a:lnTo>
                    <a:lnTo>
                      <a:pt x="207" y="66"/>
                    </a:lnTo>
                    <a:lnTo>
                      <a:pt x="88" y="1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972800" y="44438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188" h="219">
                    <a:moveTo>
                      <a:pt x="87" y="0"/>
                    </a:moveTo>
                    <a:lnTo>
                      <a:pt x="0" y="123"/>
                    </a:lnTo>
                    <a:lnTo>
                      <a:pt x="188" y="219"/>
                    </a:lnTo>
                    <a:lnTo>
                      <a:pt x="61" y="115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63" name="" descr=""/>
          <p:cNvPicPr/>
          <p:nvPr/>
        </p:nvPicPr>
        <p:blipFill>
          <a:blip r:embed="rId3"/>
          <a:stretch/>
        </p:blipFill>
        <p:spPr>
          <a:xfrm>
            <a:off x="1139760" y="4162320"/>
            <a:ext cx="317520" cy="2905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 flipH="1">
            <a:off x="1076040" y="411480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92400" y="40766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1601640" y="4232160"/>
            <a:ext cx="312840" cy="155520"/>
            <a:chOff x="1601640" y="4232160"/>
            <a:chExt cx="312840" cy="155520"/>
          </a:xfrm>
        </p:grpSpPr>
        <p:sp>
          <p:nvSpPr>
            <p:cNvPr id="1067" name=""/>
            <p:cNvSpPr/>
            <p:nvPr/>
          </p:nvSpPr>
          <p:spPr>
            <a:xfrm>
              <a:off x="1626120" y="4259520"/>
              <a:ext cx="265320" cy="128160"/>
            </a:xfrm>
            <a:custGeom>
              <a:avLst/>
              <a:gdLst/>
              <a:ahLst/>
              <a:rect l="l" t="t" r="r" b="b"/>
              <a:pathLst>
                <a:path w="2892" h="1905">
                  <a:moveTo>
                    <a:pt x="2892" y="1778"/>
                  </a:moveTo>
                  <a:lnTo>
                    <a:pt x="2884" y="1605"/>
                  </a:lnTo>
                  <a:lnTo>
                    <a:pt x="2862" y="1442"/>
                  </a:lnTo>
                  <a:lnTo>
                    <a:pt x="2831" y="1289"/>
                  </a:lnTo>
                  <a:lnTo>
                    <a:pt x="2789" y="1147"/>
                  </a:lnTo>
                  <a:lnTo>
                    <a:pt x="2740" y="1019"/>
                  </a:lnTo>
                  <a:lnTo>
                    <a:pt x="2682" y="903"/>
                  </a:lnTo>
                  <a:lnTo>
                    <a:pt x="2622" y="797"/>
                  </a:lnTo>
                  <a:lnTo>
                    <a:pt x="2562" y="702"/>
                  </a:lnTo>
                  <a:lnTo>
                    <a:pt x="2502" y="616"/>
                  </a:lnTo>
                  <a:lnTo>
                    <a:pt x="2442" y="545"/>
                  </a:lnTo>
                  <a:lnTo>
                    <a:pt x="2335" y="432"/>
                  </a:lnTo>
                  <a:lnTo>
                    <a:pt x="2261" y="364"/>
                  </a:lnTo>
                  <a:lnTo>
                    <a:pt x="2232" y="343"/>
                  </a:lnTo>
                  <a:lnTo>
                    <a:pt x="2232" y="0"/>
                  </a:lnTo>
                  <a:lnTo>
                    <a:pt x="659" y="0"/>
                  </a:lnTo>
                  <a:lnTo>
                    <a:pt x="659" y="343"/>
                  </a:lnTo>
                  <a:lnTo>
                    <a:pt x="630" y="364"/>
                  </a:lnTo>
                  <a:lnTo>
                    <a:pt x="555" y="432"/>
                  </a:lnTo>
                  <a:lnTo>
                    <a:pt x="452" y="545"/>
                  </a:lnTo>
                  <a:lnTo>
                    <a:pt x="392" y="616"/>
                  </a:lnTo>
                  <a:lnTo>
                    <a:pt x="332" y="702"/>
                  </a:lnTo>
                  <a:lnTo>
                    <a:pt x="270" y="797"/>
                  </a:lnTo>
                  <a:lnTo>
                    <a:pt x="211" y="903"/>
                  </a:lnTo>
                  <a:lnTo>
                    <a:pt x="155" y="1019"/>
                  </a:lnTo>
                  <a:lnTo>
                    <a:pt x="105" y="1147"/>
                  </a:lnTo>
                  <a:lnTo>
                    <a:pt x="62" y="1289"/>
                  </a:lnTo>
                  <a:lnTo>
                    <a:pt x="31" y="1442"/>
                  </a:lnTo>
                  <a:lnTo>
                    <a:pt x="10" y="1605"/>
                  </a:lnTo>
                  <a:lnTo>
                    <a:pt x="0" y="1778"/>
                  </a:lnTo>
                  <a:lnTo>
                    <a:pt x="66" y="1789"/>
                  </a:lnTo>
                  <a:lnTo>
                    <a:pt x="250" y="1816"/>
                  </a:lnTo>
                  <a:lnTo>
                    <a:pt x="541" y="1853"/>
                  </a:lnTo>
                  <a:lnTo>
                    <a:pt x="719" y="1871"/>
                  </a:lnTo>
                  <a:lnTo>
                    <a:pt x="913" y="1884"/>
                  </a:lnTo>
                  <a:lnTo>
                    <a:pt x="1127" y="1900"/>
                  </a:lnTo>
                  <a:lnTo>
                    <a:pt x="1354" y="1902"/>
                  </a:lnTo>
                  <a:lnTo>
                    <a:pt x="1594" y="1905"/>
                  </a:lnTo>
                  <a:lnTo>
                    <a:pt x="1842" y="1900"/>
                  </a:lnTo>
                  <a:lnTo>
                    <a:pt x="2100" y="1884"/>
                  </a:lnTo>
                  <a:lnTo>
                    <a:pt x="2360" y="1859"/>
                  </a:lnTo>
                  <a:lnTo>
                    <a:pt x="2626" y="1824"/>
                  </a:lnTo>
                  <a:lnTo>
                    <a:pt x="2892" y="17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08200" y="428652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34840" y="428652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762200" y="428652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88840" y="428652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708200" y="430632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34840" y="430632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762200" y="430632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88840" y="430632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08200" y="432540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34840" y="432540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62200" y="4325400"/>
              <a:ext cx="194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88840" y="4325400"/>
              <a:ext cx="1908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08200" y="4345200"/>
              <a:ext cx="19080" cy="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734840" y="4345200"/>
              <a:ext cx="19440" cy="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62200" y="4345200"/>
              <a:ext cx="19440" cy="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788840" y="4345200"/>
              <a:ext cx="19080" cy="1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602000" y="4232160"/>
              <a:ext cx="312120" cy="84600"/>
            </a:xfrm>
            <a:custGeom>
              <a:avLst/>
              <a:gdLst/>
              <a:ahLst/>
              <a:rect l="l" t="t" r="r" b="b"/>
              <a:pathLst>
                <a:path w="3404" h="1258">
                  <a:moveTo>
                    <a:pt x="1720" y="0"/>
                  </a:moveTo>
                  <a:lnTo>
                    <a:pt x="1947" y="0"/>
                  </a:lnTo>
                  <a:lnTo>
                    <a:pt x="2184" y="3"/>
                  </a:lnTo>
                  <a:lnTo>
                    <a:pt x="2302" y="7"/>
                  </a:lnTo>
                  <a:lnTo>
                    <a:pt x="2422" y="19"/>
                  </a:lnTo>
                  <a:lnTo>
                    <a:pt x="2539" y="36"/>
                  </a:lnTo>
                  <a:lnTo>
                    <a:pt x="2653" y="58"/>
                  </a:lnTo>
                  <a:lnTo>
                    <a:pt x="2766" y="89"/>
                  </a:lnTo>
                  <a:lnTo>
                    <a:pt x="2872" y="124"/>
                  </a:lnTo>
                  <a:lnTo>
                    <a:pt x="2971" y="174"/>
                  </a:lnTo>
                  <a:lnTo>
                    <a:pt x="3066" y="230"/>
                  </a:lnTo>
                  <a:lnTo>
                    <a:pt x="3152" y="302"/>
                  </a:lnTo>
                  <a:lnTo>
                    <a:pt x="3231" y="383"/>
                  </a:lnTo>
                  <a:lnTo>
                    <a:pt x="3297" y="480"/>
                  </a:lnTo>
                  <a:lnTo>
                    <a:pt x="3330" y="531"/>
                  </a:lnTo>
                  <a:lnTo>
                    <a:pt x="3355" y="589"/>
                  </a:lnTo>
                  <a:lnTo>
                    <a:pt x="3382" y="663"/>
                  </a:lnTo>
                  <a:lnTo>
                    <a:pt x="3400" y="734"/>
                  </a:lnTo>
                  <a:lnTo>
                    <a:pt x="3404" y="802"/>
                  </a:lnTo>
                  <a:lnTo>
                    <a:pt x="3404" y="866"/>
                  </a:lnTo>
                  <a:lnTo>
                    <a:pt x="3394" y="926"/>
                  </a:lnTo>
                  <a:lnTo>
                    <a:pt x="3379" y="982"/>
                  </a:lnTo>
                  <a:lnTo>
                    <a:pt x="3357" y="1031"/>
                  </a:lnTo>
                  <a:lnTo>
                    <a:pt x="3336" y="1077"/>
                  </a:lnTo>
                  <a:lnTo>
                    <a:pt x="3284" y="1155"/>
                  </a:lnTo>
                  <a:lnTo>
                    <a:pt x="3235" y="1213"/>
                  </a:lnTo>
                  <a:lnTo>
                    <a:pt x="3194" y="1244"/>
                  </a:lnTo>
                  <a:lnTo>
                    <a:pt x="3181" y="1258"/>
                  </a:lnTo>
                  <a:lnTo>
                    <a:pt x="2547" y="709"/>
                  </a:lnTo>
                  <a:lnTo>
                    <a:pt x="2547" y="294"/>
                  </a:lnTo>
                  <a:lnTo>
                    <a:pt x="861" y="294"/>
                  </a:lnTo>
                  <a:lnTo>
                    <a:pt x="861" y="709"/>
                  </a:lnTo>
                  <a:lnTo>
                    <a:pt x="225" y="1258"/>
                  </a:lnTo>
                  <a:lnTo>
                    <a:pt x="210" y="1244"/>
                  </a:lnTo>
                  <a:lnTo>
                    <a:pt x="171" y="1213"/>
                  </a:lnTo>
                  <a:lnTo>
                    <a:pt x="120" y="1155"/>
                  </a:lnTo>
                  <a:lnTo>
                    <a:pt x="68" y="1077"/>
                  </a:lnTo>
                  <a:lnTo>
                    <a:pt x="47" y="1031"/>
                  </a:lnTo>
                  <a:lnTo>
                    <a:pt x="25" y="982"/>
                  </a:lnTo>
                  <a:lnTo>
                    <a:pt x="12" y="926"/>
                  </a:lnTo>
                  <a:lnTo>
                    <a:pt x="0" y="866"/>
                  </a:lnTo>
                  <a:lnTo>
                    <a:pt x="0" y="802"/>
                  </a:lnTo>
                  <a:lnTo>
                    <a:pt x="8" y="734"/>
                  </a:lnTo>
                  <a:lnTo>
                    <a:pt x="22" y="663"/>
                  </a:lnTo>
                  <a:lnTo>
                    <a:pt x="51" y="589"/>
                  </a:lnTo>
                  <a:lnTo>
                    <a:pt x="111" y="480"/>
                  </a:lnTo>
                  <a:lnTo>
                    <a:pt x="179" y="383"/>
                  </a:lnTo>
                  <a:lnTo>
                    <a:pt x="260" y="302"/>
                  </a:lnTo>
                  <a:lnTo>
                    <a:pt x="347" y="230"/>
                  </a:lnTo>
                  <a:lnTo>
                    <a:pt x="444" y="174"/>
                  </a:lnTo>
                  <a:lnTo>
                    <a:pt x="549" y="124"/>
                  </a:lnTo>
                  <a:lnTo>
                    <a:pt x="660" y="89"/>
                  </a:lnTo>
                  <a:lnTo>
                    <a:pt x="774" y="58"/>
                  </a:lnTo>
                  <a:lnTo>
                    <a:pt x="894" y="36"/>
                  </a:lnTo>
                  <a:lnTo>
                    <a:pt x="1014" y="19"/>
                  </a:lnTo>
                  <a:lnTo>
                    <a:pt x="1135" y="7"/>
                  </a:lnTo>
                  <a:lnTo>
                    <a:pt x="1259" y="3"/>
                  </a:lnTo>
                  <a:lnTo>
                    <a:pt x="1497" y="0"/>
                  </a:lnTo>
                  <a:lnTo>
                    <a:pt x="1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760040" y="4232160"/>
              <a:ext cx="150120" cy="39600"/>
            </a:xfrm>
            <a:custGeom>
              <a:avLst/>
              <a:gdLst/>
              <a:ahLst/>
              <a:rect l="l" t="t" r="r" b="b"/>
              <a:pathLst>
                <a:path w="1637" h="593">
                  <a:moveTo>
                    <a:pt x="0" y="7"/>
                  </a:moveTo>
                  <a:lnTo>
                    <a:pt x="53" y="6"/>
                  </a:lnTo>
                  <a:lnTo>
                    <a:pt x="167" y="6"/>
                  </a:lnTo>
                  <a:lnTo>
                    <a:pt x="225" y="7"/>
                  </a:lnTo>
                  <a:lnTo>
                    <a:pt x="284" y="6"/>
                  </a:lnTo>
                  <a:lnTo>
                    <a:pt x="342" y="7"/>
                  </a:lnTo>
                  <a:lnTo>
                    <a:pt x="402" y="7"/>
                  </a:lnTo>
                  <a:lnTo>
                    <a:pt x="462" y="9"/>
                  </a:lnTo>
                  <a:lnTo>
                    <a:pt x="522" y="13"/>
                  </a:lnTo>
                  <a:lnTo>
                    <a:pt x="580" y="17"/>
                  </a:lnTo>
                  <a:lnTo>
                    <a:pt x="640" y="21"/>
                  </a:lnTo>
                  <a:lnTo>
                    <a:pt x="701" y="27"/>
                  </a:lnTo>
                  <a:lnTo>
                    <a:pt x="759" y="33"/>
                  </a:lnTo>
                  <a:lnTo>
                    <a:pt x="817" y="42"/>
                  </a:lnTo>
                  <a:lnTo>
                    <a:pt x="875" y="52"/>
                  </a:lnTo>
                  <a:lnTo>
                    <a:pt x="933" y="64"/>
                  </a:lnTo>
                  <a:lnTo>
                    <a:pt x="988" y="77"/>
                  </a:lnTo>
                  <a:lnTo>
                    <a:pt x="1044" y="93"/>
                  </a:lnTo>
                  <a:lnTo>
                    <a:pt x="1098" y="110"/>
                  </a:lnTo>
                  <a:lnTo>
                    <a:pt x="1149" y="132"/>
                  </a:lnTo>
                  <a:lnTo>
                    <a:pt x="1201" y="153"/>
                  </a:lnTo>
                  <a:lnTo>
                    <a:pt x="1251" y="178"/>
                  </a:lnTo>
                  <a:lnTo>
                    <a:pt x="1298" y="205"/>
                  </a:lnTo>
                  <a:lnTo>
                    <a:pt x="1344" y="236"/>
                  </a:lnTo>
                  <a:lnTo>
                    <a:pt x="1389" y="269"/>
                  </a:lnTo>
                  <a:lnTo>
                    <a:pt x="1430" y="306"/>
                  </a:lnTo>
                  <a:lnTo>
                    <a:pt x="1469" y="345"/>
                  </a:lnTo>
                  <a:lnTo>
                    <a:pt x="1507" y="387"/>
                  </a:lnTo>
                  <a:lnTo>
                    <a:pt x="1542" y="432"/>
                  </a:lnTo>
                  <a:lnTo>
                    <a:pt x="1575" y="482"/>
                  </a:lnTo>
                  <a:lnTo>
                    <a:pt x="1604" y="535"/>
                  </a:lnTo>
                  <a:lnTo>
                    <a:pt x="1631" y="593"/>
                  </a:lnTo>
                  <a:lnTo>
                    <a:pt x="1637" y="591"/>
                  </a:lnTo>
                  <a:lnTo>
                    <a:pt x="1610" y="533"/>
                  </a:lnTo>
                  <a:lnTo>
                    <a:pt x="1579" y="480"/>
                  </a:lnTo>
                  <a:lnTo>
                    <a:pt x="1546" y="428"/>
                  </a:lnTo>
                  <a:lnTo>
                    <a:pt x="1511" y="384"/>
                  </a:lnTo>
                  <a:lnTo>
                    <a:pt x="1474" y="341"/>
                  </a:lnTo>
                  <a:lnTo>
                    <a:pt x="1436" y="300"/>
                  </a:lnTo>
                  <a:lnTo>
                    <a:pt x="1393" y="265"/>
                  </a:lnTo>
                  <a:lnTo>
                    <a:pt x="1346" y="230"/>
                  </a:lnTo>
                  <a:lnTo>
                    <a:pt x="1302" y="201"/>
                  </a:lnTo>
                  <a:lnTo>
                    <a:pt x="1253" y="172"/>
                  </a:lnTo>
                  <a:lnTo>
                    <a:pt x="1203" y="147"/>
                  </a:lnTo>
                  <a:lnTo>
                    <a:pt x="1152" y="126"/>
                  </a:lnTo>
                  <a:lnTo>
                    <a:pt x="1098" y="104"/>
                  </a:lnTo>
                  <a:lnTo>
                    <a:pt x="1046" y="87"/>
                  </a:lnTo>
                  <a:lnTo>
                    <a:pt x="990" y="71"/>
                  </a:lnTo>
                  <a:lnTo>
                    <a:pt x="933" y="58"/>
                  </a:lnTo>
                  <a:lnTo>
                    <a:pt x="877" y="46"/>
                  </a:lnTo>
                  <a:lnTo>
                    <a:pt x="819" y="37"/>
                  </a:lnTo>
                  <a:lnTo>
                    <a:pt x="761" y="27"/>
                  </a:lnTo>
                  <a:lnTo>
                    <a:pt x="701" y="19"/>
                  </a:lnTo>
                  <a:lnTo>
                    <a:pt x="640" y="15"/>
                  </a:lnTo>
                  <a:lnTo>
                    <a:pt x="580" y="9"/>
                  </a:lnTo>
                  <a:lnTo>
                    <a:pt x="522" y="7"/>
                  </a:lnTo>
                  <a:lnTo>
                    <a:pt x="462" y="4"/>
                  </a:lnTo>
                  <a:lnTo>
                    <a:pt x="402" y="2"/>
                  </a:lnTo>
                  <a:lnTo>
                    <a:pt x="342" y="0"/>
                  </a:lnTo>
                  <a:lnTo>
                    <a:pt x="284" y="0"/>
                  </a:lnTo>
                  <a:lnTo>
                    <a:pt x="225" y="0"/>
                  </a:lnTo>
                  <a:lnTo>
                    <a:pt x="167" y="0"/>
                  </a:lnTo>
                  <a:lnTo>
                    <a:pt x="53" y="0"/>
                  </a:lnTo>
                  <a:lnTo>
                    <a:pt x="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93600" y="4271760"/>
              <a:ext cx="20880" cy="45360"/>
            </a:xfrm>
            <a:custGeom>
              <a:avLst/>
              <a:gdLst/>
              <a:ahLst/>
              <a:rect l="l" t="t" r="r" b="b"/>
              <a:pathLst>
                <a:path w="229" h="675">
                  <a:moveTo>
                    <a:pt x="174" y="2"/>
                  </a:moveTo>
                  <a:lnTo>
                    <a:pt x="174" y="2"/>
                  </a:lnTo>
                  <a:lnTo>
                    <a:pt x="188" y="39"/>
                  </a:lnTo>
                  <a:lnTo>
                    <a:pt x="200" y="76"/>
                  </a:lnTo>
                  <a:lnTo>
                    <a:pt x="209" y="112"/>
                  </a:lnTo>
                  <a:lnTo>
                    <a:pt x="217" y="147"/>
                  </a:lnTo>
                  <a:lnTo>
                    <a:pt x="221" y="180"/>
                  </a:lnTo>
                  <a:lnTo>
                    <a:pt x="223" y="213"/>
                  </a:lnTo>
                  <a:lnTo>
                    <a:pt x="223" y="246"/>
                  </a:lnTo>
                  <a:lnTo>
                    <a:pt x="221" y="277"/>
                  </a:lnTo>
                  <a:lnTo>
                    <a:pt x="217" y="306"/>
                  </a:lnTo>
                  <a:lnTo>
                    <a:pt x="211" y="335"/>
                  </a:lnTo>
                  <a:lnTo>
                    <a:pt x="204" y="364"/>
                  </a:lnTo>
                  <a:lnTo>
                    <a:pt x="196" y="392"/>
                  </a:lnTo>
                  <a:lnTo>
                    <a:pt x="186" y="417"/>
                  </a:lnTo>
                  <a:lnTo>
                    <a:pt x="176" y="440"/>
                  </a:lnTo>
                  <a:lnTo>
                    <a:pt x="165" y="465"/>
                  </a:lnTo>
                  <a:lnTo>
                    <a:pt x="155" y="487"/>
                  </a:lnTo>
                  <a:lnTo>
                    <a:pt x="141" y="508"/>
                  </a:lnTo>
                  <a:lnTo>
                    <a:pt x="128" y="527"/>
                  </a:lnTo>
                  <a:lnTo>
                    <a:pt x="114" y="547"/>
                  </a:lnTo>
                  <a:lnTo>
                    <a:pt x="103" y="564"/>
                  </a:lnTo>
                  <a:lnTo>
                    <a:pt x="89" y="580"/>
                  </a:lnTo>
                  <a:lnTo>
                    <a:pt x="76" y="595"/>
                  </a:lnTo>
                  <a:lnTo>
                    <a:pt x="64" y="609"/>
                  </a:lnTo>
                  <a:lnTo>
                    <a:pt x="52" y="622"/>
                  </a:lnTo>
                  <a:lnTo>
                    <a:pt x="41" y="632"/>
                  </a:lnTo>
                  <a:lnTo>
                    <a:pt x="31" y="642"/>
                  </a:lnTo>
                  <a:lnTo>
                    <a:pt x="23" y="649"/>
                  </a:lnTo>
                  <a:lnTo>
                    <a:pt x="15" y="657"/>
                  </a:lnTo>
                  <a:lnTo>
                    <a:pt x="10" y="661"/>
                  </a:lnTo>
                  <a:lnTo>
                    <a:pt x="6" y="665"/>
                  </a:lnTo>
                  <a:lnTo>
                    <a:pt x="0" y="669"/>
                  </a:lnTo>
                  <a:lnTo>
                    <a:pt x="0" y="671"/>
                  </a:lnTo>
                  <a:lnTo>
                    <a:pt x="4" y="675"/>
                  </a:lnTo>
                  <a:lnTo>
                    <a:pt x="4" y="669"/>
                  </a:lnTo>
                  <a:lnTo>
                    <a:pt x="6" y="671"/>
                  </a:lnTo>
                  <a:lnTo>
                    <a:pt x="8" y="671"/>
                  </a:lnTo>
                  <a:lnTo>
                    <a:pt x="13" y="667"/>
                  </a:lnTo>
                  <a:lnTo>
                    <a:pt x="19" y="661"/>
                  </a:lnTo>
                  <a:lnTo>
                    <a:pt x="27" y="655"/>
                  </a:lnTo>
                  <a:lnTo>
                    <a:pt x="37" y="646"/>
                  </a:lnTo>
                  <a:lnTo>
                    <a:pt x="46" y="636"/>
                  </a:lnTo>
                  <a:lnTo>
                    <a:pt x="58" y="626"/>
                  </a:lnTo>
                  <a:lnTo>
                    <a:pt x="70" y="613"/>
                  </a:lnTo>
                  <a:lnTo>
                    <a:pt x="79" y="599"/>
                  </a:lnTo>
                  <a:lnTo>
                    <a:pt x="93" y="585"/>
                  </a:lnTo>
                  <a:lnTo>
                    <a:pt x="107" y="568"/>
                  </a:lnTo>
                  <a:lnTo>
                    <a:pt x="118" y="551"/>
                  </a:lnTo>
                  <a:lnTo>
                    <a:pt x="132" y="531"/>
                  </a:lnTo>
                  <a:lnTo>
                    <a:pt x="145" y="512"/>
                  </a:lnTo>
                  <a:lnTo>
                    <a:pt x="159" y="490"/>
                  </a:lnTo>
                  <a:lnTo>
                    <a:pt x="171" y="467"/>
                  </a:lnTo>
                  <a:lnTo>
                    <a:pt x="182" y="444"/>
                  </a:lnTo>
                  <a:lnTo>
                    <a:pt x="192" y="419"/>
                  </a:lnTo>
                  <a:lnTo>
                    <a:pt x="202" y="392"/>
                  </a:lnTo>
                  <a:lnTo>
                    <a:pt x="209" y="366"/>
                  </a:lnTo>
                  <a:lnTo>
                    <a:pt x="217" y="337"/>
                  </a:lnTo>
                  <a:lnTo>
                    <a:pt x="223" y="308"/>
                  </a:lnTo>
                  <a:lnTo>
                    <a:pt x="227" y="277"/>
                  </a:lnTo>
                  <a:lnTo>
                    <a:pt x="229" y="246"/>
                  </a:lnTo>
                  <a:lnTo>
                    <a:pt x="229" y="213"/>
                  </a:lnTo>
                  <a:lnTo>
                    <a:pt x="227" y="180"/>
                  </a:lnTo>
                  <a:lnTo>
                    <a:pt x="223" y="145"/>
                  </a:lnTo>
                  <a:lnTo>
                    <a:pt x="215" y="111"/>
                  </a:lnTo>
                  <a:lnTo>
                    <a:pt x="207" y="74"/>
                  </a:lnTo>
                  <a:lnTo>
                    <a:pt x="194" y="37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622160" y="4251960"/>
              <a:ext cx="271800" cy="65160"/>
            </a:xfrm>
            <a:custGeom>
              <a:avLst/>
              <a:gdLst/>
              <a:ahLst/>
              <a:rect l="l" t="t" r="r" b="b"/>
              <a:pathLst>
                <a:path w="2962" h="970">
                  <a:moveTo>
                    <a:pt x="2962" y="964"/>
                  </a:moveTo>
                  <a:lnTo>
                    <a:pt x="2328" y="415"/>
                  </a:lnTo>
                  <a:lnTo>
                    <a:pt x="2328" y="417"/>
                  </a:lnTo>
                  <a:lnTo>
                    <a:pt x="2328" y="2"/>
                  </a:lnTo>
                  <a:lnTo>
                    <a:pt x="2328" y="2"/>
                  </a:lnTo>
                  <a:lnTo>
                    <a:pt x="2328" y="0"/>
                  </a:lnTo>
                  <a:lnTo>
                    <a:pt x="2326" y="0"/>
                  </a:lnTo>
                  <a:lnTo>
                    <a:pt x="2326" y="0"/>
                  </a:lnTo>
                  <a:lnTo>
                    <a:pt x="640" y="0"/>
                  </a:lnTo>
                  <a:lnTo>
                    <a:pt x="640" y="0"/>
                  </a:lnTo>
                  <a:lnTo>
                    <a:pt x="638" y="0"/>
                  </a:lnTo>
                  <a:lnTo>
                    <a:pt x="638" y="2"/>
                  </a:lnTo>
                  <a:lnTo>
                    <a:pt x="638" y="2"/>
                  </a:lnTo>
                  <a:lnTo>
                    <a:pt x="638" y="417"/>
                  </a:lnTo>
                  <a:lnTo>
                    <a:pt x="638" y="415"/>
                  </a:lnTo>
                  <a:lnTo>
                    <a:pt x="0" y="964"/>
                  </a:lnTo>
                  <a:lnTo>
                    <a:pt x="6" y="970"/>
                  </a:lnTo>
                  <a:lnTo>
                    <a:pt x="644" y="419"/>
                  </a:lnTo>
                  <a:lnTo>
                    <a:pt x="644" y="419"/>
                  </a:lnTo>
                  <a:lnTo>
                    <a:pt x="644" y="417"/>
                  </a:lnTo>
                  <a:lnTo>
                    <a:pt x="644" y="417"/>
                  </a:lnTo>
                  <a:lnTo>
                    <a:pt x="644" y="2"/>
                  </a:lnTo>
                  <a:lnTo>
                    <a:pt x="640" y="6"/>
                  </a:lnTo>
                  <a:lnTo>
                    <a:pt x="2326" y="6"/>
                  </a:lnTo>
                  <a:lnTo>
                    <a:pt x="2322" y="2"/>
                  </a:lnTo>
                  <a:lnTo>
                    <a:pt x="2322" y="417"/>
                  </a:lnTo>
                  <a:lnTo>
                    <a:pt x="2322" y="417"/>
                  </a:lnTo>
                  <a:lnTo>
                    <a:pt x="2322" y="419"/>
                  </a:lnTo>
                  <a:lnTo>
                    <a:pt x="2322" y="419"/>
                  </a:lnTo>
                  <a:lnTo>
                    <a:pt x="2958" y="970"/>
                  </a:lnTo>
                  <a:lnTo>
                    <a:pt x="2962" y="9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01640" y="4271760"/>
              <a:ext cx="21240" cy="45360"/>
            </a:xfrm>
            <a:custGeom>
              <a:avLst/>
              <a:gdLst/>
              <a:ahLst/>
              <a:rect l="l" t="t" r="r" b="b"/>
              <a:pathLst>
                <a:path w="233" h="675">
                  <a:moveTo>
                    <a:pt x="231" y="675"/>
                  </a:moveTo>
                  <a:lnTo>
                    <a:pt x="233" y="669"/>
                  </a:lnTo>
                  <a:lnTo>
                    <a:pt x="231" y="667"/>
                  </a:lnTo>
                  <a:lnTo>
                    <a:pt x="227" y="665"/>
                  </a:lnTo>
                  <a:lnTo>
                    <a:pt x="221" y="661"/>
                  </a:lnTo>
                  <a:lnTo>
                    <a:pt x="218" y="657"/>
                  </a:lnTo>
                  <a:lnTo>
                    <a:pt x="210" y="649"/>
                  </a:lnTo>
                  <a:lnTo>
                    <a:pt x="200" y="642"/>
                  </a:lnTo>
                  <a:lnTo>
                    <a:pt x="190" y="632"/>
                  </a:lnTo>
                  <a:lnTo>
                    <a:pt x="179" y="622"/>
                  </a:lnTo>
                  <a:lnTo>
                    <a:pt x="167" y="609"/>
                  </a:lnTo>
                  <a:lnTo>
                    <a:pt x="156" y="595"/>
                  </a:lnTo>
                  <a:lnTo>
                    <a:pt x="142" y="580"/>
                  </a:lnTo>
                  <a:lnTo>
                    <a:pt x="128" y="564"/>
                  </a:lnTo>
                  <a:lnTo>
                    <a:pt x="117" y="547"/>
                  </a:lnTo>
                  <a:lnTo>
                    <a:pt x="103" y="527"/>
                  </a:lnTo>
                  <a:lnTo>
                    <a:pt x="90" y="508"/>
                  </a:lnTo>
                  <a:lnTo>
                    <a:pt x="78" y="487"/>
                  </a:lnTo>
                  <a:lnTo>
                    <a:pt x="64" y="465"/>
                  </a:lnTo>
                  <a:lnTo>
                    <a:pt x="43" y="417"/>
                  </a:lnTo>
                  <a:lnTo>
                    <a:pt x="35" y="392"/>
                  </a:lnTo>
                  <a:lnTo>
                    <a:pt x="26" y="364"/>
                  </a:lnTo>
                  <a:lnTo>
                    <a:pt x="20" y="335"/>
                  </a:lnTo>
                  <a:lnTo>
                    <a:pt x="14" y="306"/>
                  </a:lnTo>
                  <a:lnTo>
                    <a:pt x="10" y="277"/>
                  </a:lnTo>
                  <a:lnTo>
                    <a:pt x="8" y="246"/>
                  </a:lnTo>
                  <a:lnTo>
                    <a:pt x="6" y="213"/>
                  </a:lnTo>
                  <a:lnTo>
                    <a:pt x="10" y="180"/>
                  </a:lnTo>
                  <a:lnTo>
                    <a:pt x="14" y="147"/>
                  </a:lnTo>
                  <a:lnTo>
                    <a:pt x="20" y="112"/>
                  </a:lnTo>
                  <a:lnTo>
                    <a:pt x="29" y="76"/>
                  </a:lnTo>
                  <a:lnTo>
                    <a:pt x="43" y="39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37" y="37"/>
                  </a:lnTo>
                  <a:lnTo>
                    <a:pt x="24" y="74"/>
                  </a:lnTo>
                  <a:lnTo>
                    <a:pt x="14" y="111"/>
                  </a:lnTo>
                  <a:lnTo>
                    <a:pt x="8" y="145"/>
                  </a:lnTo>
                  <a:lnTo>
                    <a:pt x="4" y="180"/>
                  </a:lnTo>
                  <a:lnTo>
                    <a:pt x="0" y="213"/>
                  </a:lnTo>
                  <a:lnTo>
                    <a:pt x="2" y="246"/>
                  </a:lnTo>
                  <a:lnTo>
                    <a:pt x="4" y="277"/>
                  </a:lnTo>
                  <a:lnTo>
                    <a:pt x="6" y="308"/>
                  </a:lnTo>
                  <a:lnTo>
                    <a:pt x="14" y="337"/>
                  </a:lnTo>
                  <a:lnTo>
                    <a:pt x="20" y="366"/>
                  </a:lnTo>
                  <a:lnTo>
                    <a:pt x="29" y="392"/>
                  </a:lnTo>
                  <a:lnTo>
                    <a:pt x="37" y="419"/>
                  </a:lnTo>
                  <a:lnTo>
                    <a:pt x="49" y="444"/>
                  </a:lnTo>
                  <a:lnTo>
                    <a:pt x="59" y="467"/>
                  </a:lnTo>
                  <a:lnTo>
                    <a:pt x="72" y="490"/>
                  </a:lnTo>
                  <a:lnTo>
                    <a:pt x="84" y="512"/>
                  </a:lnTo>
                  <a:lnTo>
                    <a:pt x="97" y="531"/>
                  </a:lnTo>
                  <a:lnTo>
                    <a:pt x="111" y="551"/>
                  </a:lnTo>
                  <a:lnTo>
                    <a:pt x="125" y="568"/>
                  </a:lnTo>
                  <a:lnTo>
                    <a:pt x="138" y="585"/>
                  </a:lnTo>
                  <a:lnTo>
                    <a:pt x="150" y="599"/>
                  </a:lnTo>
                  <a:lnTo>
                    <a:pt x="163" y="613"/>
                  </a:lnTo>
                  <a:lnTo>
                    <a:pt x="175" y="626"/>
                  </a:lnTo>
                  <a:lnTo>
                    <a:pt x="185" y="636"/>
                  </a:lnTo>
                  <a:lnTo>
                    <a:pt x="196" y="646"/>
                  </a:lnTo>
                  <a:lnTo>
                    <a:pt x="204" y="655"/>
                  </a:lnTo>
                  <a:lnTo>
                    <a:pt x="212" y="661"/>
                  </a:lnTo>
                  <a:lnTo>
                    <a:pt x="220" y="667"/>
                  </a:lnTo>
                  <a:lnTo>
                    <a:pt x="223" y="671"/>
                  </a:lnTo>
                  <a:lnTo>
                    <a:pt x="227" y="673"/>
                  </a:lnTo>
                  <a:lnTo>
                    <a:pt x="227" y="675"/>
                  </a:lnTo>
                  <a:lnTo>
                    <a:pt x="231" y="669"/>
                  </a:lnTo>
                  <a:lnTo>
                    <a:pt x="231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6320" y="4232160"/>
              <a:ext cx="153360" cy="39600"/>
            </a:xfrm>
            <a:custGeom>
              <a:avLst/>
              <a:gdLst/>
              <a:ahLst/>
              <a:rect l="l" t="t" r="r" b="b"/>
              <a:pathLst>
                <a:path w="1673" h="593">
                  <a:moveTo>
                    <a:pt x="6" y="593"/>
                  </a:moveTo>
                  <a:lnTo>
                    <a:pt x="33" y="535"/>
                  </a:lnTo>
                  <a:lnTo>
                    <a:pt x="62" y="482"/>
                  </a:lnTo>
                  <a:lnTo>
                    <a:pt x="97" y="432"/>
                  </a:lnTo>
                  <a:lnTo>
                    <a:pt x="132" y="387"/>
                  </a:lnTo>
                  <a:lnTo>
                    <a:pt x="170" y="345"/>
                  </a:lnTo>
                  <a:lnTo>
                    <a:pt x="213" y="306"/>
                  </a:lnTo>
                  <a:lnTo>
                    <a:pt x="256" y="269"/>
                  </a:lnTo>
                  <a:lnTo>
                    <a:pt x="300" y="236"/>
                  </a:lnTo>
                  <a:lnTo>
                    <a:pt x="349" y="205"/>
                  </a:lnTo>
                  <a:lnTo>
                    <a:pt x="399" y="178"/>
                  </a:lnTo>
                  <a:lnTo>
                    <a:pt x="450" y="153"/>
                  </a:lnTo>
                  <a:lnTo>
                    <a:pt x="502" y="132"/>
                  </a:lnTo>
                  <a:lnTo>
                    <a:pt x="556" y="110"/>
                  </a:lnTo>
                  <a:lnTo>
                    <a:pt x="613" y="93"/>
                  </a:lnTo>
                  <a:lnTo>
                    <a:pt x="669" y="77"/>
                  </a:lnTo>
                  <a:lnTo>
                    <a:pt x="729" y="64"/>
                  </a:lnTo>
                  <a:lnTo>
                    <a:pt x="785" y="52"/>
                  </a:lnTo>
                  <a:lnTo>
                    <a:pt x="845" y="42"/>
                  </a:lnTo>
                  <a:lnTo>
                    <a:pt x="905" y="33"/>
                  </a:lnTo>
                  <a:lnTo>
                    <a:pt x="966" y="27"/>
                  </a:lnTo>
                  <a:lnTo>
                    <a:pt x="1026" y="21"/>
                  </a:lnTo>
                  <a:lnTo>
                    <a:pt x="1088" y="17"/>
                  </a:lnTo>
                  <a:lnTo>
                    <a:pt x="1148" y="13"/>
                  </a:lnTo>
                  <a:lnTo>
                    <a:pt x="1210" y="9"/>
                  </a:lnTo>
                  <a:lnTo>
                    <a:pt x="1330" y="7"/>
                  </a:lnTo>
                  <a:lnTo>
                    <a:pt x="1388" y="6"/>
                  </a:lnTo>
                  <a:lnTo>
                    <a:pt x="1448" y="7"/>
                  </a:lnTo>
                  <a:lnTo>
                    <a:pt x="1505" y="6"/>
                  </a:lnTo>
                  <a:lnTo>
                    <a:pt x="1617" y="6"/>
                  </a:lnTo>
                  <a:lnTo>
                    <a:pt x="1673" y="7"/>
                  </a:lnTo>
                  <a:lnTo>
                    <a:pt x="1673" y="2"/>
                  </a:lnTo>
                  <a:lnTo>
                    <a:pt x="1617" y="0"/>
                  </a:lnTo>
                  <a:lnTo>
                    <a:pt x="1505" y="0"/>
                  </a:lnTo>
                  <a:lnTo>
                    <a:pt x="1448" y="0"/>
                  </a:lnTo>
                  <a:lnTo>
                    <a:pt x="1388" y="0"/>
                  </a:lnTo>
                  <a:lnTo>
                    <a:pt x="1330" y="0"/>
                  </a:lnTo>
                  <a:lnTo>
                    <a:pt x="1210" y="4"/>
                  </a:lnTo>
                  <a:lnTo>
                    <a:pt x="1148" y="7"/>
                  </a:lnTo>
                  <a:lnTo>
                    <a:pt x="1088" y="9"/>
                  </a:lnTo>
                  <a:lnTo>
                    <a:pt x="1026" y="15"/>
                  </a:lnTo>
                  <a:lnTo>
                    <a:pt x="966" y="19"/>
                  </a:lnTo>
                  <a:lnTo>
                    <a:pt x="903" y="27"/>
                  </a:lnTo>
                  <a:lnTo>
                    <a:pt x="843" y="37"/>
                  </a:lnTo>
                  <a:lnTo>
                    <a:pt x="785" y="46"/>
                  </a:lnTo>
                  <a:lnTo>
                    <a:pt x="727" y="58"/>
                  </a:lnTo>
                  <a:lnTo>
                    <a:pt x="669" y="71"/>
                  </a:lnTo>
                  <a:lnTo>
                    <a:pt x="611" y="87"/>
                  </a:lnTo>
                  <a:lnTo>
                    <a:pt x="554" y="104"/>
                  </a:lnTo>
                  <a:lnTo>
                    <a:pt x="500" y="126"/>
                  </a:lnTo>
                  <a:lnTo>
                    <a:pt x="448" y="147"/>
                  </a:lnTo>
                  <a:lnTo>
                    <a:pt x="395" y="172"/>
                  </a:lnTo>
                  <a:lnTo>
                    <a:pt x="347" y="201"/>
                  </a:lnTo>
                  <a:lnTo>
                    <a:pt x="298" y="230"/>
                  </a:lnTo>
                  <a:lnTo>
                    <a:pt x="252" y="265"/>
                  </a:lnTo>
                  <a:lnTo>
                    <a:pt x="207" y="300"/>
                  </a:lnTo>
                  <a:lnTo>
                    <a:pt x="167" y="341"/>
                  </a:lnTo>
                  <a:lnTo>
                    <a:pt x="128" y="384"/>
                  </a:lnTo>
                  <a:lnTo>
                    <a:pt x="91" y="428"/>
                  </a:lnTo>
                  <a:lnTo>
                    <a:pt x="58" y="480"/>
                  </a:lnTo>
                  <a:lnTo>
                    <a:pt x="27" y="533"/>
                  </a:lnTo>
                  <a:lnTo>
                    <a:pt x="0" y="591"/>
                  </a:lnTo>
                  <a:lnTo>
                    <a:pt x="6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715400" y="4290840"/>
              <a:ext cx="4680" cy="9000"/>
            </a:xfrm>
            <a:custGeom>
              <a:avLst/>
              <a:gdLst/>
              <a:ahLst/>
              <a:rect l="l" t="t" r="r" b="b"/>
              <a:pathLst>
                <a:path w="52" h="138">
                  <a:moveTo>
                    <a:pt x="52" y="138"/>
                  </a:moveTo>
                  <a:lnTo>
                    <a:pt x="32" y="138"/>
                  </a:lnTo>
                  <a:lnTo>
                    <a:pt x="32" y="39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7" y="25"/>
                  </a:lnTo>
                  <a:lnTo>
                    <a:pt x="15" y="25"/>
                  </a:lnTo>
                  <a:lnTo>
                    <a:pt x="21" y="23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4" y="8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52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41680" y="4290840"/>
              <a:ext cx="8640" cy="9000"/>
            </a:xfrm>
            <a:custGeom>
              <a:avLst/>
              <a:gdLst/>
              <a:ahLst/>
              <a:rect l="l" t="t" r="r" b="b"/>
              <a:pathLst>
                <a:path w="97" h="138">
                  <a:moveTo>
                    <a:pt x="4" y="49"/>
                  </a:moveTo>
                  <a:lnTo>
                    <a:pt x="4" y="41"/>
                  </a:lnTo>
                  <a:lnTo>
                    <a:pt x="5" y="35"/>
                  </a:lnTo>
                  <a:lnTo>
                    <a:pt x="9" y="21"/>
                  </a:lnTo>
                  <a:lnTo>
                    <a:pt x="15" y="14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7" y="6"/>
                  </a:lnTo>
                  <a:lnTo>
                    <a:pt x="83" y="10"/>
                  </a:lnTo>
                  <a:lnTo>
                    <a:pt x="89" y="16"/>
                  </a:lnTo>
                  <a:lnTo>
                    <a:pt x="93" y="23"/>
                  </a:lnTo>
                  <a:lnTo>
                    <a:pt x="95" y="31"/>
                  </a:lnTo>
                  <a:lnTo>
                    <a:pt x="97" y="41"/>
                  </a:lnTo>
                  <a:lnTo>
                    <a:pt x="95" y="50"/>
                  </a:lnTo>
                  <a:lnTo>
                    <a:pt x="93" y="56"/>
                  </a:lnTo>
                  <a:lnTo>
                    <a:pt x="91" y="64"/>
                  </a:lnTo>
                  <a:lnTo>
                    <a:pt x="85" y="70"/>
                  </a:lnTo>
                  <a:lnTo>
                    <a:pt x="73" y="80"/>
                  </a:lnTo>
                  <a:lnTo>
                    <a:pt x="58" y="87"/>
                  </a:lnTo>
                  <a:lnTo>
                    <a:pt x="44" y="95"/>
                  </a:lnTo>
                  <a:lnTo>
                    <a:pt x="37" y="99"/>
                  </a:lnTo>
                  <a:lnTo>
                    <a:pt x="33" y="103"/>
                  </a:lnTo>
                  <a:lnTo>
                    <a:pt x="25" y="111"/>
                  </a:lnTo>
                  <a:lnTo>
                    <a:pt x="21" y="116"/>
                  </a:lnTo>
                  <a:lnTo>
                    <a:pt x="19" y="122"/>
                  </a:lnTo>
                  <a:lnTo>
                    <a:pt x="97" y="122"/>
                  </a:lnTo>
                  <a:lnTo>
                    <a:pt x="97" y="138"/>
                  </a:lnTo>
                  <a:lnTo>
                    <a:pt x="0" y="138"/>
                  </a:lnTo>
                  <a:lnTo>
                    <a:pt x="2" y="128"/>
                  </a:lnTo>
                  <a:lnTo>
                    <a:pt x="4" y="118"/>
                  </a:lnTo>
                  <a:lnTo>
                    <a:pt x="5" y="111"/>
                  </a:lnTo>
                  <a:lnTo>
                    <a:pt x="9" y="105"/>
                  </a:lnTo>
                  <a:lnTo>
                    <a:pt x="21" y="93"/>
                  </a:lnTo>
                  <a:lnTo>
                    <a:pt x="33" y="83"/>
                  </a:lnTo>
                  <a:lnTo>
                    <a:pt x="50" y="74"/>
                  </a:lnTo>
                  <a:lnTo>
                    <a:pt x="62" y="66"/>
                  </a:lnTo>
                  <a:lnTo>
                    <a:pt x="69" y="60"/>
                  </a:lnTo>
                  <a:lnTo>
                    <a:pt x="75" y="52"/>
                  </a:lnTo>
                  <a:lnTo>
                    <a:pt x="77" y="47"/>
                  </a:lnTo>
                  <a:lnTo>
                    <a:pt x="77" y="41"/>
                  </a:lnTo>
                  <a:lnTo>
                    <a:pt x="75" y="31"/>
                  </a:lnTo>
                  <a:lnTo>
                    <a:pt x="71" y="23"/>
                  </a:lnTo>
                  <a:lnTo>
                    <a:pt x="68" y="19"/>
                  </a:lnTo>
                  <a:lnTo>
                    <a:pt x="62" y="17"/>
                  </a:lnTo>
                  <a:lnTo>
                    <a:pt x="56" y="16"/>
                  </a:lnTo>
                  <a:lnTo>
                    <a:pt x="50" y="16"/>
                  </a:lnTo>
                  <a:lnTo>
                    <a:pt x="40" y="16"/>
                  </a:lnTo>
                  <a:lnTo>
                    <a:pt x="35" y="17"/>
                  </a:lnTo>
                  <a:lnTo>
                    <a:pt x="29" y="23"/>
                  </a:lnTo>
                  <a:lnTo>
                    <a:pt x="25" y="27"/>
                  </a:lnTo>
                  <a:lnTo>
                    <a:pt x="21" y="39"/>
                  </a:lnTo>
                  <a:lnTo>
                    <a:pt x="21" y="49"/>
                  </a:lnTo>
                  <a:lnTo>
                    <a:pt x="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768680" y="4290840"/>
              <a:ext cx="8640" cy="9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37" y="60"/>
                  </a:moveTo>
                  <a:lnTo>
                    <a:pt x="47" y="60"/>
                  </a:lnTo>
                  <a:lnTo>
                    <a:pt x="57" y="58"/>
                  </a:lnTo>
                  <a:lnTo>
                    <a:pt x="66" y="54"/>
                  </a:lnTo>
                  <a:lnTo>
                    <a:pt x="68" y="52"/>
                  </a:lnTo>
                  <a:lnTo>
                    <a:pt x="72" y="47"/>
                  </a:lnTo>
                  <a:lnTo>
                    <a:pt x="74" y="43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8" y="23"/>
                  </a:lnTo>
                  <a:lnTo>
                    <a:pt x="64" y="19"/>
                  </a:lnTo>
                  <a:lnTo>
                    <a:pt x="61" y="17"/>
                  </a:lnTo>
                  <a:lnTo>
                    <a:pt x="55" y="16"/>
                  </a:lnTo>
                  <a:lnTo>
                    <a:pt x="47" y="16"/>
                  </a:lnTo>
                  <a:lnTo>
                    <a:pt x="39" y="16"/>
                  </a:lnTo>
                  <a:lnTo>
                    <a:pt x="33" y="17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2" y="35"/>
                  </a:lnTo>
                  <a:lnTo>
                    <a:pt x="20" y="45"/>
                  </a:lnTo>
                  <a:lnTo>
                    <a:pt x="4" y="45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2" y="16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5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6" y="2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90" y="21"/>
                  </a:lnTo>
                  <a:lnTo>
                    <a:pt x="92" y="29"/>
                  </a:lnTo>
                  <a:lnTo>
                    <a:pt x="92" y="37"/>
                  </a:lnTo>
                  <a:lnTo>
                    <a:pt x="92" y="43"/>
                  </a:lnTo>
                  <a:lnTo>
                    <a:pt x="90" y="47"/>
                  </a:lnTo>
                  <a:lnTo>
                    <a:pt x="86" y="56"/>
                  </a:lnTo>
                  <a:lnTo>
                    <a:pt x="80" y="62"/>
                  </a:lnTo>
                  <a:lnTo>
                    <a:pt x="74" y="64"/>
                  </a:lnTo>
                  <a:lnTo>
                    <a:pt x="74" y="66"/>
                  </a:lnTo>
                  <a:lnTo>
                    <a:pt x="84" y="70"/>
                  </a:lnTo>
                  <a:lnTo>
                    <a:pt x="90" y="76"/>
                  </a:lnTo>
                  <a:lnTo>
                    <a:pt x="95" y="85"/>
                  </a:lnTo>
                  <a:lnTo>
                    <a:pt x="95" y="91"/>
                  </a:lnTo>
                  <a:lnTo>
                    <a:pt x="97" y="97"/>
                  </a:lnTo>
                  <a:lnTo>
                    <a:pt x="95" y="107"/>
                  </a:lnTo>
                  <a:lnTo>
                    <a:pt x="93" y="114"/>
                  </a:lnTo>
                  <a:lnTo>
                    <a:pt x="90" y="122"/>
                  </a:lnTo>
                  <a:lnTo>
                    <a:pt x="86" y="128"/>
                  </a:lnTo>
                  <a:lnTo>
                    <a:pt x="78" y="134"/>
                  </a:lnTo>
                  <a:lnTo>
                    <a:pt x="70" y="138"/>
                  </a:lnTo>
                  <a:lnTo>
                    <a:pt x="59" y="142"/>
                  </a:lnTo>
                  <a:lnTo>
                    <a:pt x="47" y="142"/>
                  </a:lnTo>
                  <a:lnTo>
                    <a:pt x="33" y="142"/>
                  </a:lnTo>
                  <a:lnTo>
                    <a:pt x="22" y="136"/>
                  </a:lnTo>
                  <a:lnTo>
                    <a:pt x="16" y="132"/>
                  </a:lnTo>
                  <a:lnTo>
                    <a:pt x="12" y="128"/>
                  </a:lnTo>
                  <a:lnTo>
                    <a:pt x="4" y="118"/>
                  </a:lnTo>
                  <a:lnTo>
                    <a:pt x="2" y="109"/>
                  </a:lnTo>
                  <a:lnTo>
                    <a:pt x="0" y="97"/>
                  </a:lnTo>
                  <a:lnTo>
                    <a:pt x="18" y="97"/>
                  </a:lnTo>
                  <a:lnTo>
                    <a:pt x="20" y="107"/>
                  </a:lnTo>
                  <a:lnTo>
                    <a:pt x="24" y="116"/>
                  </a:lnTo>
                  <a:lnTo>
                    <a:pt x="28" y="120"/>
                  </a:lnTo>
                  <a:lnTo>
                    <a:pt x="31" y="124"/>
                  </a:lnTo>
                  <a:lnTo>
                    <a:pt x="39" y="126"/>
                  </a:lnTo>
                  <a:lnTo>
                    <a:pt x="47" y="126"/>
                  </a:lnTo>
                  <a:lnTo>
                    <a:pt x="55" y="126"/>
                  </a:lnTo>
                  <a:lnTo>
                    <a:pt x="61" y="124"/>
                  </a:lnTo>
                  <a:lnTo>
                    <a:pt x="66" y="122"/>
                  </a:lnTo>
                  <a:lnTo>
                    <a:pt x="70" y="118"/>
                  </a:lnTo>
                  <a:lnTo>
                    <a:pt x="74" y="116"/>
                  </a:lnTo>
                  <a:lnTo>
                    <a:pt x="76" y="111"/>
                  </a:lnTo>
                  <a:lnTo>
                    <a:pt x="78" y="107"/>
                  </a:lnTo>
                  <a:lnTo>
                    <a:pt x="78" y="99"/>
                  </a:lnTo>
                  <a:lnTo>
                    <a:pt x="78" y="93"/>
                  </a:lnTo>
                  <a:lnTo>
                    <a:pt x="74" y="87"/>
                  </a:lnTo>
                  <a:lnTo>
                    <a:pt x="70" y="81"/>
                  </a:lnTo>
                  <a:lnTo>
                    <a:pt x="66" y="78"/>
                  </a:lnTo>
                  <a:lnTo>
                    <a:pt x="57" y="76"/>
                  </a:lnTo>
                  <a:lnTo>
                    <a:pt x="47" y="74"/>
                  </a:lnTo>
                  <a:lnTo>
                    <a:pt x="37" y="74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14320" y="4309560"/>
              <a:ext cx="9000" cy="9000"/>
            </a:xfrm>
            <a:custGeom>
              <a:avLst/>
              <a:gdLst/>
              <a:ahLst/>
              <a:rect l="l" t="t" r="r" b="b"/>
              <a:pathLst>
                <a:path w="99" h="140">
                  <a:moveTo>
                    <a:pt x="78" y="107"/>
                  </a:moveTo>
                  <a:lnTo>
                    <a:pt x="78" y="140"/>
                  </a:lnTo>
                  <a:lnTo>
                    <a:pt x="60" y="140"/>
                  </a:lnTo>
                  <a:lnTo>
                    <a:pt x="60" y="107"/>
                  </a:lnTo>
                  <a:lnTo>
                    <a:pt x="0" y="107"/>
                  </a:lnTo>
                  <a:lnTo>
                    <a:pt x="0" y="90"/>
                  </a:lnTo>
                  <a:lnTo>
                    <a:pt x="64" y="0"/>
                  </a:lnTo>
                  <a:lnTo>
                    <a:pt x="78" y="0"/>
                  </a:lnTo>
                  <a:lnTo>
                    <a:pt x="78" y="91"/>
                  </a:lnTo>
                  <a:lnTo>
                    <a:pt x="99" y="91"/>
                  </a:lnTo>
                  <a:lnTo>
                    <a:pt x="99" y="107"/>
                  </a:lnTo>
                  <a:lnTo>
                    <a:pt x="78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715760" y="4311000"/>
              <a:ext cx="3960" cy="43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64"/>
                  </a:moveTo>
                  <a:lnTo>
                    <a:pt x="45" y="64"/>
                  </a:lnTo>
                  <a:lnTo>
                    <a:pt x="45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41680" y="4309560"/>
              <a:ext cx="8280" cy="9000"/>
            </a:xfrm>
            <a:custGeom>
              <a:avLst/>
              <a:gdLst/>
              <a:ahLst/>
              <a:rect l="l" t="t" r="r" b="b"/>
              <a:pathLst>
                <a:path w="95" h="140">
                  <a:moveTo>
                    <a:pt x="23" y="54"/>
                  </a:moveTo>
                  <a:lnTo>
                    <a:pt x="27" y="53"/>
                  </a:lnTo>
                  <a:lnTo>
                    <a:pt x="33" y="49"/>
                  </a:lnTo>
                  <a:lnTo>
                    <a:pt x="40" y="47"/>
                  </a:lnTo>
                  <a:lnTo>
                    <a:pt x="48" y="47"/>
                  </a:lnTo>
                  <a:lnTo>
                    <a:pt x="58" y="47"/>
                  </a:lnTo>
                  <a:lnTo>
                    <a:pt x="66" y="49"/>
                  </a:lnTo>
                  <a:lnTo>
                    <a:pt x="73" y="53"/>
                  </a:lnTo>
                  <a:lnTo>
                    <a:pt x="81" y="56"/>
                  </a:lnTo>
                  <a:lnTo>
                    <a:pt x="87" y="64"/>
                  </a:lnTo>
                  <a:lnTo>
                    <a:pt x="91" y="72"/>
                  </a:lnTo>
                  <a:lnTo>
                    <a:pt x="95" y="80"/>
                  </a:lnTo>
                  <a:lnTo>
                    <a:pt x="95" y="91"/>
                  </a:lnTo>
                  <a:lnTo>
                    <a:pt x="95" y="97"/>
                  </a:lnTo>
                  <a:lnTo>
                    <a:pt x="95" y="105"/>
                  </a:lnTo>
                  <a:lnTo>
                    <a:pt x="91" y="113"/>
                  </a:lnTo>
                  <a:lnTo>
                    <a:pt x="87" y="120"/>
                  </a:lnTo>
                  <a:lnTo>
                    <a:pt x="79" y="128"/>
                  </a:lnTo>
                  <a:lnTo>
                    <a:pt x="71" y="134"/>
                  </a:lnTo>
                  <a:lnTo>
                    <a:pt x="60" y="138"/>
                  </a:lnTo>
                  <a:lnTo>
                    <a:pt x="44" y="140"/>
                  </a:lnTo>
                  <a:lnTo>
                    <a:pt x="31" y="138"/>
                  </a:lnTo>
                  <a:lnTo>
                    <a:pt x="23" y="136"/>
                  </a:lnTo>
                  <a:lnTo>
                    <a:pt x="17" y="132"/>
                  </a:lnTo>
                  <a:lnTo>
                    <a:pt x="9" y="128"/>
                  </a:lnTo>
                  <a:lnTo>
                    <a:pt x="5" y="120"/>
                  </a:lnTo>
                  <a:lnTo>
                    <a:pt x="2" y="113"/>
                  </a:lnTo>
                  <a:lnTo>
                    <a:pt x="0" y="101"/>
                  </a:lnTo>
                  <a:lnTo>
                    <a:pt x="17" y="101"/>
                  </a:lnTo>
                  <a:lnTo>
                    <a:pt x="19" y="107"/>
                  </a:lnTo>
                  <a:lnTo>
                    <a:pt x="21" y="113"/>
                  </a:lnTo>
                  <a:lnTo>
                    <a:pt x="23" y="115"/>
                  </a:lnTo>
                  <a:lnTo>
                    <a:pt x="27" y="118"/>
                  </a:lnTo>
                  <a:lnTo>
                    <a:pt x="36" y="122"/>
                  </a:lnTo>
                  <a:lnTo>
                    <a:pt x="48" y="124"/>
                  </a:lnTo>
                  <a:lnTo>
                    <a:pt x="54" y="124"/>
                  </a:lnTo>
                  <a:lnTo>
                    <a:pt x="60" y="122"/>
                  </a:lnTo>
                  <a:lnTo>
                    <a:pt x="66" y="118"/>
                  </a:lnTo>
                  <a:lnTo>
                    <a:pt x="69" y="115"/>
                  </a:lnTo>
                  <a:lnTo>
                    <a:pt x="71" y="111"/>
                  </a:lnTo>
                  <a:lnTo>
                    <a:pt x="75" y="105"/>
                  </a:lnTo>
                  <a:lnTo>
                    <a:pt x="75" y="99"/>
                  </a:lnTo>
                  <a:lnTo>
                    <a:pt x="77" y="93"/>
                  </a:lnTo>
                  <a:lnTo>
                    <a:pt x="75" y="86"/>
                  </a:lnTo>
                  <a:lnTo>
                    <a:pt x="75" y="80"/>
                  </a:lnTo>
                  <a:lnTo>
                    <a:pt x="71" y="74"/>
                  </a:lnTo>
                  <a:lnTo>
                    <a:pt x="67" y="70"/>
                  </a:lnTo>
                  <a:lnTo>
                    <a:pt x="62" y="66"/>
                  </a:lnTo>
                  <a:lnTo>
                    <a:pt x="58" y="64"/>
                  </a:lnTo>
                  <a:lnTo>
                    <a:pt x="52" y="62"/>
                  </a:lnTo>
                  <a:lnTo>
                    <a:pt x="46" y="62"/>
                  </a:lnTo>
                  <a:lnTo>
                    <a:pt x="38" y="62"/>
                  </a:lnTo>
                  <a:lnTo>
                    <a:pt x="31" y="66"/>
                  </a:lnTo>
                  <a:lnTo>
                    <a:pt x="25" y="70"/>
                  </a:lnTo>
                  <a:lnTo>
                    <a:pt x="19" y="76"/>
                  </a:lnTo>
                  <a:lnTo>
                    <a:pt x="5" y="74"/>
                  </a:lnTo>
                  <a:lnTo>
                    <a:pt x="15" y="0"/>
                  </a:lnTo>
                  <a:lnTo>
                    <a:pt x="87" y="0"/>
                  </a:lnTo>
                  <a:lnTo>
                    <a:pt x="87" y="16"/>
                  </a:lnTo>
                  <a:lnTo>
                    <a:pt x="29" y="16"/>
                  </a:lnTo>
                  <a:lnTo>
                    <a:pt x="2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68680" y="4309560"/>
              <a:ext cx="8640" cy="936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76" y="37"/>
                  </a:moveTo>
                  <a:lnTo>
                    <a:pt x="74" y="29"/>
                  </a:lnTo>
                  <a:lnTo>
                    <a:pt x="68" y="22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3" y="18"/>
                  </a:lnTo>
                  <a:lnTo>
                    <a:pt x="35" y="22"/>
                  </a:lnTo>
                  <a:lnTo>
                    <a:pt x="29" y="29"/>
                  </a:lnTo>
                  <a:lnTo>
                    <a:pt x="26" y="37"/>
                  </a:lnTo>
                  <a:lnTo>
                    <a:pt x="20" y="55"/>
                  </a:lnTo>
                  <a:lnTo>
                    <a:pt x="18" y="60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9" y="53"/>
                  </a:lnTo>
                  <a:lnTo>
                    <a:pt x="45" y="51"/>
                  </a:lnTo>
                  <a:lnTo>
                    <a:pt x="53" y="51"/>
                  </a:lnTo>
                  <a:lnTo>
                    <a:pt x="59" y="51"/>
                  </a:lnTo>
                  <a:lnTo>
                    <a:pt x="66" y="53"/>
                  </a:lnTo>
                  <a:lnTo>
                    <a:pt x="74" y="57"/>
                  </a:lnTo>
                  <a:lnTo>
                    <a:pt x="80" y="60"/>
                  </a:lnTo>
                  <a:lnTo>
                    <a:pt x="86" y="66"/>
                  </a:lnTo>
                  <a:lnTo>
                    <a:pt x="92" y="74"/>
                  </a:lnTo>
                  <a:lnTo>
                    <a:pt x="95" y="84"/>
                  </a:lnTo>
                  <a:lnTo>
                    <a:pt x="95" y="95"/>
                  </a:lnTo>
                  <a:lnTo>
                    <a:pt x="95" y="105"/>
                  </a:lnTo>
                  <a:lnTo>
                    <a:pt x="93" y="115"/>
                  </a:lnTo>
                  <a:lnTo>
                    <a:pt x="90" y="122"/>
                  </a:lnTo>
                  <a:lnTo>
                    <a:pt x="84" y="130"/>
                  </a:lnTo>
                  <a:lnTo>
                    <a:pt x="76" y="136"/>
                  </a:lnTo>
                  <a:lnTo>
                    <a:pt x="70" y="140"/>
                  </a:lnTo>
                  <a:lnTo>
                    <a:pt x="61" y="142"/>
                  </a:lnTo>
                  <a:lnTo>
                    <a:pt x="53" y="144"/>
                  </a:lnTo>
                  <a:lnTo>
                    <a:pt x="47" y="144"/>
                  </a:lnTo>
                  <a:lnTo>
                    <a:pt x="39" y="142"/>
                  </a:lnTo>
                  <a:lnTo>
                    <a:pt x="29" y="140"/>
                  </a:lnTo>
                  <a:lnTo>
                    <a:pt x="20" y="134"/>
                  </a:lnTo>
                  <a:lnTo>
                    <a:pt x="12" y="124"/>
                  </a:lnTo>
                  <a:lnTo>
                    <a:pt x="6" y="113"/>
                  </a:lnTo>
                  <a:lnTo>
                    <a:pt x="2" y="101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2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18" y="16"/>
                  </a:lnTo>
                  <a:lnTo>
                    <a:pt x="28" y="8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4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8" y="20"/>
                  </a:lnTo>
                  <a:lnTo>
                    <a:pt x="92" y="27"/>
                  </a:lnTo>
                  <a:lnTo>
                    <a:pt x="93" y="37"/>
                  </a:lnTo>
                  <a:lnTo>
                    <a:pt x="7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70840" y="4313880"/>
              <a:ext cx="5040" cy="396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29" y="62"/>
                  </a:moveTo>
                  <a:lnTo>
                    <a:pt x="35" y="60"/>
                  </a:lnTo>
                  <a:lnTo>
                    <a:pt x="40" y="60"/>
                  </a:lnTo>
                  <a:lnTo>
                    <a:pt x="44" y="56"/>
                  </a:lnTo>
                  <a:lnTo>
                    <a:pt x="48" y="53"/>
                  </a:lnTo>
                  <a:lnTo>
                    <a:pt x="52" y="49"/>
                  </a:lnTo>
                  <a:lnTo>
                    <a:pt x="54" y="43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4" y="22"/>
                  </a:lnTo>
                  <a:lnTo>
                    <a:pt x="50" y="12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11" y="6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3"/>
                  </a:lnTo>
                  <a:lnTo>
                    <a:pt x="9" y="56"/>
                  </a:lnTo>
                  <a:lnTo>
                    <a:pt x="15" y="58"/>
                  </a:lnTo>
                  <a:lnTo>
                    <a:pt x="21" y="60"/>
                  </a:lnTo>
                  <a:lnTo>
                    <a:pt x="2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14320" y="4329720"/>
              <a:ext cx="8640" cy="9000"/>
            </a:xfrm>
            <a:custGeom>
              <a:avLst/>
              <a:gdLst/>
              <a:ahLst/>
              <a:rect l="l" t="t" r="r" b="b"/>
              <a:pathLst>
                <a:path w="97" h="13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89" y="23"/>
                  </a:lnTo>
                  <a:lnTo>
                    <a:pt x="83" y="33"/>
                  </a:lnTo>
                  <a:lnTo>
                    <a:pt x="74" y="42"/>
                  </a:lnTo>
                  <a:lnTo>
                    <a:pt x="66" y="58"/>
                  </a:lnTo>
                  <a:lnTo>
                    <a:pt x="58" y="73"/>
                  </a:lnTo>
                  <a:lnTo>
                    <a:pt x="50" y="93"/>
                  </a:lnTo>
                  <a:lnTo>
                    <a:pt x="44" y="114"/>
                  </a:lnTo>
                  <a:lnTo>
                    <a:pt x="39" y="135"/>
                  </a:lnTo>
                  <a:lnTo>
                    <a:pt x="19" y="135"/>
                  </a:lnTo>
                  <a:lnTo>
                    <a:pt x="23" y="122"/>
                  </a:lnTo>
                  <a:lnTo>
                    <a:pt x="27" y="106"/>
                  </a:lnTo>
                  <a:lnTo>
                    <a:pt x="33" y="91"/>
                  </a:lnTo>
                  <a:lnTo>
                    <a:pt x="41" y="73"/>
                  </a:lnTo>
                  <a:lnTo>
                    <a:pt x="56" y="44"/>
                  </a:lnTo>
                  <a:lnTo>
                    <a:pt x="68" y="29"/>
                  </a:lnTo>
                  <a:lnTo>
                    <a:pt x="77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41680" y="4329720"/>
              <a:ext cx="8640" cy="93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73" y="66"/>
                  </a:moveTo>
                  <a:lnTo>
                    <a:pt x="79" y="70"/>
                  </a:lnTo>
                  <a:lnTo>
                    <a:pt x="85" y="73"/>
                  </a:lnTo>
                  <a:lnTo>
                    <a:pt x="91" y="81"/>
                  </a:lnTo>
                  <a:lnTo>
                    <a:pt x="95" y="91"/>
                  </a:lnTo>
                  <a:lnTo>
                    <a:pt x="97" y="101"/>
                  </a:lnTo>
                  <a:lnTo>
                    <a:pt x="95" y="108"/>
                  </a:lnTo>
                  <a:lnTo>
                    <a:pt x="93" y="116"/>
                  </a:lnTo>
                  <a:lnTo>
                    <a:pt x="89" y="124"/>
                  </a:lnTo>
                  <a:lnTo>
                    <a:pt x="85" y="130"/>
                  </a:lnTo>
                  <a:lnTo>
                    <a:pt x="79" y="136"/>
                  </a:lnTo>
                  <a:lnTo>
                    <a:pt x="69" y="139"/>
                  </a:lnTo>
                  <a:lnTo>
                    <a:pt x="60" y="143"/>
                  </a:lnTo>
                  <a:lnTo>
                    <a:pt x="48" y="143"/>
                  </a:lnTo>
                  <a:lnTo>
                    <a:pt x="42" y="143"/>
                  </a:lnTo>
                  <a:lnTo>
                    <a:pt x="33" y="143"/>
                  </a:lnTo>
                  <a:lnTo>
                    <a:pt x="23" y="139"/>
                  </a:lnTo>
                  <a:lnTo>
                    <a:pt x="15" y="134"/>
                  </a:lnTo>
                  <a:lnTo>
                    <a:pt x="9" y="130"/>
                  </a:lnTo>
                  <a:lnTo>
                    <a:pt x="7" y="124"/>
                  </a:lnTo>
                  <a:lnTo>
                    <a:pt x="2" y="114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2" y="89"/>
                  </a:lnTo>
                  <a:lnTo>
                    <a:pt x="7" y="79"/>
                  </a:lnTo>
                  <a:lnTo>
                    <a:pt x="15" y="72"/>
                  </a:lnTo>
                  <a:lnTo>
                    <a:pt x="25" y="66"/>
                  </a:lnTo>
                  <a:lnTo>
                    <a:pt x="17" y="62"/>
                  </a:lnTo>
                  <a:lnTo>
                    <a:pt x="11" y="56"/>
                  </a:lnTo>
                  <a:lnTo>
                    <a:pt x="7" y="48"/>
                  </a:lnTo>
                  <a:lnTo>
                    <a:pt x="5" y="39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3"/>
                  </a:lnTo>
                  <a:lnTo>
                    <a:pt x="19" y="10"/>
                  </a:lnTo>
                  <a:lnTo>
                    <a:pt x="27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1" y="13"/>
                  </a:lnTo>
                  <a:lnTo>
                    <a:pt x="85" y="17"/>
                  </a:lnTo>
                  <a:lnTo>
                    <a:pt x="89" y="25"/>
                  </a:lnTo>
                  <a:lnTo>
                    <a:pt x="91" y="31"/>
                  </a:lnTo>
                  <a:lnTo>
                    <a:pt x="91" y="37"/>
                  </a:lnTo>
                  <a:lnTo>
                    <a:pt x="91" y="44"/>
                  </a:lnTo>
                  <a:lnTo>
                    <a:pt x="89" y="48"/>
                  </a:lnTo>
                  <a:lnTo>
                    <a:pt x="85" y="58"/>
                  </a:lnTo>
                  <a:lnTo>
                    <a:pt x="79" y="62"/>
                  </a:lnTo>
                  <a:lnTo>
                    <a:pt x="7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43480" y="4334760"/>
              <a:ext cx="5040" cy="324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0" y="26"/>
                  </a:moveTo>
                  <a:lnTo>
                    <a:pt x="2" y="35"/>
                  </a:lnTo>
                  <a:lnTo>
                    <a:pt x="6" y="43"/>
                  </a:lnTo>
                  <a:lnTo>
                    <a:pt x="10" y="47"/>
                  </a:lnTo>
                  <a:lnTo>
                    <a:pt x="16" y="51"/>
                  </a:lnTo>
                  <a:lnTo>
                    <a:pt x="21" y="53"/>
                  </a:lnTo>
                  <a:lnTo>
                    <a:pt x="29" y="53"/>
                  </a:lnTo>
                  <a:lnTo>
                    <a:pt x="41" y="53"/>
                  </a:lnTo>
                  <a:lnTo>
                    <a:pt x="48" y="49"/>
                  </a:lnTo>
                  <a:lnTo>
                    <a:pt x="52" y="45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8"/>
                  </a:lnTo>
                  <a:lnTo>
                    <a:pt x="58" y="20"/>
                  </a:lnTo>
                  <a:lnTo>
                    <a:pt x="56" y="16"/>
                  </a:lnTo>
                  <a:lnTo>
                    <a:pt x="52" y="10"/>
                  </a:lnTo>
                  <a:lnTo>
                    <a:pt x="50" y="6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43840" y="4330800"/>
              <a:ext cx="4680" cy="28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50" y="22"/>
                  </a:moveTo>
                  <a:lnTo>
                    <a:pt x="48" y="16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9"/>
                  </a:lnTo>
                  <a:lnTo>
                    <a:pt x="15" y="43"/>
                  </a:lnTo>
                  <a:lnTo>
                    <a:pt x="25" y="45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8" y="31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69040" y="4329720"/>
              <a:ext cx="8280" cy="936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0" y="48"/>
                  </a:moveTo>
                  <a:lnTo>
                    <a:pt x="0" y="39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0" y="15"/>
                  </a:lnTo>
                  <a:lnTo>
                    <a:pt x="18" y="10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5" y="0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70" y="8"/>
                  </a:lnTo>
                  <a:lnTo>
                    <a:pt x="80" y="15"/>
                  </a:lnTo>
                  <a:lnTo>
                    <a:pt x="86" y="25"/>
                  </a:lnTo>
                  <a:lnTo>
                    <a:pt x="90" y="35"/>
                  </a:lnTo>
                  <a:lnTo>
                    <a:pt x="91" y="46"/>
                  </a:lnTo>
                  <a:lnTo>
                    <a:pt x="93" y="56"/>
                  </a:lnTo>
                  <a:lnTo>
                    <a:pt x="93" y="66"/>
                  </a:lnTo>
                  <a:lnTo>
                    <a:pt x="93" y="73"/>
                  </a:lnTo>
                  <a:lnTo>
                    <a:pt x="91" y="85"/>
                  </a:lnTo>
                  <a:lnTo>
                    <a:pt x="90" y="97"/>
                  </a:lnTo>
                  <a:lnTo>
                    <a:pt x="86" y="110"/>
                  </a:lnTo>
                  <a:lnTo>
                    <a:pt x="80" y="124"/>
                  </a:lnTo>
                  <a:lnTo>
                    <a:pt x="70" y="134"/>
                  </a:lnTo>
                  <a:lnTo>
                    <a:pt x="64" y="137"/>
                  </a:lnTo>
                  <a:lnTo>
                    <a:pt x="59" y="141"/>
                  </a:lnTo>
                  <a:lnTo>
                    <a:pt x="51" y="143"/>
                  </a:lnTo>
                  <a:lnTo>
                    <a:pt x="43" y="143"/>
                  </a:lnTo>
                  <a:lnTo>
                    <a:pt x="31" y="143"/>
                  </a:lnTo>
                  <a:lnTo>
                    <a:pt x="22" y="139"/>
                  </a:lnTo>
                  <a:lnTo>
                    <a:pt x="16" y="136"/>
                  </a:lnTo>
                  <a:lnTo>
                    <a:pt x="10" y="130"/>
                  </a:lnTo>
                  <a:lnTo>
                    <a:pt x="6" y="124"/>
                  </a:lnTo>
                  <a:lnTo>
                    <a:pt x="2" y="118"/>
                  </a:lnTo>
                  <a:lnTo>
                    <a:pt x="2" y="112"/>
                  </a:lnTo>
                  <a:lnTo>
                    <a:pt x="0" y="106"/>
                  </a:lnTo>
                  <a:lnTo>
                    <a:pt x="20" y="106"/>
                  </a:lnTo>
                  <a:lnTo>
                    <a:pt x="22" y="116"/>
                  </a:lnTo>
                  <a:lnTo>
                    <a:pt x="26" y="124"/>
                  </a:lnTo>
                  <a:lnTo>
                    <a:pt x="33" y="128"/>
                  </a:lnTo>
                  <a:lnTo>
                    <a:pt x="43" y="130"/>
                  </a:lnTo>
                  <a:lnTo>
                    <a:pt x="49" y="130"/>
                  </a:lnTo>
                  <a:lnTo>
                    <a:pt x="55" y="126"/>
                  </a:lnTo>
                  <a:lnTo>
                    <a:pt x="60" y="124"/>
                  </a:lnTo>
                  <a:lnTo>
                    <a:pt x="64" y="116"/>
                  </a:lnTo>
                  <a:lnTo>
                    <a:pt x="68" y="110"/>
                  </a:lnTo>
                  <a:lnTo>
                    <a:pt x="72" y="101"/>
                  </a:lnTo>
                  <a:lnTo>
                    <a:pt x="74" y="91"/>
                  </a:lnTo>
                  <a:lnTo>
                    <a:pt x="76" y="77"/>
                  </a:lnTo>
                  <a:lnTo>
                    <a:pt x="76" y="77"/>
                  </a:lnTo>
                  <a:lnTo>
                    <a:pt x="70" y="85"/>
                  </a:lnTo>
                  <a:lnTo>
                    <a:pt x="62" y="89"/>
                  </a:lnTo>
                  <a:lnTo>
                    <a:pt x="53" y="93"/>
                  </a:lnTo>
                  <a:lnTo>
                    <a:pt x="43" y="95"/>
                  </a:lnTo>
                  <a:lnTo>
                    <a:pt x="33" y="93"/>
                  </a:lnTo>
                  <a:lnTo>
                    <a:pt x="26" y="91"/>
                  </a:lnTo>
                  <a:lnTo>
                    <a:pt x="18" y="87"/>
                  </a:lnTo>
                  <a:lnTo>
                    <a:pt x="12" y="81"/>
                  </a:lnTo>
                  <a:lnTo>
                    <a:pt x="6" y="75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70480" y="4330800"/>
              <a:ext cx="5040" cy="396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56" y="31"/>
                  </a:moveTo>
                  <a:lnTo>
                    <a:pt x="54" y="20"/>
                  </a:lnTo>
                  <a:lnTo>
                    <a:pt x="52" y="14"/>
                  </a:lnTo>
                  <a:lnTo>
                    <a:pt x="48" y="10"/>
                  </a:lnTo>
                  <a:lnTo>
                    <a:pt x="44" y="6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6" y="53"/>
                  </a:lnTo>
                  <a:lnTo>
                    <a:pt x="9" y="58"/>
                  </a:lnTo>
                  <a:lnTo>
                    <a:pt x="13" y="60"/>
                  </a:lnTo>
                  <a:lnTo>
                    <a:pt x="19" y="62"/>
                  </a:lnTo>
                  <a:lnTo>
                    <a:pt x="27" y="62"/>
                  </a:lnTo>
                  <a:lnTo>
                    <a:pt x="37" y="62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52" y="47"/>
                  </a:lnTo>
                  <a:lnTo>
                    <a:pt x="54" y="41"/>
                  </a:lnTo>
                  <a:lnTo>
                    <a:pt x="5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16480" y="4352760"/>
              <a:ext cx="5400" cy="360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4" y="16"/>
                  </a:moveTo>
                  <a:lnTo>
                    <a:pt x="25" y="23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23"/>
                  </a:lnTo>
                  <a:lnTo>
                    <a:pt x="58" y="16"/>
                  </a:lnTo>
                  <a:lnTo>
                    <a:pt x="62" y="25"/>
                  </a:lnTo>
                  <a:lnTo>
                    <a:pt x="41" y="33"/>
                  </a:lnTo>
                  <a:lnTo>
                    <a:pt x="53" y="50"/>
                  </a:lnTo>
                  <a:lnTo>
                    <a:pt x="43" y="58"/>
                  </a:lnTo>
                  <a:lnTo>
                    <a:pt x="31" y="39"/>
                  </a:lnTo>
                  <a:lnTo>
                    <a:pt x="18" y="58"/>
                  </a:lnTo>
                  <a:lnTo>
                    <a:pt x="8" y="50"/>
                  </a:lnTo>
                  <a:lnTo>
                    <a:pt x="22" y="33"/>
                  </a:lnTo>
                  <a:lnTo>
                    <a:pt x="0" y="2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41680" y="4349520"/>
              <a:ext cx="8640" cy="936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48" y="144"/>
                  </a:moveTo>
                  <a:lnTo>
                    <a:pt x="40" y="144"/>
                  </a:lnTo>
                  <a:lnTo>
                    <a:pt x="35" y="142"/>
                  </a:lnTo>
                  <a:lnTo>
                    <a:pt x="23" y="136"/>
                  </a:lnTo>
                  <a:lnTo>
                    <a:pt x="15" y="128"/>
                  </a:lnTo>
                  <a:lnTo>
                    <a:pt x="9" y="119"/>
                  </a:lnTo>
                  <a:lnTo>
                    <a:pt x="5" y="109"/>
                  </a:lnTo>
                  <a:lnTo>
                    <a:pt x="2" y="95"/>
                  </a:lnTo>
                  <a:lnTo>
                    <a:pt x="2" y="84"/>
                  </a:lnTo>
                  <a:lnTo>
                    <a:pt x="0" y="72"/>
                  </a:lnTo>
                  <a:lnTo>
                    <a:pt x="2" y="61"/>
                  </a:lnTo>
                  <a:lnTo>
                    <a:pt x="2" y="49"/>
                  </a:lnTo>
                  <a:lnTo>
                    <a:pt x="5" y="37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8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71" y="8"/>
                  </a:lnTo>
                  <a:lnTo>
                    <a:pt x="81" y="16"/>
                  </a:lnTo>
                  <a:lnTo>
                    <a:pt x="87" y="26"/>
                  </a:lnTo>
                  <a:lnTo>
                    <a:pt x="91" y="37"/>
                  </a:lnTo>
                  <a:lnTo>
                    <a:pt x="95" y="49"/>
                  </a:lnTo>
                  <a:lnTo>
                    <a:pt x="95" y="61"/>
                  </a:lnTo>
                  <a:lnTo>
                    <a:pt x="97" y="72"/>
                  </a:lnTo>
                  <a:lnTo>
                    <a:pt x="95" y="84"/>
                  </a:lnTo>
                  <a:lnTo>
                    <a:pt x="95" y="95"/>
                  </a:lnTo>
                  <a:lnTo>
                    <a:pt x="91" y="109"/>
                  </a:lnTo>
                  <a:lnTo>
                    <a:pt x="87" y="119"/>
                  </a:lnTo>
                  <a:lnTo>
                    <a:pt x="81" y="128"/>
                  </a:lnTo>
                  <a:lnTo>
                    <a:pt x="71" y="136"/>
                  </a:lnTo>
                  <a:lnTo>
                    <a:pt x="62" y="142"/>
                  </a:lnTo>
                  <a:lnTo>
                    <a:pt x="56" y="144"/>
                  </a:lnTo>
                  <a:lnTo>
                    <a:pt x="48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43480" y="4350600"/>
              <a:ext cx="5040" cy="720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29" y="0"/>
                  </a:moveTo>
                  <a:lnTo>
                    <a:pt x="23" y="2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2" y="3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79"/>
                  </a:lnTo>
                  <a:lnTo>
                    <a:pt x="4" y="89"/>
                  </a:lnTo>
                  <a:lnTo>
                    <a:pt x="8" y="97"/>
                  </a:lnTo>
                  <a:lnTo>
                    <a:pt x="12" y="105"/>
                  </a:lnTo>
                  <a:lnTo>
                    <a:pt x="17" y="109"/>
                  </a:lnTo>
                  <a:lnTo>
                    <a:pt x="23" y="112"/>
                  </a:lnTo>
                  <a:lnTo>
                    <a:pt x="29" y="112"/>
                  </a:lnTo>
                  <a:lnTo>
                    <a:pt x="37" y="112"/>
                  </a:lnTo>
                  <a:lnTo>
                    <a:pt x="43" y="109"/>
                  </a:lnTo>
                  <a:lnTo>
                    <a:pt x="47" y="105"/>
                  </a:lnTo>
                  <a:lnTo>
                    <a:pt x="52" y="97"/>
                  </a:lnTo>
                  <a:lnTo>
                    <a:pt x="54" y="89"/>
                  </a:lnTo>
                  <a:lnTo>
                    <a:pt x="56" y="79"/>
                  </a:lnTo>
                  <a:lnTo>
                    <a:pt x="58" y="70"/>
                  </a:lnTo>
                  <a:lnTo>
                    <a:pt x="58" y="56"/>
                  </a:lnTo>
                  <a:lnTo>
                    <a:pt x="58" y="43"/>
                  </a:lnTo>
                  <a:lnTo>
                    <a:pt x="56" y="33"/>
                  </a:lnTo>
                  <a:lnTo>
                    <a:pt x="54" y="23"/>
                  </a:lnTo>
                  <a:lnTo>
                    <a:pt x="52" y="16"/>
                  </a:lnTo>
                  <a:lnTo>
                    <a:pt x="47" y="8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766880" y="4349160"/>
              <a:ext cx="8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95320" y="4348440"/>
              <a:ext cx="10800" cy="9360"/>
            </a:xfrm>
            <a:custGeom>
              <a:avLst/>
              <a:gdLst/>
              <a:ahLst/>
              <a:rect l="l" t="t" r="r" b="b"/>
              <a:pathLst>
                <a:path w="119" h="143">
                  <a:moveTo>
                    <a:pt x="20" y="143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92" y="4"/>
                  </a:lnTo>
                  <a:lnTo>
                    <a:pt x="99" y="8"/>
                  </a:lnTo>
                  <a:lnTo>
                    <a:pt x="105" y="13"/>
                  </a:lnTo>
                  <a:lnTo>
                    <a:pt x="109" y="19"/>
                  </a:lnTo>
                  <a:lnTo>
                    <a:pt x="113" y="27"/>
                  </a:lnTo>
                  <a:lnTo>
                    <a:pt x="113" y="39"/>
                  </a:lnTo>
                  <a:lnTo>
                    <a:pt x="113" y="46"/>
                  </a:lnTo>
                  <a:lnTo>
                    <a:pt x="111" y="52"/>
                  </a:lnTo>
                  <a:lnTo>
                    <a:pt x="107" y="62"/>
                  </a:lnTo>
                  <a:lnTo>
                    <a:pt x="99" y="68"/>
                  </a:lnTo>
                  <a:lnTo>
                    <a:pt x="94" y="72"/>
                  </a:lnTo>
                  <a:lnTo>
                    <a:pt x="99" y="76"/>
                  </a:lnTo>
                  <a:lnTo>
                    <a:pt x="105" y="79"/>
                  </a:lnTo>
                  <a:lnTo>
                    <a:pt x="107" y="83"/>
                  </a:lnTo>
                  <a:lnTo>
                    <a:pt x="109" y="87"/>
                  </a:lnTo>
                  <a:lnTo>
                    <a:pt x="109" y="93"/>
                  </a:lnTo>
                  <a:lnTo>
                    <a:pt x="111" y="99"/>
                  </a:lnTo>
                  <a:lnTo>
                    <a:pt x="111" y="124"/>
                  </a:lnTo>
                  <a:lnTo>
                    <a:pt x="111" y="126"/>
                  </a:lnTo>
                  <a:lnTo>
                    <a:pt x="111" y="130"/>
                  </a:lnTo>
                  <a:lnTo>
                    <a:pt x="113" y="134"/>
                  </a:lnTo>
                  <a:lnTo>
                    <a:pt x="115" y="138"/>
                  </a:lnTo>
                  <a:lnTo>
                    <a:pt x="119" y="140"/>
                  </a:lnTo>
                  <a:lnTo>
                    <a:pt x="119" y="143"/>
                  </a:lnTo>
                  <a:lnTo>
                    <a:pt x="95" y="143"/>
                  </a:lnTo>
                  <a:lnTo>
                    <a:pt x="94" y="134"/>
                  </a:lnTo>
                  <a:lnTo>
                    <a:pt x="92" y="124"/>
                  </a:lnTo>
                  <a:lnTo>
                    <a:pt x="92" y="114"/>
                  </a:lnTo>
                  <a:lnTo>
                    <a:pt x="92" y="107"/>
                  </a:lnTo>
                  <a:lnTo>
                    <a:pt x="92" y="99"/>
                  </a:lnTo>
                  <a:lnTo>
                    <a:pt x="88" y="89"/>
                  </a:lnTo>
                  <a:lnTo>
                    <a:pt x="84" y="87"/>
                  </a:lnTo>
                  <a:lnTo>
                    <a:pt x="80" y="83"/>
                  </a:lnTo>
                  <a:lnTo>
                    <a:pt x="74" y="83"/>
                  </a:lnTo>
                  <a:lnTo>
                    <a:pt x="66" y="81"/>
                  </a:lnTo>
                  <a:lnTo>
                    <a:pt x="20" y="81"/>
                  </a:lnTo>
                  <a:lnTo>
                    <a:pt x="2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96760" y="4349880"/>
              <a:ext cx="6480" cy="288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0" y="49"/>
                  </a:moveTo>
                  <a:lnTo>
                    <a:pt x="44" y="49"/>
                  </a:lnTo>
                  <a:lnTo>
                    <a:pt x="54" y="47"/>
                  </a:lnTo>
                  <a:lnTo>
                    <a:pt x="64" y="43"/>
                  </a:lnTo>
                  <a:lnTo>
                    <a:pt x="68" y="41"/>
                  </a:lnTo>
                  <a:lnTo>
                    <a:pt x="72" y="35"/>
                  </a:lnTo>
                  <a:lnTo>
                    <a:pt x="72" y="29"/>
                  </a:lnTo>
                  <a:lnTo>
                    <a:pt x="74" y="24"/>
                  </a:lnTo>
                  <a:lnTo>
                    <a:pt x="72" y="16"/>
                  </a:lnTo>
                  <a:lnTo>
                    <a:pt x="72" y="10"/>
                  </a:lnTo>
                  <a:lnTo>
                    <a:pt x="68" y="6"/>
                  </a:lnTo>
                  <a:lnTo>
                    <a:pt x="64" y="4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94960" y="4308120"/>
              <a:ext cx="4320" cy="936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139"/>
                  </a:moveTo>
                  <a:lnTo>
                    <a:pt x="33" y="139"/>
                  </a:lnTo>
                  <a:lnTo>
                    <a:pt x="33" y="41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7" y="25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1" y="13"/>
                  </a:lnTo>
                  <a:lnTo>
                    <a:pt x="34" y="8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93520" y="4329360"/>
              <a:ext cx="9720" cy="684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0" y="54"/>
                  </a:moveTo>
                  <a:lnTo>
                    <a:pt x="4" y="33"/>
                  </a:lnTo>
                  <a:lnTo>
                    <a:pt x="14" y="15"/>
                  </a:lnTo>
                  <a:lnTo>
                    <a:pt x="33" y="4"/>
                  </a:lnTo>
                  <a:lnTo>
                    <a:pt x="52" y="0"/>
                  </a:lnTo>
                  <a:lnTo>
                    <a:pt x="74" y="4"/>
                  </a:lnTo>
                  <a:lnTo>
                    <a:pt x="93" y="15"/>
                  </a:lnTo>
                  <a:lnTo>
                    <a:pt x="103" y="33"/>
                  </a:lnTo>
                  <a:lnTo>
                    <a:pt x="107" y="54"/>
                  </a:lnTo>
                  <a:lnTo>
                    <a:pt x="103" y="76"/>
                  </a:lnTo>
                  <a:lnTo>
                    <a:pt x="93" y="93"/>
                  </a:lnTo>
                  <a:lnTo>
                    <a:pt x="74" y="105"/>
                  </a:lnTo>
                  <a:lnTo>
                    <a:pt x="52" y="107"/>
                  </a:lnTo>
                  <a:lnTo>
                    <a:pt x="33" y="105"/>
                  </a:lnTo>
                  <a:lnTo>
                    <a:pt x="14" y="93"/>
                  </a:lnTo>
                  <a:lnTo>
                    <a:pt x="4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 flipV="1" rot="10800000">
            <a:off x="3591000" y="3047040"/>
            <a:ext cx="4038480" cy="2057400"/>
          </a:xfrm>
          <a:custGeom>
            <a:avLst/>
            <a:gdLst/>
            <a:ahLst/>
            <a:rect l="l" t="t" r="r" b="b"/>
            <a:pathLst>
              <a:path w="1883" h="1149">
                <a:moveTo>
                  <a:pt x="1283" y="936"/>
                </a:moveTo>
                <a:lnTo>
                  <a:pt x="1294" y="948"/>
                </a:lnTo>
                <a:lnTo>
                  <a:pt x="1306" y="961"/>
                </a:lnTo>
                <a:lnTo>
                  <a:pt x="1318" y="972"/>
                </a:lnTo>
                <a:lnTo>
                  <a:pt x="1333" y="983"/>
                </a:lnTo>
                <a:lnTo>
                  <a:pt x="1348" y="994"/>
                </a:lnTo>
                <a:lnTo>
                  <a:pt x="1363" y="1004"/>
                </a:lnTo>
                <a:lnTo>
                  <a:pt x="1380" y="1013"/>
                </a:lnTo>
                <a:lnTo>
                  <a:pt x="1397" y="1021"/>
                </a:lnTo>
                <a:lnTo>
                  <a:pt x="1416" y="1028"/>
                </a:lnTo>
                <a:lnTo>
                  <a:pt x="1434" y="1034"/>
                </a:lnTo>
                <a:lnTo>
                  <a:pt x="1454" y="1040"/>
                </a:lnTo>
                <a:lnTo>
                  <a:pt x="1475" y="1045"/>
                </a:lnTo>
                <a:lnTo>
                  <a:pt x="1495" y="1048"/>
                </a:lnTo>
                <a:lnTo>
                  <a:pt x="1517" y="1051"/>
                </a:lnTo>
                <a:lnTo>
                  <a:pt x="1539" y="1053"/>
                </a:lnTo>
                <a:lnTo>
                  <a:pt x="1561" y="1053"/>
                </a:lnTo>
                <a:lnTo>
                  <a:pt x="1593" y="1052"/>
                </a:lnTo>
                <a:lnTo>
                  <a:pt x="1625" y="1049"/>
                </a:lnTo>
                <a:lnTo>
                  <a:pt x="1656" y="1043"/>
                </a:lnTo>
                <a:lnTo>
                  <a:pt x="1686" y="1034"/>
                </a:lnTo>
                <a:lnTo>
                  <a:pt x="1714" y="1025"/>
                </a:lnTo>
                <a:lnTo>
                  <a:pt x="1740" y="1013"/>
                </a:lnTo>
                <a:lnTo>
                  <a:pt x="1765" y="999"/>
                </a:lnTo>
                <a:lnTo>
                  <a:pt x="1788" y="985"/>
                </a:lnTo>
                <a:lnTo>
                  <a:pt x="1809" y="968"/>
                </a:lnTo>
                <a:lnTo>
                  <a:pt x="1827" y="951"/>
                </a:lnTo>
                <a:lnTo>
                  <a:pt x="1843" y="931"/>
                </a:lnTo>
                <a:lnTo>
                  <a:pt x="1857" y="911"/>
                </a:lnTo>
                <a:lnTo>
                  <a:pt x="1868" y="889"/>
                </a:lnTo>
                <a:lnTo>
                  <a:pt x="1875" y="867"/>
                </a:lnTo>
                <a:lnTo>
                  <a:pt x="1881" y="844"/>
                </a:lnTo>
                <a:lnTo>
                  <a:pt x="1882" y="820"/>
                </a:lnTo>
                <a:lnTo>
                  <a:pt x="1881" y="797"/>
                </a:lnTo>
                <a:lnTo>
                  <a:pt x="1875" y="773"/>
                </a:lnTo>
                <a:lnTo>
                  <a:pt x="1867" y="750"/>
                </a:lnTo>
                <a:lnTo>
                  <a:pt x="1857" y="729"/>
                </a:lnTo>
                <a:lnTo>
                  <a:pt x="1842" y="709"/>
                </a:lnTo>
                <a:lnTo>
                  <a:pt x="1826" y="689"/>
                </a:lnTo>
                <a:lnTo>
                  <a:pt x="1807" y="671"/>
                </a:lnTo>
                <a:lnTo>
                  <a:pt x="1786" y="654"/>
                </a:lnTo>
                <a:lnTo>
                  <a:pt x="1791" y="639"/>
                </a:lnTo>
                <a:lnTo>
                  <a:pt x="1795" y="623"/>
                </a:lnTo>
                <a:lnTo>
                  <a:pt x="1798" y="606"/>
                </a:lnTo>
                <a:lnTo>
                  <a:pt x="1798" y="588"/>
                </a:lnTo>
                <a:lnTo>
                  <a:pt x="1798" y="569"/>
                </a:lnTo>
                <a:lnTo>
                  <a:pt x="1794" y="550"/>
                </a:lnTo>
                <a:lnTo>
                  <a:pt x="1789" y="531"/>
                </a:lnTo>
                <a:lnTo>
                  <a:pt x="1783" y="514"/>
                </a:lnTo>
                <a:lnTo>
                  <a:pt x="1775" y="497"/>
                </a:lnTo>
                <a:lnTo>
                  <a:pt x="1765" y="481"/>
                </a:lnTo>
                <a:lnTo>
                  <a:pt x="1754" y="466"/>
                </a:lnTo>
                <a:lnTo>
                  <a:pt x="1742" y="453"/>
                </a:lnTo>
                <a:lnTo>
                  <a:pt x="1729" y="441"/>
                </a:lnTo>
                <a:lnTo>
                  <a:pt x="1714" y="430"/>
                </a:lnTo>
                <a:lnTo>
                  <a:pt x="1698" y="420"/>
                </a:lnTo>
                <a:lnTo>
                  <a:pt x="1681" y="412"/>
                </a:lnTo>
                <a:lnTo>
                  <a:pt x="1665" y="406"/>
                </a:lnTo>
                <a:lnTo>
                  <a:pt x="1646" y="401"/>
                </a:lnTo>
                <a:lnTo>
                  <a:pt x="1627" y="398"/>
                </a:lnTo>
                <a:lnTo>
                  <a:pt x="1608" y="397"/>
                </a:lnTo>
                <a:lnTo>
                  <a:pt x="1596" y="398"/>
                </a:lnTo>
                <a:lnTo>
                  <a:pt x="1585" y="399"/>
                </a:lnTo>
                <a:lnTo>
                  <a:pt x="1573" y="400"/>
                </a:lnTo>
                <a:lnTo>
                  <a:pt x="1562" y="403"/>
                </a:lnTo>
                <a:lnTo>
                  <a:pt x="1551" y="406"/>
                </a:lnTo>
                <a:lnTo>
                  <a:pt x="1540" y="410"/>
                </a:lnTo>
                <a:lnTo>
                  <a:pt x="1530" y="415"/>
                </a:lnTo>
                <a:lnTo>
                  <a:pt x="1520" y="419"/>
                </a:lnTo>
                <a:lnTo>
                  <a:pt x="1512" y="398"/>
                </a:lnTo>
                <a:lnTo>
                  <a:pt x="1502" y="378"/>
                </a:lnTo>
                <a:lnTo>
                  <a:pt x="1492" y="358"/>
                </a:lnTo>
                <a:lnTo>
                  <a:pt x="1480" y="340"/>
                </a:lnTo>
                <a:lnTo>
                  <a:pt x="1466" y="322"/>
                </a:lnTo>
                <a:lnTo>
                  <a:pt x="1452" y="305"/>
                </a:lnTo>
                <a:lnTo>
                  <a:pt x="1437" y="289"/>
                </a:lnTo>
                <a:lnTo>
                  <a:pt x="1421" y="275"/>
                </a:lnTo>
                <a:lnTo>
                  <a:pt x="1404" y="260"/>
                </a:lnTo>
                <a:lnTo>
                  <a:pt x="1386" y="248"/>
                </a:lnTo>
                <a:lnTo>
                  <a:pt x="1367" y="236"/>
                </a:lnTo>
                <a:lnTo>
                  <a:pt x="1348" y="226"/>
                </a:lnTo>
                <a:lnTo>
                  <a:pt x="1327" y="217"/>
                </a:lnTo>
                <a:lnTo>
                  <a:pt x="1306" y="209"/>
                </a:lnTo>
                <a:lnTo>
                  <a:pt x="1285" y="203"/>
                </a:lnTo>
                <a:lnTo>
                  <a:pt x="1262" y="198"/>
                </a:lnTo>
                <a:lnTo>
                  <a:pt x="1251" y="176"/>
                </a:lnTo>
                <a:lnTo>
                  <a:pt x="1239" y="155"/>
                </a:lnTo>
                <a:lnTo>
                  <a:pt x="1226" y="136"/>
                </a:lnTo>
                <a:lnTo>
                  <a:pt x="1211" y="118"/>
                </a:lnTo>
                <a:lnTo>
                  <a:pt x="1195" y="100"/>
                </a:lnTo>
                <a:lnTo>
                  <a:pt x="1177" y="84"/>
                </a:lnTo>
                <a:lnTo>
                  <a:pt x="1159" y="69"/>
                </a:lnTo>
                <a:lnTo>
                  <a:pt x="1139" y="55"/>
                </a:lnTo>
                <a:lnTo>
                  <a:pt x="1119" y="42"/>
                </a:lnTo>
                <a:lnTo>
                  <a:pt x="1097" y="31"/>
                </a:lnTo>
                <a:lnTo>
                  <a:pt x="1075" y="22"/>
                </a:lnTo>
                <a:lnTo>
                  <a:pt x="1052" y="14"/>
                </a:lnTo>
                <a:lnTo>
                  <a:pt x="1028" y="8"/>
                </a:lnTo>
                <a:lnTo>
                  <a:pt x="1004" y="3"/>
                </a:lnTo>
                <a:lnTo>
                  <a:pt x="979" y="1"/>
                </a:lnTo>
                <a:lnTo>
                  <a:pt x="954" y="0"/>
                </a:lnTo>
                <a:lnTo>
                  <a:pt x="926" y="1"/>
                </a:lnTo>
                <a:lnTo>
                  <a:pt x="900" y="5"/>
                </a:lnTo>
                <a:lnTo>
                  <a:pt x="873" y="10"/>
                </a:lnTo>
                <a:lnTo>
                  <a:pt x="847" y="17"/>
                </a:lnTo>
                <a:lnTo>
                  <a:pt x="823" y="26"/>
                </a:lnTo>
                <a:lnTo>
                  <a:pt x="799" y="37"/>
                </a:lnTo>
                <a:lnTo>
                  <a:pt x="777" y="50"/>
                </a:lnTo>
                <a:lnTo>
                  <a:pt x="755" y="64"/>
                </a:lnTo>
                <a:lnTo>
                  <a:pt x="734" y="80"/>
                </a:lnTo>
                <a:lnTo>
                  <a:pt x="716" y="97"/>
                </a:lnTo>
                <a:lnTo>
                  <a:pt x="698" y="116"/>
                </a:lnTo>
                <a:lnTo>
                  <a:pt x="682" y="136"/>
                </a:lnTo>
                <a:lnTo>
                  <a:pt x="667" y="158"/>
                </a:lnTo>
                <a:lnTo>
                  <a:pt x="654" y="180"/>
                </a:lnTo>
                <a:lnTo>
                  <a:pt x="642" y="203"/>
                </a:lnTo>
                <a:lnTo>
                  <a:pt x="632" y="228"/>
                </a:lnTo>
                <a:lnTo>
                  <a:pt x="622" y="222"/>
                </a:lnTo>
                <a:lnTo>
                  <a:pt x="612" y="218"/>
                </a:lnTo>
                <a:lnTo>
                  <a:pt x="601" y="214"/>
                </a:lnTo>
                <a:lnTo>
                  <a:pt x="590" y="211"/>
                </a:lnTo>
                <a:lnTo>
                  <a:pt x="579" y="208"/>
                </a:lnTo>
                <a:lnTo>
                  <a:pt x="568" y="206"/>
                </a:lnTo>
                <a:lnTo>
                  <a:pt x="556" y="206"/>
                </a:lnTo>
                <a:lnTo>
                  <a:pt x="544" y="205"/>
                </a:lnTo>
                <a:lnTo>
                  <a:pt x="525" y="206"/>
                </a:lnTo>
                <a:lnTo>
                  <a:pt x="506" y="209"/>
                </a:lnTo>
                <a:lnTo>
                  <a:pt x="488" y="214"/>
                </a:lnTo>
                <a:lnTo>
                  <a:pt x="471" y="220"/>
                </a:lnTo>
                <a:lnTo>
                  <a:pt x="453" y="228"/>
                </a:lnTo>
                <a:lnTo>
                  <a:pt x="438" y="238"/>
                </a:lnTo>
                <a:lnTo>
                  <a:pt x="423" y="249"/>
                </a:lnTo>
                <a:lnTo>
                  <a:pt x="410" y="261"/>
                </a:lnTo>
                <a:lnTo>
                  <a:pt x="398" y="275"/>
                </a:lnTo>
                <a:lnTo>
                  <a:pt x="387" y="290"/>
                </a:lnTo>
                <a:lnTo>
                  <a:pt x="377" y="305"/>
                </a:lnTo>
                <a:lnTo>
                  <a:pt x="368" y="322"/>
                </a:lnTo>
                <a:lnTo>
                  <a:pt x="363" y="340"/>
                </a:lnTo>
                <a:lnTo>
                  <a:pt x="358" y="358"/>
                </a:lnTo>
                <a:lnTo>
                  <a:pt x="355" y="377"/>
                </a:lnTo>
                <a:lnTo>
                  <a:pt x="354" y="396"/>
                </a:lnTo>
                <a:lnTo>
                  <a:pt x="354" y="403"/>
                </a:lnTo>
                <a:lnTo>
                  <a:pt x="355" y="410"/>
                </a:lnTo>
                <a:lnTo>
                  <a:pt x="355" y="416"/>
                </a:lnTo>
                <a:lnTo>
                  <a:pt x="356" y="423"/>
                </a:lnTo>
                <a:lnTo>
                  <a:pt x="320" y="426"/>
                </a:lnTo>
                <a:lnTo>
                  <a:pt x="284" y="431"/>
                </a:lnTo>
                <a:lnTo>
                  <a:pt x="250" y="440"/>
                </a:lnTo>
                <a:lnTo>
                  <a:pt x="217" y="450"/>
                </a:lnTo>
                <a:lnTo>
                  <a:pt x="186" y="461"/>
                </a:lnTo>
                <a:lnTo>
                  <a:pt x="156" y="475"/>
                </a:lnTo>
                <a:lnTo>
                  <a:pt x="129" y="490"/>
                </a:lnTo>
                <a:lnTo>
                  <a:pt x="103" y="507"/>
                </a:lnTo>
                <a:lnTo>
                  <a:pt x="81" y="527"/>
                </a:lnTo>
                <a:lnTo>
                  <a:pt x="60" y="546"/>
                </a:lnTo>
                <a:lnTo>
                  <a:pt x="42" y="568"/>
                </a:lnTo>
                <a:lnTo>
                  <a:pt x="28" y="590"/>
                </a:lnTo>
                <a:lnTo>
                  <a:pt x="15" y="614"/>
                </a:lnTo>
                <a:lnTo>
                  <a:pt x="8" y="639"/>
                </a:lnTo>
                <a:lnTo>
                  <a:pt x="1" y="664"/>
                </a:lnTo>
                <a:lnTo>
                  <a:pt x="0" y="690"/>
                </a:lnTo>
                <a:lnTo>
                  <a:pt x="2" y="718"/>
                </a:lnTo>
                <a:lnTo>
                  <a:pt x="8" y="744"/>
                </a:lnTo>
                <a:lnTo>
                  <a:pt x="17" y="770"/>
                </a:lnTo>
                <a:lnTo>
                  <a:pt x="31" y="794"/>
                </a:lnTo>
                <a:lnTo>
                  <a:pt x="46" y="818"/>
                </a:lnTo>
                <a:lnTo>
                  <a:pt x="66" y="840"/>
                </a:lnTo>
                <a:lnTo>
                  <a:pt x="88" y="860"/>
                </a:lnTo>
                <a:lnTo>
                  <a:pt x="113" y="879"/>
                </a:lnTo>
                <a:lnTo>
                  <a:pt x="139" y="896"/>
                </a:lnTo>
                <a:lnTo>
                  <a:pt x="169" y="912"/>
                </a:lnTo>
                <a:lnTo>
                  <a:pt x="200" y="925"/>
                </a:lnTo>
                <a:lnTo>
                  <a:pt x="234" y="936"/>
                </a:lnTo>
                <a:lnTo>
                  <a:pt x="269" y="946"/>
                </a:lnTo>
                <a:lnTo>
                  <a:pt x="305" y="952"/>
                </a:lnTo>
                <a:lnTo>
                  <a:pt x="343" y="956"/>
                </a:lnTo>
                <a:lnTo>
                  <a:pt x="382" y="958"/>
                </a:lnTo>
                <a:lnTo>
                  <a:pt x="384" y="958"/>
                </a:lnTo>
                <a:lnTo>
                  <a:pt x="387" y="958"/>
                </a:lnTo>
                <a:lnTo>
                  <a:pt x="390" y="958"/>
                </a:lnTo>
                <a:lnTo>
                  <a:pt x="393" y="958"/>
                </a:lnTo>
                <a:lnTo>
                  <a:pt x="400" y="968"/>
                </a:lnTo>
                <a:lnTo>
                  <a:pt x="406" y="977"/>
                </a:lnTo>
                <a:lnTo>
                  <a:pt x="415" y="987"/>
                </a:lnTo>
                <a:lnTo>
                  <a:pt x="423" y="996"/>
                </a:lnTo>
                <a:lnTo>
                  <a:pt x="431" y="1004"/>
                </a:lnTo>
                <a:lnTo>
                  <a:pt x="441" y="1013"/>
                </a:lnTo>
                <a:lnTo>
                  <a:pt x="451" y="1020"/>
                </a:lnTo>
                <a:lnTo>
                  <a:pt x="461" y="1026"/>
                </a:lnTo>
                <a:lnTo>
                  <a:pt x="472" y="1031"/>
                </a:lnTo>
                <a:lnTo>
                  <a:pt x="484" y="1038"/>
                </a:lnTo>
                <a:lnTo>
                  <a:pt x="495" y="1042"/>
                </a:lnTo>
                <a:lnTo>
                  <a:pt x="507" y="1046"/>
                </a:lnTo>
                <a:lnTo>
                  <a:pt x="519" y="1049"/>
                </a:lnTo>
                <a:lnTo>
                  <a:pt x="533" y="1051"/>
                </a:lnTo>
                <a:lnTo>
                  <a:pt x="545" y="1052"/>
                </a:lnTo>
                <a:lnTo>
                  <a:pt x="558" y="1053"/>
                </a:lnTo>
                <a:lnTo>
                  <a:pt x="567" y="1053"/>
                </a:lnTo>
                <a:lnTo>
                  <a:pt x="577" y="1052"/>
                </a:lnTo>
                <a:lnTo>
                  <a:pt x="586" y="1051"/>
                </a:lnTo>
                <a:lnTo>
                  <a:pt x="595" y="1049"/>
                </a:lnTo>
                <a:lnTo>
                  <a:pt x="604" y="1048"/>
                </a:lnTo>
                <a:lnTo>
                  <a:pt x="612" y="1045"/>
                </a:lnTo>
                <a:lnTo>
                  <a:pt x="621" y="1042"/>
                </a:lnTo>
                <a:lnTo>
                  <a:pt x="629" y="1039"/>
                </a:lnTo>
                <a:lnTo>
                  <a:pt x="637" y="1036"/>
                </a:lnTo>
                <a:lnTo>
                  <a:pt x="645" y="1031"/>
                </a:lnTo>
                <a:lnTo>
                  <a:pt x="653" y="1028"/>
                </a:lnTo>
                <a:lnTo>
                  <a:pt x="660" y="1023"/>
                </a:lnTo>
                <a:lnTo>
                  <a:pt x="667" y="1018"/>
                </a:lnTo>
                <a:lnTo>
                  <a:pt x="675" y="1013"/>
                </a:lnTo>
                <a:lnTo>
                  <a:pt x="682" y="1007"/>
                </a:lnTo>
                <a:lnTo>
                  <a:pt x="689" y="1001"/>
                </a:lnTo>
                <a:lnTo>
                  <a:pt x="700" y="1018"/>
                </a:lnTo>
                <a:lnTo>
                  <a:pt x="713" y="1033"/>
                </a:lnTo>
                <a:lnTo>
                  <a:pt x="726" y="1048"/>
                </a:lnTo>
                <a:lnTo>
                  <a:pt x="741" y="1063"/>
                </a:lnTo>
                <a:lnTo>
                  <a:pt x="757" y="1075"/>
                </a:lnTo>
                <a:lnTo>
                  <a:pt x="772" y="1087"/>
                </a:lnTo>
                <a:lnTo>
                  <a:pt x="790" y="1098"/>
                </a:lnTo>
                <a:lnTo>
                  <a:pt x="807" y="1108"/>
                </a:lnTo>
                <a:lnTo>
                  <a:pt x="825" y="1118"/>
                </a:lnTo>
                <a:lnTo>
                  <a:pt x="845" y="1126"/>
                </a:lnTo>
                <a:lnTo>
                  <a:pt x="864" y="1132"/>
                </a:lnTo>
                <a:lnTo>
                  <a:pt x="883" y="1138"/>
                </a:lnTo>
                <a:lnTo>
                  <a:pt x="904" y="1143"/>
                </a:lnTo>
                <a:lnTo>
                  <a:pt x="924" y="1146"/>
                </a:lnTo>
                <a:lnTo>
                  <a:pt x="946" y="1148"/>
                </a:lnTo>
                <a:lnTo>
                  <a:pt x="967" y="1148"/>
                </a:lnTo>
                <a:lnTo>
                  <a:pt x="994" y="1148"/>
                </a:lnTo>
                <a:lnTo>
                  <a:pt x="1020" y="1144"/>
                </a:lnTo>
                <a:lnTo>
                  <a:pt x="1045" y="1139"/>
                </a:lnTo>
                <a:lnTo>
                  <a:pt x="1070" y="1133"/>
                </a:lnTo>
                <a:lnTo>
                  <a:pt x="1094" y="1125"/>
                </a:lnTo>
                <a:lnTo>
                  <a:pt x="1117" y="1114"/>
                </a:lnTo>
                <a:lnTo>
                  <a:pt x="1139" y="1103"/>
                </a:lnTo>
                <a:lnTo>
                  <a:pt x="1160" y="1089"/>
                </a:lnTo>
                <a:lnTo>
                  <a:pt x="1180" y="1074"/>
                </a:lnTo>
                <a:lnTo>
                  <a:pt x="1198" y="1058"/>
                </a:lnTo>
                <a:lnTo>
                  <a:pt x="1216" y="1041"/>
                </a:lnTo>
                <a:lnTo>
                  <a:pt x="1232" y="1022"/>
                </a:lnTo>
                <a:lnTo>
                  <a:pt x="1247" y="1002"/>
                </a:lnTo>
                <a:lnTo>
                  <a:pt x="1261" y="981"/>
                </a:lnTo>
                <a:lnTo>
                  <a:pt x="1273" y="959"/>
                </a:lnTo>
                <a:lnTo>
                  <a:pt x="1283" y="93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429080" y="2133720"/>
            <a:ext cx="243828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295360" y="40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295360" y="2590920"/>
            <a:ext cx="289584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572080" y="2590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191200" y="3124080"/>
            <a:ext cx="761760" cy="586080"/>
          </a:xfrm>
          <a:prstGeom prst="triangle">
            <a:avLst>
              <a:gd name="adj" fmla="val 50000"/>
            </a:avLst>
          </a:prstGeom>
          <a:solidFill>
            <a:srgbClr val="e6a04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4"/>
          <a:stretch/>
        </p:blipFill>
        <p:spPr>
          <a:xfrm>
            <a:off x="7095960" y="3886200"/>
            <a:ext cx="552600" cy="66672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5"/>
          <a:stretch/>
        </p:blipFill>
        <p:spPr>
          <a:xfrm>
            <a:off x="3666960" y="3809880"/>
            <a:ext cx="466920" cy="58104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6"/>
          <a:stretch/>
        </p:blipFill>
        <p:spPr>
          <a:xfrm>
            <a:off x="5343480" y="4416480"/>
            <a:ext cx="490680" cy="61272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4994280" y="26042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781880" y="393192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29080" y="1676520"/>
            <a:ext cx="2438280" cy="457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96260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648400" y="20098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3420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4428720" y="21337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955200" y="219456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55200" y="17373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648400" y="1676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079120" y="40374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209600" y="1508040"/>
            <a:ext cx="21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rint 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deot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hat does this mean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itches will go from being large, monolithic creatures with collocated connection and bearer control to distributed, IP-centric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should reasonably expect this to happen first with emergent carriers rather than established 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ower of an IP infrastructure will be leveraged to create features in many different, non-traditional environments. The power of a converged infrastructure will lead to the development of many new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st of infrastructure will go down as telecommunications moves out of its own small independent world to take advantage of the benefits of scale in the data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rgence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no longer sufficient to be a telephony provider, you have to be a communications services prov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t reduction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infrastructure is cheaper than two, and an IP infrastructure is cheaper than a SS7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lexibility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PNs, cross-switch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gration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ility to build on current infra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satility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should a phone call be a 3.1kHz, mono audio chann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ability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w your network to meet de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hanges for custom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ergence of non-traditional telecomm carriers - cable companies being the first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hanced features - since systems are IP-centric, ‘net-friendly’ features will quickly be depl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reductions due to increases in com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rease in distance-related toll lo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e away from Telephony as distinct from general connected compu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nterprise Adoption of NGN/IP Telephon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capital cost - can be introduced incre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te/Branch office integration via cheaper technologies - simplified topology, management and security infra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olidation of voice and data on a single wire (50-60% cost sav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infrastructure - cost savings in implementation and ongoing mainten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ill it happen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4134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16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03, 70% of enterprises will have replaced at least 2/3 of their networks and 15% will have replaced their networks totally (0.7 prob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in late 1999, enterprises will test integrated voice and data alternatives, but less than 20% will use the technology by 2001 (0.7 prob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>
              <a:spcBef>
                <a:spcPts val="34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03, more than 50% of intra-enterprise communications needs (including voice) will move from individually procured network services to a converged, multiservice network-service provider (NSP) network (0.8 probability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strategic planning assumptions from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Networking Battlefield: How to Profit From 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-in-a-Lifetime Opportunity,” Gartner Group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7, 1999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future for Telcordia..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2665440" y="4059360"/>
            <a:ext cx="731880" cy="9504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665440" y="4156200"/>
            <a:ext cx="723960" cy="9360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665440" y="4059360"/>
            <a:ext cx="729720" cy="188640"/>
            <a:chOff x="2665440" y="4059360"/>
            <a:chExt cx="729720" cy="188640"/>
          </a:xfrm>
        </p:grpSpPr>
        <p:sp>
          <p:nvSpPr>
            <p:cNvPr id="1147" name=""/>
            <p:cNvSpPr/>
            <p:nvPr/>
          </p:nvSpPr>
          <p:spPr>
            <a:xfrm>
              <a:off x="2665440" y="4119840"/>
              <a:ext cx="729720" cy="66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671920" y="4125960"/>
              <a:ext cx="723240" cy="12204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71920" y="4059360"/>
              <a:ext cx="723240" cy="12096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2665440" y="3994200"/>
            <a:ext cx="723960" cy="120240"/>
            <a:chOff x="2665440" y="3994200"/>
            <a:chExt cx="723960" cy="120240"/>
          </a:xfrm>
        </p:grpSpPr>
        <p:sp>
          <p:nvSpPr>
            <p:cNvPr id="1151" name=""/>
            <p:cNvSpPr/>
            <p:nvPr/>
          </p:nvSpPr>
          <p:spPr>
            <a:xfrm>
              <a:off x="2665440" y="3994200"/>
              <a:ext cx="723960" cy="1202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2812680" y="4004640"/>
              <a:ext cx="454680" cy="93600"/>
              <a:chOff x="2812680" y="4004640"/>
              <a:chExt cx="454680" cy="9360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2812680" y="4004640"/>
                <a:ext cx="454680" cy="93600"/>
                <a:chOff x="2812680" y="4004640"/>
                <a:chExt cx="454680" cy="9360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2812680" y="4004640"/>
                  <a:ext cx="207000" cy="36720"/>
                </a:xfrm>
                <a:custGeom>
                  <a:avLst/>
                  <a:gdLst/>
                  <a:ahLst/>
                  <a:rect l="l" t="t" r="r" b="b"/>
                  <a:pathLst>
                    <a:path w="92" h="40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0" y="22"/>
                      </a:lnTo>
                      <a:lnTo>
                        <a:pt x="92" y="15"/>
                      </a:lnTo>
                      <a:lnTo>
                        <a:pt x="85" y="40"/>
                      </a:lnTo>
                      <a:lnTo>
                        <a:pt x="22" y="40"/>
                      </a:lnTo>
                      <a:lnTo>
                        <a:pt x="51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812680" y="4004640"/>
                  <a:ext cx="207000" cy="36720"/>
                </a:xfrm>
                <a:custGeom>
                  <a:avLst/>
                  <a:gdLst/>
                  <a:ahLst/>
                  <a:rect l="l" t="t" r="r" b="b"/>
                  <a:pathLst>
                    <a:path w="92" h="40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0" y="22"/>
                      </a:lnTo>
                      <a:lnTo>
                        <a:pt x="92" y="15"/>
                      </a:lnTo>
                      <a:lnTo>
                        <a:pt x="85" y="40"/>
                      </a:lnTo>
                      <a:lnTo>
                        <a:pt x="22" y="40"/>
                      </a:lnTo>
                      <a:lnTo>
                        <a:pt x="51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53520" y="4065480"/>
                  <a:ext cx="213840" cy="32760"/>
                </a:xfrm>
                <a:custGeom>
                  <a:avLst/>
                  <a:gdLst/>
                  <a:ahLst/>
                  <a:rect l="l" t="t" r="r" b="b"/>
                  <a:pathLst>
                    <a:path w="95" h="36">
                      <a:moveTo>
                        <a:pt x="95" y="29"/>
                      </a:moveTo>
                      <a:lnTo>
                        <a:pt x="73" y="36"/>
                      </a:lnTo>
                      <a:lnTo>
                        <a:pt x="22" y="18"/>
                      </a:lnTo>
                      <a:lnTo>
                        <a:pt x="0" y="29"/>
                      </a:lnTo>
                      <a:lnTo>
                        <a:pt x="7" y="0"/>
                      </a:lnTo>
                      <a:lnTo>
                        <a:pt x="73" y="0"/>
                      </a:lnTo>
                      <a:lnTo>
                        <a:pt x="48" y="11"/>
                      </a:lnTo>
                      <a:lnTo>
                        <a:pt x="95" y="29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053520" y="4065480"/>
                  <a:ext cx="213840" cy="32760"/>
                </a:xfrm>
                <a:custGeom>
                  <a:avLst/>
                  <a:gdLst/>
                  <a:ahLst/>
                  <a:rect l="l" t="t" r="r" b="b"/>
                  <a:pathLst>
                    <a:path w="95" h="36">
                      <a:moveTo>
                        <a:pt x="95" y="29"/>
                      </a:moveTo>
                      <a:lnTo>
                        <a:pt x="73" y="36"/>
                      </a:lnTo>
                      <a:lnTo>
                        <a:pt x="22" y="18"/>
                      </a:lnTo>
                      <a:lnTo>
                        <a:pt x="0" y="29"/>
                      </a:lnTo>
                      <a:lnTo>
                        <a:pt x="7" y="0"/>
                      </a:lnTo>
                      <a:lnTo>
                        <a:pt x="73" y="0"/>
                      </a:lnTo>
                      <a:lnTo>
                        <a:pt x="48" y="11"/>
                      </a:lnTo>
                      <a:lnTo>
                        <a:pt x="95" y="29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2828160" y="4004640"/>
                <a:ext cx="425160" cy="93600"/>
                <a:chOff x="2828160" y="4004640"/>
                <a:chExt cx="425160" cy="93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3039480" y="4004640"/>
                  <a:ext cx="213840" cy="36720"/>
                </a:xfrm>
                <a:custGeom>
                  <a:avLst/>
                  <a:gdLst/>
                  <a:ahLst/>
                  <a:rect l="l" t="t" r="r" b="b"/>
                  <a:pathLst>
                    <a:path w="95" h="40">
                      <a:moveTo>
                        <a:pt x="0" y="33"/>
                      </a:moveTo>
                      <a:lnTo>
                        <a:pt x="22" y="40"/>
                      </a:lnTo>
                      <a:lnTo>
                        <a:pt x="69" y="15"/>
                      </a:lnTo>
                      <a:lnTo>
                        <a:pt x="95" y="22"/>
                      </a:lnTo>
                      <a:lnTo>
                        <a:pt x="85" y="0"/>
                      </a:lnTo>
                      <a:lnTo>
                        <a:pt x="22" y="0"/>
                      </a:lnTo>
                      <a:lnTo>
                        <a:pt x="54" y="7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039480" y="4004640"/>
                  <a:ext cx="213840" cy="36720"/>
                </a:xfrm>
                <a:custGeom>
                  <a:avLst/>
                  <a:gdLst/>
                  <a:ahLst/>
                  <a:rect l="l" t="t" r="r" b="b"/>
                  <a:pathLst>
                    <a:path w="95" h="40">
                      <a:moveTo>
                        <a:pt x="0" y="33"/>
                      </a:moveTo>
                      <a:lnTo>
                        <a:pt x="22" y="40"/>
                      </a:lnTo>
                      <a:lnTo>
                        <a:pt x="69" y="15"/>
                      </a:lnTo>
                      <a:lnTo>
                        <a:pt x="95" y="22"/>
                      </a:lnTo>
                      <a:lnTo>
                        <a:pt x="85" y="0"/>
                      </a:lnTo>
                      <a:lnTo>
                        <a:pt x="22" y="0"/>
                      </a:lnTo>
                      <a:lnTo>
                        <a:pt x="54" y="7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2828160" y="4057920"/>
                  <a:ext cx="204480" cy="40320"/>
                </a:xfrm>
                <a:custGeom>
                  <a:avLst/>
                  <a:gdLst/>
                  <a:ahLst/>
                  <a:rect l="l" t="t" r="r" b="b"/>
                  <a:pathLst>
                    <a:path w="91" h="44">
                      <a:moveTo>
                        <a:pt x="91" y="8"/>
                      </a:moveTo>
                      <a:lnTo>
                        <a:pt x="69" y="0"/>
                      </a:lnTo>
                      <a:lnTo>
                        <a:pt x="22" y="26"/>
                      </a:lnTo>
                      <a:lnTo>
                        <a:pt x="0" y="19"/>
                      </a:lnTo>
                      <a:lnTo>
                        <a:pt x="6" y="44"/>
                      </a:lnTo>
                      <a:lnTo>
                        <a:pt x="69" y="44"/>
                      </a:lnTo>
                      <a:lnTo>
                        <a:pt x="41" y="37"/>
                      </a:lnTo>
                      <a:lnTo>
                        <a:pt x="91" y="8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828160" y="4057920"/>
                  <a:ext cx="204480" cy="40320"/>
                </a:xfrm>
                <a:custGeom>
                  <a:avLst/>
                  <a:gdLst/>
                  <a:ahLst/>
                  <a:rect l="l" t="t" r="r" b="b"/>
                  <a:pathLst>
                    <a:path w="91" h="44">
                      <a:moveTo>
                        <a:pt x="91" y="8"/>
                      </a:moveTo>
                      <a:lnTo>
                        <a:pt x="69" y="0"/>
                      </a:lnTo>
                      <a:lnTo>
                        <a:pt x="22" y="26"/>
                      </a:lnTo>
                      <a:lnTo>
                        <a:pt x="0" y="19"/>
                      </a:lnTo>
                      <a:lnTo>
                        <a:pt x="6" y="44"/>
                      </a:lnTo>
                      <a:lnTo>
                        <a:pt x="69" y="44"/>
                      </a:lnTo>
                      <a:lnTo>
                        <a:pt x="41" y="37"/>
                      </a:lnTo>
                      <a:lnTo>
                        <a:pt x="91" y="8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63" name=""/>
          <p:cNvSpPr/>
          <p:nvPr/>
        </p:nvSpPr>
        <p:spPr>
          <a:xfrm>
            <a:off x="2593440" y="429588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ll Agent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USA" descr=""/>
          <p:cNvPicPr/>
          <p:nvPr/>
        </p:nvPicPr>
        <p:blipFill>
          <a:blip r:embed="rId1"/>
          <a:stretch/>
        </p:blipFill>
        <p:spPr>
          <a:xfrm>
            <a:off x="838080" y="1674720"/>
            <a:ext cx="5261040" cy="3264120"/>
          </a:xfrm>
          <a:prstGeom prst="rect">
            <a:avLst/>
          </a:prstGeom>
          <a:ln w="0">
            <a:noFill/>
          </a:ln>
        </p:spPr>
      </p:pic>
      <p:pic>
        <p:nvPicPr>
          <p:cNvPr id="1165" name="British%20Isles" descr=""/>
          <p:cNvPicPr/>
          <p:nvPr/>
        </p:nvPicPr>
        <p:blipFill>
          <a:blip r:embed="rId2"/>
          <a:stretch/>
        </p:blipFill>
        <p:spPr>
          <a:xfrm>
            <a:off x="6651720" y="1420920"/>
            <a:ext cx="2004840" cy="271764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/>
          <p:nvPr/>
        </p:nvSpPr>
        <p:spPr>
          <a:xfrm>
            <a:off x="5075280" y="3584520"/>
            <a:ext cx="3048120" cy="260280"/>
          </a:xfrm>
          <a:custGeom>
            <a:avLst/>
            <a:gdLst/>
            <a:ahLst/>
            <a:rect l="l" t="t" r="r" b="b"/>
            <a:pathLst>
              <a:path w="1966" h="180">
                <a:moveTo>
                  <a:pt x="1966" y="180"/>
                </a:moveTo>
                <a:lnTo>
                  <a:pt x="1074" y="120"/>
                </a:lnTo>
                <a:lnTo>
                  <a:pt x="1105" y="82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7350120" y="2120760"/>
            <a:ext cx="565200" cy="1318680"/>
            <a:chOff x="7350120" y="2120760"/>
            <a:chExt cx="565200" cy="1318680"/>
          </a:xfrm>
        </p:grpSpPr>
        <p:pic>
          <p:nvPicPr>
            <p:cNvPr id="1168" name="" descr=""/>
            <p:cNvPicPr/>
            <p:nvPr/>
          </p:nvPicPr>
          <p:blipFill>
            <a:blip r:embed="rId3"/>
            <a:stretch/>
          </p:blipFill>
          <p:spPr>
            <a:xfrm>
              <a:off x="7350120" y="2120760"/>
              <a:ext cx="565200" cy="13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7401240" y="2585160"/>
              <a:ext cx="48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P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7204680" y="1584360"/>
            <a:ext cx="938160" cy="713880"/>
            <a:chOff x="7204680" y="1584360"/>
            <a:chExt cx="938160" cy="713880"/>
          </a:xfrm>
        </p:grpSpPr>
        <p:grpSp>
          <p:nvGrpSpPr>
            <p:cNvPr id="1171" name=""/>
            <p:cNvGrpSpPr/>
            <p:nvPr/>
          </p:nvGrpSpPr>
          <p:grpSpPr>
            <a:xfrm>
              <a:off x="7266960" y="1882080"/>
              <a:ext cx="817920" cy="416160"/>
              <a:chOff x="7266960" y="1882080"/>
              <a:chExt cx="817920" cy="416160"/>
            </a:xfrm>
          </p:grpSpPr>
          <p:sp>
            <p:nvSpPr>
              <p:cNvPr id="1172" name=""/>
              <p:cNvSpPr/>
              <p:nvPr/>
            </p:nvSpPr>
            <p:spPr>
              <a:xfrm>
                <a:off x="7266960" y="1882080"/>
                <a:ext cx="817920" cy="416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3" name="SAICPC" descr=""/>
              <p:cNvPicPr/>
              <p:nvPr/>
            </p:nvPicPr>
            <p:blipFill>
              <a:blip r:embed="rId4"/>
              <a:stretch/>
            </p:blipFill>
            <p:spPr>
              <a:xfrm>
                <a:off x="7386120" y="1978920"/>
                <a:ext cx="557640" cy="21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4" name=""/>
            <p:cNvSpPr/>
            <p:nvPr/>
          </p:nvSpPr>
          <p:spPr>
            <a:xfrm>
              <a:off x="7204680" y="1584360"/>
              <a:ext cx="9381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DX P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berdeen, U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753680" y="2389320"/>
            <a:ext cx="1072440" cy="734400"/>
            <a:chOff x="7753680" y="2389320"/>
            <a:chExt cx="1072440" cy="734400"/>
          </a:xfrm>
        </p:grpSpPr>
        <p:grpSp>
          <p:nvGrpSpPr>
            <p:cNvPr id="1176" name=""/>
            <p:cNvGrpSpPr/>
            <p:nvPr/>
          </p:nvGrpSpPr>
          <p:grpSpPr>
            <a:xfrm>
              <a:off x="7858800" y="2707200"/>
              <a:ext cx="818280" cy="416520"/>
              <a:chOff x="7858800" y="2707200"/>
              <a:chExt cx="818280" cy="416520"/>
            </a:xfrm>
          </p:grpSpPr>
          <p:sp>
            <p:nvSpPr>
              <p:cNvPr id="1177" name=""/>
              <p:cNvSpPr/>
              <p:nvPr/>
            </p:nvSpPr>
            <p:spPr>
              <a:xfrm>
                <a:off x="7858800" y="2707200"/>
                <a:ext cx="818280" cy="416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8" name="SAICPC" descr=""/>
              <p:cNvPicPr/>
              <p:nvPr/>
            </p:nvPicPr>
            <p:blipFill>
              <a:blip r:embed="rId5"/>
              <a:stretch/>
            </p:blipFill>
            <p:spPr>
              <a:xfrm>
                <a:off x="7977960" y="2804400"/>
                <a:ext cx="558000" cy="21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9" name=""/>
            <p:cNvSpPr/>
            <p:nvPr/>
          </p:nvSpPr>
          <p:spPr>
            <a:xfrm>
              <a:off x="7753680" y="2389320"/>
              <a:ext cx="107244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DX P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idenhead, U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7832880" y="3478320"/>
            <a:ext cx="819000" cy="415800"/>
            <a:chOff x="7832880" y="3478320"/>
            <a:chExt cx="819000" cy="415800"/>
          </a:xfrm>
        </p:grpSpPr>
        <p:sp>
          <p:nvSpPr>
            <p:cNvPr id="1181" name=""/>
            <p:cNvSpPr/>
            <p:nvPr/>
          </p:nvSpPr>
          <p:spPr>
            <a:xfrm>
              <a:off x="7832880" y="3478320"/>
              <a:ext cx="81900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2" name="SAICPC" descr=""/>
            <p:cNvPicPr/>
            <p:nvPr/>
          </p:nvPicPr>
          <p:blipFill>
            <a:blip r:embed="rId6"/>
            <a:stretch/>
          </p:blipFill>
          <p:spPr>
            <a:xfrm>
              <a:off x="7952040" y="3575160"/>
              <a:ext cx="558360" cy="2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3" name=""/>
          <p:cNvSpPr/>
          <p:nvPr/>
        </p:nvSpPr>
        <p:spPr>
          <a:xfrm>
            <a:off x="7903440" y="3887640"/>
            <a:ext cx="86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DX 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ndon , U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5041800" y="1709640"/>
            <a:ext cx="752400" cy="1455120"/>
            <a:chOff x="5041800" y="1709640"/>
            <a:chExt cx="752400" cy="1455120"/>
          </a:xfrm>
        </p:grpSpPr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5041800" y="1709640"/>
              <a:ext cx="752400" cy="14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5102280" y="2221920"/>
              <a:ext cx="65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P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ubb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4530600" y="1295280"/>
            <a:ext cx="1006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ESS Centr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ristown, N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480640" y="1295280"/>
            <a:ext cx="932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ESS Centr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vesink,N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224000" y="3306600"/>
            <a:ext cx="4681080" cy="561960"/>
            <a:chOff x="1224000" y="3306600"/>
            <a:chExt cx="4681080" cy="561960"/>
          </a:xfrm>
        </p:grpSpPr>
        <p:pic>
          <p:nvPicPr>
            <p:cNvPr id="1190" name="" descr=""/>
            <p:cNvPicPr/>
            <p:nvPr/>
          </p:nvPicPr>
          <p:blipFill>
            <a:blip r:embed="rId8"/>
            <a:stretch/>
          </p:blipFill>
          <p:spPr>
            <a:xfrm>
              <a:off x="1224000" y="3306600"/>
              <a:ext cx="46810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3004200" y="3425400"/>
              <a:ext cx="123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684680" y="3660840"/>
            <a:ext cx="838440" cy="750960"/>
            <a:chOff x="4684680" y="3660840"/>
            <a:chExt cx="838440" cy="750960"/>
          </a:xfrm>
        </p:grpSpPr>
        <p:grpSp>
          <p:nvGrpSpPr>
            <p:cNvPr id="1193" name=""/>
            <p:cNvGrpSpPr/>
            <p:nvPr/>
          </p:nvGrpSpPr>
          <p:grpSpPr>
            <a:xfrm>
              <a:off x="4684680" y="3660840"/>
              <a:ext cx="819720" cy="416160"/>
              <a:chOff x="4684680" y="3660840"/>
              <a:chExt cx="819720" cy="416160"/>
            </a:xfrm>
          </p:grpSpPr>
          <p:sp>
            <p:nvSpPr>
              <p:cNvPr id="1194" name=""/>
              <p:cNvSpPr/>
              <p:nvPr/>
            </p:nvSpPr>
            <p:spPr>
              <a:xfrm>
                <a:off x="4684680" y="3660840"/>
                <a:ext cx="819720" cy="416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5" name="SAICPC" descr=""/>
              <p:cNvPicPr/>
              <p:nvPr/>
            </p:nvPicPr>
            <p:blipFill>
              <a:blip r:embed="rId9"/>
              <a:stretch/>
            </p:blipFill>
            <p:spPr>
              <a:xfrm>
                <a:off x="4804200" y="3757680"/>
                <a:ext cx="559080" cy="21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6" name=""/>
            <p:cNvSpPr/>
            <p:nvPr/>
          </p:nvSpPr>
          <p:spPr>
            <a:xfrm>
              <a:off x="4693320" y="4071600"/>
              <a:ext cx="8298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ortel P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cLean, 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972360" y="3481560"/>
            <a:ext cx="823680" cy="758520"/>
            <a:chOff x="972360" y="3481560"/>
            <a:chExt cx="823680" cy="758520"/>
          </a:xfrm>
        </p:grpSpPr>
        <p:grpSp>
          <p:nvGrpSpPr>
            <p:cNvPr id="1198" name=""/>
            <p:cNvGrpSpPr/>
            <p:nvPr/>
          </p:nvGrpSpPr>
          <p:grpSpPr>
            <a:xfrm>
              <a:off x="972720" y="3481560"/>
              <a:ext cx="817560" cy="416880"/>
              <a:chOff x="972720" y="3481560"/>
              <a:chExt cx="817560" cy="416880"/>
            </a:xfrm>
          </p:grpSpPr>
          <p:sp>
            <p:nvSpPr>
              <p:cNvPr id="1199" name=""/>
              <p:cNvSpPr/>
              <p:nvPr/>
            </p:nvSpPr>
            <p:spPr>
              <a:xfrm>
                <a:off x="972720" y="3481560"/>
                <a:ext cx="817560" cy="41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0" name="SAICPC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91880" y="3578760"/>
                <a:ext cx="557640" cy="21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1" name=""/>
            <p:cNvSpPr/>
            <p:nvPr/>
          </p:nvSpPr>
          <p:spPr>
            <a:xfrm>
              <a:off x="972360" y="3899880"/>
              <a:ext cx="8236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ucent P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n Dieg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4946760" y="2741760"/>
            <a:ext cx="1009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ESS Centr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scataway, N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603960" y="2660760"/>
            <a:ext cx="688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C 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sle, I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65440" y="4059360"/>
            <a:ext cx="731880" cy="9504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665440" y="4156200"/>
            <a:ext cx="723960" cy="93600"/>
          </a:xfrm>
          <a:prstGeom prst="ellipse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665440" y="4059360"/>
            <a:ext cx="729720" cy="188640"/>
            <a:chOff x="2665440" y="4059360"/>
            <a:chExt cx="729720" cy="188640"/>
          </a:xfrm>
        </p:grpSpPr>
        <p:sp>
          <p:nvSpPr>
            <p:cNvPr id="1207" name=""/>
            <p:cNvSpPr/>
            <p:nvPr/>
          </p:nvSpPr>
          <p:spPr>
            <a:xfrm>
              <a:off x="2665440" y="4119840"/>
              <a:ext cx="729720" cy="66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71920" y="4125960"/>
              <a:ext cx="723240" cy="12204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71920" y="4059360"/>
              <a:ext cx="723240" cy="12096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665440" y="3994200"/>
            <a:ext cx="723960" cy="120240"/>
            <a:chOff x="2665440" y="3994200"/>
            <a:chExt cx="723960" cy="120240"/>
          </a:xfrm>
        </p:grpSpPr>
        <p:sp>
          <p:nvSpPr>
            <p:cNvPr id="1211" name=""/>
            <p:cNvSpPr/>
            <p:nvPr/>
          </p:nvSpPr>
          <p:spPr>
            <a:xfrm>
              <a:off x="2665440" y="3994200"/>
              <a:ext cx="723960" cy="1202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2812680" y="4004640"/>
              <a:ext cx="454680" cy="93600"/>
              <a:chOff x="2812680" y="4004640"/>
              <a:chExt cx="454680" cy="93600"/>
            </a:xfrm>
          </p:grpSpPr>
          <p:grpSp>
            <p:nvGrpSpPr>
              <p:cNvPr id="1213" name=""/>
              <p:cNvGrpSpPr/>
              <p:nvPr/>
            </p:nvGrpSpPr>
            <p:grpSpPr>
              <a:xfrm>
                <a:off x="2812680" y="4004640"/>
                <a:ext cx="454680" cy="93600"/>
                <a:chOff x="2812680" y="4004640"/>
                <a:chExt cx="454680" cy="9360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2812680" y="4004640"/>
                  <a:ext cx="207000" cy="36720"/>
                </a:xfrm>
                <a:custGeom>
                  <a:avLst/>
                  <a:gdLst/>
                  <a:ahLst/>
                  <a:rect l="l" t="t" r="r" b="b"/>
                  <a:pathLst>
                    <a:path w="92" h="40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0" y="22"/>
                      </a:lnTo>
                      <a:lnTo>
                        <a:pt x="92" y="15"/>
                      </a:lnTo>
                      <a:lnTo>
                        <a:pt x="85" y="40"/>
                      </a:lnTo>
                      <a:lnTo>
                        <a:pt x="22" y="40"/>
                      </a:lnTo>
                      <a:lnTo>
                        <a:pt x="51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812680" y="4004640"/>
                  <a:ext cx="207000" cy="36720"/>
                </a:xfrm>
                <a:custGeom>
                  <a:avLst/>
                  <a:gdLst/>
                  <a:ahLst/>
                  <a:rect l="l" t="t" r="r" b="b"/>
                  <a:pathLst>
                    <a:path w="92" h="40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70" y="22"/>
                      </a:lnTo>
                      <a:lnTo>
                        <a:pt x="92" y="15"/>
                      </a:lnTo>
                      <a:lnTo>
                        <a:pt x="85" y="40"/>
                      </a:lnTo>
                      <a:lnTo>
                        <a:pt x="22" y="40"/>
                      </a:lnTo>
                      <a:lnTo>
                        <a:pt x="51" y="3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053520" y="4065480"/>
                  <a:ext cx="213840" cy="32760"/>
                </a:xfrm>
                <a:custGeom>
                  <a:avLst/>
                  <a:gdLst/>
                  <a:ahLst/>
                  <a:rect l="l" t="t" r="r" b="b"/>
                  <a:pathLst>
                    <a:path w="95" h="36">
                      <a:moveTo>
                        <a:pt x="95" y="29"/>
                      </a:moveTo>
                      <a:lnTo>
                        <a:pt x="73" y="36"/>
                      </a:lnTo>
                      <a:lnTo>
                        <a:pt x="22" y="18"/>
                      </a:lnTo>
                      <a:lnTo>
                        <a:pt x="0" y="29"/>
                      </a:lnTo>
                      <a:lnTo>
                        <a:pt x="7" y="0"/>
                      </a:lnTo>
                      <a:lnTo>
                        <a:pt x="73" y="0"/>
                      </a:lnTo>
                      <a:lnTo>
                        <a:pt x="48" y="11"/>
                      </a:lnTo>
                      <a:lnTo>
                        <a:pt x="95" y="29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053520" y="4065480"/>
                  <a:ext cx="213840" cy="32760"/>
                </a:xfrm>
                <a:custGeom>
                  <a:avLst/>
                  <a:gdLst/>
                  <a:ahLst/>
                  <a:rect l="l" t="t" r="r" b="b"/>
                  <a:pathLst>
                    <a:path w="95" h="36">
                      <a:moveTo>
                        <a:pt x="95" y="29"/>
                      </a:moveTo>
                      <a:lnTo>
                        <a:pt x="73" y="36"/>
                      </a:lnTo>
                      <a:lnTo>
                        <a:pt x="22" y="18"/>
                      </a:lnTo>
                      <a:lnTo>
                        <a:pt x="0" y="29"/>
                      </a:lnTo>
                      <a:lnTo>
                        <a:pt x="7" y="0"/>
                      </a:lnTo>
                      <a:lnTo>
                        <a:pt x="73" y="0"/>
                      </a:lnTo>
                      <a:lnTo>
                        <a:pt x="48" y="11"/>
                      </a:lnTo>
                      <a:lnTo>
                        <a:pt x="95" y="29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2828160" y="4004640"/>
                <a:ext cx="425160" cy="93600"/>
                <a:chOff x="2828160" y="4004640"/>
                <a:chExt cx="425160" cy="936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039480" y="4004640"/>
                  <a:ext cx="213840" cy="36720"/>
                </a:xfrm>
                <a:custGeom>
                  <a:avLst/>
                  <a:gdLst/>
                  <a:ahLst/>
                  <a:rect l="l" t="t" r="r" b="b"/>
                  <a:pathLst>
                    <a:path w="95" h="40">
                      <a:moveTo>
                        <a:pt x="0" y="33"/>
                      </a:moveTo>
                      <a:lnTo>
                        <a:pt x="22" y="40"/>
                      </a:lnTo>
                      <a:lnTo>
                        <a:pt x="69" y="15"/>
                      </a:lnTo>
                      <a:lnTo>
                        <a:pt x="95" y="22"/>
                      </a:lnTo>
                      <a:lnTo>
                        <a:pt x="85" y="0"/>
                      </a:lnTo>
                      <a:lnTo>
                        <a:pt x="22" y="0"/>
                      </a:lnTo>
                      <a:lnTo>
                        <a:pt x="54" y="7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039480" y="4004640"/>
                  <a:ext cx="213840" cy="36720"/>
                </a:xfrm>
                <a:custGeom>
                  <a:avLst/>
                  <a:gdLst/>
                  <a:ahLst/>
                  <a:rect l="l" t="t" r="r" b="b"/>
                  <a:pathLst>
                    <a:path w="95" h="40">
                      <a:moveTo>
                        <a:pt x="0" y="33"/>
                      </a:moveTo>
                      <a:lnTo>
                        <a:pt x="22" y="40"/>
                      </a:lnTo>
                      <a:lnTo>
                        <a:pt x="69" y="15"/>
                      </a:lnTo>
                      <a:lnTo>
                        <a:pt x="95" y="22"/>
                      </a:lnTo>
                      <a:lnTo>
                        <a:pt x="85" y="0"/>
                      </a:lnTo>
                      <a:lnTo>
                        <a:pt x="22" y="0"/>
                      </a:lnTo>
                      <a:lnTo>
                        <a:pt x="54" y="7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828160" y="4057920"/>
                  <a:ext cx="204480" cy="40320"/>
                </a:xfrm>
                <a:custGeom>
                  <a:avLst/>
                  <a:gdLst/>
                  <a:ahLst/>
                  <a:rect l="l" t="t" r="r" b="b"/>
                  <a:pathLst>
                    <a:path w="91" h="44">
                      <a:moveTo>
                        <a:pt x="91" y="8"/>
                      </a:moveTo>
                      <a:lnTo>
                        <a:pt x="69" y="0"/>
                      </a:lnTo>
                      <a:lnTo>
                        <a:pt x="22" y="26"/>
                      </a:lnTo>
                      <a:lnTo>
                        <a:pt x="0" y="19"/>
                      </a:lnTo>
                      <a:lnTo>
                        <a:pt x="6" y="44"/>
                      </a:lnTo>
                      <a:lnTo>
                        <a:pt x="69" y="44"/>
                      </a:lnTo>
                      <a:lnTo>
                        <a:pt x="41" y="37"/>
                      </a:lnTo>
                      <a:lnTo>
                        <a:pt x="91" y="8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828160" y="4057920"/>
                  <a:ext cx="204480" cy="40320"/>
                </a:xfrm>
                <a:custGeom>
                  <a:avLst/>
                  <a:gdLst/>
                  <a:ahLst/>
                  <a:rect l="l" t="t" r="r" b="b"/>
                  <a:pathLst>
                    <a:path w="91" h="44">
                      <a:moveTo>
                        <a:pt x="91" y="8"/>
                      </a:moveTo>
                      <a:lnTo>
                        <a:pt x="69" y="0"/>
                      </a:lnTo>
                      <a:lnTo>
                        <a:pt x="22" y="26"/>
                      </a:lnTo>
                      <a:lnTo>
                        <a:pt x="0" y="19"/>
                      </a:lnTo>
                      <a:lnTo>
                        <a:pt x="6" y="44"/>
                      </a:lnTo>
                      <a:lnTo>
                        <a:pt x="69" y="44"/>
                      </a:lnTo>
                      <a:lnTo>
                        <a:pt x="41" y="37"/>
                      </a:lnTo>
                      <a:lnTo>
                        <a:pt x="91" y="8"/>
                      </a:lnTo>
                      <a:close/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3" name=""/>
          <p:cNvSpPr/>
          <p:nvPr/>
        </p:nvSpPr>
        <p:spPr>
          <a:xfrm>
            <a:off x="2593440" y="429588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ll Agent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1789200" y="3786120"/>
            <a:ext cx="1257120" cy="28728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3041640" y="3622680"/>
            <a:ext cx="131760" cy="4507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3043080" y="3168720"/>
            <a:ext cx="511200" cy="90000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041640" y="3236760"/>
            <a:ext cx="1979640" cy="83664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049560" y="3746520"/>
            <a:ext cx="1631880" cy="31896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3038400" y="3700440"/>
            <a:ext cx="3481560" cy="36504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038400" y="3786120"/>
            <a:ext cx="4784760" cy="27936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3038400" y="3468240"/>
            <a:ext cx="4630680" cy="6001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135800" y="463248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ccounting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877400" y="5083200"/>
            <a:ext cx="18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nnouncemen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564200" y="48592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Bill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16520" y="530208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Performance / SN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3505320" y="2971800"/>
            <a:ext cx="838080" cy="457200"/>
            <a:chOff x="3505320" y="2971800"/>
            <a:chExt cx="838080" cy="457200"/>
          </a:xfrm>
        </p:grpSpPr>
        <p:sp>
          <p:nvSpPr>
            <p:cNvPr id="1237" name=""/>
            <p:cNvSpPr/>
            <p:nvPr/>
          </p:nvSpPr>
          <p:spPr>
            <a:xfrm>
              <a:off x="3505320" y="29718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8" name="Permanent%20Logo" descr=""/>
            <p:cNvPicPr/>
            <p:nvPr/>
          </p:nvPicPr>
          <p:blipFill>
            <a:blip r:embed="rId11"/>
            <a:stretch/>
          </p:blipFill>
          <p:spPr>
            <a:xfrm>
              <a:off x="3581280" y="304812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9" name=""/>
          <p:cNvSpPr/>
          <p:nvPr/>
        </p:nvSpPr>
        <p:spPr>
          <a:xfrm>
            <a:off x="2448720" y="55245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orporate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96040" y="441180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outing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7620120" y="3200400"/>
            <a:ext cx="838080" cy="457200"/>
            <a:chOff x="7620120" y="3200400"/>
            <a:chExt cx="838080" cy="457200"/>
          </a:xfrm>
        </p:grpSpPr>
        <p:sp>
          <p:nvSpPr>
            <p:cNvPr id="1242" name=""/>
            <p:cNvSpPr/>
            <p:nvPr/>
          </p:nvSpPr>
          <p:spPr>
            <a:xfrm>
              <a:off x="7620120" y="32004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3" name="Permanent%20Logo" descr=""/>
            <p:cNvPicPr/>
            <p:nvPr/>
          </p:nvPicPr>
          <p:blipFill>
            <a:blip r:embed="rId12"/>
            <a:stretch/>
          </p:blipFill>
          <p:spPr>
            <a:xfrm>
              <a:off x="7696080" y="327672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4" name=""/>
          <p:cNvGrpSpPr/>
          <p:nvPr/>
        </p:nvGrpSpPr>
        <p:grpSpPr>
          <a:xfrm>
            <a:off x="5029200" y="3048120"/>
            <a:ext cx="838080" cy="457200"/>
            <a:chOff x="5029200" y="3048120"/>
            <a:chExt cx="838080" cy="457200"/>
          </a:xfrm>
        </p:grpSpPr>
        <p:sp>
          <p:nvSpPr>
            <p:cNvPr id="1245" name=""/>
            <p:cNvSpPr/>
            <p:nvPr/>
          </p:nvSpPr>
          <p:spPr>
            <a:xfrm>
              <a:off x="5029200" y="304812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6" name="Permanent%20Logo" descr=""/>
            <p:cNvPicPr/>
            <p:nvPr/>
          </p:nvPicPr>
          <p:blipFill>
            <a:blip r:embed="rId13"/>
            <a:stretch/>
          </p:blipFill>
          <p:spPr>
            <a:xfrm>
              <a:off x="5105160" y="312444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7" name=""/>
          <p:cNvSpPr/>
          <p:nvPr/>
        </p:nvSpPr>
        <p:spPr>
          <a:xfrm flipV="1">
            <a:off x="3030480" y="2697120"/>
            <a:ext cx="4451400" cy="137160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3036960" y="2908080"/>
            <a:ext cx="4817880" cy="11509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3040200" y="1994040"/>
            <a:ext cx="4224240" cy="207936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3038400" y="2001960"/>
            <a:ext cx="1963800" cy="206352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030480" y="2001960"/>
            <a:ext cx="3046320" cy="206208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038400" y="2328480"/>
            <a:ext cx="2168640" cy="174780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5562720" y="1600200"/>
            <a:ext cx="838080" cy="457200"/>
            <a:chOff x="5562720" y="1600200"/>
            <a:chExt cx="838080" cy="457200"/>
          </a:xfrm>
        </p:grpSpPr>
        <p:sp>
          <p:nvSpPr>
            <p:cNvPr id="1254" name=""/>
            <p:cNvSpPr/>
            <p:nvPr/>
          </p:nvSpPr>
          <p:spPr>
            <a:xfrm>
              <a:off x="5562720" y="16002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5" name="Permanent%20Logo" descr=""/>
            <p:cNvPicPr/>
            <p:nvPr/>
          </p:nvPicPr>
          <p:blipFill>
            <a:blip r:embed="rId14"/>
            <a:stretch/>
          </p:blipFill>
          <p:spPr>
            <a:xfrm>
              <a:off x="5638680" y="167652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6" name=""/>
          <p:cNvGrpSpPr/>
          <p:nvPr/>
        </p:nvGrpSpPr>
        <p:grpSpPr>
          <a:xfrm>
            <a:off x="4648320" y="1600200"/>
            <a:ext cx="838080" cy="457200"/>
            <a:chOff x="4648320" y="1600200"/>
            <a:chExt cx="838080" cy="457200"/>
          </a:xfrm>
        </p:grpSpPr>
        <p:sp>
          <p:nvSpPr>
            <p:cNvPr id="1257" name=""/>
            <p:cNvSpPr/>
            <p:nvPr/>
          </p:nvSpPr>
          <p:spPr>
            <a:xfrm>
              <a:off x="4648320" y="16002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8" name="Permanent%20Logo" descr=""/>
            <p:cNvPicPr/>
            <p:nvPr/>
          </p:nvPicPr>
          <p:blipFill>
            <a:blip r:embed="rId15"/>
            <a:stretch/>
          </p:blipFill>
          <p:spPr>
            <a:xfrm>
              <a:off x="4724280" y="1676520"/>
              <a:ext cx="68904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7349760" y="6324480"/>
            <a:ext cx="128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TCCentury Light"/>
              </a:rPr>
              <a:t>An SAIC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0" name="Permanent%20Logo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NGN any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 that IP-based telephony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today's telephon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at’s going to change over the next few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this change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his change means for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take advantage of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Phone Call I just made..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559320" y="4095720"/>
            <a:ext cx="325440" cy="21744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7640" y="4302000"/>
            <a:ext cx="0" cy="27324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876320" y="4572000"/>
            <a:ext cx="2013120" cy="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53830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8840" y="4572000"/>
            <a:ext cx="0" cy="13824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73560" y="4710240"/>
            <a:ext cx="663480" cy="600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6800" y="4575240"/>
            <a:ext cx="0" cy="274680"/>
          </a:xfrm>
          <a:prstGeom prst="line">
            <a:avLst/>
          </a:prstGeom>
          <a:ln w="1908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61560" y="519444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aptop%2009" descr=""/>
          <p:cNvPicPr/>
          <p:nvPr/>
        </p:nvPicPr>
        <p:blipFill>
          <a:blip r:embed="rId2"/>
          <a:stretch/>
        </p:blipFill>
        <p:spPr>
          <a:xfrm>
            <a:off x="1951200" y="4738680"/>
            <a:ext cx="449280" cy="392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5423040" y="4095720"/>
            <a:ext cx="0" cy="47952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9800" y="4095720"/>
            <a:ext cx="120600" cy="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5120" y="4575240"/>
            <a:ext cx="1941480" cy="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64240" y="4575240"/>
            <a:ext cx="0" cy="274680"/>
          </a:xfrm>
          <a:prstGeom prst="line">
            <a:avLst/>
          </a:prstGeom>
          <a:ln w="1908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2240" y="53830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48440" y="4713120"/>
            <a:ext cx="664920" cy="601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251840" y="4575240"/>
            <a:ext cx="0" cy="274680"/>
          </a:xfrm>
          <a:prstGeom prst="line">
            <a:avLst/>
          </a:prstGeom>
          <a:ln w="1908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5960" y="519444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aptop%2009" descr=""/>
          <p:cNvPicPr/>
          <p:nvPr/>
        </p:nvPicPr>
        <p:blipFill>
          <a:blip r:embed="rId4"/>
          <a:stretch/>
        </p:blipFill>
        <p:spPr>
          <a:xfrm>
            <a:off x="6986520" y="4738680"/>
            <a:ext cx="449280" cy="392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61280" y="4572000"/>
            <a:ext cx="0" cy="27288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26320" y="502920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197760" y="4710240"/>
            <a:ext cx="528480" cy="161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 flipV="1">
            <a:off x="5874840" y="1758600"/>
            <a:ext cx="1320840" cy="206280"/>
          </a:xfrm>
          <a:prstGeom prst="line">
            <a:avLst/>
          </a:prstGeom>
          <a:ln w="28440">
            <a:solidFill>
              <a:srgbClr val="b760f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986600" y="2203200"/>
            <a:ext cx="0" cy="654120"/>
          </a:xfrm>
          <a:prstGeom prst="line">
            <a:avLst/>
          </a:prstGeom>
          <a:ln w="28440">
            <a:solidFill>
              <a:srgbClr val="b760f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086600" y="1736640"/>
            <a:ext cx="1174680" cy="603000"/>
            <a:chOff x="7086600" y="1736640"/>
            <a:chExt cx="1174680" cy="603000"/>
          </a:xfrm>
        </p:grpSpPr>
        <p:sp>
          <p:nvSpPr>
            <p:cNvPr id="118" name=""/>
            <p:cNvSpPr/>
            <p:nvPr/>
          </p:nvSpPr>
          <p:spPr>
            <a:xfrm>
              <a:off x="7488360" y="1736640"/>
              <a:ext cx="511560" cy="24984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6120" y="1802160"/>
              <a:ext cx="391680" cy="24840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86600" y="1952280"/>
              <a:ext cx="263880" cy="2026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66160" y="2042280"/>
              <a:ext cx="397080" cy="21996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48400" y="2078280"/>
              <a:ext cx="594000" cy="26136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26400" y="1809360"/>
              <a:ext cx="380880" cy="1954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82920" y="1935360"/>
              <a:ext cx="378360" cy="1954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8360" y="1976760"/>
              <a:ext cx="375480" cy="3214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99360" y="1879560"/>
              <a:ext cx="761760" cy="32148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233120" y="1859040"/>
            <a:ext cx="957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77-699-NGN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40800" y="14479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345280" y="1641600"/>
            <a:ext cx="531720" cy="395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508120" y="1758960"/>
            <a:ext cx="1914480" cy="1319040"/>
          </a:xfrm>
          <a:prstGeom prst="line">
            <a:avLst/>
          </a:prstGeom>
          <a:ln w="28440">
            <a:solidFill>
              <a:srgbClr val="b760f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9040" y="1447920"/>
            <a:ext cx="10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nd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4422600" y="1641600"/>
            <a:ext cx="528840" cy="3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920" y="4017960"/>
            <a:ext cx="992160" cy="0"/>
          </a:xfrm>
          <a:prstGeom prst="line">
            <a:avLst/>
          </a:prstGeom>
          <a:ln w="5076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94360" y="3886200"/>
            <a:ext cx="734040" cy="551880"/>
            <a:chOff x="2394360" y="3886200"/>
            <a:chExt cx="734040" cy="551880"/>
          </a:xfrm>
        </p:grpSpPr>
        <p:pic>
          <p:nvPicPr>
            <p:cNvPr id="135" name="" descr=""/>
            <p:cNvPicPr/>
            <p:nvPr/>
          </p:nvPicPr>
          <p:blipFill>
            <a:blip r:embed="rId8"/>
            <a:stretch/>
          </p:blipFill>
          <p:spPr>
            <a:xfrm>
              <a:off x="2527920" y="3886200"/>
              <a:ext cx="502560" cy="30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394360" y="416160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6006960" y="4017600"/>
            <a:ext cx="1266840" cy="4680"/>
          </a:xfrm>
          <a:prstGeom prst="line">
            <a:avLst/>
          </a:prstGeom>
          <a:ln w="5076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02720" y="3886200"/>
            <a:ext cx="734040" cy="551880"/>
            <a:chOff x="6102720" y="3886200"/>
            <a:chExt cx="734040" cy="551880"/>
          </a:xfrm>
        </p:grpSpPr>
        <p:pic>
          <p:nvPicPr>
            <p:cNvPr id="139" name="" descr=""/>
            <p:cNvPicPr/>
            <p:nvPr/>
          </p:nvPicPr>
          <p:blipFill>
            <a:blip r:embed="rId9"/>
            <a:stretch/>
          </p:blipFill>
          <p:spPr>
            <a:xfrm>
              <a:off x="6244560" y="3886200"/>
              <a:ext cx="501480" cy="30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102720" y="416160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461280" y="4572000"/>
            <a:ext cx="0" cy="272880"/>
          </a:xfrm>
          <a:prstGeom prst="line">
            <a:avLst/>
          </a:prstGeom>
          <a:ln w="2844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6320" y="5029200"/>
            <a:ext cx="102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6197760" y="4710240"/>
            <a:ext cx="528480" cy="16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22080" y="553248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Net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2240" y="534528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Net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07840" y="534528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Net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73200" y="553248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Net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26560" y="2714760"/>
            <a:ext cx="482400" cy="25056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9800" y="2779560"/>
            <a:ext cx="369720" cy="24948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47120" y="2930400"/>
            <a:ext cx="249120" cy="20340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21640" y="3021120"/>
            <a:ext cx="376200" cy="21888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88400" y="3056040"/>
            <a:ext cx="561960" cy="26172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45520" y="2787480"/>
            <a:ext cx="360360" cy="19548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9520" y="2913120"/>
            <a:ext cx="357120" cy="19692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66040" y="2954160"/>
            <a:ext cx="355680" cy="32256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2857680"/>
            <a:ext cx="718920" cy="322200"/>
          </a:xfrm>
          <a:prstGeom prst="ellipse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34040" y="29131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16760" y="3360600"/>
            <a:ext cx="7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32-699-64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10560" y="516240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48440" y="4338720"/>
            <a:ext cx="0" cy="206280"/>
          </a:xfrm>
          <a:prstGeom prst="line">
            <a:avLst/>
          </a:prstGeom>
          <a:ln w="2844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16880" y="4545000"/>
            <a:ext cx="662040" cy="0"/>
          </a:xfrm>
          <a:prstGeom prst="line">
            <a:avLst/>
          </a:prstGeom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7716960" y="4613400"/>
            <a:ext cx="264960" cy="199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7848720" y="4751280"/>
            <a:ext cx="263520" cy="19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3"/>
          <a:stretch/>
        </p:blipFill>
        <p:spPr>
          <a:xfrm>
            <a:off x="7981920" y="4888080"/>
            <a:ext cx="263520" cy="1983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659720" y="3753000"/>
            <a:ext cx="525240" cy="591480"/>
            <a:chOff x="7659720" y="3753000"/>
            <a:chExt cx="525240" cy="591480"/>
          </a:xfrm>
        </p:grpSpPr>
        <p:sp>
          <p:nvSpPr>
            <p:cNvPr id="166" name=""/>
            <p:cNvSpPr/>
            <p:nvPr/>
          </p:nvSpPr>
          <p:spPr>
            <a:xfrm>
              <a:off x="8152200" y="3753000"/>
              <a:ext cx="30960" cy="590040"/>
            </a:xfrm>
            <a:custGeom>
              <a:avLst/>
              <a:gdLst/>
              <a:ahLst/>
              <a:rect l="l" t="t" r="r" b="b"/>
              <a:pathLst>
                <a:path w="90" h="1469">
                  <a:moveTo>
                    <a:pt x="0" y="114"/>
                  </a:moveTo>
                  <a:lnTo>
                    <a:pt x="90" y="0"/>
                  </a:lnTo>
                  <a:lnTo>
                    <a:pt x="90" y="1365"/>
                  </a:lnTo>
                  <a:lnTo>
                    <a:pt x="0" y="146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52200" y="3754800"/>
              <a:ext cx="32760" cy="589680"/>
            </a:xfrm>
            <a:custGeom>
              <a:avLst/>
              <a:gdLst/>
              <a:ahLst/>
              <a:rect l="l" t="t" r="r" b="b"/>
              <a:pathLst>
                <a:path w="90" h="1468">
                  <a:moveTo>
                    <a:pt x="0" y="113"/>
                  </a:moveTo>
                  <a:lnTo>
                    <a:pt x="90" y="0"/>
                  </a:lnTo>
                  <a:lnTo>
                    <a:pt x="90" y="1365"/>
                  </a:lnTo>
                  <a:lnTo>
                    <a:pt x="0" y="146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59720" y="3794760"/>
              <a:ext cx="492480" cy="5497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9720" y="3754800"/>
              <a:ext cx="522720" cy="41400"/>
            </a:xfrm>
            <a:custGeom>
              <a:avLst/>
              <a:gdLst/>
              <a:ahLst/>
              <a:rect l="l" t="t" r="r" b="b"/>
              <a:pathLst>
                <a:path w="1470" h="104">
                  <a:moveTo>
                    <a:pt x="0" y="104"/>
                  </a:moveTo>
                  <a:lnTo>
                    <a:pt x="90" y="0"/>
                  </a:lnTo>
                  <a:lnTo>
                    <a:pt x="1470" y="0"/>
                  </a:lnTo>
                  <a:lnTo>
                    <a:pt x="138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59720" y="3756240"/>
              <a:ext cx="523800" cy="41760"/>
            </a:xfrm>
            <a:custGeom>
              <a:avLst/>
              <a:gdLst/>
              <a:ahLst/>
              <a:rect l="l" t="t" r="r" b="b"/>
              <a:pathLst>
                <a:path w="1470" h="103">
                  <a:moveTo>
                    <a:pt x="0" y="103"/>
                  </a:moveTo>
                  <a:lnTo>
                    <a:pt x="90" y="0"/>
                  </a:lnTo>
                  <a:lnTo>
                    <a:pt x="1470" y="0"/>
                  </a:lnTo>
                  <a:lnTo>
                    <a:pt x="138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655040" y="3749760"/>
            <a:ext cx="526680" cy="591840"/>
            <a:chOff x="7655040" y="3749760"/>
            <a:chExt cx="526680" cy="591840"/>
          </a:xfrm>
        </p:grpSpPr>
        <p:sp>
          <p:nvSpPr>
            <p:cNvPr id="172" name=""/>
            <p:cNvSpPr/>
            <p:nvPr/>
          </p:nvSpPr>
          <p:spPr>
            <a:xfrm>
              <a:off x="8148960" y="3749760"/>
              <a:ext cx="31320" cy="590400"/>
            </a:xfrm>
            <a:custGeom>
              <a:avLst/>
              <a:gdLst/>
              <a:ahLst/>
              <a:rect l="l" t="t" r="r" b="b"/>
              <a:pathLst>
                <a:path w="90" h="1469">
                  <a:moveTo>
                    <a:pt x="0" y="114"/>
                  </a:moveTo>
                  <a:lnTo>
                    <a:pt x="90" y="0"/>
                  </a:lnTo>
                  <a:lnTo>
                    <a:pt x="90" y="1365"/>
                  </a:lnTo>
                  <a:lnTo>
                    <a:pt x="0" y="146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8960" y="3749760"/>
              <a:ext cx="32760" cy="590400"/>
            </a:xfrm>
            <a:custGeom>
              <a:avLst/>
              <a:gdLst/>
              <a:ahLst/>
              <a:rect l="l" t="t" r="r" b="b"/>
              <a:pathLst>
                <a:path w="90" h="1468">
                  <a:moveTo>
                    <a:pt x="0" y="113"/>
                  </a:moveTo>
                  <a:lnTo>
                    <a:pt x="90" y="0"/>
                  </a:lnTo>
                  <a:lnTo>
                    <a:pt x="90" y="1365"/>
                  </a:lnTo>
                  <a:lnTo>
                    <a:pt x="0" y="146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3936c"/>
            </a:solidFill>
            <a:ln w="1440">
              <a:solidFill>
                <a:srgbClr val="6262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56480" y="3790080"/>
              <a:ext cx="492480" cy="551520"/>
            </a:xfrm>
            <a:prstGeom prst="rect">
              <a:avLst/>
            </a:prstGeom>
            <a:solidFill>
              <a:srgbClr val="bab79d"/>
            </a:solidFill>
            <a:ln w="144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57920" y="4073400"/>
              <a:ext cx="49104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656480" y="3791520"/>
              <a:ext cx="492120" cy="548280"/>
              <a:chOff x="7656480" y="3791520"/>
              <a:chExt cx="492120" cy="548280"/>
            </a:xfrm>
          </p:grpSpPr>
          <p:sp>
            <p:nvSpPr>
              <p:cNvPr id="177" name=""/>
              <p:cNvSpPr/>
              <p:nvPr/>
            </p:nvSpPr>
            <p:spPr>
              <a:xfrm>
                <a:off x="765648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38560" y="3791520"/>
                <a:ext cx="144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199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027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9837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665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47520" y="3791520"/>
                <a:ext cx="1080" cy="5482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655040" y="3751560"/>
              <a:ext cx="524160" cy="41760"/>
            </a:xfrm>
            <a:custGeom>
              <a:avLst/>
              <a:gdLst/>
              <a:ahLst/>
              <a:rect l="l" t="t" r="r" b="b"/>
              <a:pathLst>
                <a:path w="1475" h="104">
                  <a:moveTo>
                    <a:pt x="0" y="104"/>
                  </a:moveTo>
                  <a:lnTo>
                    <a:pt x="90" y="0"/>
                  </a:lnTo>
                  <a:lnTo>
                    <a:pt x="1475" y="0"/>
                  </a:lnTo>
                  <a:lnTo>
                    <a:pt x="1385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bd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5040" y="3751560"/>
              <a:ext cx="525240" cy="41760"/>
            </a:xfrm>
            <a:custGeom>
              <a:avLst/>
              <a:gdLst/>
              <a:ahLst/>
              <a:rect l="l" t="t" r="r" b="b"/>
              <a:pathLst>
                <a:path w="1475" h="103">
                  <a:moveTo>
                    <a:pt x="0" y="103"/>
                  </a:moveTo>
                  <a:lnTo>
                    <a:pt x="90" y="0"/>
                  </a:lnTo>
                  <a:lnTo>
                    <a:pt x="1475" y="0"/>
                  </a:lnTo>
                  <a:lnTo>
                    <a:pt x="1385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bdbce"/>
            </a:solidFill>
            <a:ln w="1440">
              <a:solidFill>
                <a:srgbClr val="6262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08924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7640" y="410220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67640" y="411660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67640" y="413136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7640" y="414396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7640" y="415872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67640" y="417276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67640" y="418608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67640" y="420012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7640" y="421308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67640" y="422748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67640" y="424224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7640" y="4254840"/>
              <a:ext cx="5832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50440" y="408924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50440" y="410220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50440" y="411660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50440" y="413136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50440" y="414396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50440" y="415872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50440" y="417276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50440" y="418608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50440" y="420012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50440" y="421308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50440" y="422748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50440" y="4242240"/>
              <a:ext cx="5796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50440" y="4254840"/>
              <a:ext cx="57960" cy="180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97160" y="3828960"/>
            <a:ext cx="42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ntr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918560" y="3117960"/>
            <a:ext cx="0" cy="425520"/>
          </a:xfrm>
          <a:prstGeom prst="line">
            <a:avLst/>
          </a:prstGeom>
          <a:ln w="2844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0480" y="40924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50080" y="3543480"/>
            <a:ext cx="330120" cy="206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29920" y="3543480"/>
            <a:ext cx="37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96320" y="154944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ice Over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2079720"/>
            <a:ext cx="131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co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20960" y="20653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5360" y="3513240"/>
            <a:ext cx="0" cy="479160"/>
          </a:xfrm>
          <a:prstGeom prst="line">
            <a:avLst/>
          </a:prstGeom>
          <a:ln w="5076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2000" y="3133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4640" y="416088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65640" y="3400560"/>
            <a:ext cx="0" cy="480960"/>
          </a:xfrm>
          <a:prstGeom prst="line">
            <a:avLst/>
          </a:prstGeom>
          <a:ln w="50760">
            <a:solidFill>
              <a:srgbClr val="af4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4880" y="2909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4880" y="4160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84840" y="3363840"/>
            <a:ext cx="1122120" cy="684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56200" y="3133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16200000">
            <a:off x="5438160" y="3305160"/>
            <a:ext cx="411120" cy="198360"/>
          </a:xfrm>
          <a:prstGeom prst="triangle">
            <a:avLst>
              <a:gd name="adj" fmla="val 48801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3268800"/>
            <a:ext cx="1122480" cy="680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06680" y="3886200"/>
            <a:ext cx="1122480" cy="684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30640" y="3065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90800" y="4011480"/>
            <a:ext cx="59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14800" y="292428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3800 IM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5400000">
            <a:off x="3585240" y="3159720"/>
            <a:ext cx="412560" cy="198360"/>
          </a:xfrm>
          <a:prstGeom prst="triangle">
            <a:avLst>
              <a:gd name="adj" fmla="val 48801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03320" y="280512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3800 IM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4"/>
          <a:stretch/>
        </p:blipFill>
        <p:spPr>
          <a:xfrm>
            <a:off x="4025880" y="3198960"/>
            <a:ext cx="1452600" cy="960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344840" y="3473280"/>
            <a:ext cx="92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5"/>
          <a:stretch/>
        </p:blipFill>
        <p:spPr>
          <a:xfrm>
            <a:off x="5873760" y="3336840"/>
            <a:ext cx="503280" cy="308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6"/>
          <a:stretch/>
        </p:blipFill>
        <p:spPr>
          <a:xfrm>
            <a:off x="5545080" y="3954600"/>
            <a:ext cx="560520" cy="204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>
            <a:off x="3166920" y="3127320"/>
            <a:ext cx="530280" cy="411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8"/>
          <a:stretch/>
        </p:blipFill>
        <p:spPr>
          <a:xfrm>
            <a:off x="3166920" y="3813120"/>
            <a:ext cx="530280" cy="411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54080" y="4416480"/>
            <a:ext cx="658800" cy="0"/>
          </a:xfrm>
          <a:prstGeom prst="line">
            <a:avLst/>
          </a:prstGeom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9"/>
          <a:stretch/>
        </p:blipFill>
        <p:spPr>
          <a:xfrm>
            <a:off x="1054080" y="4484520"/>
            <a:ext cx="264960" cy="198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0"/>
          <a:stretch/>
        </p:blipFill>
        <p:spPr>
          <a:xfrm>
            <a:off x="1185840" y="4621320"/>
            <a:ext cx="263520" cy="19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1"/>
          <a:stretch/>
        </p:blipFill>
        <p:spPr>
          <a:xfrm>
            <a:off x="1319040" y="4759200"/>
            <a:ext cx="263520" cy="198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90720" y="5033880"/>
            <a:ext cx="8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84200" y="4210200"/>
            <a:ext cx="0" cy="206280"/>
          </a:xfrm>
          <a:prstGeom prst="line">
            <a:avLst/>
          </a:prstGeom>
          <a:ln w="2844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647720" y="3402000"/>
            <a:ext cx="198720" cy="411120"/>
          </a:xfrm>
          <a:prstGeom prst="line">
            <a:avLst/>
          </a:prstGeom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57440" y="2971800"/>
            <a:ext cx="1174680" cy="603000"/>
            <a:chOff x="1657440" y="2971800"/>
            <a:chExt cx="1174680" cy="603000"/>
          </a:xfrm>
        </p:grpSpPr>
        <p:grpSp>
          <p:nvGrpSpPr>
            <p:cNvPr id="250" name=""/>
            <p:cNvGrpSpPr/>
            <p:nvPr/>
          </p:nvGrpSpPr>
          <p:grpSpPr>
            <a:xfrm>
              <a:off x="1657440" y="2971800"/>
              <a:ext cx="1174680" cy="603000"/>
              <a:chOff x="1657440" y="2971800"/>
              <a:chExt cx="1174680" cy="603000"/>
            </a:xfrm>
          </p:grpSpPr>
          <p:sp>
            <p:nvSpPr>
              <p:cNvPr id="251" name=""/>
              <p:cNvSpPr/>
              <p:nvPr/>
            </p:nvSpPr>
            <p:spPr>
              <a:xfrm>
                <a:off x="2059200" y="2971800"/>
                <a:ext cx="511560" cy="24984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76960" y="3037320"/>
                <a:ext cx="391680" cy="24840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657440" y="3187440"/>
                <a:ext cx="263880" cy="2026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37000" y="3277440"/>
                <a:ext cx="397080" cy="21996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019240" y="3313440"/>
                <a:ext cx="594000" cy="26136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97240" y="3044520"/>
                <a:ext cx="380880" cy="1954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53760" y="3170520"/>
                <a:ext cx="378360" cy="1954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19200" y="3211920"/>
                <a:ext cx="375480" cy="3214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70200" y="3114720"/>
                <a:ext cx="761760" cy="321480"/>
              </a:xfrm>
              <a:prstGeom prst="ellipse">
                <a:avLst/>
              </a:pr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975680" y="31543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125360" y="3684600"/>
            <a:ext cx="507960" cy="523440"/>
            <a:chOff x="1125360" y="3684600"/>
            <a:chExt cx="507960" cy="523440"/>
          </a:xfrm>
        </p:grpSpPr>
        <p:sp>
          <p:nvSpPr>
            <p:cNvPr id="262" name=""/>
            <p:cNvSpPr/>
            <p:nvPr/>
          </p:nvSpPr>
          <p:spPr>
            <a:xfrm>
              <a:off x="1601280" y="3684600"/>
              <a:ext cx="30600" cy="522360"/>
            </a:xfrm>
            <a:custGeom>
              <a:avLst/>
              <a:gdLst/>
              <a:ahLst/>
              <a:rect l="l" t="t" r="r" b="b"/>
              <a:pathLst>
                <a:path w="89" h="1220">
                  <a:moveTo>
                    <a:pt x="0" y="94"/>
                  </a:moveTo>
                  <a:lnTo>
                    <a:pt x="89" y="0"/>
                  </a:lnTo>
                  <a:lnTo>
                    <a:pt x="89" y="1134"/>
                  </a:lnTo>
                  <a:lnTo>
                    <a:pt x="0" y="122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2720" y="3685680"/>
              <a:ext cx="30600" cy="522360"/>
            </a:xfrm>
            <a:custGeom>
              <a:avLst/>
              <a:gdLst/>
              <a:ahLst/>
              <a:rect l="l" t="t" r="r" b="b"/>
              <a:pathLst>
                <a:path w="89" h="1220">
                  <a:moveTo>
                    <a:pt x="0" y="94"/>
                  </a:moveTo>
                  <a:lnTo>
                    <a:pt x="89" y="0"/>
                  </a:lnTo>
                  <a:lnTo>
                    <a:pt x="89" y="1134"/>
                  </a:lnTo>
                  <a:lnTo>
                    <a:pt x="0" y="122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25360" y="3721680"/>
              <a:ext cx="475920" cy="4863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25360" y="3687120"/>
              <a:ext cx="505440" cy="35640"/>
            </a:xfrm>
            <a:custGeom>
              <a:avLst/>
              <a:gdLst/>
              <a:ahLst/>
              <a:rect l="l" t="t" r="r" b="b"/>
              <a:pathLst>
                <a:path w="1446" h="86">
                  <a:moveTo>
                    <a:pt x="0" y="86"/>
                  </a:moveTo>
                  <a:lnTo>
                    <a:pt x="88" y="0"/>
                  </a:lnTo>
                  <a:lnTo>
                    <a:pt x="1446" y="0"/>
                  </a:lnTo>
                  <a:lnTo>
                    <a:pt x="1358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5360" y="3687120"/>
              <a:ext cx="506520" cy="37080"/>
            </a:xfrm>
            <a:custGeom>
              <a:avLst/>
              <a:gdLst/>
              <a:ahLst/>
              <a:rect l="l" t="t" r="r" b="b"/>
              <a:pathLst>
                <a:path w="1447" h="86">
                  <a:moveTo>
                    <a:pt x="0" y="86"/>
                  </a:moveTo>
                  <a:lnTo>
                    <a:pt x="88" y="0"/>
                  </a:lnTo>
                  <a:lnTo>
                    <a:pt x="1447" y="0"/>
                  </a:lnTo>
                  <a:lnTo>
                    <a:pt x="1358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122480" y="3681360"/>
            <a:ext cx="507600" cy="525240"/>
            <a:chOff x="1122480" y="3681360"/>
            <a:chExt cx="507600" cy="525240"/>
          </a:xfrm>
        </p:grpSpPr>
        <p:sp>
          <p:nvSpPr>
            <p:cNvPr id="268" name=""/>
            <p:cNvSpPr/>
            <p:nvPr/>
          </p:nvSpPr>
          <p:spPr>
            <a:xfrm>
              <a:off x="1598040" y="3681360"/>
              <a:ext cx="30600" cy="522720"/>
            </a:xfrm>
            <a:custGeom>
              <a:avLst/>
              <a:gdLst/>
              <a:ahLst/>
              <a:rect l="l" t="t" r="r" b="b"/>
              <a:pathLst>
                <a:path w="88" h="1220">
                  <a:moveTo>
                    <a:pt x="0" y="94"/>
                  </a:moveTo>
                  <a:lnTo>
                    <a:pt x="88" y="0"/>
                  </a:lnTo>
                  <a:lnTo>
                    <a:pt x="88" y="1134"/>
                  </a:lnTo>
                  <a:lnTo>
                    <a:pt x="0" y="122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9480" y="3681360"/>
              <a:ext cx="30600" cy="524160"/>
            </a:xfrm>
            <a:custGeom>
              <a:avLst/>
              <a:gdLst/>
              <a:ahLst/>
              <a:rect l="l" t="t" r="r" b="b"/>
              <a:pathLst>
                <a:path w="88" h="1220">
                  <a:moveTo>
                    <a:pt x="0" y="94"/>
                  </a:moveTo>
                  <a:lnTo>
                    <a:pt x="88" y="0"/>
                  </a:lnTo>
                  <a:lnTo>
                    <a:pt x="88" y="1134"/>
                  </a:lnTo>
                  <a:lnTo>
                    <a:pt x="0" y="122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93936c"/>
            </a:solidFill>
            <a:ln w="1440">
              <a:solidFill>
                <a:srgbClr val="6262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23560" y="3717360"/>
              <a:ext cx="474120" cy="489240"/>
            </a:xfrm>
            <a:prstGeom prst="rect">
              <a:avLst/>
            </a:prstGeom>
            <a:solidFill>
              <a:srgbClr val="bab79d"/>
            </a:solidFill>
            <a:ln w="144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25000" y="3968280"/>
              <a:ext cx="4744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123560" y="3718440"/>
              <a:ext cx="475560" cy="487080"/>
              <a:chOff x="1123560" y="3718440"/>
              <a:chExt cx="475560" cy="487080"/>
            </a:xfrm>
          </p:grpSpPr>
          <p:sp>
            <p:nvSpPr>
              <p:cNvPr id="273" name=""/>
              <p:cNvSpPr/>
              <p:nvPr/>
            </p:nvSpPr>
            <p:spPr>
              <a:xfrm>
                <a:off x="1123560" y="3718440"/>
                <a:ext cx="108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02760" y="3718440"/>
                <a:ext cx="144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80880" y="3718440"/>
                <a:ext cx="144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360800" y="3718440"/>
                <a:ext cx="108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000" y="3718440"/>
                <a:ext cx="108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18480" y="3718440"/>
                <a:ext cx="108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97680" y="3718440"/>
                <a:ext cx="1440" cy="48708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122480" y="3682800"/>
              <a:ext cx="505080" cy="37080"/>
            </a:xfrm>
            <a:custGeom>
              <a:avLst/>
              <a:gdLst/>
              <a:ahLst/>
              <a:rect l="l" t="t" r="r" b="b"/>
              <a:pathLst>
                <a:path w="1451" h="86">
                  <a:moveTo>
                    <a:pt x="0" y="86"/>
                  </a:moveTo>
                  <a:lnTo>
                    <a:pt x="89" y="0"/>
                  </a:lnTo>
                  <a:lnTo>
                    <a:pt x="1451" y="0"/>
                  </a:lnTo>
                  <a:lnTo>
                    <a:pt x="1362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bd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22480" y="3683880"/>
              <a:ext cx="506160" cy="35640"/>
            </a:xfrm>
            <a:custGeom>
              <a:avLst/>
              <a:gdLst/>
              <a:ahLst/>
              <a:rect l="l" t="t" r="r" b="b"/>
              <a:pathLst>
                <a:path w="1451" h="86">
                  <a:moveTo>
                    <a:pt x="0" y="86"/>
                  </a:moveTo>
                  <a:lnTo>
                    <a:pt x="89" y="0"/>
                  </a:lnTo>
                  <a:lnTo>
                    <a:pt x="1451" y="0"/>
                  </a:lnTo>
                  <a:lnTo>
                    <a:pt x="1363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bdbce"/>
            </a:solidFill>
            <a:ln w="1440">
              <a:solidFill>
                <a:srgbClr val="6262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3280" y="398268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33280" y="399456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33280" y="400716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33280" y="401868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3280" y="403200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3280" y="404316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33280" y="405612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33280" y="406764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33280" y="408060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33280" y="4093560"/>
              <a:ext cx="5832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33280" y="410508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33280" y="411804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33280" y="4129560"/>
              <a:ext cx="5832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12840" y="398268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12840" y="399456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12840" y="400716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12840" y="401868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2840" y="403200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12840" y="404316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2840" y="405612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12840" y="406764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12840" y="408060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2840" y="4093560"/>
              <a:ext cx="58680" cy="144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12840" y="410508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2840" y="411804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2840" y="4129560"/>
              <a:ext cx="58680" cy="1080"/>
            </a:xfrm>
            <a:prstGeom prst="line">
              <a:avLst/>
            </a:prstGeom>
            <a:ln w="324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41640" y="37800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27080" y="400536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42120" y="37638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218360" y="3170160"/>
            <a:ext cx="530280" cy="758880"/>
          </a:xfrm>
          <a:prstGeom prst="line">
            <a:avLst/>
          </a:prstGeom>
          <a:ln w="2844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29520" y="3672000"/>
            <a:ext cx="538200" cy="344520"/>
          </a:xfrm>
          <a:custGeom>
            <a:avLst/>
            <a:gdLst/>
            <a:ahLst/>
            <a:rect l="l" t="t" r="r" b="b"/>
            <a:pathLst>
              <a:path w="385" h="267">
                <a:moveTo>
                  <a:pt x="0" y="267"/>
                </a:moveTo>
                <a:lnTo>
                  <a:pt x="253" y="266"/>
                </a:lnTo>
                <a:lnTo>
                  <a:pt x="253" y="0"/>
                </a:lnTo>
                <a:lnTo>
                  <a:pt x="385" y="1"/>
                </a:lnTo>
              </a:path>
            </a:pathLst>
          </a:custGeom>
          <a:noFill/>
          <a:ln w="3816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946920" y="3906720"/>
            <a:ext cx="420480" cy="230040"/>
            <a:chOff x="6946920" y="3906720"/>
            <a:chExt cx="420480" cy="230040"/>
          </a:xfrm>
        </p:grpSpPr>
        <p:sp>
          <p:nvSpPr>
            <p:cNvPr id="314" name=""/>
            <p:cNvSpPr/>
            <p:nvPr/>
          </p:nvSpPr>
          <p:spPr>
            <a:xfrm>
              <a:off x="6948000" y="3980880"/>
              <a:ext cx="419400" cy="810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46920" y="3988800"/>
              <a:ext cx="418320" cy="14796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6920" y="3908880"/>
              <a:ext cx="418320" cy="14940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48000" y="3906720"/>
              <a:ext cx="418320" cy="14796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7019280" y="3908880"/>
              <a:ext cx="261000" cy="137160"/>
              <a:chOff x="7019280" y="3908880"/>
              <a:chExt cx="261000" cy="137160"/>
            </a:xfrm>
          </p:grpSpPr>
          <p:sp>
            <p:nvSpPr>
              <p:cNvPr id="319" name=""/>
              <p:cNvSpPr/>
              <p:nvPr/>
            </p:nvSpPr>
            <p:spPr>
              <a:xfrm>
                <a:off x="7019280" y="3908880"/>
                <a:ext cx="118080" cy="5436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0" y="5"/>
                    </a:moveTo>
                    <a:lnTo>
                      <a:pt x="20" y="0"/>
                    </a:lnTo>
                    <a:lnTo>
                      <a:pt x="65" y="16"/>
                    </a:lnTo>
                    <a:lnTo>
                      <a:pt x="86" y="11"/>
                    </a:lnTo>
                    <a:lnTo>
                      <a:pt x="80" y="30"/>
                    </a:lnTo>
                    <a:lnTo>
                      <a:pt x="20" y="30"/>
                    </a:lnTo>
                    <a:lnTo>
                      <a:pt x="4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19280" y="3908880"/>
                <a:ext cx="118080" cy="5436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0" y="5"/>
                    </a:moveTo>
                    <a:lnTo>
                      <a:pt x="20" y="0"/>
                    </a:lnTo>
                    <a:lnTo>
                      <a:pt x="65" y="16"/>
                    </a:lnTo>
                    <a:lnTo>
                      <a:pt x="86" y="11"/>
                    </a:lnTo>
                    <a:lnTo>
                      <a:pt x="80" y="30"/>
                    </a:lnTo>
                    <a:lnTo>
                      <a:pt x="20" y="30"/>
                    </a:lnTo>
                    <a:lnTo>
                      <a:pt x="4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157880" y="39974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89" y="22"/>
                    </a:moveTo>
                    <a:lnTo>
                      <a:pt x="69" y="27"/>
                    </a:lnTo>
                    <a:lnTo>
                      <a:pt x="21" y="13"/>
                    </a:lnTo>
                    <a:lnTo>
                      <a:pt x="0" y="22"/>
                    </a:lnTo>
                    <a:lnTo>
                      <a:pt x="6" y="0"/>
                    </a:lnTo>
                    <a:lnTo>
                      <a:pt x="69" y="0"/>
                    </a:lnTo>
                    <a:lnTo>
                      <a:pt x="45" y="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57880" y="39974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89" y="22"/>
                    </a:moveTo>
                    <a:lnTo>
                      <a:pt x="69" y="27"/>
                    </a:lnTo>
                    <a:lnTo>
                      <a:pt x="21" y="13"/>
                    </a:lnTo>
                    <a:lnTo>
                      <a:pt x="0" y="22"/>
                    </a:lnTo>
                    <a:lnTo>
                      <a:pt x="6" y="0"/>
                    </a:lnTo>
                    <a:lnTo>
                      <a:pt x="69" y="0"/>
                    </a:lnTo>
                    <a:lnTo>
                      <a:pt x="45" y="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7027920" y="3908880"/>
              <a:ext cx="245520" cy="137160"/>
              <a:chOff x="7027920" y="3908880"/>
              <a:chExt cx="245520" cy="137160"/>
            </a:xfrm>
          </p:grpSpPr>
          <p:sp>
            <p:nvSpPr>
              <p:cNvPr id="324" name=""/>
              <p:cNvSpPr/>
              <p:nvPr/>
            </p:nvSpPr>
            <p:spPr>
              <a:xfrm>
                <a:off x="7149960" y="3908880"/>
                <a:ext cx="123480" cy="5436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24"/>
                    </a:moveTo>
                    <a:lnTo>
                      <a:pt x="21" y="30"/>
                    </a:lnTo>
                    <a:lnTo>
                      <a:pt x="66" y="11"/>
                    </a:lnTo>
                    <a:lnTo>
                      <a:pt x="90" y="16"/>
                    </a:lnTo>
                    <a:lnTo>
                      <a:pt x="81" y="0"/>
                    </a:lnTo>
                    <a:lnTo>
                      <a:pt x="21" y="0"/>
                    </a:lnTo>
                    <a:lnTo>
                      <a:pt x="51" y="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9960" y="3908880"/>
                <a:ext cx="123480" cy="5436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24"/>
                    </a:moveTo>
                    <a:lnTo>
                      <a:pt x="21" y="30"/>
                    </a:lnTo>
                    <a:lnTo>
                      <a:pt x="66" y="11"/>
                    </a:lnTo>
                    <a:lnTo>
                      <a:pt x="90" y="16"/>
                    </a:lnTo>
                    <a:lnTo>
                      <a:pt x="81" y="0"/>
                    </a:lnTo>
                    <a:lnTo>
                      <a:pt x="21" y="0"/>
                    </a:lnTo>
                    <a:lnTo>
                      <a:pt x="51" y="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27920" y="3986640"/>
                <a:ext cx="118080" cy="59400"/>
              </a:xfrm>
              <a:custGeom>
                <a:avLst/>
                <a:gdLst/>
                <a:ahLst/>
                <a:rect l="l" t="t" r="r" b="b"/>
                <a:pathLst>
                  <a:path w="86" h="33">
                    <a:moveTo>
                      <a:pt x="86" y="6"/>
                    </a:moveTo>
                    <a:lnTo>
                      <a:pt x="65" y="0"/>
                    </a:lnTo>
                    <a:lnTo>
                      <a:pt x="20" y="19"/>
                    </a:lnTo>
                    <a:lnTo>
                      <a:pt x="0" y="14"/>
                    </a:lnTo>
                    <a:lnTo>
                      <a:pt x="6" y="33"/>
                    </a:lnTo>
                    <a:lnTo>
                      <a:pt x="65" y="33"/>
                    </a:lnTo>
                    <a:lnTo>
                      <a:pt x="38" y="28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027920" y="3986640"/>
                <a:ext cx="118080" cy="59400"/>
              </a:xfrm>
              <a:custGeom>
                <a:avLst/>
                <a:gdLst/>
                <a:ahLst/>
                <a:rect l="l" t="t" r="r" b="b"/>
                <a:pathLst>
                  <a:path w="86" h="33">
                    <a:moveTo>
                      <a:pt x="86" y="6"/>
                    </a:moveTo>
                    <a:lnTo>
                      <a:pt x="65" y="0"/>
                    </a:lnTo>
                    <a:lnTo>
                      <a:pt x="20" y="19"/>
                    </a:lnTo>
                    <a:lnTo>
                      <a:pt x="0" y="14"/>
                    </a:lnTo>
                    <a:lnTo>
                      <a:pt x="6" y="33"/>
                    </a:lnTo>
                    <a:lnTo>
                      <a:pt x="65" y="33"/>
                    </a:lnTo>
                    <a:lnTo>
                      <a:pt x="38" y="28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1609560" y="4017960"/>
            <a:ext cx="265320" cy="0"/>
          </a:xfrm>
          <a:prstGeom prst="line">
            <a:avLst/>
          </a:prstGeom>
          <a:ln w="38160">
            <a:solidFill>
              <a:srgbClr val="b76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65160" y="3906720"/>
            <a:ext cx="420480" cy="230040"/>
            <a:chOff x="1865160" y="3906720"/>
            <a:chExt cx="420480" cy="230040"/>
          </a:xfrm>
        </p:grpSpPr>
        <p:sp>
          <p:nvSpPr>
            <p:cNvPr id="330" name=""/>
            <p:cNvSpPr/>
            <p:nvPr/>
          </p:nvSpPr>
          <p:spPr>
            <a:xfrm>
              <a:off x="1866240" y="3980880"/>
              <a:ext cx="419400" cy="810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65160" y="3988800"/>
              <a:ext cx="418320" cy="14796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5160" y="3908880"/>
              <a:ext cx="418320" cy="149400"/>
            </a:xfrm>
            <a:prstGeom prst="ellipse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66240" y="3906720"/>
              <a:ext cx="418320" cy="147960"/>
            </a:xfrm>
            <a:prstGeom prst="ellipse">
              <a:avLst/>
            </a:pr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37520" y="3908880"/>
              <a:ext cx="261000" cy="137160"/>
              <a:chOff x="1937520" y="3908880"/>
              <a:chExt cx="261000" cy="137160"/>
            </a:xfrm>
          </p:grpSpPr>
          <p:sp>
            <p:nvSpPr>
              <p:cNvPr id="335" name=""/>
              <p:cNvSpPr/>
              <p:nvPr/>
            </p:nvSpPr>
            <p:spPr>
              <a:xfrm>
                <a:off x="1937520" y="3908880"/>
                <a:ext cx="118080" cy="5436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0" y="5"/>
                    </a:moveTo>
                    <a:lnTo>
                      <a:pt x="20" y="0"/>
                    </a:lnTo>
                    <a:lnTo>
                      <a:pt x="65" y="16"/>
                    </a:lnTo>
                    <a:lnTo>
                      <a:pt x="86" y="11"/>
                    </a:lnTo>
                    <a:lnTo>
                      <a:pt x="80" y="30"/>
                    </a:lnTo>
                    <a:lnTo>
                      <a:pt x="20" y="30"/>
                    </a:lnTo>
                    <a:lnTo>
                      <a:pt x="4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37520" y="3908880"/>
                <a:ext cx="118080" cy="5436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0" y="5"/>
                    </a:moveTo>
                    <a:lnTo>
                      <a:pt x="20" y="0"/>
                    </a:lnTo>
                    <a:lnTo>
                      <a:pt x="65" y="16"/>
                    </a:lnTo>
                    <a:lnTo>
                      <a:pt x="86" y="11"/>
                    </a:lnTo>
                    <a:lnTo>
                      <a:pt x="80" y="30"/>
                    </a:lnTo>
                    <a:lnTo>
                      <a:pt x="20" y="30"/>
                    </a:lnTo>
                    <a:lnTo>
                      <a:pt x="4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76120" y="39974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89" y="22"/>
                    </a:moveTo>
                    <a:lnTo>
                      <a:pt x="69" y="27"/>
                    </a:lnTo>
                    <a:lnTo>
                      <a:pt x="21" y="13"/>
                    </a:lnTo>
                    <a:lnTo>
                      <a:pt x="0" y="22"/>
                    </a:lnTo>
                    <a:lnTo>
                      <a:pt x="6" y="0"/>
                    </a:lnTo>
                    <a:lnTo>
                      <a:pt x="69" y="0"/>
                    </a:lnTo>
                    <a:lnTo>
                      <a:pt x="45" y="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76120" y="39974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89" y="22"/>
                    </a:moveTo>
                    <a:lnTo>
                      <a:pt x="69" y="27"/>
                    </a:lnTo>
                    <a:lnTo>
                      <a:pt x="21" y="13"/>
                    </a:lnTo>
                    <a:lnTo>
                      <a:pt x="0" y="22"/>
                    </a:lnTo>
                    <a:lnTo>
                      <a:pt x="6" y="0"/>
                    </a:lnTo>
                    <a:lnTo>
                      <a:pt x="69" y="0"/>
                    </a:lnTo>
                    <a:lnTo>
                      <a:pt x="45" y="8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946160" y="3908880"/>
              <a:ext cx="245520" cy="137160"/>
              <a:chOff x="1946160" y="3908880"/>
              <a:chExt cx="245520" cy="137160"/>
            </a:xfrm>
          </p:grpSpPr>
          <p:sp>
            <p:nvSpPr>
              <p:cNvPr id="340" name=""/>
              <p:cNvSpPr/>
              <p:nvPr/>
            </p:nvSpPr>
            <p:spPr>
              <a:xfrm>
                <a:off x="2068200" y="3908880"/>
                <a:ext cx="123480" cy="5436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24"/>
                    </a:moveTo>
                    <a:lnTo>
                      <a:pt x="21" y="30"/>
                    </a:lnTo>
                    <a:lnTo>
                      <a:pt x="66" y="11"/>
                    </a:lnTo>
                    <a:lnTo>
                      <a:pt x="90" y="16"/>
                    </a:lnTo>
                    <a:lnTo>
                      <a:pt x="81" y="0"/>
                    </a:lnTo>
                    <a:lnTo>
                      <a:pt x="21" y="0"/>
                    </a:lnTo>
                    <a:lnTo>
                      <a:pt x="51" y="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068200" y="3908880"/>
                <a:ext cx="123480" cy="5436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24"/>
                    </a:moveTo>
                    <a:lnTo>
                      <a:pt x="21" y="30"/>
                    </a:lnTo>
                    <a:lnTo>
                      <a:pt x="66" y="11"/>
                    </a:lnTo>
                    <a:lnTo>
                      <a:pt x="90" y="16"/>
                    </a:lnTo>
                    <a:lnTo>
                      <a:pt x="81" y="0"/>
                    </a:lnTo>
                    <a:lnTo>
                      <a:pt x="21" y="0"/>
                    </a:lnTo>
                    <a:lnTo>
                      <a:pt x="51" y="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46160" y="3986640"/>
                <a:ext cx="118080" cy="59400"/>
              </a:xfrm>
              <a:custGeom>
                <a:avLst/>
                <a:gdLst/>
                <a:ahLst/>
                <a:rect l="l" t="t" r="r" b="b"/>
                <a:pathLst>
                  <a:path w="86" h="33">
                    <a:moveTo>
                      <a:pt x="86" y="6"/>
                    </a:moveTo>
                    <a:lnTo>
                      <a:pt x="65" y="0"/>
                    </a:lnTo>
                    <a:lnTo>
                      <a:pt x="20" y="19"/>
                    </a:lnTo>
                    <a:lnTo>
                      <a:pt x="0" y="14"/>
                    </a:lnTo>
                    <a:lnTo>
                      <a:pt x="6" y="33"/>
                    </a:lnTo>
                    <a:lnTo>
                      <a:pt x="65" y="33"/>
                    </a:lnTo>
                    <a:lnTo>
                      <a:pt x="38" y="28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46160" y="3986640"/>
                <a:ext cx="118080" cy="59400"/>
              </a:xfrm>
              <a:custGeom>
                <a:avLst/>
                <a:gdLst/>
                <a:ahLst/>
                <a:rect l="l" t="t" r="r" b="b"/>
                <a:pathLst>
                  <a:path w="86" h="33">
                    <a:moveTo>
                      <a:pt x="86" y="6"/>
                    </a:moveTo>
                    <a:lnTo>
                      <a:pt x="65" y="0"/>
                    </a:lnTo>
                    <a:lnTo>
                      <a:pt x="20" y="19"/>
                    </a:lnTo>
                    <a:lnTo>
                      <a:pt x="0" y="14"/>
                    </a:lnTo>
                    <a:lnTo>
                      <a:pt x="6" y="33"/>
                    </a:lnTo>
                    <a:lnTo>
                      <a:pt x="65" y="33"/>
                    </a:lnTo>
                    <a:lnTo>
                      <a:pt x="38" y="28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 flipV="1">
            <a:off x="2082960" y="3538440"/>
            <a:ext cx="161640" cy="395280"/>
          </a:xfrm>
          <a:prstGeom prst="line">
            <a:avLst/>
          </a:prstGeom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8005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43520" y="415908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74720" y="415620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75200" y="1897200"/>
            <a:ext cx="1865520" cy="3618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28120" y="2239920"/>
            <a:ext cx="1440" cy="1303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326360" y="3543480"/>
            <a:ext cx="4348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26360" y="3521160"/>
            <a:ext cx="1440" cy="4651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940360" y="3954600"/>
            <a:ext cx="1386000" cy="14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940360" y="3454560"/>
            <a:ext cx="1800" cy="5270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214600" y="3475080"/>
            <a:ext cx="7462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005360" y="3470400"/>
            <a:ext cx="1225440" cy="4842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484280" y="3954600"/>
            <a:ext cx="2541600" cy="14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376360" y="1971360"/>
            <a:ext cx="2081520" cy="13986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506600" y="3346200"/>
            <a:ext cx="284040" cy="603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766880" y="3365640"/>
            <a:ext cx="6429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hat is an NGN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twork based on new technology to solve communication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tegrated (converged) network covering voice, data and multimedia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volutionary step from today's network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ly applicable to wide area (WAN, Public) and local area (LAN, Private Network)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heaper way of communicating, using IP instead of switched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et’s dispel some myths…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Telephony is poor quality, with delays and dropouts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, it’s toll quality. You can’t tell the dif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Telephony is unreliable, built on PCs and other ‘consumer grade’ hardware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, its 99.999 reliability, on fault tolerant high availability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Telephony is expensive, and it’s difficult to implement and administer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’s cheaper to maintain one infrastructure than two, and staff are already trained in most of the appropriate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Telephony is a future technology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, it’s here now and it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How IP Telephony is carri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4134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 are carried in Real Time Protocol (RTP) with Real Time Control Protocol (RTCP)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is either over-engineered or supports QoS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carrying the media is only one par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24560" y="3957480"/>
            <a:ext cx="1361880" cy="921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30680" y="4667400"/>
            <a:ext cx="1363320" cy="918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64000" cy="1304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968640" y="410544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689880" y="3505320"/>
            <a:ext cx="1137600" cy="776880"/>
            <a:chOff x="6689880" y="3505320"/>
            <a:chExt cx="1137600" cy="776880"/>
          </a:xfrm>
        </p:grpSpPr>
        <p:pic>
          <p:nvPicPr>
            <p:cNvPr id="371" name="" descr=""/>
            <p:cNvPicPr/>
            <p:nvPr/>
          </p:nvPicPr>
          <p:blipFill>
            <a:blip r:embed="rId2"/>
            <a:stretch/>
          </p:blipFill>
          <p:spPr>
            <a:xfrm>
              <a:off x="6689880" y="3505320"/>
              <a:ext cx="56844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3"/>
            <a:stretch/>
          </p:blipFill>
          <p:spPr>
            <a:xfrm>
              <a:off x="6972120" y="3731400"/>
              <a:ext cx="569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4"/>
            <a:stretch/>
          </p:blipFill>
          <p:spPr>
            <a:xfrm>
              <a:off x="7258320" y="3956760"/>
              <a:ext cx="569160" cy="32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 flipH="1">
            <a:off x="18889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19384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498400" y="4876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84360" y="4800600"/>
            <a:ext cx="1137600" cy="777600"/>
            <a:chOff x="1584360" y="4800600"/>
            <a:chExt cx="1137600" cy="777600"/>
          </a:xfrm>
        </p:grpSpPr>
        <p:pic>
          <p:nvPicPr>
            <p:cNvPr id="378" name="" descr=""/>
            <p:cNvPicPr/>
            <p:nvPr/>
          </p:nvPicPr>
          <p:blipFill>
            <a:blip r:embed="rId5"/>
            <a:stretch/>
          </p:blipFill>
          <p:spPr>
            <a:xfrm>
              <a:off x="1584360" y="4800600"/>
              <a:ext cx="56844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6"/>
            <a:stretch/>
          </p:blipFill>
          <p:spPr>
            <a:xfrm>
              <a:off x="1866960" y="5026680"/>
              <a:ext cx="569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2152800" y="5252400"/>
              <a:ext cx="569160" cy="32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2538360" y="4567320"/>
            <a:ext cx="642960" cy="558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 flipH="1">
            <a:off x="6308640" y="36576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6308280" y="41148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308640" y="38098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9"/>
          <a:stretch/>
        </p:blipFill>
        <p:spPr>
          <a:xfrm>
            <a:off x="5927760" y="3886200"/>
            <a:ext cx="6112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029200" y="4724280"/>
            <a:ext cx="1143000" cy="3812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all Contr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ed to route calls between endpoints, not to mention billing, authentication and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0033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olves functionality from the endpoints and places it into a server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4560" y="3886200"/>
            <a:ext cx="1361880" cy="1634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30680" y="4667400"/>
            <a:ext cx="1363320" cy="918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1763640" cy="1304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968640" y="410544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689880" y="3505320"/>
            <a:ext cx="1137600" cy="776880"/>
            <a:chOff x="6689880" y="3505320"/>
            <a:chExt cx="1137600" cy="77688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6689880" y="3505320"/>
              <a:ext cx="56844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3"/>
            <a:stretch/>
          </p:blipFill>
          <p:spPr>
            <a:xfrm>
              <a:off x="6972120" y="3731400"/>
              <a:ext cx="569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4"/>
            <a:stretch/>
          </p:blipFill>
          <p:spPr>
            <a:xfrm>
              <a:off x="7258320" y="3956760"/>
              <a:ext cx="569160" cy="32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 flipH="1">
            <a:off x="18889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19384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498400" y="4876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584360" y="4800600"/>
            <a:ext cx="1137600" cy="777600"/>
            <a:chOff x="1584360" y="4800600"/>
            <a:chExt cx="1137600" cy="777600"/>
          </a:xfrm>
        </p:grpSpPr>
        <p:pic>
          <p:nvPicPr>
            <p:cNvPr id="401" name="" descr=""/>
            <p:cNvPicPr/>
            <p:nvPr/>
          </p:nvPicPr>
          <p:blipFill>
            <a:blip r:embed="rId5"/>
            <a:stretch/>
          </p:blipFill>
          <p:spPr>
            <a:xfrm>
              <a:off x="1584360" y="4800600"/>
              <a:ext cx="56844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6"/>
            <a:stretch/>
          </p:blipFill>
          <p:spPr>
            <a:xfrm>
              <a:off x="1866960" y="5026680"/>
              <a:ext cx="5691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7"/>
            <a:stretch/>
          </p:blipFill>
          <p:spPr>
            <a:xfrm>
              <a:off x="2152800" y="5252400"/>
              <a:ext cx="569160" cy="32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" descr=""/>
          <p:cNvPicPr/>
          <p:nvPr/>
        </p:nvPicPr>
        <p:blipFill>
          <a:blip r:embed="rId8"/>
          <a:stretch/>
        </p:blipFill>
        <p:spPr>
          <a:xfrm>
            <a:off x="2538360" y="4567320"/>
            <a:ext cx="642960" cy="558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 flipH="1">
            <a:off x="6308640" y="36576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6308280" y="41148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308640" y="38098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5927760" y="3886200"/>
            <a:ext cx="611280" cy="41904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6095880" y="4876920"/>
            <a:ext cx="685080" cy="912960"/>
            <a:chOff x="6095880" y="4876920"/>
            <a:chExt cx="685080" cy="912960"/>
          </a:xfrm>
        </p:grpSpPr>
        <p:grpSp>
          <p:nvGrpSpPr>
            <p:cNvPr id="410" name=""/>
            <p:cNvGrpSpPr/>
            <p:nvPr/>
          </p:nvGrpSpPr>
          <p:grpSpPr>
            <a:xfrm>
              <a:off x="6101280" y="4881240"/>
              <a:ext cx="679680" cy="908640"/>
              <a:chOff x="6101280" y="4881240"/>
              <a:chExt cx="679680" cy="908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738480" y="4881240"/>
                <a:ext cx="40320" cy="90684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738480" y="4883760"/>
                <a:ext cx="42480" cy="90612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01280" y="4945320"/>
                <a:ext cx="637200" cy="84456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01280" y="4883760"/>
                <a:ext cx="676080" cy="63720"/>
              </a:xfrm>
              <a:custGeom>
                <a:avLst/>
                <a:gdLst/>
                <a:ahLst/>
                <a:rect l="l" t="t" r="r" b="b"/>
                <a:pathLst>
                  <a:path w="1470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01280" y="4886280"/>
                <a:ext cx="677880" cy="64080"/>
              </a:xfrm>
              <a:custGeom>
                <a:avLst/>
                <a:gdLst/>
                <a:ahLst/>
                <a:rect l="l" t="t" r="r" b="b"/>
                <a:pathLst>
                  <a:path w="1470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095880" y="4876920"/>
              <a:ext cx="681480" cy="908280"/>
              <a:chOff x="6095880" y="4876920"/>
              <a:chExt cx="681480" cy="908280"/>
            </a:xfrm>
          </p:grpSpPr>
          <p:sp>
            <p:nvSpPr>
              <p:cNvPr id="417" name=""/>
              <p:cNvSpPr/>
              <p:nvPr/>
            </p:nvSpPr>
            <p:spPr>
              <a:xfrm>
                <a:off x="6734880" y="4876920"/>
                <a:ext cx="40320" cy="90648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34880" y="4876920"/>
                <a:ext cx="42480" cy="906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3936c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97680" y="4938840"/>
                <a:ext cx="636840" cy="846360"/>
              </a:xfrm>
              <a:prstGeom prst="rect">
                <a:avLst/>
              </a:prstGeom>
              <a:solidFill>
                <a:srgbClr val="bab79d"/>
              </a:solidFill>
              <a:ln w="144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99480" y="5373360"/>
                <a:ext cx="6354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6097680" y="4941000"/>
                <a:ext cx="636480" cy="841680"/>
                <a:chOff x="6097680" y="4941000"/>
                <a:chExt cx="636480" cy="8416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09768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203880" y="4941000"/>
                  <a:ext cx="180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0936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41628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52104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62796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732720" y="4941000"/>
                  <a:ext cx="1440" cy="84168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6095880" y="4879440"/>
                <a:ext cx="677880" cy="64080"/>
              </a:xfrm>
              <a:custGeom>
                <a:avLst/>
                <a:gdLst/>
                <a:ahLst/>
                <a:rect l="l" t="t" r="r" b="b"/>
                <a:pathLst>
                  <a:path w="1475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95880" y="4879440"/>
                <a:ext cx="679680" cy="64080"/>
              </a:xfrm>
              <a:custGeom>
                <a:avLst/>
                <a:gdLst/>
                <a:ahLst/>
                <a:rect l="l" t="t" r="r" b="b"/>
                <a:pathLst>
                  <a:path w="1475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ce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12440" y="539820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12440" y="541764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12440" y="543996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12440" y="546228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12440" y="548208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12440" y="550440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12440" y="552636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12440" y="554652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12440" y="556812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12440" y="558792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12440" y="561024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12440" y="5632560"/>
                <a:ext cx="7560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12440" y="5652360"/>
                <a:ext cx="7560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19360" y="539820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219360" y="541764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19360" y="543996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19360" y="546228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19360" y="548208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19360" y="550440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19360" y="552636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19360" y="554652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219360" y="556812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19360" y="558792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19360" y="561024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19360" y="5632560"/>
                <a:ext cx="74880" cy="21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19360" y="5652360"/>
                <a:ext cx="74880" cy="252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221880" y="4997880"/>
              <a:ext cx="407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ontrol and Bear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"/>
          <p:cNvSpPr/>
          <p:nvPr/>
        </p:nvSpPr>
        <p:spPr>
          <a:xfrm>
            <a:off x="5275440" y="3692520"/>
            <a:ext cx="1242720" cy="55872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34080" y="2463840"/>
            <a:ext cx="1482480" cy="2397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81440" y="3610080"/>
            <a:ext cx="1484280" cy="1350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614760" y="2239920"/>
            <a:ext cx="1920960" cy="19144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119480" y="278460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855440" y="3805200"/>
            <a:ext cx="7462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87720" y="3916440"/>
            <a:ext cx="49824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519280" y="3916440"/>
            <a:ext cx="33192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2562120" y="3462480"/>
            <a:ext cx="700200" cy="819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 flipH="1">
            <a:off x="6667200" y="2128680"/>
            <a:ext cx="663480" cy="4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6667560" y="2798280"/>
            <a:ext cx="132696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667560" y="2352600"/>
            <a:ext cx="107784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253200" y="2463840"/>
            <a:ext cx="665280" cy="61416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6435720" y="3916440"/>
            <a:ext cx="747000" cy="1339920"/>
            <a:chOff x="6435720" y="3916440"/>
            <a:chExt cx="747000" cy="1339920"/>
          </a:xfrm>
        </p:grpSpPr>
        <p:grpSp>
          <p:nvGrpSpPr>
            <p:cNvPr id="473" name=""/>
            <p:cNvGrpSpPr/>
            <p:nvPr/>
          </p:nvGrpSpPr>
          <p:grpSpPr>
            <a:xfrm>
              <a:off x="6441480" y="3922920"/>
              <a:ext cx="741240" cy="1333440"/>
              <a:chOff x="6441480" y="3922920"/>
              <a:chExt cx="741240" cy="1333440"/>
            </a:xfrm>
          </p:grpSpPr>
          <p:sp>
            <p:nvSpPr>
              <p:cNvPr id="474" name=""/>
              <p:cNvSpPr/>
              <p:nvPr/>
            </p:nvSpPr>
            <p:spPr>
              <a:xfrm>
                <a:off x="7136280" y="3922920"/>
                <a:ext cx="43920" cy="13302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36280" y="3926880"/>
                <a:ext cx="46440" cy="1329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41480" y="4017240"/>
                <a:ext cx="694800" cy="123912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441480" y="3926880"/>
                <a:ext cx="737280" cy="93600"/>
              </a:xfrm>
              <a:custGeom>
                <a:avLst/>
                <a:gdLst/>
                <a:ahLst/>
                <a:rect l="l" t="t" r="r" b="b"/>
                <a:pathLst>
                  <a:path w="1470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41480" y="3930120"/>
                <a:ext cx="739080" cy="94320"/>
              </a:xfrm>
              <a:custGeom>
                <a:avLst/>
                <a:gdLst/>
                <a:ahLst/>
                <a:rect l="l" t="t" r="r" b="b"/>
                <a:pathLst>
                  <a:path w="1470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6435720" y="3916440"/>
              <a:ext cx="743040" cy="1332720"/>
              <a:chOff x="6435720" y="3916440"/>
              <a:chExt cx="743040" cy="1332720"/>
            </a:xfrm>
          </p:grpSpPr>
          <p:sp>
            <p:nvSpPr>
              <p:cNvPr id="480" name=""/>
              <p:cNvSpPr/>
              <p:nvPr/>
            </p:nvSpPr>
            <p:spPr>
              <a:xfrm>
                <a:off x="7132320" y="3916440"/>
                <a:ext cx="43920" cy="132948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32320" y="3916440"/>
                <a:ext cx="46440" cy="1329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3936c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437880" y="4007520"/>
                <a:ext cx="694440" cy="1241640"/>
              </a:xfrm>
              <a:prstGeom prst="rect">
                <a:avLst/>
              </a:prstGeom>
              <a:solidFill>
                <a:srgbClr val="bab79d"/>
              </a:solidFill>
              <a:ln w="144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39680" y="4644720"/>
                <a:ext cx="69264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437880" y="4010760"/>
                <a:ext cx="694080" cy="1234440"/>
                <a:chOff x="6437880" y="4010760"/>
                <a:chExt cx="694080" cy="12344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43788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53800" y="4010760"/>
                  <a:ext cx="216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66864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78528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89940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01604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13016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>
                <a:off x="6435720" y="3920400"/>
                <a:ext cx="739080" cy="94320"/>
              </a:xfrm>
              <a:custGeom>
                <a:avLst/>
                <a:gdLst/>
                <a:ahLst/>
                <a:rect l="l" t="t" r="r" b="b"/>
                <a:pathLst>
                  <a:path w="1475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35720" y="3920400"/>
                <a:ext cx="740880" cy="94320"/>
              </a:xfrm>
              <a:custGeom>
                <a:avLst/>
                <a:gdLst/>
                <a:ahLst/>
                <a:rect l="l" t="t" r="r" b="b"/>
                <a:pathLst>
                  <a:path w="1475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ce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53720" y="468072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453720" y="470952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53720" y="474264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53720" y="477540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53720" y="480420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453720" y="483696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53720" y="486900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453720" y="489852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453720" y="493056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53720" y="495936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53720" y="499212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53720" y="502488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53720" y="505368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70360" y="468072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570360" y="470952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70360" y="474264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70360" y="477540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70360" y="480420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70360" y="483696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570360" y="486900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70360" y="489852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70360" y="493056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570360" y="495936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70360" y="499212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70360" y="502488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0360" y="505368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591600" y="4093920"/>
              <a:ext cx="407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130720" y="2806560"/>
            <a:ext cx="1193760" cy="1346400"/>
          </a:xfrm>
          <a:custGeom>
            <a:avLst/>
            <a:gdLst/>
            <a:ahLst/>
            <a:rect l="l" t="t" r="r" b="b"/>
            <a:pathLst>
              <a:path w="752" h="848">
                <a:moveTo>
                  <a:pt x="752" y="824"/>
                </a:moveTo>
                <a:cubicBezTo>
                  <a:pt x="672" y="836"/>
                  <a:pt x="592" y="848"/>
                  <a:pt x="560" y="824"/>
                </a:cubicBezTo>
                <a:cubicBezTo>
                  <a:pt x="528" y="800"/>
                  <a:pt x="552" y="728"/>
                  <a:pt x="560" y="680"/>
                </a:cubicBezTo>
                <a:cubicBezTo>
                  <a:pt x="568" y="632"/>
                  <a:pt x="640" y="576"/>
                  <a:pt x="608" y="536"/>
                </a:cubicBezTo>
                <a:cubicBezTo>
                  <a:pt x="576" y="496"/>
                  <a:pt x="448" y="456"/>
                  <a:pt x="368" y="440"/>
                </a:cubicBezTo>
                <a:cubicBezTo>
                  <a:pt x="288" y="424"/>
                  <a:pt x="184" y="472"/>
                  <a:pt x="128" y="440"/>
                </a:cubicBezTo>
                <a:cubicBezTo>
                  <a:pt x="72" y="408"/>
                  <a:pt x="48" y="312"/>
                  <a:pt x="32" y="248"/>
                </a:cubicBezTo>
                <a:cubicBezTo>
                  <a:pt x="16" y="184"/>
                  <a:pt x="0" y="96"/>
                  <a:pt x="32" y="56"/>
                </a:cubicBezTo>
                <a:cubicBezTo>
                  <a:pt x="64" y="16"/>
                  <a:pt x="120" y="16"/>
                  <a:pt x="224" y="8"/>
                </a:cubicBezTo>
                <a:cubicBezTo>
                  <a:pt x="328" y="0"/>
                  <a:pt x="492" y="4"/>
                  <a:pt x="656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51760" y="3352680"/>
            <a:ext cx="147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GCP/MGC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P/H.3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3784680"/>
            <a:ext cx="3047760" cy="723960"/>
          </a:xfrm>
          <a:custGeom>
            <a:avLst/>
            <a:gdLst/>
            <a:ahLst/>
            <a:rect l="l" t="t" r="r" b="b"/>
            <a:pathLst>
              <a:path w="1920" h="456">
                <a:moveTo>
                  <a:pt x="1920" y="400"/>
                </a:moveTo>
                <a:cubicBezTo>
                  <a:pt x="1744" y="428"/>
                  <a:pt x="1568" y="456"/>
                  <a:pt x="1488" y="400"/>
                </a:cubicBezTo>
                <a:cubicBezTo>
                  <a:pt x="1408" y="344"/>
                  <a:pt x="1552" y="128"/>
                  <a:pt x="1440" y="64"/>
                </a:cubicBezTo>
                <a:cubicBezTo>
                  <a:pt x="1328" y="0"/>
                  <a:pt x="1024" y="16"/>
                  <a:pt x="816" y="16"/>
                </a:cubicBezTo>
                <a:cubicBezTo>
                  <a:pt x="608" y="16"/>
                  <a:pt x="328" y="64"/>
                  <a:pt x="192" y="64"/>
                </a:cubicBezTo>
                <a:cubicBezTo>
                  <a:pt x="56" y="64"/>
                  <a:pt x="28" y="40"/>
                  <a:pt x="0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05120" y="2057400"/>
            <a:ext cx="5333760" cy="1828800"/>
          </a:xfrm>
          <a:custGeom>
            <a:avLst/>
            <a:gdLst/>
            <a:ahLst/>
            <a:rect l="l" t="t" r="r" b="b"/>
            <a:pathLst>
              <a:path w="3360" h="1152">
                <a:moveTo>
                  <a:pt x="3360" y="0"/>
                </a:moveTo>
                <a:cubicBezTo>
                  <a:pt x="3300" y="12"/>
                  <a:pt x="3240" y="24"/>
                  <a:pt x="3168" y="48"/>
                </a:cubicBezTo>
                <a:cubicBezTo>
                  <a:pt x="3096" y="72"/>
                  <a:pt x="3152" y="128"/>
                  <a:pt x="2928" y="144"/>
                </a:cubicBezTo>
                <a:cubicBezTo>
                  <a:pt x="2704" y="160"/>
                  <a:pt x="2064" y="96"/>
                  <a:pt x="1824" y="144"/>
                </a:cubicBezTo>
                <a:cubicBezTo>
                  <a:pt x="1584" y="192"/>
                  <a:pt x="1592" y="312"/>
                  <a:pt x="1488" y="432"/>
                </a:cubicBezTo>
                <a:cubicBezTo>
                  <a:pt x="1384" y="552"/>
                  <a:pt x="1304" y="784"/>
                  <a:pt x="1200" y="864"/>
                </a:cubicBezTo>
                <a:cubicBezTo>
                  <a:pt x="1096" y="944"/>
                  <a:pt x="976" y="920"/>
                  <a:pt x="864" y="912"/>
                </a:cubicBezTo>
                <a:cubicBezTo>
                  <a:pt x="752" y="904"/>
                  <a:pt x="672" y="776"/>
                  <a:pt x="528" y="816"/>
                </a:cubicBezTo>
                <a:cubicBezTo>
                  <a:pt x="384" y="856"/>
                  <a:pt x="192" y="1004"/>
                  <a:pt x="0" y="1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523880" y="3805200"/>
            <a:ext cx="1239120" cy="1139040"/>
            <a:chOff x="1523880" y="3805200"/>
            <a:chExt cx="1239120" cy="1139040"/>
          </a:xfrm>
        </p:grpSpPr>
        <p:pic>
          <p:nvPicPr>
            <p:cNvPr id="526" name="" descr=""/>
            <p:cNvPicPr/>
            <p:nvPr/>
          </p:nvPicPr>
          <p:blipFill>
            <a:blip r:embed="rId4"/>
            <a:stretch/>
          </p:blipFill>
          <p:spPr>
            <a:xfrm>
              <a:off x="1523880" y="3805200"/>
              <a:ext cx="6192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5"/>
            <a:stretch/>
          </p:blipFill>
          <p:spPr>
            <a:xfrm>
              <a:off x="1831680" y="4136400"/>
              <a:ext cx="61992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6"/>
            <a:stretch/>
          </p:blipFill>
          <p:spPr>
            <a:xfrm>
              <a:off x="2143080" y="4466880"/>
              <a:ext cx="619920" cy="47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9" name=""/>
          <p:cNvGrpSpPr/>
          <p:nvPr/>
        </p:nvGrpSpPr>
        <p:grpSpPr>
          <a:xfrm>
            <a:off x="7081920" y="1905120"/>
            <a:ext cx="1239120" cy="1140480"/>
            <a:chOff x="7081920" y="1905120"/>
            <a:chExt cx="1239120" cy="1140480"/>
          </a:xfrm>
        </p:grpSpPr>
        <p:pic>
          <p:nvPicPr>
            <p:cNvPr id="530" name="" descr=""/>
            <p:cNvPicPr/>
            <p:nvPr/>
          </p:nvPicPr>
          <p:blipFill>
            <a:blip r:embed="rId7"/>
            <a:stretch/>
          </p:blipFill>
          <p:spPr>
            <a:xfrm>
              <a:off x="7081920" y="1905120"/>
              <a:ext cx="61920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8"/>
            <a:stretch/>
          </p:blipFill>
          <p:spPr>
            <a:xfrm>
              <a:off x="7389720" y="2236680"/>
              <a:ext cx="619920" cy="4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9"/>
            <a:stretch/>
          </p:blipFill>
          <p:spPr>
            <a:xfrm>
              <a:off x="7701120" y="2567880"/>
              <a:ext cx="619920" cy="4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5411880" y="19051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TP/R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otential Call Control Poi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"/>
          <p:cNvSpPr/>
          <p:nvPr/>
        </p:nvSpPr>
        <p:spPr>
          <a:xfrm>
            <a:off x="5275440" y="3692520"/>
            <a:ext cx="1242720" cy="55872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34080" y="2463840"/>
            <a:ext cx="1482480" cy="2397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81440" y="3610080"/>
            <a:ext cx="1484280" cy="1350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af4187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614760" y="2239920"/>
            <a:ext cx="1920960" cy="19144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4119480" y="278460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855440" y="3805200"/>
            <a:ext cx="7462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187720" y="3916440"/>
            <a:ext cx="49824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519280" y="3916440"/>
            <a:ext cx="33192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667200" y="2128680"/>
            <a:ext cx="663480" cy="4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6667560" y="2798280"/>
            <a:ext cx="132696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667560" y="2352600"/>
            <a:ext cx="107784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6253200" y="2463840"/>
            <a:ext cx="665280" cy="61416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6435720" y="3916440"/>
            <a:ext cx="747000" cy="1339920"/>
            <a:chOff x="6435720" y="3916440"/>
            <a:chExt cx="747000" cy="1339920"/>
          </a:xfrm>
        </p:grpSpPr>
        <p:grpSp>
          <p:nvGrpSpPr>
            <p:cNvPr id="548" name=""/>
            <p:cNvGrpSpPr/>
            <p:nvPr/>
          </p:nvGrpSpPr>
          <p:grpSpPr>
            <a:xfrm>
              <a:off x="6441480" y="3922920"/>
              <a:ext cx="741240" cy="1333440"/>
              <a:chOff x="6441480" y="3922920"/>
              <a:chExt cx="741240" cy="1333440"/>
            </a:xfrm>
          </p:grpSpPr>
          <p:sp>
            <p:nvSpPr>
              <p:cNvPr id="549" name=""/>
              <p:cNvSpPr/>
              <p:nvPr/>
            </p:nvSpPr>
            <p:spPr>
              <a:xfrm>
                <a:off x="7136280" y="3922920"/>
                <a:ext cx="43920" cy="133020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36280" y="3926880"/>
                <a:ext cx="46440" cy="1329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41480" y="4017240"/>
                <a:ext cx="694800" cy="123912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41480" y="3926880"/>
                <a:ext cx="737280" cy="93600"/>
              </a:xfrm>
              <a:custGeom>
                <a:avLst/>
                <a:gdLst/>
                <a:ahLst/>
                <a:rect l="l" t="t" r="r" b="b"/>
                <a:pathLst>
                  <a:path w="1470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441480" y="3930120"/>
                <a:ext cx="739080" cy="94320"/>
              </a:xfrm>
              <a:custGeom>
                <a:avLst/>
                <a:gdLst/>
                <a:ahLst/>
                <a:rect l="l" t="t" r="r" b="b"/>
                <a:pathLst>
                  <a:path w="1470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0" y="0"/>
                    </a:lnTo>
                    <a:lnTo>
                      <a:pt x="138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435720" y="3916440"/>
              <a:ext cx="743040" cy="1332720"/>
              <a:chOff x="6435720" y="3916440"/>
              <a:chExt cx="743040" cy="1332720"/>
            </a:xfrm>
          </p:grpSpPr>
          <p:sp>
            <p:nvSpPr>
              <p:cNvPr id="555" name=""/>
              <p:cNvSpPr/>
              <p:nvPr/>
            </p:nvSpPr>
            <p:spPr>
              <a:xfrm>
                <a:off x="7132320" y="3916440"/>
                <a:ext cx="43920" cy="1329480"/>
              </a:xfrm>
              <a:custGeom>
                <a:avLst/>
                <a:gdLst/>
                <a:ahLst/>
                <a:rect l="l" t="t" r="r" b="b"/>
                <a:pathLst>
                  <a:path w="90" h="1469">
                    <a:moveTo>
                      <a:pt x="0" y="114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32320" y="3916440"/>
                <a:ext cx="46440" cy="1329480"/>
              </a:xfrm>
              <a:custGeom>
                <a:avLst/>
                <a:gdLst/>
                <a:ahLst/>
                <a:rect l="l" t="t" r="r" b="b"/>
                <a:pathLst>
                  <a:path w="90" h="1468">
                    <a:moveTo>
                      <a:pt x="0" y="113"/>
                    </a:moveTo>
                    <a:lnTo>
                      <a:pt x="90" y="0"/>
                    </a:lnTo>
                    <a:lnTo>
                      <a:pt x="90" y="1365"/>
                    </a:lnTo>
                    <a:lnTo>
                      <a:pt x="0" y="146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3936c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37880" y="4007520"/>
                <a:ext cx="694440" cy="1241640"/>
              </a:xfrm>
              <a:prstGeom prst="rect">
                <a:avLst/>
              </a:prstGeom>
              <a:solidFill>
                <a:srgbClr val="bab79d"/>
              </a:solidFill>
              <a:ln w="144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439680" y="4644720"/>
                <a:ext cx="69264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6437880" y="4010760"/>
                <a:ext cx="694080" cy="1234440"/>
                <a:chOff x="6437880" y="4010760"/>
                <a:chExt cx="694080" cy="123444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43788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53800" y="4010760"/>
                  <a:ext cx="216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6864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78528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89940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01604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130160" y="4010760"/>
                  <a:ext cx="1800" cy="1234440"/>
                </a:xfrm>
                <a:prstGeom prst="line">
                  <a:avLst/>
                </a:prstGeom>
                <a:ln w="3240">
                  <a:solidFill>
                    <a:srgbClr val="7a7a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6435720" y="3920400"/>
                <a:ext cx="739080" cy="94320"/>
              </a:xfrm>
              <a:custGeom>
                <a:avLst/>
                <a:gdLst/>
                <a:ahLst/>
                <a:rect l="l" t="t" r="r" b="b"/>
                <a:pathLst>
                  <a:path w="1475" h="104">
                    <a:moveTo>
                      <a:pt x="0" y="104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35720" y="3920400"/>
                <a:ext cx="740880" cy="94320"/>
              </a:xfrm>
              <a:custGeom>
                <a:avLst/>
                <a:gdLst/>
                <a:ahLst/>
                <a:rect l="l" t="t" r="r" b="b"/>
                <a:pathLst>
                  <a:path w="1475" h="103">
                    <a:moveTo>
                      <a:pt x="0" y="103"/>
                    </a:moveTo>
                    <a:lnTo>
                      <a:pt x="90" y="0"/>
                    </a:lnTo>
                    <a:lnTo>
                      <a:pt x="1475" y="0"/>
                    </a:lnTo>
                    <a:lnTo>
                      <a:pt x="138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ce"/>
              </a:solidFill>
              <a:ln w="144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53720" y="468072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453720" y="470952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53720" y="474264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53720" y="477540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53720" y="480420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53720" y="483696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453720" y="486900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53720" y="489852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53720" y="493056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53720" y="495936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53720" y="499212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53720" y="5024880"/>
                <a:ext cx="8208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453720" y="5053680"/>
                <a:ext cx="8208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70360" y="468072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70360" y="470952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70360" y="474264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70360" y="477540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70360" y="480420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70360" y="483696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70360" y="486900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70360" y="489852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70360" y="493056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70360" y="495936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570360" y="499212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570360" y="5024880"/>
                <a:ext cx="81720" cy="324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70360" y="5053680"/>
                <a:ext cx="81720" cy="3960"/>
              </a:xfrm>
              <a:prstGeom prst="line">
                <a:avLst/>
              </a:prstGeom>
              <a:ln w="324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591600" y="4093920"/>
              <a:ext cx="407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523880" y="3805200"/>
            <a:ext cx="1239120" cy="1139040"/>
            <a:chOff x="1523880" y="3805200"/>
            <a:chExt cx="1239120" cy="1139040"/>
          </a:xfrm>
        </p:grpSpPr>
        <p:pic>
          <p:nvPicPr>
            <p:cNvPr id="597" name="" descr=""/>
            <p:cNvPicPr/>
            <p:nvPr/>
          </p:nvPicPr>
          <p:blipFill>
            <a:blip r:embed="rId3"/>
            <a:stretch/>
          </p:blipFill>
          <p:spPr>
            <a:xfrm>
              <a:off x="1523880" y="3805200"/>
              <a:ext cx="6192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4"/>
            <a:stretch/>
          </p:blipFill>
          <p:spPr>
            <a:xfrm>
              <a:off x="1831680" y="4136400"/>
              <a:ext cx="61992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5"/>
            <a:stretch/>
          </p:blipFill>
          <p:spPr>
            <a:xfrm>
              <a:off x="2143080" y="4466880"/>
              <a:ext cx="619920" cy="47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0" name=""/>
          <p:cNvGrpSpPr/>
          <p:nvPr/>
        </p:nvGrpSpPr>
        <p:grpSpPr>
          <a:xfrm>
            <a:off x="7081920" y="1905120"/>
            <a:ext cx="1239120" cy="1140480"/>
            <a:chOff x="7081920" y="1905120"/>
            <a:chExt cx="1239120" cy="1140480"/>
          </a:xfrm>
        </p:grpSpPr>
        <p:pic>
          <p:nvPicPr>
            <p:cNvPr id="601" name="" descr=""/>
            <p:cNvPicPr/>
            <p:nvPr/>
          </p:nvPicPr>
          <p:blipFill>
            <a:blip r:embed="rId6"/>
            <a:stretch/>
          </p:blipFill>
          <p:spPr>
            <a:xfrm>
              <a:off x="7081920" y="1905120"/>
              <a:ext cx="61920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7"/>
            <a:stretch/>
          </p:blipFill>
          <p:spPr>
            <a:xfrm>
              <a:off x="7389720" y="2236680"/>
              <a:ext cx="619920" cy="4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8"/>
            <a:stretch/>
          </p:blipFill>
          <p:spPr>
            <a:xfrm>
              <a:off x="7701120" y="2567880"/>
              <a:ext cx="619920" cy="4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/>
          <p:nvPr/>
        </p:nvSpPr>
        <p:spPr>
          <a:xfrm>
            <a:off x="1312560" y="34020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52480" y="31240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9"/>
          <a:stretch/>
        </p:blipFill>
        <p:spPr>
          <a:xfrm>
            <a:off x="2562120" y="3462480"/>
            <a:ext cx="700200" cy="819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0"/>
          <a:stretch/>
        </p:blipFill>
        <p:spPr>
          <a:xfrm>
            <a:off x="1295280" y="2728800"/>
            <a:ext cx="663840" cy="6001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807732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819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895480" y="3886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3432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52880" y="3581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715000" y="51055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38680" y="5334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095880" y="53341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5715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82920" y="52578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52520" y="585144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09480" y="22701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987680" y="310824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223760" y="47847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itch-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38840" y="4098960"/>
            <a:ext cx="6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31200" y="40226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4:04:01Z</dcterms:created>
  <dc:creator>Dave Marples</dc:creator>
  <dc:description/>
  <dc:language>en-US</dc:language>
  <cp:lastModifiedBy>Dave Marples</cp:lastModifiedBy>
  <cp:lastPrinted>1999-11-23T15:30:04Z</cp:lastPrinted>
  <dcterms:modified xsi:type="dcterms:W3CDTF">1999-11-23T15:30:22Z</dcterms:modified>
  <cp:revision>9</cp:revision>
  <dc:subject/>
  <dc:title>Next Generation Networks     - what they are and what it means</dc:title>
</cp:coreProperties>
</file>