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672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09880" y="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09880" y="92962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A47-00D7-4CBD-A6E7-FFFBB346B6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3020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252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6824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3020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252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50960" y="314280"/>
            <a:ext cx="6950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020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2520" y="141264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66824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020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2520" y="3907800"/>
            <a:ext cx="224928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50960" y="314280"/>
            <a:ext cx="6950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8440" y="390780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8440" y="1412640"/>
            <a:ext cx="340920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68240" y="3907800"/>
            <a:ext cx="6986520" cy="22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33516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217440">
              <a:lnSpc>
                <a:spcPct val="85000"/>
              </a:lnSpc>
              <a:spcBef>
                <a:spcPts val="901"/>
              </a:spcBef>
              <a:buClr>
                <a:srgbClr val="6e00c8"/>
              </a:buClr>
              <a:buSzPct val="14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LOGOCRME" descr=""/>
          <p:cNvPicPr/>
          <p:nvPr/>
        </p:nvPicPr>
        <p:blipFill>
          <a:blip r:embed="rId2"/>
          <a:stretch/>
        </p:blipFill>
        <p:spPr>
          <a:xfrm>
            <a:off x="6759720" y="6200640"/>
            <a:ext cx="2377800" cy="617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79600" y="6524640"/>
            <a:ext cx="39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646464"/>
                </a:solidFill>
                <a:latin typeface="Times New Roman"/>
              </a:rPr>
              <a:t>© 1999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Marconi Communications Limited. All Rights Reserved. </a:t>
            </a:r>
            <a:endParaRPr b="0" lang="en-US" sz="10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724280" y="6524640"/>
            <a:ext cx="308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Genetic Programming  </a:t>
            </a:r>
            <a:fld id="{0F19FB4D-B7B5-4CD6-9198-FDB5B9A25413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Times New Roman"/>
            </a:endParaRPr>
          </a:p>
        </p:txBody>
      </p:sp>
      <p:pic>
        <p:nvPicPr>
          <p:cNvPr id="5" name="BANNR" descr=""/>
          <p:cNvPicPr/>
          <p:nvPr/>
        </p:nvPicPr>
        <p:blipFill>
          <a:blip r:embed="rId3"/>
          <a:stretch/>
        </p:blipFill>
        <p:spPr>
          <a:xfrm>
            <a:off x="0" y="0"/>
            <a:ext cx="1382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5243040"/>
            <a:ext cx="624528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34776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280" algn="ctr">
              <a:lnSpc>
                <a:spcPct val="85000"/>
              </a:lnSpc>
              <a:spcBef>
                <a:spcPts val="751"/>
              </a:spcBef>
              <a:buClr>
                <a:srgbClr val="3399ff"/>
              </a:buClr>
              <a:buSzPct val="60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6e00c8"/>
              </a:buClr>
              <a:buSzPct val="14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4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2286000"/>
            <a:ext cx="624528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pic>
        <p:nvPicPr>
          <p:cNvPr id="88" name="LOGOCRME" descr=""/>
          <p:cNvPicPr/>
          <p:nvPr/>
        </p:nvPicPr>
        <p:blipFill>
          <a:blip r:embed="rId1"/>
          <a:stretch/>
        </p:blipFill>
        <p:spPr>
          <a:xfrm>
            <a:off x="6759720" y="6200640"/>
            <a:ext cx="2377800" cy="617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9600" y="6524640"/>
            <a:ext cx="39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646464"/>
                </a:solidFill>
                <a:latin typeface="Times New Roman"/>
              </a:rPr>
              <a:t>© 1999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Marconi Communications Limited. All Rights Reserved.</a:t>
            </a: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646464"/>
              </a:solidFill>
              <a:latin typeface="Times New Roman"/>
            </a:endParaRPr>
          </a:p>
        </p:txBody>
      </p:sp>
      <p:pic>
        <p:nvPicPr>
          <p:cNvPr id="90" name="Marconibanner" descr=""/>
          <p:cNvPicPr/>
          <p:nvPr/>
        </p:nvPicPr>
        <p:blipFill>
          <a:blip r:embed="rId2"/>
          <a:stretch/>
        </p:blipFill>
        <p:spPr>
          <a:xfrm>
            <a:off x="0" y="0"/>
            <a:ext cx="1382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3657240"/>
            <a:ext cx="624528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Tahoma"/>
              </a:rPr>
              <a:t>Evolving service logic using natural selec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3399ff"/>
                </a:solidFill>
                <a:latin typeface="Tahoma"/>
              </a:rPr>
              <a:t>Peter Martin</a:t>
            </a:r>
            <a:br>
              <a:rPr sz="3200"/>
            </a:br>
            <a:endParaRPr b="1" lang="en-US" sz="32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479600" y="1066680"/>
            <a:ext cx="7283520" cy="16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cc"/>
                </a:solidFill>
                <a:latin typeface="Tahoma"/>
              </a:rPr>
              <a:t>Service Creation using Genetic Programming</a:t>
            </a:r>
            <a:endParaRPr b="0" lang="en-US" sz="4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u"/>
      </p:transition>
    </mc:Choice>
    <mc:Fallback>
      <p:transition spd="slow">
        <p:strips dir="ru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volving Generat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43120" y="4724280"/>
            <a:ext cx="167652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volve Nex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5257800"/>
            <a:ext cx="609480" cy="76320"/>
          </a:xfrm>
          <a:prstGeom prst="leftArrow">
            <a:avLst>
              <a:gd name="adj1" fmla="val 50000"/>
              <a:gd name="adj2" fmla="val 199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29120" y="4724280"/>
            <a:ext cx="2133720" cy="11430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nd of Ru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62840" y="52578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8640" y="5029200"/>
            <a:ext cx="175248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5800" y="43434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15120" y="47242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24200" y="47242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8400">
            <a:off x="2122200" y="4189320"/>
            <a:ext cx="99216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3657600"/>
            <a:ext cx="121932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0520" y="362124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0000" y="3352680"/>
            <a:ext cx="137160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Test for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5800" y="2971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0000" y="205740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19840" y="17524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34040" y="129528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862600" y="2895480"/>
            <a:ext cx="1986120" cy="1295640"/>
            <a:chOff x="5862600" y="2895480"/>
            <a:chExt cx="1986120" cy="1295640"/>
          </a:xfrm>
        </p:grpSpPr>
        <p:sp>
          <p:nvSpPr>
            <p:cNvPr id="277" name=""/>
            <p:cNvSpPr/>
            <p:nvPr/>
          </p:nvSpPr>
          <p:spPr>
            <a:xfrm>
              <a:off x="6248520" y="2895480"/>
              <a:ext cx="1600200" cy="129564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c20000"/>
                </a:gs>
              </a:gsLst>
              <a:lin ang="13500000"/>
            </a:gradFill>
            <a:ln w="12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Service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ontrol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Point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62600" y="3433680"/>
              <a:ext cx="385920" cy="0"/>
            </a:xfrm>
            <a:prstGeom prst="line">
              <a:avLst/>
            </a:prstGeom>
            <a:ln w="381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V="1">
            <a:off x="4114800" y="3673080"/>
            <a:ext cx="1246320" cy="120348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133720"/>
            <a:ext cx="1246320" cy="116820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An Example - Intelligent Network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1828800"/>
            <a:ext cx="1371600" cy="1219320"/>
          </a:xfrm>
          <a:prstGeom prst="rect">
            <a:avLst/>
          </a:prstGeom>
          <a:gradFill rotWithShape="0">
            <a:gsLst>
              <a:gs pos="0">
                <a:srgbClr val="d14242"/>
              </a:gs>
              <a:gs pos="100000">
                <a:srgbClr val="c20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4191120"/>
            <a:ext cx="1371600" cy="1218960"/>
          </a:xfrm>
          <a:prstGeom prst="rect">
            <a:avLst/>
          </a:prstGeom>
          <a:gradFill rotWithShape="0">
            <a:gsLst>
              <a:gs pos="0">
                <a:srgbClr val="d14242"/>
              </a:gs>
              <a:gs pos="100000">
                <a:srgbClr val="c200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50960" y="143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72000" y="3048120"/>
            <a:ext cx="1442880" cy="863280"/>
            <a:chOff x="4572000" y="3048120"/>
            <a:chExt cx="1442880" cy="863280"/>
          </a:xfrm>
        </p:grpSpPr>
        <p:sp>
          <p:nvSpPr>
            <p:cNvPr id="286" name=""/>
            <p:cNvSpPr/>
            <p:nvPr/>
          </p:nvSpPr>
          <p:spPr>
            <a:xfrm>
              <a:off x="4572000" y="3302280"/>
              <a:ext cx="500040" cy="355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5400000"/>
            </a:gradFill>
            <a:ln w="12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729320" y="3048120"/>
              <a:ext cx="1128240" cy="385560"/>
              <a:chOff x="4729320" y="3048120"/>
              <a:chExt cx="1128240" cy="385560"/>
            </a:xfrm>
          </p:grpSpPr>
          <p:sp>
            <p:nvSpPr>
              <p:cNvPr id="288" name=""/>
              <p:cNvSpPr/>
              <p:nvPr/>
            </p:nvSpPr>
            <p:spPr>
              <a:xfrm>
                <a:off x="4729320" y="3077280"/>
                <a:ext cx="497160" cy="3564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42520" y="3048120"/>
                <a:ext cx="501480" cy="354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60760" y="3077280"/>
                <a:ext cx="496800" cy="3564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514840" y="3302280"/>
              <a:ext cx="500040" cy="355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5400000"/>
            </a:gradFill>
            <a:ln w="12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691160" y="3529440"/>
              <a:ext cx="1124640" cy="381960"/>
              <a:chOff x="4691160" y="3529440"/>
              <a:chExt cx="1124640" cy="381960"/>
            </a:xfrm>
          </p:grpSpPr>
          <p:sp>
            <p:nvSpPr>
              <p:cNvPr id="293" name=""/>
              <p:cNvSpPr/>
              <p:nvPr/>
            </p:nvSpPr>
            <p:spPr>
              <a:xfrm>
                <a:off x="4691160" y="3529440"/>
                <a:ext cx="495360" cy="357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04000" y="3557160"/>
                <a:ext cx="495000" cy="354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22240" y="3529440"/>
                <a:ext cx="493560" cy="357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12600">
                <a:solidFill>
                  <a:srgbClr val="646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724280" y="3129120"/>
              <a:ext cx="1138320" cy="731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1360" y="327672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65096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3911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879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8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84480" y="1828800"/>
            <a:ext cx="558720" cy="30492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184480" y="2743200"/>
            <a:ext cx="558720" cy="33480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84480" y="4191120"/>
            <a:ext cx="558720" cy="23976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184480" y="5181120"/>
            <a:ext cx="558720" cy="228600"/>
          </a:xfrm>
          <a:prstGeom prst="line">
            <a:avLst/>
          </a:prstGeom>
          <a:ln w="381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An Example - Service Creation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e number depending on time of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derived from Message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all Sequence for a Service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432160" y="1676520"/>
            <a:ext cx="860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56360" y="1727280"/>
            <a:ext cx="53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5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8480" y="1676520"/>
            <a:ext cx="1118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05840" y="1628640"/>
            <a:ext cx="79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05840" y="1847880"/>
            <a:ext cx="60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000" spc="-1" strike="noStrike">
              <a:solidFill>
                <a:srgbClr val="646464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48040" y="2104920"/>
            <a:ext cx="1716120" cy="328680"/>
            <a:chOff x="2948040" y="2104920"/>
            <a:chExt cx="1716120" cy="328680"/>
          </a:xfrm>
        </p:grpSpPr>
        <p:sp>
          <p:nvSpPr>
            <p:cNvPr id="314" name=""/>
            <p:cNvSpPr/>
            <p:nvPr/>
          </p:nvSpPr>
          <p:spPr>
            <a:xfrm>
              <a:off x="2948040" y="2104920"/>
              <a:ext cx="1374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948040" y="2152800"/>
              <a:ext cx="1716120" cy="280800"/>
              <a:chOff x="2948040" y="2152800"/>
              <a:chExt cx="1716120" cy="280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948040" y="2293920"/>
                <a:ext cx="1716120" cy="139680"/>
                <a:chOff x="2948040" y="2293920"/>
                <a:chExt cx="1716120" cy="1396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948040" y="2351160"/>
                  <a:ext cx="158256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27720" y="2293920"/>
                  <a:ext cx="136440" cy="139680"/>
                </a:xfrm>
                <a:custGeom>
                  <a:avLst/>
                  <a:gdLst/>
                  <a:ahLst/>
                  <a:rect l="l" t="t" r="r" b="b"/>
                  <a:pathLst>
                    <a:path w="173" h="175">
                      <a:moveTo>
                        <a:pt x="0" y="175"/>
                      </a:moveTo>
                      <a:lnTo>
                        <a:pt x="173" y="86"/>
                      </a:lnTo>
                      <a:lnTo>
                        <a:pt x="0" y="0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3111120" y="2152800"/>
                <a:ext cx="870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IDP (CalledDN)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5094360" y="2449440"/>
            <a:ext cx="2089080" cy="327240"/>
            <a:chOff x="5094360" y="2449440"/>
            <a:chExt cx="2089080" cy="327240"/>
          </a:xfrm>
        </p:grpSpPr>
        <p:sp>
          <p:nvSpPr>
            <p:cNvPr id="321" name=""/>
            <p:cNvSpPr/>
            <p:nvPr/>
          </p:nvSpPr>
          <p:spPr>
            <a:xfrm>
              <a:off x="5094360" y="2449440"/>
              <a:ext cx="20890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094360" y="2496960"/>
              <a:ext cx="1724040" cy="279720"/>
              <a:chOff x="5094360" y="2496960"/>
              <a:chExt cx="1724040" cy="2797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5094360" y="2638440"/>
                <a:ext cx="1717560" cy="138240"/>
                <a:chOff x="5094360" y="2638440"/>
                <a:chExt cx="1717560" cy="1382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094360" y="2693880"/>
                  <a:ext cx="158256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673680" y="2638440"/>
                  <a:ext cx="138240" cy="138240"/>
                </a:xfrm>
                <a:custGeom>
                  <a:avLst/>
                  <a:gdLst/>
                  <a:ahLst/>
                  <a:rect l="l" t="t" r="r" b="b"/>
                  <a:pathLst>
                    <a:path w="173" h="174">
                      <a:moveTo>
                        <a:pt x="0" y="174"/>
                      </a:moveTo>
                      <a:lnTo>
                        <a:pt x="173" y="86"/>
                      </a:lnTo>
                      <a:lnTo>
                        <a:pt x="0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180040" y="2496960"/>
                <a:ext cx="20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DB 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51480" y="2496960"/>
                <a:ext cx="47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Request(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68800" y="2496960"/>
                <a:ext cx="849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CalledDN &lt;&lt; 1)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5094360" y="2792520"/>
            <a:ext cx="1717560" cy="326880"/>
            <a:chOff x="5094360" y="2792520"/>
            <a:chExt cx="1717560" cy="326880"/>
          </a:xfrm>
        </p:grpSpPr>
        <p:grpSp>
          <p:nvGrpSpPr>
            <p:cNvPr id="330" name=""/>
            <p:cNvGrpSpPr/>
            <p:nvPr/>
          </p:nvGrpSpPr>
          <p:grpSpPr>
            <a:xfrm>
              <a:off x="5094360" y="2979720"/>
              <a:ext cx="1717560" cy="139680"/>
              <a:chOff x="5094360" y="2979720"/>
              <a:chExt cx="1717560" cy="139680"/>
            </a:xfrm>
          </p:grpSpPr>
          <p:sp>
            <p:nvSpPr>
              <p:cNvPr id="331" name=""/>
              <p:cNvSpPr/>
              <p:nvPr/>
            </p:nvSpPr>
            <p:spPr>
              <a:xfrm>
                <a:off x="5229360" y="3036960"/>
                <a:ext cx="1582560" cy="2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94360" y="2979720"/>
                <a:ext cx="137880" cy="1396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0"/>
                    </a:moveTo>
                    <a:lnTo>
                      <a:pt x="0" y="89"/>
                    </a:lnTo>
                    <a:lnTo>
                      <a:pt x="173" y="175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094360" y="2792520"/>
              <a:ext cx="1374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0760" y="284004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DBResp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92320" y="284004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(TAD1)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094360" y="3651120"/>
            <a:ext cx="1717560" cy="327240"/>
            <a:chOff x="5094360" y="3651120"/>
            <a:chExt cx="1717560" cy="327240"/>
          </a:xfrm>
        </p:grpSpPr>
        <p:grpSp>
          <p:nvGrpSpPr>
            <p:cNvPr id="337" name=""/>
            <p:cNvGrpSpPr/>
            <p:nvPr/>
          </p:nvGrpSpPr>
          <p:grpSpPr>
            <a:xfrm>
              <a:off x="5094360" y="3838680"/>
              <a:ext cx="1717560" cy="139680"/>
              <a:chOff x="5094360" y="3838680"/>
              <a:chExt cx="1717560" cy="139680"/>
            </a:xfrm>
          </p:grpSpPr>
          <p:sp>
            <p:nvSpPr>
              <p:cNvPr id="338" name=""/>
              <p:cNvSpPr/>
              <p:nvPr/>
            </p:nvSpPr>
            <p:spPr>
              <a:xfrm>
                <a:off x="5229360" y="3895560"/>
                <a:ext cx="1582560" cy="2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94360" y="3838680"/>
                <a:ext cx="137880" cy="1396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0"/>
                    </a:moveTo>
                    <a:lnTo>
                      <a:pt x="0" y="89"/>
                    </a:lnTo>
                    <a:lnTo>
                      <a:pt x="173" y="175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094360" y="3651120"/>
              <a:ext cx="1374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0760" y="36990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DBResp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2320" y="369900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(TAD2)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48040" y="4079880"/>
            <a:ext cx="2139840" cy="326880"/>
            <a:chOff x="2948040" y="4079880"/>
            <a:chExt cx="2139840" cy="326880"/>
          </a:xfrm>
        </p:grpSpPr>
        <p:grpSp>
          <p:nvGrpSpPr>
            <p:cNvPr id="344" name=""/>
            <p:cNvGrpSpPr/>
            <p:nvPr/>
          </p:nvGrpSpPr>
          <p:grpSpPr>
            <a:xfrm>
              <a:off x="2948040" y="4268880"/>
              <a:ext cx="1716120" cy="137880"/>
              <a:chOff x="2948040" y="4268880"/>
              <a:chExt cx="1716120" cy="137880"/>
            </a:xfrm>
          </p:grpSpPr>
          <p:sp>
            <p:nvSpPr>
              <p:cNvPr id="345" name=""/>
              <p:cNvSpPr/>
              <p:nvPr/>
            </p:nvSpPr>
            <p:spPr>
              <a:xfrm>
                <a:off x="3081240" y="4325760"/>
                <a:ext cx="1582920" cy="2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8040" y="4268880"/>
                <a:ext cx="136440" cy="1378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0"/>
                    </a:moveTo>
                    <a:lnTo>
                      <a:pt x="0" y="88"/>
                    </a:lnTo>
                    <a:lnTo>
                      <a:pt x="173" y="175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033720" y="4079880"/>
              <a:ext cx="20541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10840" y="4127400"/>
              <a:ext cx="113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Connect(TAD2 &lt;&lt; 1)</a:t>
              </a:r>
              <a:endParaRPr b="0" lang="en-US" sz="10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094360" y="3222720"/>
            <a:ext cx="2157480" cy="326880"/>
            <a:chOff x="5094360" y="3222720"/>
            <a:chExt cx="2157480" cy="326880"/>
          </a:xfrm>
        </p:grpSpPr>
        <p:sp>
          <p:nvSpPr>
            <p:cNvPr id="350" name=""/>
            <p:cNvSpPr/>
            <p:nvPr/>
          </p:nvSpPr>
          <p:spPr>
            <a:xfrm>
              <a:off x="5094360" y="3222720"/>
              <a:ext cx="21574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094360" y="3268800"/>
              <a:ext cx="1717560" cy="280800"/>
              <a:chOff x="5094360" y="3268800"/>
              <a:chExt cx="1717560" cy="2808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094360" y="3411360"/>
                <a:ext cx="1717560" cy="138240"/>
                <a:chOff x="5094360" y="3411360"/>
                <a:chExt cx="1717560" cy="1382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094360" y="3467160"/>
                  <a:ext cx="158256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673680" y="3411360"/>
                  <a:ext cx="138240" cy="138240"/>
                </a:xfrm>
                <a:custGeom>
                  <a:avLst/>
                  <a:gdLst/>
                  <a:ahLst/>
                  <a:rect l="l" t="t" r="r" b="b"/>
                  <a:pathLst>
                    <a:path w="173" h="175">
                      <a:moveTo>
                        <a:pt x="0" y="175"/>
                      </a:moveTo>
                      <a:lnTo>
                        <a:pt x="173" y="87"/>
                      </a:lnTo>
                      <a:lnTo>
                        <a:pt x="0" y="0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180040" y="3268800"/>
                <a:ext cx="20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DB 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87120" y="3268800"/>
                <a:ext cx="1123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Request(TAD1 &lt;&lt; 1)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2948040" y="4595760"/>
            <a:ext cx="1716120" cy="325440"/>
            <a:chOff x="2948040" y="4595760"/>
            <a:chExt cx="1716120" cy="325440"/>
          </a:xfrm>
        </p:grpSpPr>
        <p:sp>
          <p:nvSpPr>
            <p:cNvPr id="358" name=""/>
            <p:cNvSpPr/>
            <p:nvPr/>
          </p:nvSpPr>
          <p:spPr>
            <a:xfrm>
              <a:off x="3033720" y="4595760"/>
              <a:ext cx="1374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948040" y="4643280"/>
              <a:ext cx="1716120" cy="277920"/>
              <a:chOff x="2948040" y="4643280"/>
              <a:chExt cx="1716120" cy="27792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948040" y="4782960"/>
                <a:ext cx="1716120" cy="138240"/>
                <a:chOff x="2948040" y="4782960"/>
                <a:chExt cx="1716120" cy="138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081240" y="4840200"/>
                  <a:ext cx="1582920" cy="27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48040" y="4782960"/>
                  <a:ext cx="136440" cy="138240"/>
                </a:xfrm>
                <a:custGeom>
                  <a:avLst/>
                  <a:gdLst/>
                  <a:ahLst/>
                  <a:rect l="l" t="t" r="r" b="b"/>
                  <a:pathLst>
                    <a:path w="173" h="175">
                      <a:moveTo>
                        <a:pt x="173" y="0"/>
                      </a:moveTo>
                      <a:lnTo>
                        <a:pt x="0" y="88"/>
                      </a:lnTo>
                      <a:lnTo>
                        <a:pt x="173" y="175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3162600" y="464328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End</a:t>
                </a:r>
                <a:endParaRPr b="0" lang="en-US" sz="10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6811920" y="1676520"/>
            <a:ext cx="11178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96520" y="172728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5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03520" y="2019240"/>
            <a:ext cx="344520" cy="3006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64160" y="2192400"/>
            <a:ext cx="431640" cy="28335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1920" y="2104920"/>
            <a:ext cx="430200" cy="29210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he Function Set for Service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block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base loo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ing mani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Data Types for Service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ephony services require many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ephone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morphic data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y variable is composed of sub-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3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variable has one of each type of sub-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programs are legal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143160" y="1434960"/>
          <a:ext cx="4437000" cy="42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1434960"/>
                    <a:ext cx="44370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xample Service Logic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he Outcome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vice Logic creation success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at variety of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represents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is the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ftware Engineering Management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 vs. 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Issu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y hidden surpri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onclus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P shown to be a powerful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vel programs e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p towards automatic program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5000"/>
              </a:lnSpc>
              <a:spcBef>
                <a:spcPts val="1049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ifts focus from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Genetic Programming</a:t>
            </a: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68240" y="1320840"/>
            <a:ext cx="6986520" cy="42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olving compute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improves survi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tic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Steps in Using GP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029120" y="4343400"/>
            <a:ext cx="2133720" cy="1523880"/>
            <a:chOff x="4029120" y="4343400"/>
            <a:chExt cx="2133720" cy="1523880"/>
          </a:xfrm>
        </p:grpSpPr>
        <p:sp>
          <p:nvSpPr>
            <p:cNvPr id="97" name=""/>
            <p:cNvSpPr/>
            <p:nvPr/>
          </p:nvSpPr>
          <p:spPr>
            <a:xfrm>
              <a:off x="4029120" y="4724280"/>
              <a:ext cx="2133720" cy="1143000"/>
            </a:xfrm>
            <a:prstGeom prst="flowChartDecision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d of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un ?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95800" y="4343400"/>
              <a:ext cx="76320" cy="38088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43120" y="4724280"/>
            <a:ext cx="2362320" cy="990720"/>
            <a:chOff x="1743120" y="4724280"/>
            <a:chExt cx="2362320" cy="990720"/>
          </a:xfrm>
        </p:grpSpPr>
        <p:sp>
          <p:nvSpPr>
            <p:cNvPr id="100" name=""/>
            <p:cNvSpPr/>
            <p:nvPr/>
          </p:nvSpPr>
          <p:spPr>
            <a:xfrm>
              <a:off x="1743120" y="4724280"/>
              <a:ext cx="1676520" cy="9907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volve Next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19640" y="5257800"/>
              <a:ext cx="609480" cy="76320"/>
            </a:xfrm>
            <a:prstGeom prst="leftArrow">
              <a:avLst>
                <a:gd name="adj1" fmla="val 50000"/>
                <a:gd name="adj2" fmla="val 199646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4200" y="4724280"/>
              <a:ext cx="38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46464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80120" y="3621240"/>
            <a:ext cx="1829880" cy="1101960"/>
            <a:chOff x="2580120" y="3621240"/>
            <a:chExt cx="1829880" cy="1101960"/>
          </a:xfrm>
        </p:grpSpPr>
        <p:sp>
          <p:nvSpPr>
            <p:cNvPr id="104" name=""/>
            <p:cNvSpPr/>
            <p:nvPr/>
          </p:nvSpPr>
          <p:spPr>
            <a:xfrm rot="16208400">
              <a:off x="2122200" y="4189320"/>
              <a:ext cx="992160" cy="74520"/>
            </a:xfrm>
            <a:prstGeom prst="rect">
              <a:avLst/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81200" y="3657600"/>
              <a:ext cx="1219320" cy="74520"/>
            </a:xfrm>
            <a:prstGeom prst="rect">
              <a:avLst/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0520" y="3621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10000" y="2971800"/>
            <a:ext cx="1371600" cy="1371600"/>
            <a:chOff x="4410000" y="2971800"/>
            <a:chExt cx="1371600" cy="1371600"/>
          </a:xfrm>
        </p:grpSpPr>
        <p:sp>
          <p:nvSpPr>
            <p:cNvPr id="108" name=""/>
            <p:cNvSpPr/>
            <p:nvPr/>
          </p:nvSpPr>
          <p:spPr>
            <a:xfrm>
              <a:off x="4410000" y="3352680"/>
              <a:ext cx="1371600" cy="99072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est for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tness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95800" y="2971800"/>
              <a:ext cx="76320" cy="38088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34040" y="1295280"/>
            <a:ext cx="1447560" cy="1676520"/>
            <a:chOff x="4334040" y="1295280"/>
            <a:chExt cx="1447560" cy="1676520"/>
          </a:xfrm>
        </p:grpSpPr>
        <p:sp>
          <p:nvSpPr>
            <p:cNvPr id="111" name=""/>
            <p:cNvSpPr/>
            <p:nvPr/>
          </p:nvSpPr>
          <p:spPr>
            <a:xfrm>
              <a:off x="4410000" y="2057400"/>
              <a:ext cx="1371600" cy="91440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9840" y="1752480"/>
              <a:ext cx="75960" cy="304920"/>
            </a:xfrm>
            <a:prstGeom prst="downArrow">
              <a:avLst>
                <a:gd name="adj1" fmla="val 50000"/>
                <a:gd name="adj2" fmla="val 100355"/>
              </a:avLst>
            </a:prstGeom>
            <a:solidFill>
              <a:srgbClr val="c20000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4040" y="1295280"/>
              <a:ext cx="1447560" cy="457200"/>
            </a:xfrm>
            <a:prstGeom prst="flowChartTerminator">
              <a:avLst/>
            </a:prstGeom>
            <a:solidFill>
              <a:srgbClr val="ffff99"/>
            </a:solidFill>
            <a:ln w="93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675000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0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suitable functions an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5000"/>
              </a:lnSpc>
              <a:spcBef>
                <a:spcPts val="1049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onsiderations 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blem Specific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5000"/>
              </a:lnSpc>
              <a:spcBef>
                <a:spcPts val="1049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ntactical considerations 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programs must be legal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:- Division by zer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ndomly creat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pulation size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0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 size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reating a population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esting for Fitnes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43120" y="4724280"/>
            <a:ext cx="167652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volve Nex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5257800"/>
            <a:ext cx="609480" cy="76320"/>
          </a:xfrm>
          <a:prstGeom prst="leftArrow">
            <a:avLst>
              <a:gd name="adj1" fmla="val 50000"/>
              <a:gd name="adj2" fmla="val 199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9120" y="4724280"/>
            <a:ext cx="2133720" cy="11430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End of Ru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95800" y="43434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24200" y="47242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8400">
            <a:off x="2122200" y="4189320"/>
            <a:ext cx="99216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81200" y="3657600"/>
            <a:ext cx="121932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0520" y="362124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0000" y="3352680"/>
            <a:ext cx="137160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t for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5800" y="2971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0000" y="205740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9840" y="17524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129528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Fitness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cution or Interpre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 is problem 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6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individual is given a sc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Testing for Fitnes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volving Generat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743120" y="4724280"/>
            <a:ext cx="167652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olve Nex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5257800"/>
            <a:ext cx="609480" cy="76320"/>
          </a:xfrm>
          <a:prstGeom prst="leftArrow">
            <a:avLst>
              <a:gd name="adj1" fmla="val 50000"/>
              <a:gd name="adj2" fmla="val 199646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29120" y="4724280"/>
            <a:ext cx="2133720" cy="11430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 of Ru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95800" y="43434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24200" y="47242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8400">
            <a:off x="2122200" y="4189320"/>
            <a:ext cx="99216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81200" y="3657600"/>
            <a:ext cx="1219320" cy="74520"/>
          </a:xfrm>
          <a:prstGeom prst="rect">
            <a:avLst/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0520" y="362124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0000" y="3352680"/>
            <a:ext cx="1371600" cy="9907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Test for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95800" y="29718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0000" y="205740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9840" y="17524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c20000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34040" y="129528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68240" y="1412640"/>
            <a:ext cx="6986520" cy="47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lnSpc>
                <a:spcPct val="12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fittest individu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tness proportion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33516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60000"/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6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urnament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fittest to create next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5000"/>
              </a:lnSpc>
              <a:spcBef>
                <a:spcPts val="901"/>
              </a:spcBef>
              <a:buClr>
                <a:srgbClr val="3399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production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2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2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exual reproduction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34800">
              <a:lnSpc>
                <a:spcPct val="125000"/>
              </a:lnSpc>
              <a:spcBef>
                <a:spcPts val="751"/>
              </a:spcBef>
              <a:buClr>
                <a:srgbClr val="33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xual Reproduction (crossove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Evolving Generations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50960" y="314280"/>
            <a:ext cx="6950160" cy="758880"/>
          </a:xfrm>
          <a:prstGeom prst="rect">
            <a:avLst/>
          </a:prstGeom>
          <a:noFill/>
          <a:ln w="0">
            <a:noFill/>
          </a:ln>
        </p:spPr>
        <p:txBody>
          <a:bodyPr lIns="18288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ahoma"/>
              </a:rPr>
              <a:t>Crossover</a:t>
            </a:r>
            <a:endParaRPr b="1" lang="en-US" sz="2800" spc="-1" strike="noStrike">
              <a:solidFill>
                <a:srgbClr val="3399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60960" y="5751360"/>
            <a:ext cx="100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34280" y="1967040"/>
            <a:ext cx="2747160" cy="4174920"/>
            <a:chOff x="1934280" y="1967040"/>
            <a:chExt cx="2747160" cy="4174920"/>
          </a:xfrm>
        </p:grpSpPr>
        <p:sp>
          <p:nvSpPr>
            <p:cNvPr id="151" name=""/>
            <p:cNvSpPr/>
            <p:nvPr/>
          </p:nvSpPr>
          <p:spPr>
            <a:xfrm>
              <a:off x="3613320" y="2235240"/>
              <a:ext cx="439560" cy="26352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80640" y="2279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4880" y="2719440"/>
              <a:ext cx="450720" cy="27288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5440" y="2765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7880" y="2664000"/>
              <a:ext cx="447480" cy="27432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58440" y="27115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14440" y="3276720"/>
              <a:ext cx="449280" cy="27288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5360" y="33228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28880" y="3247920"/>
              <a:ext cx="451080" cy="273240"/>
            </a:xfrm>
            <a:prstGeom prst="ellipse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99800" y="3294000"/>
              <a:ext cx="12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8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400560" y="2502000"/>
              <a:ext cx="317520" cy="24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679480" y="2970360"/>
              <a:ext cx="422280" cy="34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9280" y="2496960"/>
              <a:ext cx="303120" cy="21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09920" y="2970360"/>
              <a:ext cx="41904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08440" y="4056120"/>
              <a:ext cx="457200" cy="2728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9000" y="4097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79720" y="52005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7920" y="531324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re </a:t>
              </a:r>
              <a:endParaRPr b="0" lang="en-US" sz="8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1520" y="531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4440" y="4556160"/>
              <a:ext cx="449280" cy="2728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5360" y="460224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3480" y="4305240"/>
              <a:ext cx="355680" cy="27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33760" y="4305240"/>
              <a:ext cx="365040" cy="27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2384280"/>
              <a:ext cx="458640" cy="279720"/>
            </a:xfrm>
            <a:custGeom>
              <a:avLst/>
              <a:gdLst/>
              <a:ahLst/>
              <a:rect l="l" t="t" r="r" b="b"/>
              <a:pathLst>
                <a:path w="289" h="351">
                  <a:moveTo>
                    <a:pt x="113" y="0"/>
                  </a:moveTo>
                  <a:lnTo>
                    <a:pt x="0" y="63"/>
                  </a:lnTo>
                  <a:lnTo>
                    <a:pt x="102" y="137"/>
                  </a:lnTo>
                  <a:lnTo>
                    <a:pt x="67" y="158"/>
                  </a:lnTo>
                  <a:lnTo>
                    <a:pt x="162" y="226"/>
                  </a:lnTo>
                  <a:lnTo>
                    <a:pt x="133" y="242"/>
                  </a:lnTo>
                  <a:lnTo>
                    <a:pt x="289" y="351"/>
                  </a:lnTo>
                  <a:lnTo>
                    <a:pt x="196" y="209"/>
                  </a:lnTo>
                  <a:lnTo>
                    <a:pt x="221" y="196"/>
                  </a:lnTo>
                  <a:lnTo>
                    <a:pt x="148" y="111"/>
                  </a:lnTo>
                  <a:lnTo>
                    <a:pt x="171" y="9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6360" y="4221000"/>
              <a:ext cx="459000" cy="277920"/>
            </a:xfrm>
            <a:custGeom>
              <a:avLst/>
              <a:gdLst/>
              <a:ahLst/>
              <a:rect l="l" t="t" r="r" b="b"/>
              <a:pathLst>
                <a:path w="289" h="350">
                  <a:moveTo>
                    <a:pt x="176" y="0"/>
                  </a:moveTo>
                  <a:lnTo>
                    <a:pt x="289" y="63"/>
                  </a:lnTo>
                  <a:lnTo>
                    <a:pt x="187" y="136"/>
                  </a:lnTo>
                  <a:lnTo>
                    <a:pt x="222" y="158"/>
                  </a:lnTo>
                  <a:lnTo>
                    <a:pt x="125" y="226"/>
                  </a:lnTo>
                  <a:lnTo>
                    <a:pt x="155" y="242"/>
                  </a:lnTo>
                  <a:lnTo>
                    <a:pt x="0" y="350"/>
                  </a:lnTo>
                  <a:lnTo>
                    <a:pt x="91" y="209"/>
                  </a:lnTo>
                  <a:lnTo>
                    <a:pt x="68" y="195"/>
                  </a:lnTo>
                  <a:lnTo>
                    <a:pt x="141" y="110"/>
                  </a:lnTo>
                  <a:lnTo>
                    <a:pt x="117" y="99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46360" y="4556160"/>
              <a:ext cx="451080" cy="2728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17280" y="4602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F3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6280" y="5111640"/>
              <a:ext cx="449280" cy="2746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86840" y="51595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33960" y="5083200"/>
              <a:ext cx="447480" cy="27468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03080" y="51307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181320" y="4807080"/>
              <a:ext cx="425520" cy="34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13200" y="4807080"/>
              <a:ext cx="41904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36800" y="1967040"/>
              <a:ext cx="12715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34280" y="1971720"/>
              <a:ext cx="76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</a:rPr>
                <a:t>Individual A</a:t>
              </a:r>
              <a:endParaRPr b="0" lang="en-US" sz="11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2760" y="5621400"/>
              <a:ext cx="123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79880" y="562608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Times New Roman"/>
                </a:rPr>
                <a:t>Individual B</a:t>
              </a:r>
              <a:endParaRPr b="0" lang="en-US" sz="11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9560" y="5807160"/>
              <a:ext cx="1006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5120" y="5848200"/>
              <a:ext cx="33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Parents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41760" y="3916440"/>
              <a:ext cx="1008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41040" y="391644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Crossover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40320" y="4054320"/>
              <a:ext cx="23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8640" y="2247840"/>
              <a:ext cx="12808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6120" y="2251080"/>
              <a:ext cx="73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Crossover point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4880" y="3470400"/>
              <a:ext cx="59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0440" y="35100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98320" y="35607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1800" y="2357280"/>
              <a:ext cx="32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1440" y="236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79680" y="24130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2440" y="5418000"/>
              <a:ext cx="460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8000" y="54529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36520" y="55040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51240" y="4249800"/>
              <a:ext cx="322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50880" y="425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79400" y="43052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60760" y="2036880"/>
            <a:ext cx="3035520" cy="3891960"/>
            <a:chOff x="4460760" y="2036880"/>
            <a:chExt cx="3035520" cy="3891960"/>
          </a:xfrm>
        </p:grpSpPr>
        <p:sp>
          <p:nvSpPr>
            <p:cNvPr id="208" name=""/>
            <p:cNvSpPr/>
            <p:nvPr/>
          </p:nvSpPr>
          <p:spPr>
            <a:xfrm>
              <a:off x="6400080" y="579132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Offspring</a:t>
              </a:r>
              <a:endParaRPr b="0" lang="en-US" sz="9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460760" y="2036880"/>
              <a:ext cx="3035520" cy="2601720"/>
              <a:chOff x="4460760" y="2036880"/>
              <a:chExt cx="3035520" cy="260172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4460760" y="3776760"/>
                <a:ext cx="1096920" cy="861840"/>
                <a:chOff x="4460760" y="3776760"/>
                <a:chExt cx="1096920" cy="861840"/>
              </a:xfrm>
            </p:grpSpPr>
            <p:sp>
              <p:nvSpPr>
                <p:cNvPr id="211" name=""/>
                <p:cNvSpPr/>
                <p:nvPr/>
              </p:nvSpPr>
              <p:spPr>
                <a:xfrm flipV="1">
                  <a:off x="4460760" y="3833640"/>
                  <a:ext cx="1024200" cy="8049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432400" y="3776760"/>
                  <a:ext cx="125280" cy="83880"/>
                </a:xfrm>
                <a:custGeom>
                  <a:avLst/>
                  <a:gdLst/>
                  <a:ahLst/>
                  <a:rect l="l" t="t" r="r" b="b"/>
                  <a:pathLst>
                    <a:path w="79" h="106">
                      <a:moveTo>
                        <a:pt x="62" y="106"/>
                      </a:moveTo>
                      <a:lnTo>
                        <a:pt x="79" y="0"/>
                      </a:lnTo>
                      <a:lnTo>
                        <a:pt x="0" y="46"/>
                      </a:lnTo>
                      <a:lnTo>
                        <a:pt x="6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168880" y="2036880"/>
                <a:ext cx="2327400" cy="1712880"/>
                <a:chOff x="5168880" y="2036880"/>
                <a:chExt cx="2327400" cy="1712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969160" y="2774880"/>
                  <a:ext cx="449280" cy="274680"/>
                </a:xfrm>
                <a:prstGeom prst="ellipse">
                  <a:avLst/>
                </a:prstGeom>
                <a:solidFill>
                  <a:srgbClr val="33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35480" y="2822400"/>
                  <a:ext cx="12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F3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37280" y="3332160"/>
                  <a:ext cx="450720" cy="272880"/>
                </a:xfrm>
                <a:prstGeom prst="ellipse">
                  <a:avLst/>
                </a:prstGeom>
                <a:solidFill>
                  <a:srgbClr val="33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406120" y="3378240"/>
                  <a:ext cx="13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T5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653160" y="3303720"/>
                  <a:ext cx="451080" cy="274680"/>
                </a:xfrm>
                <a:prstGeom prst="ellipse">
                  <a:avLst/>
                </a:prstGeom>
                <a:solidFill>
                  <a:srgbClr val="33cc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97520" y="3349800"/>
                  <a:ext cx="120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T6</a:t>
                  </a:r>
                  <a:endParaRPr b="0" lang="en-US" sz="8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5603400" y="3025800"/>
                  <a:ext cx="422280" cy="342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334200" y="3025800"/>
                  <a:ext cx="419040" cy="311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70640" y="2274840"/>
                  <a:ext cx="441360" cy="262080"/>
                </a:xfrm>
                <a:prstGeom prst="ellipse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635520" y="2319480"/>
                  <a:ext cx="12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F1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045200" y="2705040"/>
                  <a:ext cx="451080" cy="274680"/>
                </a:xfrm>
                <a:prstGeom prst="ellipse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214400" y="2751120"/>
                  <a:ext cx="135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T1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6259320" y="2541600"/>
                  <a:ext cx="317160" cy="2458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816600" y="2536920"/>
                  <a:ext cx="304920" cy="212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68880" y="2036880"/>
                  <a:ext cx="128268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57240" y="2041560"/>
                  <a:ext cx="761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Individual C</a:t>
                  </a:r>
                  <a:endParaRPr b="0" lang="en-US" sz="11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16760" y="2413080"/>
                  <a:ext cx="322200" cy="1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94160" y="2416320"/>
                  <a:ext cx="8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02880" y="2468520"/>
                  <a:ext cx="388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6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923080" y="3554280"/>
                  <a:ext cx="458640" cy="1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15320" y="3589200"/>
                  <a:ext cx="77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9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216840" y="3639960"/>
                  <a:ext cx="388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600" spc="-1" strike="noStrike">
                    <a:solidFill>
                      <a:srgbClr val="64646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4233960" y="3497400"/>
            <a:ext cx="3335400" cy="2269440"/>
            <a:chOff x="4233960" y="3497400"/>
            <a:chExt cx="3335400" cy="2269440"/>
          </a:xfrm>
        </p:grpSpPr>
        <p:sp>
          <p:nvSpPr>
            <p:cNvPr id="237" name=""/>
            <p:cNvSpPr/>
            <p:nvPr/>
          </p:nvSpPr>
          <p:spPr>
            <a:xfrm>
              <a:off x="4233960" y="3497400"/>
              <a:ext cx="2523960" cy="100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46464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73760" y="4056120"/>
              <a:ext cx="2595600" cy="1710720"/>
              <a:chOff x="4973760" y="4056120"/>
              <a:chExt cx="2595600" cy="1710720"/>
            </a:xfrm>
          </p:grpSpPr>
          <p:sp>
            <p:nvSpPr>
              <p:cNvPr id="239" name=""/>
              <p:cNvSpPr/>
              <p:nvPr/>
            </p:nvSpPr>
            <p:spPr>
              <a:xfrm>
                <a:off x="6264360" y="5594400"/>
                <a:ext cx="130500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05720" y="4457520"/>
                <a:ext cx="139680" cy="71640"/>
              </a:xfrm>
              <a:custGeom>
                <a:avLst/>
                <a:gdLst/>
                <a:ahLst/>
                <a:rect l="l" t="t" r="r" b="b"/>
                <a:pathLst>
                  <a:path w="88" h="90">
                    <a:moveTo>
                      <a:pt x="0" y="81"/>
                    </a:moveTo>
                    <a:lnTo>
                      <a:pt x="88" y="90"/>
                    </a:lnTo>
                    <a:lnTo>
                      <a:pt x="42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53560" y="4529160"/>
                <a:ext cx="449280" cy="27288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22320" y="457524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23120" y="5084640"/>
                <a:ext cx="447840" cy="27468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90800" y="5132520"/>
                <a:ext cx="13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39360" y="5056200"/>
                <a:ext cx="447480" cy="274680"/>
              </a:xfrm>
              <a:prstGeom prst="ellipse">
                <a:avLst/>
              </a:prstGeom>
              <a:solidFill>
                <a:srgbClr val="ffff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08480" y="5103720"/>
                <a:ext cx="13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T3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888160" y="4780080"/>
                <a:ext cx="424080" cy="342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18600" y="4780080"/>
                <a:ext cx="417600" cy="311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7760" y="4056120"/>
                <a:ext cx="458640" cy="272880"/>
              </a:xfrm>
              <a:prstGeom prst="ellipse">
                <a:avLst/>
              </a:prstGeom>
              <a:solidFill>
                <a:srgbClr val="33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39760" y="409896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73760" y="4556160"/>
                <a:ext cx="449280" cy="272880"/>
              </a:xfrm>
              <a:prstGeom prst="ellipse">
                <a:avLst/>
              </a:prstGeom>
              <a:solidFill>
                <a:srgbClr val="33cc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42880" y="4602240"/>
                <a:ext cx="13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T4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32800" y="4305240"/>
                <a:ext cx="35568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294520" y="4305240"/>
                <a:ext cx="365040" cy="277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61840" y="5599080"/>
                <a:ext cx="761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Times New Roman"/>
                  </a:rPr>
                  <a:t>Individual D</a:t>
                </a:r>
                <a:endParaRPr b="0" lang="en-US" sz="11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61400" y="5307120"/>
                <a:ext cx="5968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76960" y="53467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14840" y="5397480"/>
                <a:ext cx="38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" spc="-1" strike="noStrike">
                  <a:solidFill>
                    <a:srgbClr val="646464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3T14:31:39Z</dcterms:created>
  <dc:creator>Marconi_User</dc:creator>
  <dc:description/>
  <dc:language>en-US</dc:language>
  <cp:lastModifiedBy>Marconi_User</cp:lastModifiedBy>
  <cp:lastPrinted>1999-10-11T15:27:19Z</cp:lastPrinted>
  <dcterms:modified xsi:type="dcterms:W3CDTF">1999-11-26T13:46:37Z</dcterms:modified>
  <cp:revision>32</cp:revision>
  <dc:subject/>
  <dc:title>Service Creation using Genetic Programming</dc:title>
</cp:coreProperties>
</file>