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4B46-4856-4D79-BE0F-63F3BA639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00176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7761-DEBF-465D-B737-F432A1F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1FA7-C62A-4548-BE66-4059C68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30F4-B3FB-45E9-86F8-04C85F06E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8655-E6DB-486A-ACC4-7303359A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F5B8-7263-48F3-A798-C98B966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53E1-E3F0-4201-9CE0-C450D3E5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BB641-521D-42F9-8E49-3AEC116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C951E-989C-4129-A25B-B537124D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237F-B331-48AC-A5E2-D438BB7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0B85F-A6C2-4213-91DC-C667782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6AD1-E8CF-4674-B2C0-8F70445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472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D5033-361E-4C72-991D-56317EC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38D8F-C9A5-4196-8B2C-D47C697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400176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D252C-1E16-4A59-A44C-46C8283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472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8B488-E15A-4997-B746-6C5CFF71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640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7720" y="12952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640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7720" y="400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239F4-7687-471E-B9EB-8FD252B1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0C6C-3027-4396-8350-3F68853C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3E41-DC21-4C16-9735-585E49FC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6F8C-D674-4BAA-8FE3-74742C90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AE46-6E08-4431-97E9-38072A31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5D58-848C-4EB7-9DD4-99BA2A37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40017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DD35-BC49-44AA-9261-8E4CB6C3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29528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00176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5DF0-98BA-4061-8B58-A0DF31AF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6290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05-12-2000 FOR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520" y="6552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BBD-96E6-4735-9E9C-1B894C3A8F14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2560" cy="16765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3581280"/>
            <a:ext cx="66600" cy="2124360"/>
            <a:chOff x="762120" y="3581280"/>
            <a:chExt cx="66600" cy="2124360"/>
          </a:xfrm>
        </p:grpSpPr>
        <p:sp>
          <p:nvSpPr>
            <p:cNvPr id="43" name=""/>
            <p:cNvSpPr/>
            <p:nvPr/>
          </p:nvSpPr>
          <p:spPr>
            <a:xfrm>
              <a:off x="762120" y="358128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38116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40384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2120" y="44974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472428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49546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2120" y="51814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541188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120" y="564048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120" y="426888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99036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05-12-2000 FO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A74-4C4E-40F0-A445-42BF272C67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4456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utomatic On-Line Resolution of Detected Intera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623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phan Reiff-Margani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versity of Glasg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logo3" descr=""/>
          <p:cNvPicPr/>
          <p:nvPr/>
        </p:nvPicPr>
        <p:blipFill>
          <a:blip r:embed="rId1"/>
          <a:stretch/>
        </p:blipFill>
        <p:spPr>
          <a:xfrm>
            <a:off x="380880" y="219240"/>
            <a:ext cx="845820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1523880"/>
            <a:ext cx="8506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eature manager has to construct the solution space and extract the best solution from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eature manager must work on any number of feat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Feature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[Explain individual subfunctions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8346960" cy="1609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 functional View of the F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Improved Approa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ing process algebra 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ol support for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ws easy representation of features with repetitive behavi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eatures have notion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M uses feedback process to enquire abou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 means either (or bo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than 1 feature responds to trig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d back messages trigger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O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rocess Model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eature Manag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Lprocs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92800" cy="50911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253" name="Lprocs2" descr=""/>
          <p:cNvPicPr/>
          <p:nvPr/>
        </p:nvPicPr>
        <p:blipFill>
          <a:blip r:embed="rId2"/>
          <a:stretch/>
        </p:blipFill>
        <p:spPr>
          <a:xfrm>
            <a:off x="152280" y="2013120"/>
            <a:ext cx="8839440" cy="28303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254" name="Lprocs3" descr=""/>
          <p:cNvPicPr/>
          <p:nvPr/>
        </p:nvPicPr>
        <p:blipFill>
          <a:blip r:embed="rId3"/>
          <a:stretch/>
        </p:blipFill>
        <p:spPr>
          <a:xfrm>
            <a:off x="1585800" y="1219320"/>
            <a:ext cx="5972400" cy="5308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5029200" y="304920"/>
            <a:ext cx="274320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304920"/>
            <a:ext cx="457200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ature Manag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304920"/>
            <a:ext cx="4038480" cy="76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Why 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tural representation of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ility to use datatypes and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mulate behaviour by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ruct tree as data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uning is function on data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ol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La/To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totype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 Fe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process FeatBehave (s: nat, msg: t_msg, fid: nat)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xit (nat, t_msgseq) :=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(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fid eq 1] -&gt; (* the teenline feature  *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99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[...]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fid eq 2] -&gt; (* call forwarding busy 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(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(s eq 0) and (p_event(msg) eq o_busy)] -&gt;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xit (0, add(add(add(emptyse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snd, o_alert, nil))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snd, billing_forwarded, nil))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snd, o_notify, nil)))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[(s eq 0) and (p_event(msg) neq o_busy)] -&gt;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xit (0, emptyse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)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[...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s_prune_cp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365616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solution: Pru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Res_prune_otf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153280" cy="365616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solution Rules - More Concre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ssage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13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uplicate subtrees of same parent (1) </a:t>
            </a:r>
            <a:r>
              <a:rPr b="0" lang="en-GB" sz="1800" spc="-1" strike="noStrike">
                <a:solidFill>
                  <a:srgbClr val="ff9933"/>
                </a:solidFill>
                <a:latin typeface="Times New Roman"/>
              </a:rPr>
              <a:t>[exa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13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 between sequences involving different numbers of features (2) </a:t>
            </a:r>
            <a:r>
              <a:rPr b="0" lang="en-GB" sz="1800" spc="-1" strike="noStrike">
                <a:solidFill>
                  <a:srgbClr val="ff9933"/>
                </a:solidFill>
                <a:latin typeface="Times New Roman"/>
              </a:rPr>
              <a:t>[exa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orities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ssage depend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es of messages: treatments, billing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mmars: 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d: onhook.nonoffhook*.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d: treatment.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176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bcbcb"/>
                </a:solidFill>
                <a:latin typeface="Times New Roman"/>
              </a:rPr>
              <a:t>positive/negative examples 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ication order of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6019920"/>
            <a:ext cx="2286000" cy="0"/>
          </a:xfrm>
          <a:prstGeom prst="line">
            <a:avLst/>
          </a:prstGeom>
          <a:ln cap="sq"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rules_order" descr=""/>
          <p:cNvPicPr/>
          <p:nvPr/>
        </p:nvPicPr>
        <p:blipFill>
          <a:blip r:embed="rId1"/>
          <a:stretch/>
        </p:blipFill>
        <p:spPr>
          <a:xfrm>
            <a:off x="6095880" y="5943600"/>
            <a:ext cx="2819520" cy="61740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of R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T: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rcv,i_connect,n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f31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P:mktree(mknode(message(rcv,i_connect,nil),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insl(emptylist,emptytree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T: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rcv,i_alert,n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f31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P:mktree(mknode(message(rcv,i_alert,nil),0),insl(insl(emptylis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emptytree),mktree(mknode(message(snd,o_inform,screened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succ(succ(succ(succ(0))))),emptylist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T: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rcv,i_connect,n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f31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P:mktree(mknode(message(rcv,i_connect,nil),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insl(emptylist,emptytree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Courier New"/>
              </a:rPr>
              <a:t>T: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essage(rcv,offhook,n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f31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P:mktree(mknode(message(rcv,offhook,nil),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insl(insl(emptylist,emptytree),mktree(mknode(messag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snd,billing_offhook,time),succ(0)),insl(emptylis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f313"/>
                </a:solidFill>
                <a:latin typeface="Courier New"/>
              </a:rPr>
              <a:t>mktree(mknode(message(snd,announce,nil),succ(0)),emptylist))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 Features; Trigger: d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dial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les from Contest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rule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consecutive billing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billingsplit).(billingrevers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sunderstanding of data, e.g. PIN as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o_alert).(announce,wrongp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ature behaviour ign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announce,screened).(o_aler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announce,wrongpin).(o_aler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olu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nitial stud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realist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mprov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sses and data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rec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ace is a possible interleaving of th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 not violate any pruning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ver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 verification using L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TO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erty chec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ification of temporal logic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havioural equiva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are on-the-fly with construct-pr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are results with expecte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ef31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313"/>
                </a:solidFill>
                <a:latin typeface="Times New Roman"/>
              </a:rPr>
              <a:t>What interactions can we det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decide tho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ut the feature manag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feature manag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505320"/>
            <a:ext cx="8077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34ee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4eee"/>
                </a:solidFill>
                <a:latin typeface="Times New Roman"/>
              </a:rPr>
              <a:t>importance of communicated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648320"/>
            <a:ext cx="7467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34ee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4eee"/>
                </a:solidFill>
                <a:latin typeface="Times New Roman"/>
              </a:rPr>
              <a:t>technical interactions vs. intention vio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1160" y="2743200"/>
            <a:ext cx="60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imes New Roman"/>
              </a:rPr>
              <a:t>Any Questions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s_prune_cp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365616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solution: Pru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O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rocess Model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eature Manag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Lprocs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92800" cy="50911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4572000" y="304920"/>
            <a:ext cx="2743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O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rocess Model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eature Manag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Lprocs3" descr=""/>
          <p:cNvPicPr/>
          <p:nvPr/>
        </p:nvPicPr>
        <p:blipFill>
          <a:blip r:embed="rId1"/>
          <a:stretch/>
        </p:blipFill>
        <p:spPr>
          <a:xfrm>
            <a:off x="1585800" y="1219320"/>
            <a:ext cx="5972400" cy="5308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3276720" y="3049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O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rocess Model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eature Manag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Lprocs2" descr=""/>
          <p:cNvPicPr/>
          <p:nvPr/>
        </p:nvPicPr>
        <p:blipFill>
          <a:blip r:embed="rId1"/>
          <a:stretch/>
        </p:blipFill>
        <p:spPr>
          <a:xfrm>
            <a:off x="152280" y="2013120"/>
            <a:ext cx="8839440" cy="28303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4343400" y="3049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ature Manag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solution Process - the big pi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fiw_poster_exampl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3720" cy="472428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fiw_pap_feat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37400" cy="5194080"/>
          </a:xfrm>
          <a:prstGeom prst="rect">
            <a:avLst/>
          </a:prstGeom>
          <a:ln w="2844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IO-aspect, event, value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rcv,dial,numbe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snd,dialtone,-)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lations between messag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qual, inverse and name equival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bservable behavi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s sequence of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rcv,offhook,-).(snd,announce,"PIN?").(rcv,dial,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urier New"/>
              </a:rPr>
              <a:t>(snd,announce"wrong PIN").(rcv,onhook-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523880"/>
            <a:ext cx="850608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Featur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eatures 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…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alphabets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act i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 word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: Features interfere iff they have either a common input message </a:t>
            </a:r>
            <a:r>
              <a:rPr b="0" lang="en-GB" sz="2400" spc="-1" strike="noStrike">
                <a:solidFill>
                  <a:srgbClr val="8d72f2"/>
                </a:solidFill>
                <a:latin typeface="Times New Roman"/>
              </a:rPr>
              <a:t>(STI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r one feature’s output message is the other features input message </a:t>
            </a:r>
            <a:r>
              <a:rPr b="0" lang="en-GB" sz="2400" spc="-1" strike="noStrike">
                <a:solidFill>
                  <a:srgbClr val="8d72f2"/>
                </a:solidFill>
                <a:latin typeface="Times New Roman"/>
              </a:rPr>
              <a:t>(SAI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1960" y="3305160"/>
            <a:ext cx="8018640" cy="121284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Feature Inter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114800" y="2590920"/>
            <a:ext cx="4587840" cy="2977560"/>
            <a:chOff x="4114800" y="2590920"/>
            <a:chExt cx="4587840" cy="2977560"/>
          </a:xfrm>
        </p:grpSpPr>
        <p:sp>
          <p:nvSpPr>
            <p:cNvPr id="109" name=""/>
            <p:cNvSpPr/>
            <p:nvPr/>
          </p:nvSpPr>
          <p:spPr>
            <a:xfrm>
              <a:off x="4114800" y="2590920"/>
              <a:ext cx="2166840" cy="1006200"/>
            </a:xfrm>
            <a:custGeom>
              <a:avLst/>
              <a:gdLst/>
              <a:ahLst/>
              <a:rect l="l" t="t" r="r" b="b"/>
              <a:pathLst>
                <a:path w="1365" h="634">
                  <a:moveTo>
                    <a:pt x="1362" y="0"/>
                  </a:moveTo>
                  <a:lnTo>
                    <a:pt x="1365" y="9"/>
                  </a:lnTo>
                  <a:lnTo>
                    <a:pt x="3" y="634"/>
                  </a:lnTo>
                  <a:lnTo>
                    <a:pt x="0" y="625"/>
                  </a:lnTo>
                  <a:lnTo>
                    <a:pt x="1362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1632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3072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9696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53000" y="2590920"/>
              <a:ext cx="1630080" cy="1006200"/>
            </a:xfrm>
            <a:custGeom>
              <a:avLst/>
              <a:gdLst/>
              <a:ahLst/>
              <a:rect l="l" t="t" r="r" b="b"/>
              <a:pathLst>
                <a:path w="1027" h="634">
                  <a:moveTo>
                    <a:pt x="1021" y="0"/>
                  </a:moveTo>
                  <a:lnTo>
                    <a:pt x="1027" y="9"/>
                  </a:lnTo>
                  <a:lnTo>
                    <a:pt x="6" y="634"/>
                  </a:lnTo>
                  <a:lnTo>
                    <a:pt x="0" y="625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8776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0252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840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2640" y="2593800"/>
              <a:ext cx="1090440" cy="999720"/>
            </a:xfrm>
            <a:custGeom>
              <a:avLst/>
              <a:gdLst/>
              <a:ahLst/>
              <a:rect l="l" t="t" r="r" b="b"/>
              <a:pathLst>
                <a:path w="687" h="630">
                  <a:moveTo>
                    <a:pt x="681" y="0"/>
                  </a:moveTo>
                  <a:lnTo>
                    <a:pt x="687" y="6"/>
                  </a:lnTo>
                  <a:lnTo>
                    <a:pt x="7" y="630"/>
                  </a:lnTo>
                  <a:lnTo>
                    <a:pt x="0" y="624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55960" y="2960640"/>
              <a:ext cx="1638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7072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3840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30840" y="2595240"/>
              <a:ext cx="555480" cy="996840"/>
            </a:xfrm>
            <a:custGeom>
              <a:avLst/>
              <a:gdLst/>
              <a:ahLst/>
              <a:rect l="l" t="t" r="r" b="b"/>
              <a:pathLst>
                <a:path w="350" h="628">
                  <a:moveTo>
                    <a:pt x="341" y="0"/>
                  </a:moveTo>
                  <a:lnTo>
                    <a:pt x="350" y="3"/>
                  </a:lnTo>
                  <a:lnTo>
                    <a:pt x="9" y="628"/>
                  </a:lnTo>
                  <a:lnTo>
                    <a:pt x="0" y="6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776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216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984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1920" y="2598480"/>
              <a:ext cx="144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9740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180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804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1920" y="2595240"/>
              <a:ext cx="554040" cy="996840"/>
            </a:xfrm>
            <a:custGeom>
              <a:avLst/>
              <a:gdLst/>
              <a:ahLst/>
              <a:rect l="l" t="t" r="r" b="b"/>
              <a:pathLst>
                <a:path w="349" h="628">
                  <a:moveTo>
                    <a:pt x="0" y="3"/>
                  </a:moveTo>
                  <a:lnTo>
                    <a:pt x="9" y="0"/>
                  </a:lnTo>
                  <a:lnTo>
                    <a:pt x="349" y="625"/>
                  </a:lnTo>
                  <a:lnTo>
                    <a:pt x="340" y="62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884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8360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4948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3720" y="2593800"/>
              <a:ext cx="1090440" cy="999720"/>
            </a:xfrm>
            <a:custGeom>
              <a:avLst/>
              <a:gdLst/>
              <a:ahLst/>
              <a:rect l="l" t="t" r="r" b="b"/>
              <a:pathLst>
                <a:path w="687" h="630">
                  <a:moveTo>
                    <a:pt x="0" y="6"/>
                  </a:moveTo>
                  <a:lnTo>
                    <a:pt x="6" y="0"/>
                  </a:lnTo>
                  <a:lnTo>
                    <a:pt x="687" y="624"/>
                  </a:lnTo>
                  <a:lnTo>
                    <a:pt x="681" y="63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7040" y="2960640"/>
              <a:ext cx="1638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180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1948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3720" y="2590920"/>
              <a:ext cx="1630440" cy="1006200"/>
            </a:xfrm>
            <a:custGeom>
              <a:avLst/>
              <a:gdLst/>
              <a:ahLst/>
              <a:rect l="l" t="t" r="r" b="b"/>
              <a:pathLst>
                <a:path w="1027" h="634">
                  <a:moveTo>
                    <a:pt x="0" y="9"/>
                  </a:moveTo>
                  <a:lnTo>
                    <a:pt x="6" y="0"/>
                  </a:lnTo>
                  <a:lnTo>
                    <a:pt x="1027" y="625"/>
                  </a:lnTo>
                  <a:lnTo>
                    <a:pt x="1021" y="63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84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912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76960" y="2590920"/>
              <a:ext cx="2165400" cy="1006200"/>
            </a:xfrm>
            <a:custGeom>
              <a:avLst/>
              <a:gdLst/>
              <a:ahLst/>
              <a:rect l="l" t="t" r="r" b="b"/>
              <a:pathLst>
                <a:path w="1364" h="634">
                  <a:moveTo>
                    <a:pt x="0" y="9"/>
                  </a:moveTo>
                  <a:lnTo>
                    <a:pt x="3" y="0"/>
                  </a:lnTo>
                  <a:lnTo>
                    <a:pt x="1364" y="625"/>
                  </a:lnTo>
                  <a:lnTo>
                    <a:pt x="1361" y="63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77040" y="296064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93240" y="2974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9120" y="309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120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113" y="0"/>
                  </a:moveTo>
                  <a:lnTo>
                    <a:pt x="122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740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324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4948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3084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0" y="3"/>
                  </a:moveTo>
                  <a:lnTo>
                    <a:pt x="9" y="0"/>
                  </a:lnTo>
                  <a:lnTo>
                    <a:pt x="123" y="622"/>
                  </a:lnTo>
                  <a:lnTo>
                    <a:pt x="114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4812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288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876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3228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113" y="0"/>
                  </a:moveTo>
                  <a:lnTo>
                    <a:pt x="122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4848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288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3056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1192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0" y="3"/>
                  </a:moveTo>
                  <a:lnTo>
                    <a:pt x="9" y="0"/>
                  </a:lnTo>
                  <a:lnTo>
                    <a:pt x="123" y="622"/>
                  </a:lnTo>
                  <a:lnTo>
                    <a:pt x="113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9200" y="3949560"/>
              <a:ext cx="16200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396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984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120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114" y="0"/>
                  </a:moveTo>
                  <a:lnTo>
                    <a:pt x="123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0848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324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8912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7192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0" y="3"/>
                  </a:moveTo>
                  <a:lnTo>
                    <a:pt x="9" y="0"/>
                  </a:lnTo>
                  <a:lnTo>
                    <a:pt x="122" y="622"/>
                  </a:lnTo>
                  <a:lnTo>
                    <a:pt x="113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812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0252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020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7228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113" y="0"/>
                  </a:moveTo>
                  <a:lnTo>
                    <a:pt x="122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9560" y="3949560"/>
              <a:ext cx="16200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0432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7020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5156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0" y="3"/>
                  </a:moveTo>
                  <a:lnTo>
                    <a:pt x="9" y="0"/>
                  </a:lnTo>
                  <a:lnTo>
                    <a:pt x="123" y="622"/>
                  </a:lnTo>
                  <a:lnTo>
                    <a:pt x="114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6920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360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4948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5336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113" y="0"/>
                  </a:moveTo>
                  <a:lnTo>
                    <a:pt x="122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6920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360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128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3264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0" y="3"/>
                  </a:moveTo>
                  <a:lnTo>
                    <a:pt x="9" y="0"/>
                  </a:lnTo>
                  <a:lnTo>
                    <a:pt x="123" y="622"/>
                  </a:lnTo>
                  <a:lnTo>
                    <a:pt x="114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5028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6468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056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11920" y="3587400"/>
              <a:ext cx="195120" cy="991800"/>
            </a:xfrm>
            <a:custGeom>
              <a:avLst/>
              <a:gdLst/>
              <a:ahLst/>
              <a:rect l="l" t="t" r="r" b="b"/>
              <a:pathLst>
                <a:path w="123" h="625">
                  <a:moveTo>
                    <a:pt x="114" y="0"/>
                  </a:moveTo>
                  <a:lnTo>
                    <a:pt x="123" y="3"/>
                  </a:lnTo>
                  <a:lnTo>
                    <a:pt x="9" y="625"/>
                  </a:lnTo>
                  <a:lnTo>
                    <a:pt x="0" y="622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2956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396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0984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93000" y="3587400"/>
              <a:ext cx="193680" cy="991800"/>
            </a:xfrm>
            <a:custGeom>
              <a:avLst/>
              <a:gdLst/>
              <a:ahLst/>
              <a:rect l="l" t="t" r="r" b="b"/>
              <a:pathLst>
                <a:path w="122" h="625">
                  <a:moveTo>
                    <a:pt x="0" y="3"/>
                  </a:moveTo>
                  <a:lnTo>
                    <a:pt x="9" y="0"/>
                  </a:lnTo>
                  <a:lnTo>
                    <a:pt x="122" y="622"/>
                  </a:lnTo>
                  <a:lnTo>
                    <a:pt x="113" y="6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08840" y="3949560"/>
              <a:ext cx="163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3240" y="3963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90920" y="4089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2280" y="4578120"/>
              <a:ext cx="14040" cy="99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7400" y="4939920"/>
              <a:ext cx="1638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216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804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11920" y="4578120"/>
              <a:ext cx="14400" cy="99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37400" y="493992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5180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1948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53360" y="4578120"/>
              <a:ext cx="1404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78840" y="493992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324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5912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32640" y="4578120"/>
              <a:ext cx="1404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8120" y="493992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7252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840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3720" y="4578120"/>
              <a:ext cx="14040" cy="990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39200" y="493992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5360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1948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72280" y="4578120"/>
              <a:ext cx="14400" cy="990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97760" y="4939920"/>
              <a:ext cx="163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12160" y="4956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808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9840" y="507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1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set of all traces that can be generated from the features individual tr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olution Sp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452840"/>
            <a:ext cx="6324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do we obtain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 all traces of just one fe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 all combinations of traces of 2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 all combinations of traces of 3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ne grained vs. coarse grained interlea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mbinations are sets of all possible </a:t>
            </a: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Times New Roman"/>
              </a:rPr>
              <a:t>overlapping interleav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re we will consider overlapping interleavings of just 2 tr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Interlea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oi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12200" cy="21175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257800" y="4419720"/>
            <a:ext cx="22860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4419720"/>
            <a:ext cx="30492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3657600"/>
            <a:ext cx="22860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419720"/>
            <a:ext cx="2286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657600"/>
            <a:ext cx="2286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419720"/>
            <a:ext cx="3049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657600"/>
            <a:ext cx="38124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4419720"/>
            <a:ext cx="38088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4419720"/>
            <a:ext cx="38088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657600"/>
            <a:ext cx="38088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2057400"/>
            <a:ext cx="30492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895480"/>
            <a:ext cx="30492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2057400"/>
            <a:ext cx="304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2057400"/>
            <a:ext cx="304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2895480"/>
            <a:ext cx="30492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057400"/>
            <a:ext cx="38088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304560" cy="38124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2057400"/>
            <a:ext cx="38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895480"/>
            <a:ext cx="38088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057400"/>
            <a:ext cx="38088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895480"/>
            <a:ext cx="38088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1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a-b+c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2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x-a-b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i2(t1t2)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x-a+a-b+c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3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d-e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4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d-f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i2(t1t2) = {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d-e-f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(</a:t>
            </a:r>
            <a:r>
              <a:rPr b="1" lang="en-GB" sz="2400" spc="-1" strike="noStrike">
                <a:solidFill>
                  <a:srgbClr val="010b93"/>
                </a:solidFill>
                <a:latin typeface="Times New Roman"/>
              </a:rPr>
              <a:t>+d-f-e</a:t>
            </a:r>
            <a:r>
              <a:rPr b="0" lang="en-GB" sz="2400" spc="-1" strike="noStrike">
                <a:solidFill>
                  <a:srgbClr val="010b93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[Question: Why keep -a+a?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7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[Answer: Examples (CFB + BC with busy and BC + CND with free)]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Overlapping Interlea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5:48:37Z</dcterms:created>
  <dc:creator>Preferred Customer</dc:creator>
  <dc:description/>
  <dc:language>en-US</dc:language>
  <cp:lastModifiedBy>Preferred Customer</cp:lastModifiedBy>
  <cp:lastPrinted>2000-11-30T13:50:38Z</cp:lastPrinted>
  <dcterms:modified xsi:type="dcterms:W3CDTF">2000-11-30T14:01:59Z</dcterms:modified>
  <cp:revision>38</cp:revision>
  <dc:subject/>
  <dc:title>No Slide Title</dc:title>
</cp:coreProperties>
</file>