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B04-3A26-4F62-ABF8-7D40EAED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A88-93E9-4556-8A40-EC2C741D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C41-1D4D-4865-A232-BA326A85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7BE-2561-4657-8CB9-519B6701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16D3-6258-407C-85AC-9CC04CBC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EBB4-FB71-455D-94CA-98048A79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9DDE-17CF-4ECC-9EF5-13267F46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9743-05B9-4415-86A6-5E87223C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BD9E-2600-4265-BA7A-C382433A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F5C4-717C-468D-AB29-7C2EEEB0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D5AA-1923-4AE3-AC59-C1BAD9B2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8D6-4B78-4E4A-8375-0A4B6FBF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3921-8311-4135-B84C-5A72E6AA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1E4B-4DC1-4D34-9B67-FA8F7263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94E0-C691-4B51-9362-ED4C6DA3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48FF-D75F-4D8D-A30E-9E699196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D483-DFB3-4CAB-ACE4-6C706FB1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391-41DD-4CFC-A1D3-DCE58B32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737-54B1-4314-924A-56B60E74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904-59F3-4226-8992-2770821F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4EC-9D8E-40A1-A448-B7B06D27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989-72EB-46D8-BC80-2CE904C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FB8-A4EF-4C09-8915-578FA374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B9A-BB67-4C8D-8FD5-11526FC3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A1BC-DE44-4048-B2A6-9FA8FC7F7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093160" y="0"/>
          <a:ext cx="1050840" cy="11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3160" y="0"/>
                    <a:ext cx="105084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logo" descr=""/>
          <p:cNvPicPr/>
          <p:nvPr/>
        </p:nvPicPr>
        <p:blipFill>
          <a:blip r:embed="rId4"/>
          <a:stretch/>
        </p:blipFill>
        <p:spPr>
          <a:xfrm>
            <a:off x="8172360" y="0"/>
            <a:ext cx="971640" cy="112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DC39-997B-4F53-A983-B29D02A46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uni" descr=""/>
          <p:cNvPicPr/>
          <p:nvPr/>
        </p:nvPicPr>
        <p:blipFill>
          <a:blip r:embed="rId2"/>
          <a:stretch/>
        </p:blipFill>
        <p:spPr>
          <a:xfrm>
            <a:off x="798480" y="5543640"/>
            <a:ext cx="7818480" cy="131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Handling Incompatibilities between Services deployed on IP-based Network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io Kolbe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Stir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o@cs.stir.ac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ier dow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33640" y="1897200"/>
            <a:ext cx="1585800" cy="718560"/>
            <a:chOff x="1133640" y="1897200"/>
            <a:chExt cx="1585800" cy="718560"/>
          </a:xfrm>
        </p:grpSpPr>
        <p:sp>
          <p:nvSpPr>
            <p:cNvPr id="217" name=""/>
            <p:cNvSpPr/>
            <p:nvPr/>
          </p:nvSpPr>
          <p:spPr>
            <a:xfrm>
              <a:off x="1133640" y="189720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39840" y="1979280"/>
              <a:ext cx="13305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cs.stir.ac.u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781600" y="4805280"/>
            <a:ext cx="243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dave@falcon.telcordia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418440" y="2668680"/>
            <a:ext cx="1585800" cy="718560"/>
            <a:chOff x="6418440" y="2668680"/>
            <a:chExt cx="1585800" cy="718560"/>
          </a:xfrm>
        </p:grpSpPr>
        <p:sp>
          <p:nvSpPr>
            <p:cNvPr id="221" name=""/>
            <p:cNvSpPr/>
            <p:nvPr/>
          </p:nvSpPr>
          <p:spPr>
            <a:xfrm>
              <a:off x="6418440" y="266868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2080" y="2750760"/>
              <a:ext cx="14389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telcordia.c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436760" y="336384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99400" y="401328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8280" y="420228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695600" y="2198520"/>
            <a:ext cx="6292440" cy="3921120"/>
            <a:chOff x="1695600" y="2198520"/>
            <a:chExt cx="6292440" cy="3921120"/>
          </a:xfrm>
        </p:grpSpPr>
        <p:grpSp>
          <p:nvGrpSpPr>
            <p:cNvPr id="227" name=""/>
            <p:cNvGrpSpPr/>
            <p:nvPr/>
          </p:nvGrpSpPr>
          <p:grpSpPr>
            <a:xfrm>
              <a:off x="7215120" y="3376440"/>
              <a:ext cx="772920" cy="604800"/>
              <a:chOff x="7215120" y="3376440"/>
              <a:chExt cx="772920" cy="604800"/>
            </a:xfrm>
          </p:grpSpPr>
          <p:sp>
            <p:nvSpPr>
              <p:cNvPr id="228" name=""/>
              <p:cNvSpPr/>
              <p:nvPr/>
            </p:nvSpPr>
            <p:spPr>
              <a:xfrm>
                <a:off x="7221240" y="352692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Y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215120" y="3376440"/>
                <a:ext cx="7920" cy="60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891520" y="4229280"/>
              <a:ext cx="2825640" cy="18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YE sip:mko@eagle.cs.stir.ac.u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act: sip:dave@falcon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123456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2 BY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695600" y="2463840"/>
              <a:ext cx="766440" cy="860400"/>
              <a:chOff x="1695600" y="2463840"/>
              <a:chExt cx="766440" cy="860400"/>
            </a:xfrm>
          </p:grpSpPr>
          <p:sp>
            <p:nvSpPr>
              <p:cNvPr id="232" name=""/>
              <p:cNvSpPr/>
              <p:nvPr/>
            </p:nvSpPr>
            <p:spPr>
              <a:xfrm flipV="1">
                <a:off x="1730160" y="2463840"/>
                <a:ext cx="0" cy="8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695600" y="280836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Y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717640" y="2198520"/>
              <a:ext cx="3678480" cy="798840"/>
              <a:chOff x="2717640" y="2198520"/>
              <a:chExt cx="3678480" cy="798840"/>
            </a:xfrm>
          </p:grpSpPr>
          <p:sp>
            <p:nvSpPr>
              <p:cNvPr id="235" name=""/>
              <p:cNvSpPr/>
              <p:nvPr/>
            </p:nvSpPr>
            <p:spPr>
              <a:xfrm>
                <a:off x="2717640" y="2198520"/>
                <a:ext cx="3678480" cy="79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16680" y="239724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Y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0" y="4143240"/>
            <a:ext cx="293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mko@eagle.cs.stir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ptio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33640" y="1897200"/>
            <a:ext cx="1585800" cy="718560"/>
            <a:chOff x="1133640" y="1897200"/>
            <a:chExt cx="1585800" cy="718560"/>
          </a:xfrm>
        </p:grpSpPr>
        <p:sp>
          <p:nvSpPr>
            <p:cNvPr id="240" name=""/>
            <p:cNvSpPr/>
            <p:nvPr/>
          </p:nvSpPr>
          <p:spPr>
            <a:xfrm>
              <a:off x="1133640" y="189720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39840" y="1979280"/>
              <a:ext cx="13305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cs.stir.ac.u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781600" y="4805280"/>
            <a:ext cx="243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dave@falcon.telcordia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18440" y="2668680"/>
            <a:ext cx="1585800" cy="718560"/>
            <a:chOff x="6418440" y="2668680"/>
            <a:chExt cx="1585800" cy="718560"/>
          </a:xfrm>
        </p:grpSpPr>
        <p:sp>
          <p:nvSpPr>
            <p:cNvPr id="244" name=""/>
            <p:cNvSpPr/>
            <p:nvPr/>
          </p:nvSpPr>
          <p:spPr>
            <a:xfrm>
              <a:off x="6418440" y="266868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72080" y="2750760"/>
              <a:ext cx="14389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telcordia.c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436760" y="336384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99400" y="401328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8280" y="420228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95600" y="2198520"/>
            <a:ext cx="6292440" cy="3944880"/>
            <a:chOff x="1695600" y="2198520"/>
            <a:chExt cx="6292440" cy="3944880"/>
          </a:xfrm>
        </p:grpSpPr>
        <p:grpSp>
          <p:nvGrpSpPr>
            <p:cNvPr id="250" name=""/>
            <p:cNvGrpSpPr/>
            <p:nvPr/>
          </p:nvGrpSpPr>
          <p:grpSpPr>
            <a:xfrm>
              <a:off x="7215120" y="3376440"/>
              <a:ext cx="772920" cy="604800"/>
              <a:chOff x="7215120" y="3376440"/>
              <a:chExt cx="772920" cy="604800"/>
            </a:xfrm>
          </p:grpSpPr>
          <p:sp>
            <p:nvSpPr>
              <p:cNvPr id="251" name=""/>
              <p:cNvSpPr/>
              <p:nvPr/>
            </p:nvSpPr>
            <p:spPr>
              <a:xfrm>
                <a:off x="7221240" y="352692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 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15120" y="3376440"/>
                <a:ext cx="7920" cy="60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889360" y="4229280"/>
              <a:ext cx="3511440" cy="19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IP/2.0 200 O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5675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1 OPTION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low: INVITE,ACK,OPTIONS,CANCEL,REFER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pt: application/sdp;level=1, text/htm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pt-Language: da, en-gb,q=0.8, en;q=0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695600" y="2463840"/>
              <a:ext cx="766440" cy="860400"/>
              <a:chOff x="1695600" y="2463840"/>
              <a:chExt cx="766440" cy="86040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1730160" y="2463840"/>
                <a:ext cx="0" cy="8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695600" y="280836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 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717640" y="2198520"/>
              <a:ext cx="3678480" cy="798840"/>
              <a:chOff x="2717640" y="2198520"/>
              <a:chExt cx="3678480" cy="798840"/>
            </a:xfrm>
          </p:grpSpPr>
          <p:sp>
            <p:nvSpPr>
              <p:cNvPr id="258" name=""/>
              <p:cNvSpPr/>
              <p:nvPr/>
            </p:nvSpPr>
            <p:spPr>
              <a:xfrm>
                <a:off x="2717640" y="2198520"/>
                <a:ext cx="3678480" cy="79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16680" y="239724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 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1687680" y="2233440"/>
            <a:ext cx="6441120" cy="3738240"/>
            <a:chOff x="1687680" y="2233440"/>
            <a:chExt cx="6441120" cy="3738240"/>
          </a:xfrm>
        </p:grpSpPr>
        <p:grpSp>
          <p:nvGrpSpPr>
            <p:cNvPr id="261" name=""/>
            <p:cNvGrpSpPr/>
            <p:nvPr/>
          </p:nvGrpSpPr>
          <p:grpSpPr>
            <a:xfrm>
              <a:off x="7207200" y="3411360"/>
              <a:ext cx="921600" cy="604800"/>
              <a:chOff x="7207200" y="3411360"/>
              <a:chExt cx="921600" cy="604800"/>
            </a:xfrm>
          </p:grpSpPr>
          <p:sp>
            <p:nvSpPr>
              <p:cNvPr id="262" name=""/>
              <p:cNvSpPr/>
              <p:nvPr/>
            </p:nvSpPr>
            <p:spPr>
              <a:xfrm>
                <a:off x="7213320" y="3561840"/>
                <a:ext cx="9154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P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7200" y="3411360"/>
                <a:ext cx="7560" cy="60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2882520" y="4263840"/>
              <a:ext cx="2508480" cy="17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PTIONS sip:dave@telcordia.c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5675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1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687680" y="2498400"/>
              <a:ext cx="1014120" cy="860400"/>
              <a:chOff x="1687680" y="2498400"/>
              <a:chExt cx="1014120" cy="860400"/>
            </a:xfrm>
          </p:grpSpPr>
          <p:sp>
            <p:nvSpPr>
              <p:cNvPr id="266" name=""/>
              <p:cNvSpPr/>
              <p:nvPr/>
            </p:nvSpPr>
            <p:spPr>
              <a:xfrm flipV="1">
                <a:off x="1722240" y="2498400"/>
                <a:ext cx="0" cy="8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687680" y="2842920"/>
                <a:ext cx="10141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P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709720" y="2233440"/>
              <a:ext cx="3678120" cy="798480"/>
              <a:chOff x="2709720" y="2233440"/>
              <a:chExt cx="3678120" cy="798480"/>
            </a:xfrm>
          </p:grpSpPr>
          <p:sp>
            <p:nvSpPr>
              <p:cNvPr id="269" name=""/>
              <p:cNvSpPr/>
              <p:nvPr/>
            </p:nvSpPr>
            <p:spPr>
              <a:xfrm>
                <a:off x="2709720" y="2233440"/>
                <a:ext cx="367812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08040" y="2431800"/>
                <a:ext cx="901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P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0" y="4143240"/>
            <a:ext cx="293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mko@eagle.cs.stir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giste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36760" y="336384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760560" y="3376440"/>
            <a:ext cx="1729800" cy="622440"/>
            <a:chOff x="3760560" y="3376440"/>
            <a:chExt cx="1729800" cy="622440"/>
          </a:xfrm>
        </p:grpSpPr>
        <p:sp>
          <p:nvSpPr>
            <p:cNvPr id="275" name=""/>
            <p:cNvSpPr/>
            <p:nvPr/>
          </p:nvSpPr>
          <p:spPr>
            <a:xfrm>
              <a:off x="3849840" y="3376440"/>
              <a:ext cx="1585800" cy="62244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60560" y="3458880"/>
              <a:ext cx="1729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strar.cs.stir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Register Serv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100920" y="4792680"/>
            <a:ext cx="1585800" cy="622440"/>
            <a:chOff x="6100920" y="4792680"/>
            <a:chExt cx="1585800" cy="622440"/>
          </a:xfrm>
        </p:grpSpPr>
        <p:sp>
          <p:nvSpPr>
            <p:cNvPr id="278" name=""/>
            <p:cNvSpPr/>
            <p:nvPr/>
          </p:nvSpPr>
          <p:spPr>
            <a:xfrm>
              <a:off x="6100920" y="4792680"/>
              <a:ext cx="1585800" cy="62244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10360" y="4875120"/>
              <a:ext cx="13305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cs.stir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313320" y="2265480"/>
            <a:ext cx="1585800" cy="622080"/>
            <a:chOff x="6313320" y="2265480"/>
            <a:chExt cx="1585800" cy="622080"/>
          </a:xfrm>
        </p:grpSpPr>
        <p:sp>
          <p:nvSpPr>
            <p:cNvPr id="281" name=""/>
            <p:cNvSpPr/>
            <p:nvPr/>
          </p:nvSpPr>
          <p:spPr>
            <a:xfrm>
              <a:off x="6313320" y="2265480"/>
              <a:ext cx="1585800" cy="622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20600" y="2347560"/>
              <a:ext cx="1336680" cy="27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cation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V="1">
            <a:off x="4908600" y="2527200"/>
            <a:ext cx="1344600" cy="83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951600" y="2877840"/>
            <a:ext cx="243000" cy="19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025720" y="3560760"/>
            <a:ext cx="1798560" cy="7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027160" y="3844800"/>
            <a:ext cx="1785960" cy="7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89320" y="3290760"/>
            <a:ext cx="101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57280" y="3619440"/>
            <a:ext cx="101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143240"/>
            <a:ext cx="293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mko@eagle.cs.stir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08080" y="4941720"/>
            <a:ext cx="45054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/2.0 20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: sip:mko@cs.stir.ac.u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: sip:mko@cs.stir.ac.u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eq: 1 REGIST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: sip:mko@eagle.cs.stir.ac.uk&amp;expires=12: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-ID: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17720" y="4946760"/>
            <a:ext cx="45050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ER:sip:registrar.cs.stir.ac.uk SIP/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: sip:mko@cs.stir.ac.u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: sip:mko@cs.stir.ac.u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eq: 1 REGIS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: sip:mko@eagle.cs.stir.ac.uk&amp;expires=12: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-ID: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ervices in SIP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814400" y="2217600"/>
            <a:ext cx="5638680" cy="2743200"/>
            <a:chOff x="1814400" y="2217600"/>
            <a:chExt cx="5638680" cy="2743200"/>
          </a:xfrm>
        </p:grpSpPr>
        <p:sp>
          <p:nvSpPr>
            <p:cNvPr id="294" name=""/>
            <p:cNvSpPr/>
            <p:nvPr/>
          </p:nvSpPr>
          <p:spPr>
            <a:xfrm>
              <a:off x="3261960" y="3893760"/>
              <a:ext cx="236232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61960" y="2217600"/>
              <a:ext cx="236232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71800" y="4043520"/>
              <a:ext cx="121896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P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66880" y="2522160"/>
              <a:ext cx="1676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ice 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719160" y="32839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62160" y="32842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14800" y="3436560"/>
              <a:ext cx="2438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gramming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14400" y="412236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66680" y="3857400"/>
              <a:ext cx="1143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24280" y="41590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76560" y="3893760"/>
              <a:ext cx="1143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624280" y="46558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76560" y="4352760"/>
              <a:ext cx="1371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pon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90360" y="465444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3000" y="4350960"/>
              <a:ext cx="1371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pon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114560" y="5125680"/>
            <a:ext cx="6858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P-CGI (Trusted Parties, e.g. Administra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L (Un-trusted Parties, e.g. End-Us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P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to complete: No loops. No recur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to execute: Restraine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Repres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able and Producible: human or mach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Independ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of Operating System or Signaling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e of Transport: File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er can manage the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PL cont …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0720" y="194004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nguage used to describe and control Internet Telephony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to be implemented on either Network Servers or User Agent Ser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Services as a Decision Graph based on XML Synta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711440" y="4798800"/>
            <a:ext cx="5790600" cy="1481400"/>
            <a:chOff x="1711440" y="4798800"/>
            <a:chExt cx="5790600" cy="1481400"/>
          </a:xfrm>
        </p:grpSpPr>
        <p:sp>
          <p:nvSpPr>
            <p:cNvPr id="315" name=""/>
            <p:cNvSpPr/>
            <p:nvPr/>
          </p:nvSpPr>
          <p:spPr>
            <a:xfrm>
              <a:off x="1711440" y="5560200"/>
              <a:ext cx="1523880" cy="302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73400" y="5103000"/>
              <a:ext cx="1752120" cy="302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3400" y="5903280"/>
              <a:ext cx="1904760" cy="302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235320" y="5216040"/>
              <a:ext cx="83772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35320" y="5749920"/>
              <a:ext cx="83772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30400" y="5139720"/>
              <a:ext cx="914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54080" y="5901840"/>
              <a:ext cx="1066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130800" y="4798800"/>
              <a:ext cx="1371240" cy="302040"/>
              <a:chOff x="6130800" y="4798800"/>
              <a:chExt cx="1371240" cy="302040"/>
            </a:xfrm>
          </p:grpSpPr>
          <p:sp>
            <p:nvSpPr>
              <p:cNvPr id="323" name=""/>
              <p:cNvSpPr/>
              <p:nvPr/>
            </p:nvSpPr>
            <p:spPr>
              <a:xfrm>
                <a:off x="6130800" y="5064120"/>
                <a:ext cx="137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30800" y="4798800"/>
                <a:ext cx="1371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cceed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130800" y="5139720"/>
              <a:ext cx="1371240" cy="302040"/>
              <a:chOff x="6130800" y="5139720"/>
              <a:chExt cx="1371240" cy="302040"/>
            </a:xfrm>
          </p:grpSpPr>
          <p:sp>
            <p:nvSpPr>
              <p:cNvPr id="326" name=""/>
              <p:cNvSpPr/>
              <p:nvPr/>
            </p:nvSpPr>
            <p:spPr>
              <a:xfrm>
                <a:off x="6130800" y="5405040"/>
                <a:ext cx="137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130800" y="5139720"/>
                <a:ext cx="1371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ail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130800" y="5673240"/>
              <a:ext cx="1371240" cy="302040"/>
              <a:chOff x="6130800" y="5673240"/>
              <a:chExt cx="1371240" cy="302040"/>
            </a:xfrm>
          </p:grpSpPr>
          <p:sp>
            <p:nvSpPr>
              <p:cNvPr id="329" name=""/>
              <p:cNvSpPr/>
              <p:nvPr/>
            </p:nvSpPr>
            <p:spPr>
              <a:xfrm>
                <a:off x="6130800" y="5938560"/>
                <a:ext cx="137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30800" y="5673240"/>
                <a:ext cx="1371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utcome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130800" y="5978160"/>
              <a:ext cx="1371240" cy="302040"/>
              <a:chOff x="6130800" y="5978160"/>
              <a:chExt cx="1371240" cy="302040"/>
            </a:xfrm>
          </p:grpSpPr>
          <p:sp>
            <p:nvSpPr>
              <p:cNvPr id="332" name=""/>
              <p:cNvSpPr/>
              <p:nvPr/>
            </p:nvSpPr>
            <p:spPr>
              <a:xfrm>
                <a:off x="6130800" y="6243480"/>
                <a:ext cx="137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30800" y="5978160"/>
                <a:ext cx="1371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utcome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PL Featur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6360" y="1990440"/>
            <a:ext cx="8067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ript Creation by End Users (Customized call filt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rd Party Outsou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ministrator Service Definition (Define enterprise polic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 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 creation and customisation using WEB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a Sig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g Server controls proxy, redirect, or rejection actions for the set-up of a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cused on “local” control rather than “global” coordination of multiple sig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g servers as i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s a list of Condition/Action Pairs that concentrates on user “location” rou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IP-CGI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8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Independence (Perl, C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all aspects of a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any resource (flexible interf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 reuse (reuse of HTTP-CG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 famili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exte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d when a request arrives at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of the script specifies the servers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(script can also handle responses to generated reque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Feature Interactions in SIP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 is not going to go away in SI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king + Voic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 on’ + Call Forwarding Bu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tional interactions (MUMC, OCS+CF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News: Services may commun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utline of the Approac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800" y="1980720"/>
            <a:ext cx="84852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can communicate and potentially negotiate the actions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ITE + acceptab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’d like to invite you. If you cannot accept it, choose one of th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e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th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one of the offered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 some of the actions and suggest them to the cal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ine the call because of privac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Teleph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S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in S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Interactions in S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the propos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e Approach in Ac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40880" y="1623960"/>
            <a:ext cx="5775120" cy="4710240"/>
            <a:chOff x="1640880" y="1623960"/>
            <a:chExt cx="5775120" cy="4710240"/>
          </a:xfrm>
        </p:grpSpPr>
        <p:sp>
          <p:nvSpPr>
            <p:cNvPr id="344" name=""/>
            <p:cNvSpPr/>
            <p:nvPr/>
          </p:nvSpPr>
          <p:spPr>
            <a:xfrm>
              <a:off x="2082600" y="2098440"/>
              <a:ext cx="0" cy="423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68880" y="2116080"/>
              <a:ext cx="0" cy="415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40880" y="162396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l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22120" y="167616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ll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11400" y="2340000"/>
              <a:ext cx="48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70000" y="2998800"/>
              <a:ext cx="48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87640" y="3539880"/>
              <a:ext cx="48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09600" y="4314600"/>
              <a:ext cx="485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66760" y="4813200"/>
              <a:ext cx="48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5320" y="1979640"/>
              <a:ext cx="25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VITE (forward,recall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08120" y="2422440"/>
              <a:ext cx="321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GGEST(forward – mobil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ward – voicemai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960" y="3122640"/>
              <a:ext cx="29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VITE(forward – voicemai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05960" y="3633840"/>
              <a:ext cx="392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GGEST(forward – voicemail – 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ward – voicemail -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13880" y="4416480"/>
              <a:ext cx="369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VITE(forward – voicemail – ho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84400" y="5418000"/>
              <a:ext cx="48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5984640"/>
              <a:ext cx="48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7480" y="5025960"/>
              <a:ext cx="91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0 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17840" y="558324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 resolves effectively clashes between services belonging to different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avoidance rather than detection &amp;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able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cal interactions’ between services, such as Call Forwarding, Call Screening, Call Waiting, etc are avoi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capabilities such as Call Clamping, or Forking can be expressed and hence be consi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808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 Interactions are an issue in S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P allows for services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pproaches possib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r offers a certain set of acceptable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e selects some of them and possibly offers some more detailed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of privacy and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parties need to understand the used 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 work: How to create and store the necessary data for runtime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include some ‘looking ahead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Motivation for Internet Telephon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024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ap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ng traditional voice services with Interne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may include video, text chat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network and service provi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party service provi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ervices for a small number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create their ow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telephony offers rich sign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igent end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of signalling and content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rotocols for VoIP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 connection between the protocols used and programming VoIP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gnalling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P (Session Initiation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.3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CP (Media Gateway Control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cription Protoc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DP (Session Description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 protoco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TP (Real-time Transpor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SVP (Resource Reservation Protocol) for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IP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P is a protocol for initiating, modifying and terminating interactive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xplicitly distributed with local use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creation and sharing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lephony features but is also designed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abled by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sonali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l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weight and extend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IP Architectur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full and stateless Proxy-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rec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30880" y="3325680"/>
            <a:ext cx="1569960" cy="532080"/>
          </a:xfrm>
          <a:prstGeom prst="rect">
            <a:avLst/>
          </a:prstGeom>
          <a:solidFill>
            <a:srgbClr val="fec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49400" y="5900760"/>
            <a:ext cx="1530360" cy="779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21360" y="5904000"/>
            <a:ext cx="1530360" cy="779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124600" y="3449520"/>
            <a:ext cx="180720" cy="271440"/>
          </a:xfrm>
          <a:prstGeom prst="rect">
            <a:avLst/>
          </a:prstGeom>
          <a:solidFill>
            <a:srgbClr val="fec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0680" y="4373640"/>
            <a:ext cx="1569960" cy="531720"/>
          </a:xfrm>
          <a:prstGeom prst="rect">
            <a:avLst/>
          </a:prstGeom>
          <a:solidFill>
            <a:srgbClr val="fec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1480" y="3460680"/>
            <a:ext cx="1208520" cy="271440"/>
          </a:xfrm>
          <a:prstGeom prst="rect">
            <a:avLst/>
          </a:prstGeom>
          <a:solidFill>
            <a:srgbClr val="fec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ful 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53320" y="4508640"/>
            <a:ext cx="1312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irect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62560" y="5356080"/>
            <a:ext cx="1569960" cy="532080"/>
          </a:xfrm>
          <a:prstGeom prst="rect">
            <a:avLst/>
          </a:prstGeom>
          <a:solidFill>
            <a:srgbClr val="fec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50040" y="5483160"/>
            <a:ext cx="132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less 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068640" y="3395520"/>
            <a:ext cx="4216320" cy="2208240"/>
            <a:chOff x="3068640" y="3395520"/>
            <a:chExt cx="4216320" cy="2208240"/>
          </a:xfrm>
        </p:grpSpPr>
        <p:sp>
          <p:nvSpPr>
            <p:cNvPr id="108" name=""/>
            <p:cNvSpPr/>
            <p:nvPr/>
          </p:nvSpPr>
          <p:spPr>
            <a:xfrm>
              <a:off x="4624200" y="4025880"/>
              <a:ext cx="719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5011200" y="3870360"/>
              <a:ext cx="520920" cy="50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068640" y="3395520"/>
              <a:ext cx="1361880" cy="72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49640" y="3530520"/>
              <a:ext cx="772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999040" y="5222880"/>
              <a:ext cx="1285920" cy="380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53200" y="5165640"/>
              <a:ext cx="679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438440" y="3879000"/>
              <a:ext cx="266760" cy="1481400"/>
            </a:xfrm>
            <a:custGeom>
              <a:avLst/>
              <a:gdLst/>
              <a:ahLst/>
              <a:rect l="l" t="t" r="r" b="b"/>
              <a:pathLst>
                <a:path w="385" h="1332">
                  <a:moveTo>
                    <a:pt x="337" y="1332"/>
                  </a:moveTo>
                  <a:cubicBezTo>
                    <a:pt x="168" y="1050"/>
                    <a:pt x="0" y="768"/>
                    <a:pt x="8" y="546"/>
                  </a:cubicBezTo>
                  <a:cubicBezTo>
                    <a:pt x="16" y="324"/>
                    <a:pt x="318" y="93"/>
                    <a:pt x="385" y="0"/>
                  </a:cubicBez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36880" y="4443480"/>
              <a:ext cx="68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7000" y="3859200"/>
              <a:ext cx="536760" cy="544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08720" y="3973680"/>
              <a:ext cx="509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51520" y="3940200"/>
              <a:ext cx="679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797080" y="3828600"/>
              <a:ext cx="539640" cy="561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405240" y="6345360"/>
            <a:ext cx="3494160" cy="273960"/>
            <a:chOff x="3405240" y="6345360"/>
            <a:chExt cx="3494160" cy="273960"/>
          </a:xfrm>
        </p:grpSpPr>
        <p:sp>
          <p:nvSpPr>
            <p:cNvPr id="121" name=""/>
            <p:cNvSpPr/>
            <p:nvPr/>
          </p:nvSpPr>
          <p:spPr>
            <a:xfrm>
              <a:off x="4466520" y="6347880"/>
              <a:ext cx="1129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050"/>
                  </a:solidFill>
                  <a:latin typeface="Arial"/>
                </a:rPr>
                <a:t>MEDIA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05240" y="6345360"/>
              <a:ext cx="3494160" cy="2520"/>
            </a:xfrm>
            <a:prstGeom prst="line">
              <a:avLst/>
            </a:prstGeom>
            <a:ln w="12600">
              <a:solidFill>
                <a:srgbClr val="ff505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313080" y="3605040"/>
            <a:ext cx="4024080" cy="2051280"/>
            <a:chOff x="3313080" y="3605040"/>
            <a:chExt cx="4024080" cy="2051280"/>
          </a:xfrm>
        </p:grpSpPr>
        <p:sp>
          <p:nvSpPr>
            <p:cNvPr id="124" name=""/>
            <p:cNvSpPr/>
            <p:nvPr/>
          </p:nvSpPr>
          <p:spPr>
            <a:xfrm flipH="1">
              <a:off x="6025680" y="5410080"/>
              <a:ext cx="1311480" cy="2318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86320" y="5294160"/>
              <a:ext cx="841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57560" y="4510080"/>
              <a:ext cx="776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13080" y="3726000"/>
              <a:ext cx="799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382560" y="3605040"/>
              <a:ext cx="1033560" cy="765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95720" y="3857760"/>
              <a:ext cx="428400" cy="1798560"/>
            </a:xfrm>
            <a:custGeom>
              <a:avLst/>
              <a:gdLst/>
              <a:ahLst/>
              <a:rect l="l" t="t" r="r" b="b"/>
              <a:pathLst>
                <a:path w="273" h="1327">
                  <a:moveTo>
                    <a:pt x="230" y="1327"/>
                  </a:moveTo>
                  <a:cubicBezTo>
                    <a:pt x="115" y="1055"/>
                    <a:pt x="0" y="784"/>
                    <a:pt x="7" y="563"/>
                  </a:cubicBezTo>
                  <a:cubicBezTo>
                    <a:pt x="14" y="342"/>
                    <a:pt x="143" y="171"/>
                    <a:pt x="273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274920" y="3598560"/>
            <a:ext cx="4025880" cy="2055960"/>
            <a:chOff x="3274920" y="3598560"/>
            <a:chExt cx="4025880" cy="2055960"/>
          </a:xfrm>
        </p:grpSpPr>
        <p:sp>
          <p:nvSpPr>
            <p:cNvPr id="131" name=""/>
            <p:cNvSpPr/>
            <p:nvPr/>
          </p:nvSpPr>
          <p:spPr>
            <a:xfrm flipV="1">
              <a:off x="3289320" y="3598560"/>
              <a:ext cx="1160280" cy="655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4920" y="3776760"/>
              <a:ext cx="757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70560" y="4622760"/>
              <a:ext cx="510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006960" y="5369040"/>
              <a:ext cx="1293840" cy="285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75160" y="5310000"/>
              <a:ext cx="666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5200" y="3855960"/>
              <a:ext cx="614160" cy="1793880"/>
            </a:xfrm>
            <a:custGeom>
              <a:avLst/>
              <a:gdLst/>
              <a:ahLst/>
              <a:rect l="l" t="t" r="r" b="b"/>
              <a:pathLst>
                <a:path w="391" h="1322">
                  <a:moveTo>
                    <a:pt x="247" y="1322"/>
                  </a:moveTo>
                  <a:cubicBezTo>
                    <a:pt x="123" y="1116"/>
                    <a:pt x="0" y="910"/>
                    <a:pt x="24" y="690"/>
                  </a:cubicBezTo>
                  <a:cubicBezTo>
                    <a:pt x="48" y="470"/>
                    <a:pt x="219" y="235"/>
                    <a:pt x="39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303720" y="3052800"/>
            <a:ext cx="4002120" cy="1488960"/>
            <a:chOff x="3303720" y="3052800"/>
            <a:chExt cx="4002120" cy="1488960"/>
          </a:xfrm>
        </p:grpSpPr>
        <p:sp>
          <p:nvSpPr>
            <p:cNvPr id="138" name=""/>
            <p:cNvSpPr/>
            <p:nvPr/>
          </p:nvSpPr>
          <p:spPr>
            <a:xfrm>
              <a:off x="6024600" y="3516480"/>
              <a:ext cx="1281240" cy="1025280"/>
            </a:xfrm>
            <a:prstGeom prst="line">
              <a:avLst/>
            </a:prstGeom>
            <a:ln w="12600">
              <a:solidFill>
                <a:srgbClr val="4062c7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303720" y="3503520"/>
              <a:ext cx="1136520" cy="843120"/>
            </a:xfrm>
            <a:prstGeom prst="line">
              <a:avLst/>
            </a:prstGeom>
            <a:ln w="12600">
              <a:solidFill>
                <a:srgbClr val="4062c7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62440" y="3052800"/>
              <a:ext cx="8762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062c7"/>
                  </a:solidFill>
                  <a:latin typeface="Arial"/>
                </a:rPr>
                <a:t>SIP PAT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41680" y="3500280"/>
              <a:ext cx="1609920" cy="7920"/>
            </a:xfrm>
            <a:prstGeom prst="line">
              <a:avLst/>
            </a:prstGeom>
            <a:ln cap="rnd" w="12600">
              <a:solidFill>
                <a:srgbClr val="4062c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297560" y="4316400"/>
            <a:ext cx="144792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g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8433720" y="4547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0200" y="3903840"/>
            <a:ext cx="15238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g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1261440" y="4581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IP Messag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Request or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passed between UA and U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A and Server, Server and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Request-Lin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,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75440" y="3359160"/>
            <a:ext cx="2068560" cy="3498840"/>
            <a:chOff x="7075440" y="3359160"/>
            <a:chExt cx="2068560" cy="3498840"/>
          </a:xfrm>
        </p:grpSpPr>
        <p:sp>
          <p:nvSpPr>
            <p:cNvPr id="149" name=""/>
            <p:cNvSpPr/>
            <p:nvPr/>
          </p:nvSpPr>
          <p:spPr>
            <a:xfrm>
              <a:off x="7075440" y="3359160"/>
              <a:ext cx="2068560" cy="3498840"/>
            </a:xfrm>
            <a:prstGeom prst="rect">
              <a:avLst/>
            </a:pr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35720" y="3579120"/>
              <a:ext cx="1781280" cy="31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cc"/>
                  </a:solidFill>
                  <a:uFillTx/>
                  <a:latin typeface="Arial"/>
                </a:rPr>
                <a:t>Status Co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1xx Informational: </a:t>
              </a:r>
              <a:br>
                <a:rPr sz="1400"/>
              </a:b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 - Trying</a:t>
              </a:r>
              <a:br>
                <a:rPr sz="1400"/>
              </a:b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 - Ringing</a:t>
              </a:r>
              <a:br>
                <a:rPr sz="1400"/>
              </a:b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 - Being Forwarded</a:t>
              </a:r>
              <a:br>
                <a:rPr sz="1400"/>
              </a:b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 - Queu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200 Su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3xx Redir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4xx Client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5xx Server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6xx Global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952880" y="4348080"/>
            <a:ext cx="2030400" cy="2519280"/>
            <a:chOff x="4952880" y="4348080"/>
            <a:chExt cx="2030400" cy="2519280"/>
          </a:xfrm>
        </p:grpSpPr>
        <p:sp>
          <p:nvSpPr>
            <p:cNvPr id="152" name=""/>
            <p:cNvSpPr/>
            <p:nvPr/>
          </p:nvSpPr>
          <p:spPr>
            <a:xfrm>
              <a:off x="4952880" y="4348080"/>
              <a:ext cx="1778040" cy="2519280"/>
            </a:xfrm>
            <a:prstGeom prst="rect">
              <a:avLst/>
            </a:pr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95880" y="4446000"/>
              <a:ext cx="1787400" cy="24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INVITE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ACK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OPTIONS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BYE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EGIST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NOTIFY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UBSCRIBE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E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2847960" y="3349800"/>
            <a:ext cx="5099040" cy="2925360"/>
            <a:chOff x="2847960" y="3349800"/>
            <a:chExt cx="5099040" cy="2925360"/>
          </a:xfrm>
        </p:grpSpPr>
        <p:grpSp>
          <p:nvGrpSpPr>
            <p:cNvPr id="155" name=""/>
            <p:cNvGrpSpPr/>
            <p:nvPr/>
          </p:nvGrpSpPr>
          <p:grpSpPr>
            <a:xfrm>
              <a:off x="7173720" y="3349800"/>
              <a:ext cx="773280" cy="604800"/>
              <a:chOff x="7173720" y="3349800"/>
              <a:chExt cx="773280" cy="604800"/>
            </a:xfrm>
          </p:grpSpPr>
          <p:sp>
            <p:nvSpPr>
              <p:cNvPr id="156" name=""/>
              <p:cNvSpPr/>
              <p:nvPr/>
            </p:nvSpPr>
            <p:spPr>
              <a:xfrm>
                <a:off x="7180200" y="350064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V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73720" y="3349800"/>
                <a:ext cx="7920" cy="60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847960" y="4202280"/>
              <a:ext cx="3273480" cy="20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VITE sip:dave@falcon.telcordia.com SIP/2.0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act: sip:mko@eagle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123456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`CSeq: 1 INVITE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NVI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143240"/>
            <a:ext cx="293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mko@eagle.cs.stir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33640" y="1897200"/>
            <a:ext cx="1585800" cy="718560"/>
            <a:chOff x="1133640" y="1897200"/>
            <a:chExt cx="1585800" cy="718560"/>
          </a:xfrm>
        </p:grpSpPr>
        <p:sp>
          <p:nvSpPr>
            <p:cNvPr id="162" name=""/>
            <p:cNvSpPr/>
            <p:nvPr/>
          </p:nvSpPr>
          <p:spPr>
            <a:xfrm>
              <a:off x="1133640" y="189720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39840" y="1979280"/>
              <a:ext cx="13305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cs.stir.ac.u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781600" y="4805280"/>
            <a:ext cx="243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dave@falcon.telcordia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418440" y="2668680"/>
            <a:ext cx="1585800" cy="718560"/>
            <a:chOff x="6418440" y="2668680"/>
            <a:chExt cx="1585800" cy="718560"/>
          </a:xfrm>
        </p:grpSpPr>
        <p:sp>
          <p:nvSpPr>
            <p:cNvPr id="166" name=""/>
            <p:cNvSpPr/>
            <p:nvPr/>
          </p:nvSpPr>
          <p:spPr>
            <a:xfrm>
              <a:off x="6418440" y="266868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2080" y="2750760"/>
              <a:ext cx="14389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telcordia.c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36760" y="336384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99400" y="401328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8280" y="420228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708200" y="2503440"/>
            <a:ext cx="3828240" cy="3715920"/>
            <a:chOff x="1708200" y="2503440"/>
            <a:chExt cx="3828240" cy="3715920"/>
          </a:xfrm>
        </p:grpSpPr>
        <p:grpSp>
          <p:nvGrpSpPr>
            <p:cNvPr id="172" name=""/>
            <p:cNvGrpSpPr/>
            <p:nvPr/>
          </p:nvGrpSpPr>
          <p:grpSpPr>
            <a:xfrm>
              <a:off x="1708200" y="2503440"/>
              <a:ext cx="766800" cy="860400"/>
              <a:chOff x="1708200" y="2503440"/>
              <a:chExt cx="766800" cy="860400"/>
            </a:xfrm>
          </p:grpSpPr>
          <p:sp>
            <p:nvSpPr>
              <p:cNvPr id="173" name=""/>
              <p:cNvSpPr/>
              <p:nvPr/>
            </p:nvSpPr>
            <p:spPr>
              <a:xfrm flipV="1">
                <a:off x="1743120" y="2503440"/>
                <a:ext cx="0" cy="8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08200" y="284796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V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698560" y="4511520"/>
              <a:ext cx="2837880" cy="17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VITE sip:dave@telcordia.com SIP/2.0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UDP/2.0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act: sip:mko@eagle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123456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1 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744640" y="2198520"/>
            <a:ext cx="3678480" cy="3939840"/>
            <a:chOff x="2744640" y="2198520"/>
            <a:chExt cx="3678480" cy="3939840"/>
          </a:xfrm>
        </p:grpSpPr>
        <p:grpSp>
          <p:nvGrpSpPr>
            <p:cNvPr id="177" name=""/>
            <p:cNvGrpSpPr/>
            <p:nvPr/>
          </p:nvGrpSpPr>
          <p:grpSpPr>
            <a:xfrm>
              <a:off x="2744640" y="2198520"/>
              <a:ext cx="3678480" cy="798840"/>
              <a:chOff x="2744640" y="2198520"/>
              <a:chExt cx="3678480" cy="798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744640" y="2198520"/>
                <a:ext cx="3678480" cy="79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43680" y="239724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V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882520" y="4248000"/>
              <a:ext cx="2837880" cy="18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VITE sip:dave@telcordia.com SIP/2.0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UDP/2.0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UDP/2.0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act: sip:mko@eagle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123456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1 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spons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133640" y="1897200"/>
            <a:ext cx="1585800" cy="718560"/>
            <a:chOff x="1133640" y="1897200"/>
            <a:chExt cx="1585800" cy="718560"/>
          </a:xfrm>
        </p:grpSpPr>
        <p:sp>
          <p:nvSpPr>
            <p:cNvPr id="183" name=""/>
            <p:cNvSpPr/>
            <p:nvPr/>
          </p:nvSpPr>
          <p:spPr>
            <a:xfrm>
              <a:off x="1133640" y="189720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39840" y="1979280"/>
              <a:ext cx="13305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cs.stir.ac.u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81600" y="4805280"/>
            <a:ext cx="243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dave@falcon.telcordia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418440" y="2668680"/>
            <a:ext cx="1585800" cy="718560"/>
            <a:chOff x="6418440" y="2668680"/>
            <a:chExt cx="1585800" cy="718560"/>
          </a:xfrm>
        </p:grpSpPr>
        <p:sp>
          <p:nvSpPr>
            <p:cNvPr id="187" name=""/>
            <p:cNvSpPr/>
            <p:nvPr/>
          </p:nvSpPr>
          <p:spPr>
            <a:xfrm>
              <a:off x="6418440" y="266868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2080" y="2750760"/>
              <a:ext cx="14389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telcordia.c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436760" y="336384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99400" y="401328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8280" y="420228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95600" y="2198520"/>
            <a:ext cx="6292440" cy="3921120"/>
            <a:chOff x="1695600" y="2198520"/>
            <a:chExt cx="6292440" cy="3921120"/>
          </a:xfrm>
        </p:grpSpPr>
        <p:grpSp>
          <p:nvGrpSpPr>
            <p:cNvPr id="193" name=""/>
            <p:cNvGrpSpPr/>
            <p:nvPr/>
          </p:nvGrpSpPr>
          <p:grpSpPr>
            <a:xfrm>
              <a:off x="7215120" y="3376440"/>
              <a:ext cx="772920" cy="604800"/>
              <a:chOff x="7215120" y="3376440"/>
              <a:chExt cx="772920" cy="604800"/>
            </a:xfrm>
          </p:grpSpPr>
          <p:sp>
            <p:nvSpPr>
              <p:cNvPr id="194" name=""/>
              <p:cNvSpPr/>
              <p:nvPr/>
            </p:nvSpPr>
            <p:spPr>
              <a:xfrm>
                <a:off x="7221240" y="352692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 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215120" y="3376440"/>
                <a:ext cx="7920" cy="60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891520" y="4229280"/>
              <a:ext cx="2825640" cy="18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IP/2.0 200 O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act: sip:dave@falcon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123456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1 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695600" y="2463840"/>
              <a:ext cx="766440" cy="860400"/>
              <a:chOff x="1695600" y="2463840"/>
              <a:chExt cx="766440" cy="86040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1730160" y="2463840"/>
                <a:ext cx="0" cy="8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695600" y="280836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 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2717640" y="2198520"/>
              <a:ext cx="3678480" cy="798840"/>
              <a:chOff x="2717640" y="2198520"/>
              <a:chExt cx="3678480" cy="798840"/>
            </a:xfrm>
          </p:grpSpPr>
          <p:sp>
            <p:nvSpPr>
              <p:cNvPr id="201" name=""/>
              <p:cNvSpPr/>
              <p:nvPr/>
            </p:nvSpPr>
            <p:spPr>
              <a:xfrm>
                <a:off x="2717640" y="2198520"/>
                <a:ext cx="3678480" cy="79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116680" y="239724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 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0" y="4143240"/>
            <a:ext cx="293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mko@eagle.cs.stir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687680" y="2232000"/>
            <a:ext cx="6292800" cy="3920760"/>
            <a:chOff x="1687680" y="2232000"/>
            <a:chExt cx="6292800" cy="3920760"/>
          </a:xfrm>
        </p:grpSpPr>
        <p:grpSp>
          <p:nvGrpSpPr>
            <p:cNvPr id="205" name=""/>
            <p:cNvGrpSpPr/>
            <p:nvPr/>
          </p:nvGrpSpPr>
          <p:grpSpPr>
            <a:xfrm>
              <a:off x="7207560" y="3409920"/>
              <a:ext cx="772920" cy="604800"/>
              <a:chOff x="7207560" y="3409920"/>
              <a:chExt cx="772920" cy="604800"/>
            </a:xfrm>
          </p:grpSpPr>
          <p:sp>
            <p:nvSpPr>
              <p:cNvPr id="206" name=""/>
              <p:cNvSpPr/>
              <p:nvPr/>
            </p:nvSpPr>
            <p:spPr>
              <a:xfrm>
                <a:off x="7213680" y="356076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7560" y="3409920"/>
                <a:ext cx="7920" cy="60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2882160" y="4262400"/>
              <a:ext cx="2631960" cy="18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K sip:dave@falcon.telcordia.c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act: sip:mko@eagle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123456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1 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687680" y="2496960"/>
              <a:ext cx="766800" cy="860400"/>
              <a:chOff x="1687680" y="2496960"/>
              <a:chExt cx="766800" cy="860400"/>
            </a:xfrm>
          </p:grpSpPr>
          <p:sp>
            <p:nvSpPr>
              <p:cNvPr id="210" name=""/>
              <p:cNvSpPr/>
              <p:nvPr/>
            </p:nvSpPr>
            <p:spPr>
              <a:xfrm flipV="1">
                <a:off x="1722600" y="2496960"/>
                <a:ext cx="0" cy="8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7680" y="284148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710080" y="2232000"/>
              <a:ext cx="3678120" cy="798480"/>
              <a:chOff x="2710080" y="2232000"/>
              <a:chExt cx="3678120" cy="798480"/>
            </a:xfrm>
          </p:grpSpPr>
          <p:sp>
            <p:nvSpPr>
              <p:cNvPr id="213" name=""/>
              <p:cNvSpPr/>
              <p:nvPr/>
            </p:nvSpPr>
            <p:spPr>
              <a:xfrm>
                <a:off x="2710080" y="2232000"/>
                <a:ext cx="367812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08760" y="243036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8:28:57Z</dcterms:created>
  <dc:creator>Evan H. Magill</dc:creator>
  <dc:description/>
  <dc:language>en-US</dc:language>
  <cp:lastModifiedBy>Evan H. Magill</cp:lastModifiedBy>
  <dcterms:modified xsi:type="dcterms:W3CDTF">2001-04-05T10:54:05Z</dcterms:modified>
  <cp:revision>66</cp:revision>
  <dc:subject/>
  <dc:title>Handling Incompatibilities between Services deployed on IP-based Networks</dc:title>
</cp:coreProperties>
</file>