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ccessful influences from TIN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TM-F: adoption of the TINA NRIM information modeling for the M4 management interface on element lev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MG: production of RFC’s on Stream, multiple- interfaces and group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84040" y="6037200"/>
            <a:ext cx="630360" cy="630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30400" y="6154560"/>
            <a:ext cx="75150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hn  Ev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040" y="6037200"/>
            <a:ext cx="630360" cy="63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98640" y="1523880"/>
            <a:ext cx="1333800" cy="1333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06400" y="1778040"/>
            <a:ext cx="2389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@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03440" y="3873600"/>
            <a:ext cx="2463840" cy="50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3491640" y="4703760"/>
            <a:ext cx="2517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T Angel Cent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th Feb. '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1066680" y="2800440"/>
            <a:ext cx="959040" cy="3076560"/>
            <a:chOff x="1066680" y="2800440"/>
            <a:chExt cx="959040" cy="3076560"/>
          </a:xfrm>
        </p:grpSpPr>
        <p:sp>
          <p:nvSpPr>
            <p:cNvPr id="328" name=""/>
            <p:cNvSpPr/>
            <p:nvPr/>
          </p:nvSpPr>
          <p:spPr>
            <a:xfrm>
              <a:off x="1066680" y="2800440"/>
              <a:ext cx="959040" cy="3076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63de8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903240" y="4019400"/>
              <a:ext cx="12798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ITU-</a:t>
              </a:r>
              <a:r>
                <a:rPr b="1" lang="en-GB" sz="2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884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GB" sz="2600" spc="-1" strike="noStrike">
                <a:solidFill>
                  <a:srgbClr val="114ffb"/>
                </a:solidFill>
                <a:latin typeface="Arial"/>
              </a:rPr>
              <a:t>Relations to standardization</a:t>
            </a:r>
            <a:endParaRPr b="1" lang="en-US" sz="2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07120" y="4605480"/>
            <a:ext cx="1015920" cy="418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38e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D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94120" y="1166760"/>
            <a:ext cx="1137960" cy="57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M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81080" y="1216080"/>
            <a:ext cx="1313280" cy="524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DAVI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30760" y="1150920"/>
            <a:ext cx="1314720" cy="524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ATM-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0400" y="1349280"/>
            <a:ext cx="964080" cy="524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ITE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7320" y="1486080"/>
            <a:ext cx="985680" cy="524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W3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3200000">
            <a:off x="2236320" y="2293200"/>
            <a:ext cx="1343160" cy="492120"/>
          </a:xfrm>
          <a:prstGeom prst="rightArrow">
            <a:avLst>
              <a:gd name="adj1" fmla="val 50000"/>
              <a:gd name="adj2" fmla="val 1364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8960000">
            <a:off x="5506920" y="2211480"/>
            <a:ext cx="1408320" cy="490320"/>
          </a:xfrm>
          <a:prstGeom prst="rightArrow">
            <a:avLst>
              <a:gd name="adj1" fmla="val 50000"/>
              <a:gd name="adj2" fmla="val 143639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03400" y="3052800"/>
            <a:ext cx="12128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G-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92240" y="4132440"/>
            <a:ext cx="12128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G-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03400" y="5116680"/>
            <a:ext cx="12128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G-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rot="540000">
            <a:off x="2090160" y="3171960"/>
            <a:ext cx="1033200" cy="492120"/>
          </a:xfrm>
          <a:prstGeom prst="rightArrow">
            <a:avLst>
              <a:gd name="adj1" fmla="val 50000"/>
              <a:gd name="adj2" fmla="val 1049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7160000">
            <a:off x="4721040" y="1967760"/>
            <a:ext cx="862200" cy="500040"/>
          </a:xfrm>
          <a:prstGeom prst="rightArrow">
            <a:avLst>
              <a:gd name="adj1" fmla="val 50000"/>
              <a:gd name="adj2" fmla="val 862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4940000">
            <a:off x="3444840" y="2017080"/>
            <a:ext cx="800280" cy="492120"/>
          </a:xfrm>
          <a:prstGeom prst="rightArrow">
            <a:avLst>
              <a:gd name="adj1" fmla="val 50000"/>
              <a:gd name="adj2" fmla="val 813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rot="20340000">
            <a:off x="2193480" y="4098960"/>
            <a:ext cx="993960" cy="492480"/>
          </a:xfrm>
          <a:prstGeom prst="rightArrow">
            <a:avLst>
              <a:gd name="adj1" fmla="val 50000"/>
              <a:gd name="adj2" fmla="val 1009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11320" y="2708280"/>
            <a:ext cx="6318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C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66480" y="4570560"/>
            <a:ext cx="682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NR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19960" y="5083200"/>
            <a:ext cx="18784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Sessio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Third party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Connection Grap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0920" y="2786040"/>
            <a:ext cx="676080" cy="418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38e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01160" y="4941720"/>
            <a:ext cx="768960" cy="418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38e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68520" y="3811680"/>
            <a:ext cx="1793160" cy="418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38e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pen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94200" y="3236760"/>
            <a:ext cx="768960" cy="418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38e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M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">
            <a:off x="5787720" y="4341960"/>
            <a:ext cx="1241280" cy="492120"/>
          </a:xfrm>
          <a:prstGeom prst="rightArrow">
            <a:avLst>
              <a:gd name="adj1" fmla="val 50000"/>
              <a:gd name="adj2" fmla="val 126139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56200" y="3197160"/>
            <a:ext cx="652680" cy="490680"/>
          </a:xfrm>
          <a:prstGeom prst="rightArrow">
            <a:avLst>
              <a:gd name="adj1" fmla="val 50000"/>
              <a:gd name="adj2" fmla="val 6652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84960" y="4487760"/>
            <a:ext cx="1571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application of view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74800" y="2073240"/>
            <a:ext cx="16711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Sessio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31600" y="1841400"/>
            <a:ext cx="18129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Third party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M4 network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51840" y="1754280"/>
            <a:ext cx="16711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Archite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Sepa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Sessio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17160" y="1855800"/>
            <a:ext cx="152496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bject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Stream bi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D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14ffb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38560" y="2705040"/>
            <a:ext cx="2590920" cy="2210040"/>
          </a:xfrm>
          <a:prstGeom prst="ellipse">
            <a:avLst/>
          </a:prstGeom>
          <a:noFill/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58360" y="3098880"/>
            <a:ext cx="25527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0" spc="-1" strike="noStrike">
                <a:solidFill>
                  <a:srgbClr val="51dc00"/>
                </a:solidFill>
                <a:latin typeface="Arial"/>
              </a:rPr>
              <a:t>TIN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19020000">
            <a:off x="2334960" y="4883040"/>
            <a:ext cx="1298520" cy="492120"/>
          </a:xfrm>
          <a:prstGeom prst="rightArrow">
            <a:avLst>
              <a:gd name="adj1" fmla="val 50000"/>
              <a:gd name="adj2" fmla="val 1319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884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GB" sz="3000" spc="-1" strike="noStrike">
                <a:solidFill>
                  <a:srgbClr val="114ffb"/>
                </a:solidFill>
                <a:latin typeface="Arial"/>
              </a:rPr>
              <a:t>Major Achievements</a:t>
            </a:r>
            <a:endParaRPr b="1" lang="en-US" sz="3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64720" y="114264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8160" bIns="38160" anchor="t">
            <a:normAutofit/>
          </a:bodyPr>
          <a:p>
            <a:pPr marL="298440" indent="-298440">
              <a:spcBef>
                <a:spcPts val="524"/>
              </a:spcBef>
              <a:buClr>
                <a:srgbClr val="2563fd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100" spc="-1" strike="noStrike">
                <a:solidFill>
                  <a:srgbClr val="2563fd"/>
                </a:solidFill>
                <a:latin typeface="Arial"/>
              </a:rPr>
              <a:t>Huge set of specifications and methodologies (Service Architecture, Computing Architecture, Resource Management Architecture): more than 25 deliverables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2563fd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100" spc="-1" strike="noStrike">
                <a:solidFill>
                  <a:srgbClr val="2563fd"/>
                </a:solidFill>
                <a:latin typeface="Arial"/>
              </a:rPr>
              <a:t>TINA-C Worldwide demos: starting at Telecom 9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2563fd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100" spc="-1" strike="noStrike">
                <a:solidFill>
                  <a:srgbClr val="2563fd"/>
                </a:solidFill>
                <a:latin typeface="Arial"/>
              </a:rPr>
              <a:t>Four main TINA TRIALS (NTT&amp;Others, Global One, Safari, P715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2563fd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100" spc="-1" strike="noStrike">
                <a:solidFill>
                  <a:srgbClr val="2563fd"/>
                </a:solidFill>
                <a:latin typeface="Arial"/>
              </a:rPr>
              <a:t>TINA-C awareness worldwide</a:t>
            </a:r>
            <a:br>
              <a:rPr sz="2100"/>
            </a:br>
            <a:r>
              <a:rPr b="0" lang="en-GB" sz="2100" spc="-1" strike="noStrike">
                <a:solidFill>
                  <a:srgbClr val="2563fd"/>
                </a:solidFill>
                <a:latin typeface="Arial"/>
              </a:rPr>
              <a:t>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24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fc0128"/>
                </a:solidFill>
                <a:latin typeface="Arial"/>
              </a:rPr>
              <a:t>TINA is now moving from specs to products and services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Expected Results (1998+)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44080" y="114264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0">
              <a:lnSpc>
                <a:spcPts val="25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A more simple and complete </a:t>
            </a:r>
            <a:br>
              <a:rPr sz="2800"/>
            </a:b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Simpl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4ffb"/>
                </a:solidFill>
                <a:latin typeface="Arial"/>
              </a:rPr>
              <a:t>Profiles: e.g. for Referenc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4ffb"/>
                </a:solidFill>
                <a:latin typeface="Arial"/>
              </a:rPr>
              <a:t>Shortcuts: e.g. for QoS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More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4ffb"/>
                </a:solidFill>
                <a:latin typeface="Arial"/>
              </a:rPr>
              <a:t>Reference Points: RtR, 3Pty, LN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4ffb"/>
                </a:solidFill>
                <a:latin typeface="Arial"/>
              </a:rPr>
              <a:t>Service Managemen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Integrated with more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4ffb"/>
                </a:solidFill>
                <a:latin typeface="Arial"/>
              </a:rPr>
              <a:t>Specifications/ standards for gateways/adaptation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Deliverables (1998+)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13920" y="1219320"/>
            <a:ext cx="7239240" cy="487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implif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Ret, ConS, T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DPE Architecture, SA, N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Service Component Specifications , Network Component Spec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Cre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RtR, 3Pty, Service Management Specifications, 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Active Working Groups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44080" y="91404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0">
              <a:lnSpc>
                <a:spcPts val="25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700"/>
              </a:spcBef>
              <a:buClr>
                <a:srgbClr val="2563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Applications of 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700"/>
              </a:spcBef>
              <a:buClr>
                <a:srgbClr val="2563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ervi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700"/>
              </a:spcBef>
              <a:buClr>
                <a:srgbClr val="2563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TINA -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700"/>
              </a:spcBef>
              <a:buClr>
                <a:srgbClr val="2563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Next Generation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700"/>
              </a:spcBef>
              <a:buClr>
                <a:srgbClr val="2563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ervice Architecture Reference Po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700"/>
              </a:spcBef>
              <a:buClr>
                <a:srgbClr val="2563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Naming and Address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700"/>
              </a:spcBef>
              <a:buClr>
                <a:srgbClr val="2563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Complianc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700"/>
              </a:spcBef>
              <a:buClr>
                <a:srgbClr val="2563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DP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700"/>
              </a:spcBef>
              <a:buClr>
                <a:srgbClr val="2563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Possible new Working Groups</a:t>
            </a:r>
            <a:br>
              <a:rPr sz="2800"/>
            </a:b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Network Architecture Reference Points -needed for evolution of RPs (or N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TINA and mobile and intellig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471600"/>
            <a:ext cx="723888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3600" rIns="93600" tIns="46080" bIns="46080" anchor="b">
            <a:noAutofit/>
          </a:bodyPr>
          <a:p>
            <a:pPr marL="407880" indent="0" algn="ctr"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ome WG details: TINA-IN-WG</a:t>
            </a: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Business case identification for IN to TINA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563fd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New services, or existing services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563fd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Web and IN convergence (service interaction, IN service customization and management using Web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563fd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IN-CTI convergen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Application of TINA principles and concepts to IN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563fd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Map TINA access, usage &amp; communication sessions to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563fd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TINA Triggering &amp; Connection mangmt  for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563fd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Impact on the design of IN architecture elements (SCP, IP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marL="338040"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ome WG details: SARP WG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2563fd"/>
                </a:solidFill>
                <a:latin typeface="Arial"/>
              </a:rPr>
              <a:t>Goals:</a:t>
            </a:r>
            <a:br>
              <a:rPr sz="2800"/>
            </a:br>
            <a:r>
              <a:rPr b="1" lang="en-GB" sz="2800" spc="-1" strike="noStrike">
                <a:solidFill>
                  <a:srgbClr val="2563f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To specify and maintain the reference points in the scope of Servic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Inter domain RPs: Ret, RtR, 3Pty (B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Intra domain RPs: Access/Usage Sp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Update related architecture documents/service component specs or provide add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ome WG details: Mobility WG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Goa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to complete TINA so that mobility is supported intrinsically in the architectu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to provide migration paths to TINArize existing mob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Ongoing Activ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Handover sup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Service Management for UM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Personal Mobility sup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Modifications to the Busin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DPE support of Terminal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marL="20304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ome WG details: DPE</a:t>
            </a: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Goals: Maintain the TINA DP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Provide a focal point for requirements on TINA middl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Influence the OMG with thes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Influence other (i.e. ITU-T) standards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Ensure interoperability between DPE nodes (Kernel Transport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Study interworking issues with other distribution technologies, as far as the middleware level is concerned (Internet, OSI, TMN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DPE Quality of Service Frame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Scalability and DPE pro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Fault Tolerance, Mobility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63fd"/>
                </a:solidFill>
                <a:latin typeface="Arial"/>
              </a:rPr>
              <a:t>Application Engineer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884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76320" rIns="76320" tIns="38160" bIns="38160" anchor="ctr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TINA-C Organization (until 1997)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87880" y="4537080"/>
            <a:ext cx="663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90640" y="1712880"/>
            <a:ext cx="835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65560" y="1644480"/>
            <a:ext cx="90036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09520" y="2101680"/>
            <a:ext cx="41436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0160" y="251928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29120" y="2687760"/>
            <a:ext cx="1098720" cy="10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98800" y="3189240"/>
            <a:ext cx="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5480" y="3214800"/>
            <a:ext cx="0" cy="32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300400" y="2752560"/>
            <a:ext cx="544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35000" y="3594240"/>
            <a:ext cx="5175360" cy="2168280"/>
          </a:xfrm>
          <a:prstGeom prst="roundRect">
            <a:avLst>
              <a:gd name="adj" fmla="val 8759"/>
            </a:avLst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670800" y="3473280"/>
            <a:ext cx="1627200" cy="1808280"/>
            <a:chOff x="6670800" y="3473280"/>
            <a:chExt cx="1627200" cy="1808280"/>
          </a:xfrm>
        </p:grpSpPr>
        <p:sp>
          <p:nvSpPr>
            <p:cNvPr id="61" name=""/>
            <p:cNvSpPr/>
            <p:nvPr/>
          </p:nvSpPr>
          <p:spPr>
            <a:xfrm>
              <a:off x="6991200" y="3473280"/>
              <a:ext cx="1306800" cy="147816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1000" y="3638520"/>
              <a:ext cx="1306440" cy="147816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70800" y="3803760"/>
              <a:ext cx="1306440" cy="147780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969840" y="1278000"/>
            <a:ext cx="1717920" cy="823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59320" y="1278000"/>
            <a:ext cx="1457280" cy="799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0200" y="1973160"/>
            <a:ext cx="1717920" cy="812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68320" y="1249200"/>
            <a:ext cx="1857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NA Conference   Sc.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34000" y="3760920"/>
            <a:ext cx="157500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xiliary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in member compa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37280" y="1947960"/>
            <a:ext cx="1422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view Board (RFR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63520" y="2413080"/>
            <a:ext cx="1086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 HOC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33760" y="1249200"/>
            <a:ext cx="1527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ortium Steering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46080" y="2292480"/>
            <a:ext cx="1316160" cy="868320"/>
            <a:chOff x="946080" y="2292480"/>
            <a:chExt cx="1316160" cy="868320"/>
          </a:xfrm>
        </p:grpSpPr>
        <p:sp>
          <p:nvSpPr>
            <p:cNvPr id="73" name=""/>
            <p:cNvSpPr/>
            <p:nvPr/>
          </p:nvSpPr>
          <p:spPr>
            <a:xfrm>
              <a:off x="946080" y="2292480"/>
              <a:ext cx="1119240" cy="74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3000" y="2419200"/>
              <a:ext cx="1119240" cy="74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920960" y="3778200"/>
            <a:ext cx="1366920" cy="328680"/>
          </a:xfrm>
          <a:prstGeom prst="rect">
            <a:avLst/>
          </a:prstGeom>
          <a:solidFill>
            <a:srgbClr val="f766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6800" y="4273560"/>
            <a:ext cx="1332000" cy="3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89280" y="4743360"/>
            <a:ext cx="1398600" cy="3034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3745080"/>
            <a:ext cx="458640" cy="177624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0320" y="5235480"/>
            <a:ext cx="1357560" cy="2937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99360" y="3763800"/>
            <a:ext cx="1364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15280" y="4246560"/>
            <a:ext cx="1118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0360" y="4703760"/>
            <a:ext cx="13474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40040" y="5191200"/>
            <a:ext cx="12758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09000" y="3676680"/>
            <a:ext cx="228168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Cor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63840" y="4430520"/>
            <a:ext cx="1577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7033680" y="2773440"/>
            <a:ext cx="621000" cy="620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55880" y="2405160"/>
            <a:ext cx="1714680" cy="723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30400" y="2379600"/>
            <a:ext cx="1640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ortium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38000" y="4373640"/>
            <a:ext cx="25221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e than 30 perma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ople in Red Bank (N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om 1993 to end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45000" y="1338120"/>
            <a:ext cx="2654280" cy="18608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28040" y="1477800"/>
            <a:ext cx="181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R/S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ome WG details: Service Management</a:t>
            </a:r>
            <a:r>
              <a:rPr b="1" lang="en-GB" sz="2000" spc="-1" strike="noStrike">
                <a:solidFill>
                  <a:srgbClr val="114ffb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563fd"/>
                </a:solidFill>
                <a:latin typeface="Arial"/>
              </a:rPr>
              <a:t>Focus on FCAP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63fd"/>
                </a:solidFill>
                <a:latin typeface="Arial"/>
              </a:rPr>
              <a:t>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63fd"/>
                </a:solidFill>
                <a:latin typeface="Arial"/>
              </a:rPr>
              <a:t>Configur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63fd"/>
                </a:solidFill>
                <a:latin typeface="Arial"/>
              </a:rPr>
              <a:t>Accoun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63fd"/>
                </a:solidFill>
                <a:latin typeface="Arial"/>
              </a:rPr>
              <a:t>Performance (  service quality in 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63fd"/>
                </a:solidFill>
                <a:latin typeface="Arial"/>
              </a:rPr>
              <a:t>Security (collaboration with D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63fd"/>
                </a:solidFill>
                <a:latin typeface="Arial"/>
              </a:rPr>
              <a:t>Subscrip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563fd"/>
                </a:solidFill>
                <a:latin typeface="Arial"/>
              </a:rPr>
              <a:t>Outpu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63fd"/>
                </a:solidFill>
                <a:latin typeface="Arial"/>
              </a:rPr>
              <a:t>The next version of SCS, RP sp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ome WG details: Naming &amp; Addressing 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63fd"/>
                </a:solidFill>
                <a:latin typeface="Arial"/>
              </a:rPr>
              <a:t>Goals</a:t>
            </a:r>
            <a:r>
              <a:rPr b="0" lang="en-GB" sz="2400" spc="-1" strike="noStrike">
                <a:solidFill>
                  <a:srgbClr val="2563fd"/>
                </a:solidFill>
                <a:latin typeface="Arial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2563fd"/>
                </a:solidFill>
                <a:latin typeface="Arial"/>
              </a:rPr>
              <a:t>To define a common Naming Framework that may be applied by the various demonstrations of The TINA Trial (TTT)  whenever they want to interoperate with another TTT demonstration. </a:t>
            </a:r>
            <a:br>
              <a:rPr sz="2400"/>
            </a:br>
            <a:r>
              <a:rPr b="0" lang="en-GB" sz="2400" spc="-1" strike="noStrike">
                <a:solidFill>
                  <a:srgbClr val="2563f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63fd"/>
                </a:solidFill>
                <a:latin typeface="Arial"/>
              </a:rPr>
              <a:t>To underline what changes have to be made to the current "TINA Naming Framework" document, version 0.2 to make it  acceptable as a TINA-C Bas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89240" y="6148440"/>
            <a:ext cx="69498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ITS’98 Sao Paulo, Brazil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Hendrik Berndt 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08/09/98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CTO  TIN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Some WG details: Application WG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2563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563fd"/>
                </a:solidFill>
                <a:latin typeface="Arial"/>
              </a:rPr>
              <a:t>Goal</a:t>
            </a:r>
            <a:r>
              <a:rPr b="0" lang="en-GB" sz="2800" spc="-1" strike="noStrike">
                <a:solidFill>
                  <a:srgbClr val="2563fd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2563fd"/>
                </a:solidFill>
                <a:latin typeface="Arial"/>
              </a:rPr>
              <a:t>To define a minimum and sufficient set of “proven” specifications to realize a small number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63fd"/>
                </a:solidFill>
                <a:latin typeface="Arial"/>
              </a:rPr>
              <a:t>The specification will be “proven” with (pre-)products that work and (trial or commercial) services that are provided to customers/* not just paper exercises nor toy prototype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63fd"/>
                </a:solidFill>
                <a:latin typeface="Arial"/>
              </a:rPr>
              <a:t>Target servic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2563fd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63fd"/>
                </a:solidFill>
                <a:latin typeface="Arial"/>
              </a:rPr>
              <a:t>Retail service for digital publishers and/or digita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63fd"/>
                </a:solidFill>
                <a:latin typeface="Arial"/>
              </a:rPr>
              <a:t>navigation for content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99"/>
              </a:spcBef>
              <a:buClr>
                <a:srgbClr val="2563f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63fd"/>
                </a:solidFill>
                <a:latin typeface="Arial"/>
              </a:rPr>
              <a:t>delivery of contents (archived information) with/without copyright to a large number of customers with/without network QoS</a:t>
            </a:r>
            <a:r>
              <a:rPr b="0" lang="en-GB" sz="2000" spc="-1" strike="noStrike">
                <a:solidFill>
                  <a:srgbClr val="2563fd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2563f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884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GB" sz="3000" spc="-1" strike="noStrike">
                <a:solidFill>
                  <a:srgbClr val="114ffb"/>
                </a:solidFill>
                <a:latin typeface="Arial"/>
              </a:rPr>
              <a:t>TINA-C Business Model</a:t>
            </a:r>
            <a:endParaRPr b="1" lang="en-US" sz="3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00040" y="76320"/>
            <a:ext cx="644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97120" y="4875120"/>
            <a:ext cx="1376640" cy="644760"/>
          </a:xfrm>
          <a:prstGeom prst="rect">
            <a:avLst/>
          </a:prstGeom>
          <a:solidFill>
            <a:srgbClr val="d32bb7"/>
          </a:soli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nectivity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97120" y="3351240"/>
            <a:ext cx="1376640" cy="644400"/>
          </a:xfrm>
          <a:prstGeom prst="rect">
            <a:avLst/>
          </a:prstGeom>
          <a:solidFill>
            <a:srgbClr val="d32bb7"/>
          </a:soli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11720" y="3351240"/>
            <a:ext cx="1376640" cy="644400"/>
          </a:xfrm>
          <a:prstGeom prst="rect">
            <a:avLst/>
          </a:prstGeom>
          <a:solidFill>
            <a:srgbClr val="d32bb7"/>
          </a:soli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pty Servic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82520" y="3351240"/>
            <a:ext cx="1376640" cy="644400"/>
          </a:xfrm>
          <a:prstGeom prst="rect">
            <a:avLst/>
          </a:prstGeom>
          <a:solidFill>
            <a:srgbClr val="d32bb7"/>
          </a:soli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97120" y="1827360"/>
            <a:ext cx="1376640" cy="644400"/>
          </a:xfrm>
          <a:prstGeom prst="rect">
            <a:avLst/>
          </a:prstGeom>
          <a:solidFill>
            <a:srgbClr val="d32bb7"/>
          </a:soli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16040" y="3711600"/>
            <a:ext cx="1027440" cy="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30640" y="3711600"/>
            <a:ext cx="102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14840" y="4030560"/>
            <a:ext cx="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43440" y="2506680"/>
            <a:ext cx="0" cy="81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95720" y="4030560"/>
            <a:ext cx="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57840" y="2340000"/>
            <a:ext cx="458640" cy="382680"/>
          </a:xfrm>
          <a:custGeom>
            <a:avLst/>
            <a:gdLst/>
            <a:ahLst/>
            <a:rect l="l" t="t" r="r" b="b"/>
            <a:pathLst>
              <a:path w="289" h="241">
                <a:moveTo>
                  <a:pt x="96" y="0"/>
                </a:moveTo>
                <a:lnTo>
                  <a:pt x="288" y="0"/>
                </a:lnTo>
                <a:lnTo>
                  <a:pt x="288" y="240"/>
                </a:lnTo>
                <a:lnTo>
                  <a:pt x="0" y="240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57840" y="3863880"/>
            <a:ext cx="458640" cy="382680"/>
          </a:xfrm>
          <a:custGeom>
            <a:avLst/>
            <a:gdLst/>
            <a:ahLst/>
            <a:rect l="l" t="t" r="r" b="b"/>
            <a:pathLst>
              <a:path w="289" h="241">
                <a:moveTo>
                  <a:pt x="96" y="0"/>
                </a:moveTo>
                <a:lnTo>
                  <a:pt x="288" y="0"/>
                </a:lnTo>
                <a:lnTo>
                  <a:pt x="288" y="240"/>
                </a:lnTo>
                <a:lnTo>
                  <a:pt x="0" y="240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57840" y="5388120"/>
            <a:ext cx="458640" cy="382320"/>
          </a:xfrm>
          <a:custGeom>
            <a:avLst/>
            <a:gdLst/>
            <a:ahLst/>
            <a:rect l="l" t="t" r="r" b="b"/>
            <a:pathLst>
              <a:path w="289" h="241">
                <a:moveTo>
                  <a:pt x="96" y="0"/>
                </a:moveTo>
                <a:lnTo>
                  <a:pt x="288" y="0"/>
                </a:lnTo>
                <a:lnTo>
                  <a:pt x="288" y="240"/>
                </a:lnTo>
                <a:lnTo>
                  <a:pt x="0" y="240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57640" y="5388120"/>
            <a:ext cx="458640" cy="382320"/>
          </a:xfrm>
          <a:custGeom>
            <a:avLst/>
            <a:gdLst/>
            <a:ahLst/>
            <a:rect l="l" t="t" r="r" b="b"/>
            <a:pathLst>
              <a:path w="289" h="241">
                <a:moveTo>
                  <a:pt x="192" y="0"/>
                </a:moveTo>
                <a:lnTo>
                  <a:pt x="0" y="0"/>
                </a:lnTo>
                <a:lnTo>
                  <a:pt x="0" y="240"/>
                </a:lnTo>
                <a:lnTo>
                  <a:pt x="288" y="240"/>
                </a:lnTo>
                <a:lnTo>
                  <a:pt x="288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72440" y="3863880"/>
            <a:ext cx="458640" cy="382680"/>
          </a:xfrm>
          <a:custGeom>
            <a:avLst/>
            <a:gdLst/>
            <a:ahLst/>
            <a:rect l="l" t="t" r="r" b="b"/>
            <a:pathLst>
              <a:path w="289" h="241">
                <a:moveTo>
                  <a:pt x="96" y="0"/>
                </a:moveTo>
                <a:lnTo>
                  <a:pt x="288" y="0"/>
                </a:lnTo>
                <a:lnTo>
                  <a:pt x="288" y="240"/>
                </a:lnTo>
                <a:lnTo>
                  <a:pt x="0" y="240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10120" y="2187720"/>
            <a:ext cx="1677960" cy="1144440"/>
          </a:xfrm>
          <a:custGeom>
            <a:avLst/>
            <a:gdLst/>
            <a:ahLst/>
            <a:rect l="l" t="t" r="r" b="b"/>
            <a:pathLst>
              <a:path w="1057" h="721">
                <a:moveTo>
                  <a:pt x="0" y="0"/>
                </a:moveTo>
                <a:lnTo>
                  <a:pt x="1056" y="0"/>
                </a:lnTo>
                <a:lnTo>
                  <a:pt x="1056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33400" y="2187720"/>
            <a:ext cx="1830600" cy="1144440"/>
          </a:xfrm>
          <a:custGeom>
            <a:avLst/>
            <a:gdLst/>
            <a:ahLst/>
            <a:rect l="l" t="t" r="r" b="b"/>
            <a:pathLst>
              <a:path w="1153" h="721">
                <a:moveTo>
                  <a:pt x="1152" y="0"/>
                </a:moveTo>
                <a:lnTo>
                  <a:pt x="0" y="0"/>
                </a:lnTo>
                <a:lnTo>
                  <a:pt x="0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33400" y="4016520"/>
            <a:ext cx="1830600" cy="1144440"/>
          </a:xfrm>
          <a:custGeom>
            <a:avLst/>
            <a:gdLst/>
            <a:ahLst/>
            <a:rect l="l" t="t" r="r" b="b"/>
            <a:pathLst>
              <a:path w="1153" h="721">
                <a:moveTo>
                  <a:pt x="1152" y="720"/>
                </a:moveTo>
                <a:lnTo>
                  <a:pt x="0" y="7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10120" y="4016520"/>
            <a:ext cx="1449360" cy="992160"/>
          </a:xfrm>
          <a:custGeom>
            <a:avLst/>
            <a:gdLst/>
            <a:ahLst/>
            <a:rect l="l" t="t" r="r" b="b"/>
            <a:pathLst>
              <a:path w="913" h="625">
                <a:moveTo>
                  <a:pt x="0" y="624"/>
                </a:moveTo>
                <a:lnTo>
                  <a:pt x="912" y="624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10120" y="4016520"/>
            <a:ext cx="1906560" cy="1144440"/>
          </a:xfrm>
          <a:custGeom>
            <a:avLst/>
            <a:gdLst/>
            <a:ahLst/>
            <a:rect l="l" t="t" r="r" b="b"/>
            <a:pathLst>
              <a:path w="1201" h="721">
                <a:moveTo>
                  <a:pt x="0" y="720"/>
                </a:moveTo>
                <a:lnTo>
                  <a:pt x="1200" y="720"/>
                </a:lnTo>
                <a:lnTo>
                  <a:pt x="120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10120" y="1959120"/>
            <a:ext cx="3049560" cy="3354120"/>
          </a:xfrm>
          <a:custGeom>
            <a:avLst/>
            <a:gdLst/>
            <a:ahLst/>
            <a:rect l="l" t="t" r="r" b="b"/>
            <a:pathLst>
              <a:path w="1921" h="2113">
                <a:moveTo>
                  <a:pt x="0" y="2112"/>
                </a:moveTo>
                <a:lnTo>
                  <a:pt x="1920" y="2112"/>
                </a:lnTo>
                <a:lnTo>
                  <a:pt x="192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05160" y="5435640"/>
            <a:ext cx="80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S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99920" y="54356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NF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19720" y="273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k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6240" y="273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k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43800" y="273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k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39440" y="273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k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11040" y="273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k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86040" y="3340080"/>
            <a:ext cx="54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24680" y="334008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43440" y="425448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82080" y="425448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18280" y="4483080"/>
            <a:ext cx="76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37600" y="4483080"/>
            <a:ext cx="76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80960" y="4483080"/>
            <a:ext cx="77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81160" y="4483080"/>
            <a:ext cx="77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99760" y="4483080"/>
            <a:ext cx="76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884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GB" sz="3000" spc="-1" strike="noStrike">
                <a:solidFill>
                  <a:srgbClr val="114ffb"/>
                </a:solidFill>
                <a:latin typeface="Arial"/>
              </a:rPr>
              <a:t>Acronyms</a:t>
            </a:r>
            <a:endParaRPr b="1" lang="en-US" sz="3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31840" y="1154160"/>
            <a:ext cx="72612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CO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Computational Objects (Elements of the Computational Mod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CORBA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Common Object Request Broker Architecture (The OMG Architect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DPE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Distributed Processing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IDL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Interface Description Language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MG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IOP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Inter ORB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kTN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Kernel Transport Network (used to support Computational interactions e.g. for control purpo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NCCE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Native Communication and Computing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DP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pen Distributed Processing (ISO Stand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DL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bject Definition Language (IDL extension to describe TINA obje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MG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Object Management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PA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Provider Agent (Counterpart of UA in the User/provider relationsh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RFR/S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Requests for Refinement and Solutions (TINA-C new proc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TINA-C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Telecommunication Information Networking Architecture (Consorti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TN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Transport Network (used to support stream interactions e.g. to support end-user 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UA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User Agent (Counterpart of PA in the User/provider relationsh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1160" indent="-91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UAP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14ffb"/>
                </a:solidFill>
                <a:latin typeface="Arial"/>
              </a:rPr>
              <a:t>User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496200" y="1706400"/>
            <a:ext cx="1769760" cy="3756240"/>
          </a:xfrm>
          <a:custGeom>
            <a:avLst/>
            <a:gdLst/>
            <a:ahLst/>
            <a:rect l="l" t="t" r="r" b="b"/>
            <a:pathLst>
              <a:path w="1115" h="2366">
                <a:moveTo>
                  <a:pt x="1114" y="1186"/>
                </a:moveTo>
                <a:lnTo>
                  <a:pt x="1109" y="945"/>
                </a:lnTo>
                <a:lnTo>
                  <a:pt x="1070" y="720"/>
                </a:lnTo>
                <a:lnTo>
                  <a:pt x="1019" y="518"/>
                </a:lnTo>
                <a:lnTo>
                  <a:pt x="953" y="344"/>
                </a:lnTo>
                <a:lnTo>
                  <a:pt x="866" y="202"/>
                </a:lnTo>
                <a:lnTo>
                  <a:pt x="774" y="95"/>
                </a:lnTo>
                <a:lnTo>
                  <a:pt x="670" y="28"/>
                </a:lnTo>
                <a:lnTo>
                  <a:pt x="562" y="0"/>
                </a:lnTo>
                <a:lnTo>
                  <a:pt x="445" y="28"/>
                </a:lnTo>
                <a:lnTo>
                  <a:pt x="344" y="95"/>
                </a:lnTo>
                <a:lnTo>
                  <a:pt x="248" y="202"/>
                </a:lnTo>
                <a:lnTo>
                  <a:pt x="167" y="344"/>
                </a:lnTo>
                <a:lnTo>
                  <a:pt x="95" y="518"/>
                </a:lnTo>
                <a:lnTo>
                  <a:pt x="46" y="720"/>
                </a:lnTo>
                <a:lnTo>
                  <a:pt x="15" y="945"/>
                </a:lnTo>
                <a:lnTo>
                  <a:pt x="0" y="1186"/>
                </a:lnTo>
                <a:lnTo>
                  <a:pt x="15" y="1421"/>
                </a:lnTo>
                <a:lnTo>
                  <a:pt x="46" y="1645"/>
                </a:lnTo>
                <a:lnTo>
                  <a:pt x="95" y="1847"/>
                </a:lnTo>
                <a:lnTo>
                  <a:pt x="167" y="2022"/>
                </a:lnTo>
                <a:lnTo>
                  <a:pt x="248" y="2163"/>
                </a:lnTo>
                <a:lnTo>
                  <a:pt x="344" y="2271"/>
                </a:lnTo>
                <a:lnTo>
                  <a:pt x="445" y="2338"/>
                </a:lnTo>
                <a:lnTo>
                  <a:pt x="562" y="2365"/>
                </a:lnTo>
                <a:lnTo>
                  <a:pt x="670" y="2338"/>
                </a:lnTo>
                <a:lnTo>
                  <a:pt x="774" y="2271"/>
                </a:lnTo>
                <a:lnTo>
                  <a:pt x="866" y="2163"/>
                </a:lnTo>
                <a:lnTo>
                  <a:pt x="953" y="2022"/>
                </a:lnTo>
                <a:lnTo>
                  <a:pt x="1019" y="1847"/>
                </a:lnTo>
                <a:lnTo>
                  <a:pt x="1070" y="1645"/>
                </a:lnTo>
                <a:lnTo>
                  <a:pt x="1109" y="1421"/>
                </a:lnTo>
                <a:lnTo>
                  <a:pt x="1114" y="1186"/>
                </a:lnTo>
              </a:path>
            </a:pathLst>
          </a:custGeom>
          <a:noFill/>
          <a:ln cap="rnd" w="255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32480" y="2444760"/>
            <a:ext cx="2216160" cy="368280"/>
          </a:xfrm>
          <a:prstGeom prst="rect">
            <a:avLst/>
          </a:prstGeom>
          <a:solidFill>
            <a:srgbClr val="114ffb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Ph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4530600" y="-91800"/>
            <a:ext cx="660240" cy="7575480"/>
          </a:xfrm>
          <a:prstGeom prst="rtTriangle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3720" y="228240"/>
            <a:ext cx="723924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Timeline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05840" y="3981600"/>
            <a:ext cx="172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idation etc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02600" y="416736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02240" y="4357800"/>
            <a:ext cx="98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4280" y="5214960"/>
            <a:ext cx="280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orldwide Demonst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6320" y="4754520"/>
            <a:ext cx="128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ecom’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6200" y="5079960"/>
            <a:ext cx="314280" cy="136440"/>
          </a:xfrm>
          <a:custGeom>
            <a:avLst/>
            <a:gdLst/>
            <a:ahLst/>
            <a:rect l="l" t="t" r="r" b="b"/>
            <a:pathLst>
              <a:path w="198" h="86">
                <a:moveTo>
                  <a:pt x="197" y="0"/>
                </a:moveTo>
                <a:lnTo>
                  <a:pt x="97" y="85"/>
                </a:lnTo>
                <a:lnTo>
                  <a:pt x="0" y="0"/>
                </a:lnTo>
                <a:lnTo>
                  <a:pt x="19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4720" y="2419200"/>
            <a:ext cx="5915160" cy="9720"/>
          </a:xfrm>
          <a:custGeom>
            <a:avLst/>
            <a:gdLst/>
            <a:ahLst/>
            <a:rect l="l" t="t" r="r" b="b"/>
            <a:pathLst>
              <a:path w="3726" h="6">
                <a:moveTo>
                  <a:pt x="0" y="5"/>
                </a:moveTo>
                <a:lnTo>
                  <a:pt x="3725" y="5"/>
                </a:lnTo>
                <a:lnTo>
                  <a:pt x="3725" y="0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18440" y="2427120"/>
            <a:ext cx="9360" cy="360360"/>
          </a:xfrm>
          <a:custGeom>
            <a:avLst/>
            <a:gdLst/>
            <a:ahLst/>
            <a:rect l="l" t="t" r="r" b="b"/>
            <a:pathLst>
              <a:path w="6" h="227">
                <a:moveTo>
                  <a:pt x="5" y="0"/>
                </a:moveTo>
                <a:lnTo>
                  <a:pt x="0" y="0"/>
                </a:lnTo>
                <a:lnTo>
                  <a:pt x="0" y="226"/>
                </a:lnTo>
                <a:lnTo>
                  <a:pt x="5" y="226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2760" y="2819520"/>
            <a:ext cx="5905440" cy="9360"/>
          </a:xfrm>
          <a:custGeom>
            <a:avLst/>
            <a:gdLst/>
            <a:ahLst/>
            <a:rect l="l" t="t" r="r" b="b"/>
            <a:pathLst>
              <a:path w="3720" h="6">
                <a:moveTo>
                  <a:pt x="0" y="5"/>
                </a:moveTo>
                <a:lnTo>
                  <a:pt x="3719" y="5"/>
                </a:lnTo>
                <a:lnTo>
                  <a:pt x="3719" y="0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480" y="2427120"/>
            <a:ext cx="5040" cy="352440"/>
          </a:xfrm>
          <a:custGeom>
            <a:avLst/>
            <a:gdLst/>
            <a:ahLst/>
            <a:rect l="l" t="t" r="r" b="b"/>
            <a:pathLst>
              <a:path w="3" h="222">
                <a:moveTo>
                  <a:pt x="2" y="0"/>
                </a:moveTo>
                <a:lnTo>
                  <a:pt x="0" y="0"/>
                </a:lnTo>
                <a:lnTo>
                  <a:pt x="0" y="221"/>
                </a:lnTo>
                <a:lnTo>
                  <a:pt x="2" y="221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55640" y="242712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55640" y="27939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55640" y="2427120"/>
            <a:ext cx="5040" cy="352440"/>
          </a:xfrm>
          <a:custGeom>
            <a:avLst/>
            <a:gdLst/>
            <a:ahLst/>
            <a:rect l="l" t="t" r="r" b="b"/>
            <a:pathLst>
              <a:path w="3" h="222">
                <a:moveTo>
                  <a:pt x="0" y="0"/>
                </a:moveTo>
                <a:lnTo>
                  <a:pt x="2" y="0"/>
                </a:lnTo>
                <a:lnTo>
                  <a:pt x="2" y="221"/>
                </a:lnTo>
                <a:lnTo>
                  <a:pt x="0" y="22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67040" y="242712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67040" y="27716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7040" y="2427120"/>
            <a:ext cx="4680" cy="330480"/>
          </a:xfrm>
          <a:custGeom>
            <a:avLst/>
            <a:gdLst/>
            <a:ahLst/>
            <a:rect l="l" t="t" r="r" b="b"/>
            <a:pathLst>
              <a:path w="3" h="208">
                <a:moveTo>
                  <a:pt x="0" y="0"/>
                </a:moveTo>
                <a:lnTo>
                  <a:pt x="2" y="0"/>
                </a:lnTo>
                <a:lnTo>
                  <a:pt x="2" y="207"/>
                </a:lnTo>
                <a:lnTo>
                  <a:pt x="0" y="20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44960" y="2427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4960" y="2793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4960" y="2427120"/>
            <a:ext cx="3240" cy="352440"/>
          </a:xfrm>
          <a:custGeom>
            <a:avLst/>
            <a:gdLst/>
            <a:ahLst/>
            <a:rect l="l" t="t" r="r" b="b"/>
            <a:pathLst>
              <a:path w="2" h="222">
                <a:moveTo>
                  <a:pt x="0" y="0"/>
                </a:moveTo>
                <a:lnTo>
                  <a:pt x="1" y="0"/>
                </a:lnTo>
                <a:lnTo>
                  <a:pt x="1" y="221"/>
                </a:lnTo>
                <a:lnTo>
                  <a:pt x="0" y="22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4560" y="2435400"/>
            <a:ext cx="972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4560" y="2793960"/>
            <a:ext cx="97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70400" y="2438280"/>
            <a:ext cx="7920" cy="344520"/>
          </a:xfrm>
          <a:custGeom>
            <a:avLst/>
            <a:gdLst/>
            <a:ahLst/>
            <a:rect l="l" t="t" r="r" b="b"/>
            <a:pathLst>
              <a:path w="5" h="217">
                <a:moveTo>
                  <a:pt x="0" y="0"/>
                </a:moveTo>
                <a:lnTo>
                  <a:pt x="4" y="0"/>
                </a:lnTo>
                <a:lnTo>
                  <a:pt x="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7280" y="276372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su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08680" y="277812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su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75440" y="277812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su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34360" y="276372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su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9040" y="2763720"/>
            <a:ext cx="65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8560" y="2433600"/>
            <a:ext cx="137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36040" y="2433600"/>
            <a:ext cx="102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760" y="198612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7720" y="19861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55040" y="197496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46680" y="2608200"/>
            <a:ext cx="107640" cy="50760"/>
          </a:xfrm>
          <a:custGeom>
            <a:avLst/>
            <a:gdLst/>
            <a:ahLst/>
            <a:rect l="l" t="t" r="r" b="b"/>
            <a:pathLst>
              <a:path w="68" h="32">
                <a:moveTo>
                  <a:pt x="0" y="0"/>
                </a:moveTo>
                <a:lnTo>
                  <a:pt x="67" y="14"/>
                </a:lnTo>
                <a:lnTo>
                  <a:pt x="0" y="31"/>
                </a:lnTo>
                <a:lnTo>
                  <a:pt x="0" y="1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7240" y="263700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46680" y="263700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27240" y="2637000"/>
            <a:ext cx="1803240" cy="2880"/>
          </a:xfrm>
          <a:custGeom>
            <a:avLst/>
            <a:gdLst/>
            <a:ahLst/>
            <a:rect l="l" t="t" r="r" b="b"/>
            <a:pathLst>
              <a:path w="1136" h="2">
                <a:moveTo>
                  <a:pt x="0" y="1"/>
                </a:moveTo>
                <a:lnTo>
                  <a:pt x="0" y="0"/>
                </a:lnTo>
                <a:lnTo>
                  <a:pt x="1135" y="0"/>
                </a:lnTo>
                <a:lnTo>
                  <a:pt x="1135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54640" y="2441520"/>
            <a:ext cx="115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921360" y="1841400"/>
            <a:ext cx="333360" cy="655560"/>
            <a:chOff x="6921360" y="1841400"/>
            <a:chExt cx="333360" cy="655560"/>
          </a:xfrm>
        </p:grpSpPr>
        <p:sp>
          <p:nvSpPr>
            <p:cNvPr id="134" name=""/>
            <p:cNvSpPr/>
            <p:nvPr/>
          </p:nvSpPr>
          <p:spPr>
            <a:xfrm>
              <a:off x="6921360" y="1919160"/>
              <a:ext cx="333360" cy="577800"/>
            </a:xfrm>
            <a:custGeom>
              <a:avLst/>
              <a:gdLst/>
              <a:ahLst/>
              <a:rect l="l" t="t" r="r" b="b"/>
              <a:pathLst>
                <a:path w="210" h="364">
                  <a:moveTo>
                    <a:pt x="92" y="0"/>
                  </a:moveTo>
                  <a:lnTo>
                    <a:pt x="141" y="0"/>
                  </a:lnTo>
                  <a:lnTo>
                    <a:pt x="175" y="21"/>
                  </a:lnTo>
                  <a:lnTo>
                    <a:pt x="195" y="46"/>
                  </a:lnTo>
                  <a:lnTo>
                    <a:pt x="195" y="100"/>
                  </a:lnTo>
                  <a:lnTo>
                    <a:pt x="195" y="152"/>
                  </a:lnTo>
                  <a:lnTo>
                    <a:pt x="204" y="206"/>
                  </a:lnTo>
                  <a:lnTo>
                    <a:pt x="209" y="243"/>
                  </a:lnTo>
                  <a:lnTo>
                    <a:pt x="204" y="252"/>
                  </a:lnTo>
                  <a:lnTo>
                    <a:pt x="190" y="257"/>
                  </a:lnTo>
                  <a:lnTo>
                    <a:pt x="181" y="243"/>
                  </a:lnTo>
                  <a:lnTo>
                    <a:pt x="167" y="238"/>
                  </a:lnTo>
                  <a:lnTo>
                    <a:pt x="160" y="290"/>
                  </a:lnTo>
                  <a:lnTo>
                    <a:pt x="160" y="349"/>
                  </a:lnTo>
                  <a:lnTo>
                    <a:pt x="146" y="363"/>
                  </a:lnTo>
                  <a:lnTo>
                    <a:pt x="132" y="363"/>
                  </a:lnTo>
                  <a:lnTo>
                    <a:pt x="127" y="355"/>
                  </a:lnTo>
                  <a:lnTo>
                    <a:pt x="117" y="349"/>
                  </a:lnTo>
                  <a:lnTo>
                    <a:pt x="117" y="317"/>
                  </a:lnTo>
                  <a:lnTo>
                    <a:pt x="117" y="284"/>
                  </a:lnTo>
                  <a:lnTo>
                    <a:pt x="117" y="252"/>
                  </a:lnTo>
                  <a:lnTo>
                    <a:pt x="117" y="225"/>
                  </a:lnTo>
                  <a:lnTo>
                    <a:pt x="117" y="243"/>
                  </a:lnTo>
                  <a:lnTo>
                    <a:pt x="117" y="276"/>
                  </a:lnTo>
                  <a:lnTo>
                    <a:pt x="103" y="276"/>
                  </a:lnTo>
                  <a:lnTo>
                    <a:pt x="83" y="276"/>
                  </a:lnTo>
                  <a:lnTo>
                    <a:pt x="83" y="243"/>
                  </a:lnTo>
                  <a:lnTo>
                    <a:pt x="83" y="225"/>
                  </a:lnTo>
                  <a:lnTo>
                    <a:pt x="83" y="238"/>
                  </a:lnTo>
                  <a:lnTo>
                    <a:pt x="83" y="266"/>
                  </a:lnTo>
                  <a:lnTo>
                    <a:pt x="63" y="266"/>
                  </a:lnTo>
                  <a:lnTo>
                    <a:pt x="43" y="266"/>
                  </a:lnTo>
                  <a:lnTo>
                    <a:pt x="43" y="238"/>
                  </a:lnTo>
                  <a:lnTo>
                    <a:pt x="43" y="217"/>
                  </a:lnTo>
                  <a:lnTo>
                    <a:pt x="43" y="238"/>
                  </a:lnTo>
                  <a:lnTo>
                    <a:pt x="35" y="252"/>
                  </a:lnTo>
                  <a:lnTo>
                    <a:pt x="21" y="257"/>
                  </a:lnTo>
                  <a:lnTo>
                    <a:pt x="0" y="252"/>
                  </a:lnTo>
                  <a:lnTo>
                    <a:pt x="0" y="206"/>
                  </a:lnTo>
                  <a:lnTo>
                    <a:pt x="0" y="152"/>
                  </a:lnTo>
                  <a:lnTo>
                    <a:pt x="0" y="106"/>
                  </a:lnTo>
                  <a:lnTo>
                    <a:pt x="0" y="59"/>
                  </a:lnTo>
                  <a:lnTo>
                    <a:pt x="14" y="27"/>
                  </a:lnTo>
                  <a:lnTo>
                    <a:pt x="43" y="0"/>
                  </a:lnTo>
                  <a:lnTo>
                    <a:pt x="92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96040" y="2295360"/>
              <a:ext cx="648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21600" y="213516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1080" y="2135160"/>
              <a:ext cx="21960" cy="14616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0" y="91"/>
                  </a:moveTo>
                  <a:lnTo>
                    <a:pt x="4" y="9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0" y="91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91280" y="22766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77240" y="2255760"/>
              <a:ext cx="9360" cy="180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5160" y="22557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3"/>
                  </a:moveTo>
                  <a:lnTo>
                    <a:pt x="4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3080" y="227016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08920" y="227016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91280" y="227016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08840" y="22766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96240" y="2255760"/>
              <a:ext cx="9360" cy="180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04160" y="22557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3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2080" y="227016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37280" y="22701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12080" y="22701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0" y="4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3400" y="22766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9000" y="225576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45480" y="225576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3"/>
                  </a:move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6280" y="22701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227016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53400" y="227016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75360" y="1841400"/>
              <a:ext cx="193680" cy="6048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692800" y="2919240"/>
            <a:ext cx="219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Architecture iss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3320" y="3424320"/>
            <a:ext cx="10332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64" y="24"/>
                </a:moveTo>
                <a:lnTo>
                  <a:pt x="0" y="65"/>
                </a:lnTo>
                <a:lnTo>
                  <a:pt x="25" y="0"/>
                </a:lnTo>
                <a:lnTo>
                  <a:pt x="43" y="12"/>
                </a:lnTo>
                <a:lnTo>
                  <a:pt x="64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12840" y="315612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0" y="41"/>
                </a:moveTo>
                <a:lnTo>
                  <a:pt x="55" y="0"/>
                </a:lnTo>
                <a:lnTo>
                  <a:pt x="30" y="65"/>
                </a:lnTo>
                <a:lnTo>
                  <a:pt x="13" y="53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4401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0" y="0"/>
                </a:lnTo>
                <a:lnTo>
                  <a:pt x="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2497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4320" y="3252960"/>
            <a:ext cx="150840" cy="188640"/>
          </a:xfrm>
          <a:custGeom>
            <a:avLst/>
            <a:gdLst/>
            <a:ahLst/>
            <a:rect l="l" t="t" r="r" b="b"/>
            <a:pathLst>
              <a:path w="95" h="119">
                <a:moveTo>
                  <a:pt x="0" y="112"/>
                </a:moveTo>
                <a:lnTo>
                  <a:pt x="8" y="118"/>
                </a:lnTo>
                <a:lnTo>
                  <a:pt x="94" y="7"/>
                </a:lnTo>
                <a:lnTo>
                  <a:pt x="86" y="0"/>
                </a:lnTo>
                <a:lnTo>
                  <a:pt x="0" y="1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4640" y="3424320"/>
            <a:ext cx="98640" cy="104760"/>
          </a:xfrm>
          <a:custGeom>
            <a:avLst/>
            <a:gdLst/>
            <a:ahLst/>
            <a:rect l="l" t="t" r="r" b="b"/>
            <a:pathLst>
              <a:path w="62" h="66">
                <a:moveTo>
                  <a:pt x="61" y="24"/>
                </a:moveTo>
                <a:lnTo>
                  <a:pt x="0" y="65"/>
                </a:lnTo>
                <a:lnTo>
                  <a:pt x="26" y="0"/>
                </a:lnTo>
                <a:lnTo>
                  <a:pt x="44" y="12"/>
                </a:lnTo>
                <a:lnTo>
                  <a:pt x="61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51280" y="315612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0" y="41"/>
                </a:moveTo>
                <a:lnTo>
                  <a:pt x="55" y="0"/>
                </a:lnTo>
                <a:lnTo>
                  <a:pt x="32" y="65"/>
                </a:lnTo>
                <a:lnTo>
                  <a:pt x="13" y="53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7720" y="34401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lnTo>
                  <a:pt x="0" y="0"/>
                </a:lnTo>
                <a:lnTo>
                  <a:pt x="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497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7440" y="3252960"/>
            <a:ext cx="145800" cy="188640"/>
          </a:xfrm>
          <a:custGeom>
            <a:avLst/>
            <a:gdLst/>
            <a:ahLst/>
            <a:rect l="l" t="t" r="r" b="b"/>
            <a:pathLst>
              <a:path w="92" h="119">
                <a:moveTo>
                  <a:pt x="0" y="112"/>
                </a:moveTo>
                <a:lnTo>
                  <a:pt x="4" y="118"/>
                </a:lnTo>
                <a:lnTo>
                  <a:pt x="91" y="7"/>
                </a:lnTo>
                <a:lnTo>
                  <a:pt x="83" y="0"/>
                </a:lnTo>
                <a:lnTo>
                  <a:pt x="0" y="1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2240" y="3424320"/>
            <a:ext cx="10332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64" y="24"/>
                </a:moveTo>
                <a:lnTo>
                  <a:pt x="0" y="65"/>
                </a:lnTo>
                <a:lnTo>
                  <a:pt x="25" y="0"/>
                </a:lnTo>
                <a:lnTo>
                  <a:pt x="43" y="12"/>
                </a:lnTo>
                <a:lnTo>
                  <a:pt x="64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71760" y="315612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0" y="41"/>
                </a:moveTo>
                <a:lnTo>
                  <a:pt x="55" y="0"/>
                </a:lnTo>
                <a:lnTo>
                  <a:pt x="30" y="65"/>
                </a:lnTo>
                <a:lnTo>
                  <a:pt x="13" y="53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0" y="34401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0" y="0"/>
                </a:lnTo>
                <a:lnTo>
                  <a:pt x="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2640" y="32497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3240" y="3252960"/>
            <a:ext cx="146160" cy="188640"/>
          </a:xfrm>
          <a:custGeom>
            <a:avLst/>
            <a:gdLst/>
            <a:ahLst/>
            <a:rect l="l" t="t" r="r" b="b"/>
            <a:pathLst>
              <a:path w="92" h="119">
                <a:moveTo>
                  <a:pt x="0" y="112"/>
                </a:moveTo>
                <a:lnTo>
                  <a:pt x="8" y="118"/>
                </a:lnTo>
                <a:lnTo>
                  <a:pt x="91" y="7"/>
                </a:lnTo>
                <a:lnTo>
                  <a:pt x="87" y="0"/>
                </a:lnTo>
                <a:lnTo>
                  <a:pt x="0" y="1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424320"/>
            <a:ext cx="100080" cy="104760"/>
          </a:xfrm>
          <a:custGeom>
            <a:avLst/>
            <a:gdLst/>
            <a:ahLst/>
            <a:rect l="l" t="t" r="r" b="b"/>
            <a:pathLst>
              <a:path w="63" h="66">
                <a:moveTo>
                  <a:pt x="62" y="24"/>
                </a:moveTo>
                <a:lnTo>
                  <a:pt x="0" y="65"/>
                </a:lnTo>
                <a:lnTo>
                  <a:pt x="26" y="0"/>
                </a:lnTo>
                <a:lnTo>
                  <a:pt x="45" y="12"/>
                </a:lnTo>
                <a:lnTo>
                  <a:pt x="62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92600" y="3156120"/>
            <a:ext cx="90360" cy="104760"/>
          </a:xfrm>
          <a:custGeom>
            <a:avLst/>
            <a:gdLst/>
            <a:ahLst/>
            <a:rect l="l" t="t" r="r" b="b"/>
            <a:pathLst>
              <a:path w="57" h="66">
                <a:moveTo>
                  <a:pt x="0" y="41"/>
                </a:moveTo>
                <a:lnTo>
                  <a:pt x="56" y="0"/>
                </a:lnTo>
                <a:lnTo>
                  <a:pt x="31" y="65"/>
                </a:lnTo>
                <a:lnTo>
                  <a:pt x="13" y="53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60840" y="34401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0" y="0"/>
                </a:lnTo>
                <a:lnTo>
                  <a:pt x="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440" y="324972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6" y="2"/>
                </a:moveTo>
                <a:lnTo>
                  <a:pt x="0" y="0"/>
                </a:lnTo>
                <a:lnTo>
                  <a:pt x="6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3252960"/>
            <a:ext cx="145800" cy="188640"/>
          </a:xfrm>
          <a:custGeom>
            <a:avLst/>
            <a:gdLst/>
            <a:ahLst/>
            <a:rect l="l" t="t" r="r" b="b"/>
            <a:pathLst>
              <a:path w="92" h="119">
                <a:moveTo>
                  <a:pt x="0" y="112"/>
                </a:moveTo>
                <a:lnTo>
                  <a:pt x="8" y="118"/>
                </a:lnTo>
                <a:lnTo>
                  <a:pt x="91" y="7"/>
                </a:lnTo>
                <a:lnTo>
                  <a:pt x="87" y="0"/>
                </a:lnTo>
                <a:lnTo>
                  <a:pt x="0" y="1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03560" y="3424320"/>
            <a:ext cx="98640" cy="104760"/>
          </a:xfrm>
          <a:custGeom>
            <a:avLst/>
            <a:gdLst/>
            <a:ahLst/>
            <a:rect l="l" t="t" r="r" b="b"/>
            <a:pathLst>
              <a:path w="62" h="66">
                <a:moveTo>
                  <a:pt x="61" y="24"/>
                </a:moveTo>
                <a:lnTo>
                  <a:pt x="0" y="65"/>
                </a:lnTo>
                <a:lnTo>
                  <a:pt x="22" y="0"/>
                </a:lnTo>
                <a:lnTo>
                  <a:pt x="44" y="12"/>
                </a:lnTo>
                <a:lnTo>
                  <a:pt x="61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0200" y="315612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0" y="41"/>
                </a:moveTo>
                <a:lnTo>
                  <a:pt x="55" y="0"/>
                </a:lnTo>
                <a:lnTo>
                  <a:pt x="32" y="65"/>
                </a:lnTo>
                <a:lnTo>
                  <a:pt x="13" y="53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76640" y="34401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lnTo>
                  <a:pt x="0" y="0"/>
                </a:lnTo>
                <a:lnTo>
                  <a:pt x="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30720" y="32497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6360" y="3252960"/>
            <a:ext cx="145800" cy="188640"/>
          </a:xfrm>
          <a:custGeom>
            <a:avLst/>
            <a:gdLst/>
            <a:ahLst/>
            <a:rect l="l" t="t" r="r" b="b"/>
            <a:pathLst>
              <a:path w="92" h="119">
                <a:moveTo>
                  <a:pt x="0" y="112"/>
                </a:moveTo>
                <a:lnTo>
                  <a:pt x="4" y="118"/>
                </a:lnTo>
                <a:lnTo>
                  <a:pt x="91" y="7"/>
                </a:lnTo>
                <a:lnTo>
                  <a:pt x="83" y="0"/>
                </a:lnTo>
                <a:lnTo>
                  <a:pt x="0" y="1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0200" y="3424320"/>
            <a:ext cx="100080" cy="104760"/>
          </a:xfrm>
          <a:custGeom>
            <a:avLst/>
            <a:gdLst/>
            <a:ahLst/>
            <a:rect l="l" t="t" r="r" b="b"/>
            <a:pathLst>
              <a:path w="63" h="66">
                <a:moveTo>
                  <a:pt x="62" y="24"/>
                </a:moveTo>
                <a:lnTo>
                  <a:pt x="0" y="65"/>
                </a:lnTo>
                <a:lnTo>
                  <a:pt x="26" y="0"/>
                </a:lnTo>
                <a:lnTo>
                  <a:pt x="45" y="12"/>
                </a:lnTo>
                <a:lnTo>
                  <a:pt x="62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1520" y="3156120"/>
            <a:ext cx="90360" cy="104760"/>
          </a:xfrm>
          <a:custGeom>
            <a:avLst/>
            <a:gdLst/>
            <a:ahLst/>
            <a:rect l="l" t="t" r="r" b="b"/>
            <a:pathLst>
              <a:path w="57" h="66">
                <a:moveTo>
                  <a:pt x="0" y="41"/>
                </a:moveTo>
                <a:lnTo>
                  <a:pt x="56" y="0"/>
                </a:lnTo>
                <a:lnTo>
                  <a:pt x="31" y="65"/>
                </a:lnTo>
                <a:lnTo>
                  <a:pt x="13" y="53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9760" y="34401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0" y="0"/>
                </a:lnTo>
                <a:lnTo>
                  <a:pt x="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67360" y="324972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6" y="2"/>
                </a:moveTo>
                <a:lnTo>
                  <a:pt x="0" y="0"/>
                </a:lnTo>
                <a:lnTo>
                  <a:pt x="6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23000" y="3252960"/>
            <a:ext cx="145800" cy="188640"/>
          </a:xfrm>
          <a:custGeom>
            <a:avLst/>
            <a:gdLst/>
            <a:ahLst/>
            <a:rect l="l" t="t" r="r" b="b"/>
            <a:pathLst>
              <a:path w="92" h="119">
                <a:moveTo>
                  <a:pt x="0" y="112"/>
                </a:moveTo>
                <a:lnTo>
                  <a:pt x="8" y="118"/>
                </a:lnTo>
                <a:lnTo>
                  <a:pt x="91" y="7"/>
                </a:lnTo>
                <a:lnTo>
                  <a:pt x="87" y="0"/>
                </a:lnTo>
                <a:lnTo>
                  <a:pt x="0" y="1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24160" y="3424320"/>
            <a:ext cx="98280" cy="104760"/>
          </a:xfrm>
          <a:custGeom>
            <a:avLst/>
            <a:gdLst/>
            <a:ahLst/>
            <a:rect l="l" t="t" r="r" b="b"/>
            <a:pathLst>
              <a:path w="62" h="66">
                <a:moveTo>
                  <a:pt x="61" y="24"/>
                </a:moveTo>
                <a:lnTo>
                  <a:pt x="0" y="65"/>
                </a:lnTo>
                <a:lnTo>
                  <a:pt x="25" y="0"/>
                </a:lnTo>
                <a:lnTo>
                  <a:pt x="44" y="12"/>
                </a:lnTo>
                <a:lnTo>
                  <a:pt x="61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33680" y="3156120"/>
            <a:ext cx="90360" cy="104760"/>
          </a:xfrm>
          <a:custGeom>
            <a:avLst/>
            <a:gdLst/>
            <a:ahLst/>
            <a:rect l="l" t="t" r="r" b="b"/>
            <a:pathLst>
              <a:path w="57" h="66">
                <a:moveTo>
                  <a:pt x="0" y="41"/>
                </a:moveTo>
                <a:lnTo>
                  <a:pt x="56" y="0"/>
                </a:lnTo>
                <a:lnTo>
                  <a:pt x="31" y="65"/>
                </a:lnTo>
                <a:lnTo>
                  <a:pt x="13" y="53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1920" y="34401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0" y="0"/>
                </a:lnTo>
                <a:lnTo>
                  <a:pt x="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49520" y="324972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6" y="2"/>
                </a:moveTo>
                <a:lnTo>
                  <a:pt x="0" y="0"/>
                </a:lnTo>
                <a:lnTo>
                  <a:pt x="6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05160" y="3252960"/>
            <a:ext cx="145800" cy="188640"/>
          </a:xfrm>
          <a:custGeom>
            <a:avLst/>
            <a:gdLst/>
            <a:ahLst/>
            <a:rect l="l" t="t" r="r" b="b"/>
            <a:pathLst>
              <a:path w="92" h="119">
                <a:moveTo>
                  <a:pt x="0" y="112"/>
                </a:moveTo>
                <a:lnTo>
                  <a:pt x="8" y="118"/>
                </a:lnTo>
                <a:lnTo>
                  <a:pt x="91" y="7"/>
                </a:lnTo>
                <a:lnTo>
                  <a:pt x="87" y="0"/>
                </a:lnTo>
                <a:lnTo>
                  <a:pt x="0" y="1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3424320"/>
            <a:ext cx="1047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65" y="24"/>
                </a:moveTo>
                <a:lnTo>
                  <a:pt x="0" y="65"/>
                </a:lnTo>
                <a:lnTo>
                  <a:pt x="26" y="0"/>
                </a:lnTo>
                <a:lnTo>
                  <a:pt x="44" y="12"/>
                </a:lnTo>
                <a:lnTo>
                  <a:pt x="65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30680" y="315612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0" y="41"/>
                </a:moveTo>
                <a:lnTo>
                  <a:pt x="55" y="0"/>
                </a:lnTo>
                <a:lnTo>
                  <a:pt x="30" y="65"/>
                </a:lnTo>
                <a:lnTo>
                  <a:pt x="13" y="53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8920" y="34401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0" y="0"/>
                </a:lnTo>
                <a:lnTo>
                  <a:pt x="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6520" y="324972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5" y="2"/>
                </a:moveTo>
                <a:lnTo>
                  <a:pt x="0" y="0"/>
                </a:lnTo>
                <a:lnTo>
                  <a:pt x="5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2160" y="3252960"/>
            <a:ext cx="146160" cy="188640"/>
          </a:xfrm>
          <a:custGeom>
            <a:avLst/>
            <a:gdLst/>
            <a:ahLst/>
            <a:rect l="l" t="t" r="r" b="b"/>
            <a:pathLst>
              <a:path w="92" h="119">
                <a:moveTo>
                  <a:pt x="0" y="112"/>
                </a:moveTo>
                <a:lnTo>
                  <a:pt x="8" y="118"/>
                </a:lnTo>
                <a:lnTo>
                  <a:pt x="91" y="7"/>
                </a:lnTo>
                <a:lnTo>
                  <a:pt x="87" y="0"/>
                </a:lnTo>
                <a:lnTo>
                  <a:pt x="0" y="1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84840" y="498312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30" y="0"/>
                </a:moveTo>
                <a:lnTo>
                  <a:pt x="55" y="65"/>
                </a:lnTo>
                <a:lnTo>
                  <a:pt x="0" y="24"/>
                </a:lnTo>
                <a:lnTo>
                  <a:pt x="13" y="12"/>
                </a:lnTo>
                <a:lnTo>
                  <a:pt x="3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4232160"/>
            <a:ext cx="9864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30" y="62"/>
                </a:moveTo>
                <a:lnTo>
                  <a:pt x="0" y="0"/>
                </a:lnTo>
                <a:lnTo>
                  <a:pt x="61" y="40"/>
                </a:lnTo>
                <a:lnTo>
                  <a:pt x="43" y="53"/>
                </a:lnTo>
                <a:lnTo>
                  <a:pt x="30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05360" y="4997520"/>
            <a:ext cx="5040" cy="9360"/>
          </a:xfrm>
          <a:custGeom>
            <a:avLst/>
            <a:gdLst/>
            <a:ahLst/>
            <a:rect l="l" t="t" r="r" b="b"/>
            <a:pathLst>
              <a:path w="3" h="6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30800" y="43228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0" y="4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37280" y="4329000"/>
            <a:ext cx="565200" cy="669960"/>
          </a:xfrm>
          <a:custGeom>
            <a:avLst/>
            <a:gdLst/>
            <a:ahLst/>
            <a:rect l="l" t="t" r="r" b="b"/>
            <a:pathLst>
              <a:path w="356" h="422">
                <a:moveTo>
                  <a:pt x="350" y="421"/>
                </a:moveTo>
                <a:lnTo>
                  <a:pt x="355" y="416"/>
                </a:lnTo>
                <a:lnTo>
                  <a:pt x="7" y="0"/>
                </a:lnTo>
                <a:lnTo>
                  <a:pt x="0" y="6"/>
                </a:lnTo>
                <a:lnTo>
                  <a:pt x="350" y="4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68760" y="498312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32" y="0"/>
                </a:moveTo>
                <a:lnTo>
                  <a:pt x="55" y="65"/>
                </a:lnTo>
                <a:lnTo>
                  <a:pt x="0" y="24"/>
                </a:lnTo>
                <a:lnTo>
                  <a:pt x="13" y="12"/>
                </a:lnTo>
                <a:lnTo>
                  <a:pt x="3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40200" y="4232160"/>
            <a:ext cx="10008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2" y="62"/>
                </a:moveTo>
                <a:lnTo>
                  <a:pt x="0" y="0"/>
                </a:lnTo>
                <a:lnTo>
                  <a:pt x="62" y="40"/>
                </a:lnTo>
                <a:lnTo>
                  <a:pt x="45" y="53"/>
                </a:lnTo>
                <a:lnTo>
                  <a:pt x="32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9640" y="4997520"/>
            <a:ext cx="4680" cy="9360"/>
          </a:xfrm>
          <a:custGeom>
            <a:avLst/>
            <a:gdLst/>
            <a:ahLst/>
            <a:rect l="l" t="t" r="r" b="b"/>
            <a:pathLst>
              <a:path w="3" h="6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19760" y="43228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0"/>
                </a:moveTo>
                <a:lnTo>
                  <a:pt x="0" y="4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23000" y="4329000"/>
            <a:ext cx="568080" cy="669960"/>
          </a:xfrm>
          <a:custGeom>
            <a:avLst/>
            <a:gdLst/>
            <a:ahLst/>
            <a:rect l="l" t="t" r="r" b="b"/>
            <a:pathLst>
              <a:path w="358" h="422">
                <a:moveTo>
                  <a:pt x="348" y="421"/>
                </a:moveTo>
                <a:lnTo>
                  <a:pt x="357" y="416"/>
                </a:lnTo>
                <a:lnTo>
                  <a:pt x="9" y="0"/>
                </a:lnTo>
                <a:lnTo>
                  <a:pt x="0" y="6"/>
                </a:lnTo>
                <a:lnTo>
                  <a:pt x="348" y="4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57720" y="4983120"/>
            <a:ext cx="84240" cy="104760"/>
          </a:xfrm>
          <a:custGeom>
            <a:avLst/>
            <a:gdLst/>
            <a:ahLst/>
            <a:rect l="l" t="t" r="r" b="b"/>
            <a:pathLst>
              <a:path w="53" h="66">
                <a:moveTo>
                  <a:pt x="29" y="0"/>
                </a:moveTo>
                <a:lnTo>
                  <a:pt x="52" y="65"/>
                </a:lnTo>
                <a:lnTo>
                  <a:pt x="0" y="24"/>
                </a:lnTo>
                <a:lnTo>
                  <a:pt x="10" y="12"/>
                </a:lnTo>
                <a:lnTo>
                  <a:pt x="2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25920" y="4232160"/>
            <a:ext cx="103320" cy="100080"/>
          </a:xfrm>
          <a:custGeom>
            <a:avLst/>
            <a:gdLst/>
            <a:ahLst/>
            <a:rect l="l" t="t" r="r" b="b"/>
            <a:pathLst>
              <a:path w="65" h="63">
                <a:moveTo>
                  <a:pt x="30" y="62"/>
                </a:moveTo>
                <a:lnTo>
                  <a:pt x="0" y="0"/>
                </a:lnTo>
                <a:lnTo>
                  <a:pt x="64" y="40"/>
                </a:lnTo>
                <a:lnTo>
                  <a:pt x="43" y="53"/>
                </a:lnTo>
                <a:lnTo>
                  <a:pt x="30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73560" y="4997520"/>
            <a:ext cx="3240" cy="9360"/>
          </a:xfrm>
          <a:custGeom>
            <a:avLst/>
            <a:gdLst/>
            <a:ahLst/>
            <a:rect l="l" t="t" r="r" b="b"/>
            <a:pathLst>
              <a:path w="2" h="6">
                <a:moveTo>
                  <a:pt x="1" y="0"/>
                </a:moveTo>
                <a:lnTo>
                  <a:pt x="0" y="5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03680" y="43228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0"/>
                </a:moveTo>
                <a:lnTo>
                  <a:pt x="0" y="4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06920" y="4329000"/>
            <a:ext cx="568440" cy="669960"/>
          </a:xfrm>
          <a:custGeom>
            <a:avLst/>
            <a:gdLst/>
            <a:ahLst/>
            <a:rect l="l" t="t" r="r" b="b"/>
            <a:pathLst>
              <a:path w="358" h="422">
                <a:moveTo>
                  <a:pt x="347" y="421"/>
                </a:moveTo>
                <a:lnTo>
                  <a:pt x="357" y="416"/>
                </a:lnTo>
                <a:lnTo>
                  <a:pt x="9" y="0"/>
                </a:lnTo>
                <a:lnTo>
                  <a:pt x="0" y="6"/>
                </a:lnTo>
                <a:lnTo>
                  <a:pt x="347" y="4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40200" y="4983120"/>
            <a:ext cx="92160" cy="104760"/>
          </a:xfrm>
          <a:custGeom>
            <a:avLst/>
            <a:gdLst/>
            <a:ahLst/>
            <a:rect l="l" t="t" r="r" b="b"/>
            <a:pathLst>
              <a:path w="58" h="66">
                <a:moveTo>
                  <a:pt x="32" y="0"/>
                </a:moveTo>
                <a:lnTo>
                  <a:pt x="57" y="65"/>
                </a:lnTo>
                <a:lnTo>
                  <a:pt x="0" y="24"/>
                </a:lnTo>
                <a:lnTo>
                  <a:pt x="13" y="12"/>
                </a:lnTo>
                <a:lnTo>
                  <a:pt x="3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0200" y="423216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4" y="62"/>
                </a:moveTo>
                <a:lnTo>
                  <a:pt x="0" y="0"/>
                </a:lnTo>
                <a:lnTo>
                  <a:pt x="65" y="40"/>
                </a:lnTo>
                <a:lnTo>
                  <a:pt x="47" y="53"/>
                </a:lnTo>
                <a:lnTo>
                  <a:pt x="34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7840" y="499752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0"/>
                </a:moveTo>
                <a:lnTo>
                  <a:pt x="0" y="5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7960" y="43228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0"/>
                </a:moveTo>
                <a:lnTo>
                  <a:pt x="0" y="4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0840" y="4329000"/>
            <a:ext cx="568440" cy="669960"/>
          </a:xfrm>
          <a:custGeom>
            <a:avLst/>
            <a:gdLst/>
            <a:ahLst/>
            <a:rect l="l" t="t" r="r" b="b"/>
            <a:pathLst>
              <a:path w="358" h="422">
                <a:moveTo>
                  <a:pt x="351" y="421"/>
                </a:moveTo>
                <a:lnTo>
                  <a:pt x="357" y="416"/>
                </a:lnTo>
                <a:lnTo>
                  <a:pt x="10" y="0"/>
                </a:lnTo>
                <a:lnTo>
                  <a:pt x="0" y="6"/>
                </a:lnTo>
                <a:lnTo>
                  <a:pt x="351" y="4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2480" y="3424320"/>
            <a:ext cx="98640" cy="104760"/>
          </a:xfrm>
          <a:custGeom>
            <a:avLst/>
            <a:gdLst/>
            <a:ahLst/>
            <a:rect l="l" t="t" r="r" b="b"/>
            <a:pathLst>
              <a:path w="62" h="66">
                <a:moveTo>
                  <a:pt x="61" y="24"/>
                </a:moveTo>
                <a:lnTo>
                  <a:pt x="0" y="65"/>
                </a:lnTo>
                <a:lnTo>
                  <a:pt x="22" y="0"/>
                </a:lnTo>
                <a:lnTo>
                  <a:pt x="44" y="12"/>
                </a:lnTo>
                <a:lnTo>
                  <a:pt x="61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68760" y="315612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0" y="41"/>
                </a:moveTo>
                <a:lnTo>
                  <a:pt x="55" y="0"/>
                </a:lnTo>
                <a:lnTo>
                  <a:pt x="32" y="65"/>
                </a:lnTo>
                <a:lnTo>
                  <a:pt x="13" y="53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560" y="34401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lnTo>
                  <a:pt x="0" y="0"/>
                </a:lnTo>
                <a:lnTo>
                  <a:pt x="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9640" y="32497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45280" y="3252960"/>
            <a:ext cx="145800" cy="188640"/>
          </a:xfrm>
          <a:custGeom>
            <a:avLst/>
            <a:gdLst/>
            <a:ahLst/>
            <a:rect l="l" t="t" r="r" b="b"/>
            <a:pathLst>
              <a:path w="92" h="119">
                <a:moveTo>
                  <a:pt x="0" y="112"/>
                </a:moveTo>
                <a:lnTo>
                  <a:pt x="4" y="118"/>
                </a:lnTo>
                <a:lnTo>
                  <a:pt x="91" y="7"/>
                </a:lnTo>
                <a:lnTo>
                  <a:pt x="83" y="0"/>
                </a:lnTo>
                <a:lnTo>
                  <a:pt x="0" y="1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28200" y="2813040"/>
            <a:ext cx="6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62960" y="3117960"/>
            <a:ext cx="115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28120" y="476424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TINA 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80" y="5257800"/>
            <a:ext cx="738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26360" y="2368440"/>
            <a:ext cx="0" cy="294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760" y="2292480"/>
            <a:ext cx="0" cy="2946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3040" y="2076480"/>
            <a:ext cx="206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Team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91280" y="5118120"/>
            <a:ext cx="1295280" cy="1270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78760" y="1974960"/>
            <a:ext cx="1069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880" y="1441440"/>
            <a:ext cx="420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 foc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80120" y="1441440"/>
            <a:ext cx="296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Product foc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2520" y="304560"/>
            <a:ext cx="7315200" cy="609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422520" y="1138320"/>
            <a:ext cx="4497480" cy="1238040"/>
            <a:chOff x="3422520" y="1138320"/>
            <a:chExt cx="4497480" cy="1238040"/>
          </a:xfrm>
        </p:grpSpPr>
        <p:sp>
          <p:nvSpPr>
            <p:cNvPr id="236" name=""/>
            <p:cNvSpPr/>
            <p:nvPr/>
          </p:nvSpPr>
          <p:spPr>
            <a:xfrm>
              <a:off x="4659480" y="1143000"/>
              <a:ext cx="3260520" cy="1220760"/>
            </a:xfrm>
            <a:custGeom>
              <a:avLst/>
              <a:gdLst/>
              <a:ahLst/>
              <a:rect l="l" t="t" r="r" b="b"/>
              <a:pathLst>
                <a:path w="2054" h="769">
                  <a:moveTo>
                    <a:pt x="469" y="0"/>
                  </a:moveTo>
                  <a:lnTo>
                    <a:pt x="469" y="128"/>
                  </a:lnTo>
                  <a:lnTo>
                    <a:pt x="0" y="134"/>
                  </a:lnTo>
                  <a:lnTo>
                    <a:pt x="469" y="320"/>
                  </a:lnTo>
                  <a:lnTo>
                    <a:pt x="469" y="768"/>
                  </a:lnTo>
                  <a:lnTo>
                    <a:pt x="733" y="768"/>
                  </a:lnTo>
                  <a:lnTo>
                    <a:pt x="1129" y="768"/>
                  </a:lnTo>
                  <a:lnTo>
                    <a:pt x="2053" y="768"/>
                  </a:lnTo>
                  <a:lnTo>
                    <a:pt x="2053" y="320"/>
                  </a:lnTo>
                  <a:lnTo>
                    <a:pt x="2053" y="128"/>
                  </a:lnTo>
                  <a:lnTo>
                    <a:pt x="2053" y="0"/>
                  </a:lnTo>
                  <a:lnTo>
                    <a:pt x="1129" y="0"/>
                  </a:lnTo>
                  <a:lnTo>
                    <a:pt x="733" y="0"/>
                  </a:lnTo>
                  <a:lnTo>
                    <a:pt x="469" y="0"/>
                  </a:lnTo>
                </a:path>
              </a:pathLst>
            </a:custGeom>
            <a:solidFill>
              <a:srgbClr val="31ff3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04040" y="1195560"/>
              <a:ext cx="2315880" cy="1114200"/>
            </a:xfrm>
            <a:prstGeom prst="rect">
              <a:avLst/>
            </a:prstGeom>
            <a:solidFill>
              <a:srgbClr val="31f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10160" y="1138320"/>
              <a:ext cx="2405160" cy="1238040"/>
            </a:xfrm>
            <a:prstGeom prst="rect">
              <a:avLst/>
            </a:prstGeom>
            <a:solidFill>
              <a:srgbClr val="31f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ll decisions (including E-mail based decisions with the time limi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ne vote per compa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echnical + Strategic meet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22520" y="1225440"/>
              <a:ext cx="1212840" cy="368280"/>
            </a:xfrm>
            <a:prstGeom prst="rect">
              <a:avLst/>
            </a:prstGeom>
            <a:solidFill>
              <a:srgbClr val="31ff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88480" y="1260360"/>
              <a:ext cx="923760" cy="307800"/>
            </a:xfrm>
            <a:prstGeom prst="rect">
              <a:avLst/>
            </a:prstGeom>
            <a:solidFill>
              <a:srgbClr val="31f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4129200"/>
            <a:ext cx="2635200" cy="1739880"/>
          </a:xfrm>
          <a:custGeom>
            <a:avLst/>
            <a:gdLst/>
            <a:ahLst/>
            <a:rect l="l" t="t" r="r" b="b"/>
            <a:pathLst>
              <a:path w="1660" h="1096">
                <a:moveTo>
                  <a:pt x="0" y="231"/>
                </a:moveTo>
                <a:lnTo>
                  <a:pt x="0" y="375"/>
                </a:lnTo>
                <a:lnTo>
                  <a:pt x="0" y="591"/>
                </a:lnTo>
                <a:lnTo>
                  <a:pt x="0" y="1095"/>
                </a:lnTo>
                <a:lnTo>
                  <a:pt x="968" y="1095"/>
                </a:lnTo>
                <a:lnTo>
                  <a:pt x="1382" y="1095"/>
                </a:lnTo>
                <a:lnTo>
                  <a:pt x="1659" y="1095"/>
                </a:lnTo>
                <a:lnTo>
                  <a:pt x="1659" y="591"/>
                </a:lnTo>
                <a:lnTo>
                  <a:pt x="1659" y="375"/>
                </a:lnTo>
                <a:lnTo>
                  <a:pt x="1659" y="231"/>
                </a:lnTo>
                <a:lnTo>
                  <a:pt x="1382" y="231"/>
                </a:lnTo>
                <a:lnTo>
                  <a:pt x="1538" y="0"/>
                </a:lnTo>
                <a:lnTo>
                  <a:pt x="968" y="231"/>
                </a:lnTo>
                <a:lnTo>
                  <a:pt x="0" y="231"/>
                </a:lnTo>
              </a:path>
            </a:pathLst>
          </a:custGeom>
          <a:solidFill>
            <a:srgbClr val="114ffb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65320" y="4548240"/>
            <a:ext cx="2421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63880" y="3656160"/>
            <a:ext cx="2006640" cy="45216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82240" y="3720960"/>
            <a:ext cx="1767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618ffd"/>
                </a:solidFill>
                <a:latin typeface="Arial"/>
              </a:rPr>
              <a:t>Working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6240" y="4541760"/>
            <a:ext cx="254628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618ffd"/>
                </a:solidFill>
                <a:latin typeface="Arial"/>
              </a:rPr>
              <a:t>Driving force for assigned su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Coordinated by T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Approved by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Cooperate with members, industries and academ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4138560"/>
            <a:ext cx="3889440" cy="1730520"/>
          </a:xfrm>
          <a:custGeom>
            <a:avLst/>
            <a:gdLst/>
            <a:ahLst/>
            <a:rect l="l" t="t" r="r" b="b"/>
            <a:pathLst>
              <a:path w="2450" h="1090">
                <a:moveTo>
                  <a:pt x="0" y="225"/>
                </a:moveTo>
                <a:lnTo>
                  <a:pt x="0" y="369"/>
                </a:lnTo>
                <a:lnTo>
                  <a:pt x="0" y="585"/>
                </a:lnTo>
                <a:lnTo>
                  <a:pt x="0" y="1089"/>
                </a:lnTo>
                <a:lnTo>
                  <a:pt x="1429" y="1089"/>
                </a:lnTo>
                <a:lnTo>
                  <a:pt x="2041" y="1089"/>
                </a:lnTo>
                <a:lnTo>
                  <a:pt x="2449" y="1089"/>
                </a:lnTo>
                <a:lnTo>
                  <a:pt x="2449" y="585"/>
                </a:lnTo>
                <a:lnTo>
                  <a:pt x="2449" y="369"/>
                </a:lnTo>
                <a:lnTo>
                  <a:pt x="2449" y="225"/>
                </a:lnTo>
                <a:lnTo>
                  <a:pt x="2041" y="225"/>
                </a:lnTo>
                <a:lnTo>
                  <a:pt x="1350" y="0"/>
                </a:lnTo>
                <a:lnTo>
                  <a:pt x="1429" y="225"/>
                </a:lnTo>
                <a:lnTo>
                  <a:pt x="0" y="225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41680" y="4548240"/>
            <a:ext cx="36752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54440" y="3664080"/>
            <a:ext cx="2635200" cy="4442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53080" y="3716280"/>
            <a:ext cx="2419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6920" y="3728880"/>
            <a:ext cx="2455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618ffd"/>
                </a:solidFill>
                <a:latin typeface="Arial"/>
              </a:rPr>
              <a:t>Special Interes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97400" y="4541760"/>
            <a:ext cx="38275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618ffd"/>
                </a:solidFill>
                <a:latin typeface="Arial"/>
              </a:rPr>
              <a:t>Driving force for establishing new dir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Coordinated by T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Approved by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618ffd"/>
                </a:solidFill>
                <a:latin typeface="Arial"/>
              </a:rPr>
              <a:t>Cooperate with members, industries and academ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4720" y="1066680"/>
            <a:ext cx="2287440" cy="1522440"/>
          </a:xfrm>
          <a:custGeom>
            <a:avLst/>
            <a:gdLst/>
            <a:ahLst/>
            <a:rect l="l" t="t" r="r" b="b"/>
            <a:pathLst>
              <a:path w="1441" h="959">
                <a:moveTo>
                  <a:pt x="0" y="0"/>
                </a:moveTo>
                <a:lnTo>
                  <a:pt x="0" y="413"/>
                </a:lnTo>
                <a:lnTo>
                  <a:pt x="0" y="590"/>
                </a:lnTo>
                <a:lnTo>
                  <a:pt x="0" y="708"/>
                </a:lnTo>
                <a:lnTo>
                  <a:pt x="840" y="708"/>
                </a:lnTo>
                <a:lnTo>
                  <a:pt x="739" y="958"/>
                </a:lnTo>
                <a:lnTo>
                  <a:pt x="1199" y="708"/>
                </a:lnTo>
                <a:lnTo>
                  <a:pt x="1440" y="708"/>
                </a:lnTo>
                <a:lnTo>
                  <a:pt x="1440" y="590"/>
                </a:lnTo>
                <a:lnTo>
                  <a:pt x="1440" y="413"/>
                </a:lnTo>
                <a:lnTo>
                  <a:pt x="1440" y="0"/>
                </a:lnTo>
                <a:lnTo>
                  <a:pt x="1199" y="0"/>
                </a:lnTo>
                <a:lnTo>
                  <a:pt x="840" y="0"/>
                </a:lnTo>
                <a:lnTo>
                  <a:pt x="0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73000" y="1120680"/>
            <a:ext cx="20894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63640" y="2597040"/>
            <a:ext cx="1739880" cy="932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60400" y="2662200"/>
            <a:ext cx="1668600" cy="7455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ortium Administr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3920" y="1141560"/>
            <a:ext cx="2127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lead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aison among members and indu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44720" y="1606680"/>
            <a:ext cx="4184640" cy="2043000"/>
            <a:chOff x="2844720" y="1606680"/>
            <a:chExt cx="4184640" cy="2043000"/>
          </a:xfrm>
        </p:grpSpPr>
        <p:sp>
          <p:nvSpPr>
            <p:cNvPr id="258" name=""/>
            <p:cNvSpPr/>
            <p:nvPr/>
          </p:nvSpPr>
          <p:spPr>
            <a:xfrm>
              <a:off x="3456000" y="2443320"/>
              <a:ext cx="1432080" cy="749160"/>
            </a:xfrm>
            <a:prstGeom prst="rect">
              <a:avLst/>
            </a:prstGeom>
            <a:solidFill>
              <a:srgbClr val="6c07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54280" y="2495520"/>
              <a:ext cx="12351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83000" y="2432160"/>
              <a:ext cx="14828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INA Architecture Bo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98880" y="3006720"/>
              <a:ext cx="2130480" cy="345960"/>
            </a:xfrm>
            <a:custGeom>
              <a:avLst/>
              <a:gdLst/>
              <a:ahLst/>
              <a:rect l="l" t="t" r="r" b="b"/>
              <a:pathLst>
                <a:path w="1342" h="218">
                  <a:moveTo>
                    <a:pt x="477" y="25"/>
                  </a:moveTo>
                  <a:lnTo>
                    <a:pt x="477" y="57"/>
                  </a:lnTo>
                  <a:lnTo>
                    <a:pt x="0" y="0"/>
                  </a:lnTo>
                  <a:lnTo>
                    <a:pt x="477" y="105"/>
                  </a:lnTo>
                  <a:lnTo>
                    <a:pt x="477" y="217"/>
                  </a:lnTo>
                  <a:lnTo>
                    <a:pt x="621" y="217"/>
                  </a:lnTo>
                  <a:lnTo>
                    <a:pt x="837" y="217"/>
                  </a:lnTo>
                  <a:lnTo>
                    <a:pt x="1341" y="217"/>
                  </a:lnTo>
                  <a:lnTo>
                    <a:pt x="1341" y="105"/>
                  </a:lnTo>
                  <a:lnTo>
                    <a:pt x="1341" y="57"/>
                  </a:lnTo>
                  <a:lnTo>
                    <a:pt x="1341" y="25"/>
                  </a:lnTo>
                  <a:lnTo>
                    <a:pt x="837" y="25"/>
                  </a:lnTo>
                  <a:lnTo>
                    <a:pt x="621" y="25"/>
                  </a:lnTo>
                  <a:lnTo>
                    <a:pt x="477" y="25"/>
                  </a:lnTo>
                </a:path>
              </a:pathLst>
            </a:custGeom>
            <a:solidFill>
              <a:srgbClr val="6c07b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54600" y="3098880"/>
              <a:ext cx="117324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7680" y="3041640"/>
              <a:ext cx="1237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visor 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73320" y="3427560"/>
              <a:ext cx="28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844720" y="2658960"/>
              <a:ext cx="5936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17960" y="221616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17960" y="160668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79800" y="320688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5400" y="343548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08400" y="343548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62480" y="343548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13320" y="343548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84920" y="343548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579920" y="2230560"/>
            <a:ext cx="2827440" cy="815760"/>
          </a:xfrm>
          <a:custGeom>
            <a:avLst/>
            <a:gdLst/>
            <a:ahLst/>
            <a:rect l="l" t="t" r="r" b="b"/>
            <a:pathLst>
              <a:path w="1781" h="514">
                <a:moveTo>
                  <a:pt x="473" y="278"/>
                </a:moveTo>
                <a:lnTo>
                  <a:pt x="473" y="317"/>
                </a:lnTo>
                <a:lnTo>
                  <a:pt x="473" y="376"/>
                </a:lnTo>
                <a:lnTo>
                  <a:pt x="473" y="513"/>
                </a:lnTo>
                <a:lnTo>
                  <a:pt x="691" y="513"/>
                </a:lnTo>
                <a:lnTo>
                  <a:pt x="1017" y="513"/>
                </a:lnTo>
                <a:lnTo>
                  <a:pt x="1780" y="513"/>
                </a:lnTo>
                <a:lnTo>
                  <a:pt x="1780" y="376"/>
                </a:lnTo>
                <a:lnTo>
                  <a:pt x="1780" y="317"/>
                </a:lnTo>
                <a:lnTo>
                  <a:pt x="1780" y="278"/>
                </a:lnTo>
                <a:lnTo>
                  <a:pt x="1017" y="278"/>
                </a:lnTo>
                <a:lnTo>
                  <a:pt x="0" y="0"/>
                </a:lnTo>
                <a:lnTo>
                  <a:pt x="691" y="278"/>
                </a:lnTo>
                <a:lnTo>
                  <a:pt x="473" y="278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06920" y="2643120"/>
            <a:ext cx="1897200" cy="200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6880" y="1835280"/>
            <a:ext cx="2184120" cy="368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10840" y="1870200"/>
            <a:ext cx="1959840" cy="3078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18280" y="2585880"/>
            <a:ext cx="2182680" cy="2804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ing manufa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97000" y="198720"/>
            <a:ext cx="5114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249fa"/>
                </a:solidFill>
                <a:latin typeface="Arial"/>
              </a:rPr>
              <a:t>TINA-C Organization</a:t>
            </a:r>
            <a:r>
              <a:rPr b="1" lang="en-GB" sz="2800" spc="-1" strike="noStrike">
                <a:solidFill>
                  <a:srgbClr val="0249f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68280" y="158400"/>
            <a:ext cx="3094200" cy="47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TINA-C Members</a:t>
            </a:r>
            <a:endParaRPr b="1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3960" y="1225440"/>
            <a:ext cx="8147160" cy="4194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47840" y="839880"/>
            <a:ext cx="296532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ca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llco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itish Tele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oa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ble and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ge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nter for Development  Telematics,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S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utsche Telek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gital/Tan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TRI, Ko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URES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nce Tele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B,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3600" y="915840"/>
            <a:ext cx="228744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ta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orea Tele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uc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n Micr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r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nto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ss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diran Tele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e Dan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3760" y="992160"/>
            <a:ext cx="2635200" cy="58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s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esys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ecom Portu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NA Inf. Ind.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tsubi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T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r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versity of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umboldt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MD Fok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28080" y="63295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884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GB" sz="3000" spc="-1" strike="noStrike">
                <a:solidFill>
                  <a:srgbClr val="114ffb"/>
                </a:solidFill>
                <a:latin typeface="Arial"/>
              </a:rPr>
              <a:t>Objectives of new TINA-C</a:t>
            </a:r>
            <a:endParaRPr b="1" lang="en-US" sz="3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64720" y="114264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8160" bIns="38160" anchor="t">
            <a:normAutofit/>
          </a:bodyPr>
          <a:p>
            <a:pPr marL="298440" indent="-29844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Adoption of TINA architecture and specifications to industry produ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332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Seamless services by federating heterogeneous existing systems/netwo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332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Modular-based extension or replacement of existing software infrastructure/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Demonstrate the benefits of TINA adoption as platform for advanced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Completing some specifications and refinement of architecture (e.g.reference poin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884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GB" sz="3000" spc="-1" strike="noStrike">
                <a:solidFill>
                  <a:srgbClr val="114ffb"/>
                </a:solidFill>
                <a:latin typeface="Arial"/>
              </a:rPr>
              <a:t>TINA-C membership type</a:t>
            </a:r>
            <a:endParaRPr b="1" lang="en-US" sz="3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64720" y="1143000"/>
            <a:ext cx="7239240" cy="40384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8160" bIns="38160" anchor="t">
            <a:normAutofit/>
          </a:bodyPr>
          <a:p>
            <a:pPr marL="298440" indent="-298440">
              <a:spcBef>
                <a:spcPts val="524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Full members (with voting right)</a:t>
            </a:r>
            <a:br>
              <a:rPr sz="2100"/>
            </a:b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Associate members (no voting righ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24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Plu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33280">
              <a:spcBef>
                <a:spcPts val="524"/>
              </a:spcBef>
              <a:buClr>
                <a:srgbClr val="114ffb"/>
              </a:buClr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Membership arrangements for academic institutions to facilitate research intera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8840" y="228240"/>
            <a:ext cx="723888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GB" sz="3000" spc="-1" strike="noStrike">
                <a:solidFill>
                  <a:srgbClr val="114ffb"/>
                </a:solidFill>
                <a:latin typeface="Arial"/>
              </a:rPr>
              <a:t>New TINA-C Structure</a:t>
            </a:r>
            <a:endParaRPr b="1" lang="en-US" sz="3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64720" y="114264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8160" bIns="38160" anchor="t">
            <a:normAutofit/>
          </a:bodyPr>
          <a:p>
            <a:pPr marL="298440" indent="-298440">
              <a:spcBef>
                <a:spcPts val="524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A registered corporation (like ATMF, OMG, NMF.) Filed for Non-Profit Stat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Salari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33280">
              <a:spcBef>
                <a:spcPts val="524"/>
              </a:spcBef>
              <a:buClr>
                <a:srgbClr val="114ffb"/>
              </a:buClr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Chief Executive Officer :Deb Ghua (dxg@tinac.co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33280">
              <a:spcBef>
                <a:spcPts val="524"/>
              </a:spcBef>
              <a:buClr>
                <a:srgbClr val="114ffb"/>
              </a:buClr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Chief Technology Officer:Hendrik Berndt (hberndt@tinac.co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100" spc="-1" strike="noStrike">
                <a:solidFill>
                  <a:srgbClr val="114ffb"/>
                </a:solidFill>
                <a:latin typeface="Arial"/>
              </a:rPr>
              <a:t>Independent Central Office Sp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764400" y="4006800"/>
            <a:ext cx="1465200" cy="8082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69200" y="2698920"/>
            <a:ext cx="1465200" cy="806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28920" y="4124160"/>
            <a:ext cx="1063080" cy="365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6960" y="2889360"/>
            <a:ext cx="1018800" cy="365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Architecture</a:t>
            </a:r>
            <a:r>
              <a:rPr b="1" lang="en-GB" sz="6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27240" y="4006800"/>
            <a:ext cx="1595160" cy="8082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2698920"/>
            <a:ext cx="1603080" cy="806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4038480"/>
            <a:ext cx="1465200" cy="8082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59080" y="4975200"/>
            <a:ext cx="1465200" cy="806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60640" y="2698920"/>
            <a:ext cx="1467000" cy="806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62520" y="4006800"/>
            <a:ext cx="1465200" cy="8082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62520" y="2698920"/>
            <a:ext cx="1465200" cy="806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371600"/>
            <a:ext cx="2438640" cy="806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12640" y="4260960"/>
            <a:ext cx="1405800" cy="365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Network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11440"/>
            <a:ext cx="0" cy="180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27560" y="4413240"/>
            <a:ext cx="1070640" cy="1828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ssi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20000" y="5251320"/>
            <a:ext cx="994320" cy="365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Subscription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35114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46760" y="4184640"/>
            <a:ext cx="1220760" cy="365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D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     </a:t>
            </a: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Architecture</a:t>
            </a:r>
            <a:r>
              <a:rPr b="1" lang="en-GB" sz="600" spc="-1" strike="noStrike">
                <a:solidFill>
                  <a:srgbClr val="000000"/>
                </a:solidFill>
                <a:latin typeface="Geneva"/>
              </a:rPr>
              <a:t>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50520" y="2889360"/>
            <a:ext cx="957960" cy="365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680" y="1441440"/>
            <a:ext cx="2183040" cy="5490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629400" y="3497040"/>
            <a:ext cx="0" cy="18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82640" y="2362320"/>
            <a:ext cx="562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17960" y="2889360"/>
            <a:ext cx="115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65120" y="2813040"/>
            <a:ext cx="13622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Network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368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2368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368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2368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3511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0560" y="4419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53341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35880" y="449568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30560" y="53341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93720" y="311040"/>
            <a:ext cx="595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Arial"/>
              </a:rPr>
              <a:t>Architecture Overview</a:t>
            </a:r>
            <a:r>
              <a:rPr b="0" lang="en-GB" sz="2600" spc="-1" strike="noStrike">
                <a:solidFill>
                  <a:srgbClr val="51dc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029200"/>
            <a:ext cx="1465560" cy="8082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Fau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enev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7:00:10Z</dcterms:created>
  <dc:creator>GPT Employee</dc:creator>
  <dc:description/>
  <dc:language>en-US</dc:language>
  <cp:lastModifiedBy>EvansJD</cp:lastModifiedBy>
  <dcterms:modified xsi:type="dcterms:W3CDTF">1999-03-04T16:05:16Z</dcterms:modified>
  <cp:revision>3</cp:revision>
  <dc:subject/>
  <dc:title>TINA-C Organization (until 1997)</dc:title>
</cp:coreProperties>
</file>