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8F14-2EAA-4841-B245-F91F4413A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API specifies an interface to the service components tha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techn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pportunity to develop a vast range of new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I problem for operator if network is threat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urity against attack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Mediated Gateway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illing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trans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feature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add x% onto call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how to formulate, measure and honour S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portunities that w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ot previously technically fea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ot previously financially fea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quirements for higher level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“plug and play” would be n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SDKs and Frameworks to impr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speed and 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robustness of applic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erpris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I specified in both CORBA and MS IDL (D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heritance of the interfaces supports specialisation of generic services (GCCS -&gt; INAP-1 Cal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amework provides authentication for secure acce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y to locate the service that you wish to manip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rity Management  (e.g. network faults, connection fail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AM Operations,  Administration and Maintenance. (e.g. interface is used to allow the application to synchronise with the system tim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roup is promoting industry acceptance of the Parlay Application Programming Interface (API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specification designed to enable carriers and independent software vendors to write applications to provide services across Wireless networks, Internet Protocol (IP)-based networks and the Public Switched Telephone network (PST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est seen with an example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7160" y="73512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Applications rea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components read SIBs, capabilities or features (both core and service surrou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ich operate over a range of networ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5668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344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828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99072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828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385668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3440" y="385668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3440" y="99072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5668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st" descr=""/>
          <p:cNvPicPr/>
          <p:nvPr/>
        </p:nvPicPr>
        <p:blipFill>
          <a:blip r:embed="rId2"/>
          <a:stretch/>
        </p:blipFill>
        <p:spPr>
          <a:xfrm>
            <a:off x="0" y="4781520"/>
            <a:ext cx="2362320" cy="207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7670880" y="64911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75"/>
                </a:solidFill>
                <a:latin typeface="Arial Narrow"/>
              </a:rPr>
              <a:t>www.parlay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 rot="16200000">
            <a:off x="-1256760" y="1866600"/>
            <a:ext cx="4190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214365"/>
                    </a:gs>
                    <a:gs pos="100000">
                      <a:srgbClr val="0073a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arlay AP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214365"/>
                  </a:gs>
                  <a:gs pos="100000">
                    <a:srgbClr val="0073ac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image" Target="../media/image16.wmf"/><Relationship Id="rId2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hat’s P-a-r-l-a-y 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ot P-a-r-l-e-z!”</a:t>
            </a:r>
            <a:br>
              <a:rPr sz="3600"/>
            </a:br>
            <a:br>
              <a:rPr sz="36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chard Ket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T 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BT%20Logo" descr=""/>
          <p:cNvPicPr/>
          <p:nvPr/>
        </p:nvPicPr>
        <p:blipFill>
          <a:blip r:embed="rId1"/>
          <a:stretch/>
        </p:blipFill>
        <p:spPr>
          <a:xfrm>
            <a:off x="4038480" y="5105520"/>
            <a:ext cx="21337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SDN, PSTN, I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Authentication, Rou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Billing, Storage, Configur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800, Personal Numb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Voice messag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20131200">
            <a:off x="3189240" y="2885760"/>
            <a:ext cx="54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Owned and Ope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by the Tel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AP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14600" y="27432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1080" y="243828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AP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8954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6200000">
            <a:off x="411480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4100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7010280" y="1371600"/>
            <a:ext cx="144792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7432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1080" y="243828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rg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cloud" descr=""/>
          <p:cNvPicPr/>
          <p:nvPr/>
        </p:nvPicPr>
        <p:blipFill>
          <a:blip r:embed="rId1"/>
          <a:stretch/>
        </p:blipFill>
        <p:spPr>
          <a:xfrm>
            <a:off x="3200400" y="4019400"/>
            <a:ext cx="5257800" cy="20019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903120" y="4449240"/>
            <a:ext cx="3936240" cy="1201320"/>
            <a:chOff x="3903120" y="4449240"/>
            <a:chExt cx="3936240" cy="1201320"/>
          </a:xfrm>
        </p:grpSpPr>
        <p:sp>
          <p:nvSpPr>
            <p:cNvPr id="151" name=""/>
            <p:cNvSpPr/>
            <p:nvPr/>
          </p:nvSpPr>
          <p:spPr>
            <a:xfrm flipV="1">
              <a:off x="4339800" y="4563000"/>
              <a:ext cx="2166840" cy="9190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247200">
              <a:off x="4138200" y="5391000"/>
              <a:ext cx="25560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247200">
              <a:off x="6407280" y="446148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247200">
              <a:off x="6635880" y="518400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247200">
              <a:off x="7571880" y="4788720"/>
              <a:ext cx="25524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247200">
              <a:off x="3915000" y="4718160"/>
              <a:ext cx="255600" cy="246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38280" y="5290920"/>
              <a:ext cx="2446200" cy="2023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6720" y="4940280"/>
              <a:ext cx="889920" cy="3402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8120" y="4557960"/>
              <a:ext cx="1164600" cy="3272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65480" y="4563360"/>
              <a:ext cx="2441520" cy="2512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080960" y="4962240"/>
              <a:ext cx="152280" cy="4816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547680" y="4459680"/>
              <a:ext cx="192600" cy="87516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313880" y="4573440"/>
            <a:ext cx="29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Telco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ich i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800" y="4014720"/>
            <a:ext cx="1136520" cy="436320"/>
            <a:chOff x="5257800" y="4014720"/>
            <a:chExt cx="1136520" cy="436320"/>
          </a:xfrm>
        </p:grpSpPr>
        <p:sp>
          <p:nvSpPr>
            <p:cNvPr id="165" name=""/>
            <p:cNvSpPr/>
            <p:nvPr/>
          </p:nvSpPr>
          <p:spPr>
            <a:xfrm>
              <a:off x="5257800" y="4014720"/>
              <a:ext cx="1136520" cy="218520"/>
            </a:xfrm>
            <a:prstGeom prst="rect">
              <a:avLst/>
            </a:prstGeom>
            <a:gradFill rotWithShape="0">
              <a:gsLst>
                <a:gs pos="0">
                  <a:srgbClr val="9a9a00"/>
                </a:gs>
                <a:gs pos="50000">
                  <a:srgbClr val="ffff00"/>
                </a:gs>
                <a:gs pos="100000">
                  <a:srgbClr val="9a9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4233240"/>
              <a:ext cx="1136520" cy="217800"/>
            </a:xfrm>
            <a:prstGeom prst="rect">
              <a:avLst/>
            </a:prstGeom>
            <a:gradFill rotWithShape="0">
              <a:gsLst>
                <a:gs pos="0">
                  <a:srgbClr val="008d6a"/>
                </a:gs>
                <a:gs pos="50000">
                  <a:srgbClr val="00cc99"/>
                </a:gs>
                <a:gs pos="100000">
                  <a:srgbClr val="008d6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200400" y="40147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6880" y="371016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redcloud" descr=""/>
          <p:cNvPicPr/>
          <p:nvPr/>
        </p:nvPicPr>
        <p:blipFill>
          <a:blip r:embed="rId2"/>
          <a:stretch/>
        </p:blipFill>
        <p:spPr>
          <a:xfrm>
            <a:off x="3200400" y="1971720"/>
            <a:ext cx="5257800" cy="204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96880" y="2614680"/>
            <a:ext cx="34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IT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ch i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082520"/>
            <a:ext cx="87170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16520" y="4114800"/>
            <a:ext cx="74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47920" y="685800"/>
            <a:ext cx="7410600" cy="5129280"/>
            <a:chOff x="1447920" y="685800"/>
            <a:chExt cx="7410600" cy="5129280"/>
          </a:xfrm>
        </p:grpSpPr>
        <p:sp>
          <p:nvSpPr>
            <p:cNvPr id="174" name=""/>
            <p:cNvSpPr/>
            <p:nvPr/>
          </p:nvSpPr>
          <p:spPr>
            <a:xfrm flipH="1">
              <a:off x="1580400" y="3886920"/>
              <a:ext cx="99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00520" y="4455720"/>
              <a:ext cx="972720" cy="64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597400" y="4669200"/>
              <a:ext cx="70740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240" y="3246480"/>
              <a:ext cx="0" cy="924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960" y="4455720"/>
              <a:ext cx="145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910560" y="4313520"/>
              <a:ext cx="86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976440" y="4811760"/>
              <a:ext cx="79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7507800" y="4598280"/>
            <a:ext cx="496080" cy="4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07800" y="4598280"/>
                      <a:ext cx="496080" cy="4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3" name=""/>
            <p:cNvGrpSpPr/>
            <p:nvPr/>
          </p:nvGrpSpPr>
          <p:grpSpPr>
            <a:xfrm>
              <a:off x="2426040" y="3272040"/>
              <a:ext cx="2460240" cy="1881360"/>
              <a:chOff x="2426040" y="3272040"/>
              <a:chExt cx="2460240" cy="1881360"/>
            </a:xfrm>
          </p:grpSpPr>
          <p:sp>
            <p:nvSpPr>
              <p:cNvPr id="184" name=""/>
              <p:cNvSpPr/>
              <p:nvPr/>
            </p:nvSpPr>
            <p:spPr>
              <a:xfrm rot="600000">
                <a:off x="3293280" y="3317400"/>
                <a:ext cx="578880" cy="604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00000">
                <a:off x="3781800" y="3340080"/>
                <a:ext cx="470880" cy="4903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600000">
                <a:off x="4087440" y="3921480"/>
                <a:ext cx="737640" cy="7686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600000">
                <a:off x="2665800" y="4015440"/>
                <a:ext cx="839520" cy="8798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600000">
                <a:off x="3760200" y="4366800"/>
                <a:ext cx="625680" cy="6332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600000">
                <a:off x="2464560" y="4117320"/>
                <a:ext cx="468360" cy="4874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600000">
                <a:off x="2479320" y="3724920"/>
                <a:ext cx="469440" cy="4874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600000">
                <a:off x="2736000" y="3346560"/>
                <a:ext cx="740520" cy="7693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00000">
                <a:off x="3209760" y="4326120"/>
                <a:ext cx="734760" cy="7689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600000">
                <a:off x="4257360" y="3656160"/>
                <a:ext cx="573840" cy="604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00000">
                <a:off x="4140000" y="3408120"/>
                <a:ext cx="523800" cy="5446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57520" y="3419280"/>
                <a:ext cx="2015640" cy="1436400"/>
              </a:xfrm>
              <a:custGeom>
                <a:avLst/>
                <a:gdLst/>
                <a:ahLst/>
                <a:rect l="l" t="t" r="r" b="b"/>
                <a:pathLst>
                  <a:path w="3961" h="2230">
                    <a:moveTo>
                      <a:pt x="80" y="602"/>
                    </a:moveTo>
                    <a:lnTo>
                      <a:pt x="69" y="553"/>
                    </a:lnTo>
                    <a:lnTo>
                      <a:pt x="156" y="528"/>
                    </a:lnTo>
                    <a:lnTo>
                      <a:pt x="225" y="510"/>
                    </a:lnTo>
                    <a:lnTo>
                      <a:pt x="305" y="509"/>
                    </a:lnTo>
                    <a:lnTo>
                      <a:pt x="356" y="503"/>
                    </a:lnTo>
                    <a:lnTo>
                      <a:pt x="419" y="511"/>
                    </a:lnTo>
                    <a:lnTo>
                      <a:pt x="466" y="518"/>
                    </a:lnTo>
                    <a:lnTo>
                      <a:pt x="534" y="503"/>
                    </a:lnTo>
                    <a:lnTo>
                      <a:pt x="605" y="486"/>
                    </a:lnTo>
                    <a:lnTo>
                      <a:pt x="672" y="471"/>
                    </a:lnTo>
                    <a:lnTo>
                      <a:pt x="727" y="453"/>
                    </a:lnTo>
                    <a:lnTo>
                      <a:pt x="794" y="437"/>
                    </a:lnTo>
                    <a:lnTo>
                      <a:pt x="849" y="405"/>
                    </a:lnTo>
                    <a:lnTo>
                      <a:pt x="903" y="387"/>
                    </a:lnTo>
                    <a:lnTo>
                      <a:pt x="974" y="359"/>
                    </a:lnTo>
                    <a:lnTo>
                      <a:pt x="1027" y="340"/>
                    </a:lnTo>
                    <a:lnTo>
                      <a:pt x="1066" y="307"/>
                    </a:lnTo>
                    <a:lnTo>
                      <a:pt x="1119" y="289"/>
                    </a:lnTo>
                    <a:lnTo>
                      <a:pt x="1178" y="247"/>
                    </a:lnTo>
                    <a:lnTo>
                      <a:pt x="1243" y="231"/>
                    </a:lnTo>
                    <a:lnTo>
                      <a:pt x="1296" y="212"/>
                    </a:lnTo>
                    <a:lnTo>
                      <a:pt x="1335" y="179"/>
                    </a:lnTo>
                    <a:lnTo>
                      <a:pt x="1444" y="130"/>
                    </a:lnTo>
                    <a:lnTo>
                      <a:pt x="1486" y="98"/>
                    </a:lnTo>
                    <a:lnTo>
                      <a:pt x="1527" y="52"/>
                    </a:lnTo>
                    <a:lnTo>
                      <a:pt x="1552" y="15"/>
                    </a:lnTo>
                    <a:lnTo>
                      <a:pt x="1619" y="0"/>
                    </a:lnTo>
                    <a:lnTo>
                      <a:pt x="1683" y="10"/>
                    </a:lnTo>
                    <a:lnTo>
                      <a:pt x="1731" y="15"/>
                    </a:lnTo>
                    <a:lnTo>
                      <a:pt x="1791" y="35"/>
                    </a:lnTo>
                    <a:lnTo>
                      <a:pt x="1853" y="45"/>
                    </a:lnTo>
                    <a:lnTo>
                      <a:pt x="1901" y="52"/>
                    </a:lnTo>
                    <a:lnTo>
                      <a:pt x="1944" y="71"/>
                    </a:lnTo>
                    <a:lnTo>
                      <a:pt x="2009" y="80"/>
                    </a:lnTo>
                    <a:lnTo>
                      <a:pt x="2071" y="88"/>
                    </a:lnTo>
                    <a:lnTo>
                      <a:pt x="2119" y="95"/>
                    </a:lnTo>
                    <a:lnTo>
                      <a:pt x="2181" y="104"/>
                    </a:lnTo>
                    <a:lnTo>
                      <a:pt x="2243" y="112"/>
                    </a:lnTo>
                    <a:lnTo>
                      <a:pt x="2291" y="119"/>
                    </a:lnTo>
                    <a:lnTo>
                      <a:pt x="2339" y="125"/>
                    </a:lnTo>
                    <a:lnTo>
                      <a:pt x="2385" y="132"/>
                    </a:lnTo>
                    <a:lnTo>
                      <a:pt x="2433" y="139"/>
                    </a:lnTo>
                    <a:lnTo>
                      <a:pt x="2481" y="144"/>
                    </a:lnTo>
                    <a:lnTo>
                      <a:pt x="2545" y="142"/>
                    </a:lnTo>
                    <a:lnTo>
                      <a:pt x="2591" y="149"/>
                    </a:lnTo>
                    <a:lnTo>
                      <a:pt x="2639" y="156"/>
                    </a:lnTo>
                    <a:lnTo>
                      <a:pt x="2692" y="137"/>
                    </a:lnTo>
                    <a:lnTo>
                      <a:pt x="2731" y="105"/>
                    </a:lnTo>
                    <a:lnTo>
                      <a:pt x="2782" y="85"/>
                    </a:lnTo>
                    <a:lnTo>
                      <a:pt x="2832" y="92"/>
                    </a:lnTo>
                    <a:lnTo>
                      <a:pt x="2875" y="112"/>
                    </a:lnTo>
                    <a:lnTo>
                      <a:pt x="2923" y="118"/>
                    </a:lnTo>
                    <a:lnTo>
                      <a:pt x="2967" y="137"/>
                    </a:lnTo>
                    <a:lnTo>
                      <a:pt x="3025" y="170"/>
                    </a:lnTo>
                    <a:lnTo>
                      <a:pt x="3082" y="205"/>
                    </a:lnTo>
                    <a:lnTo>
                      <a:pt x="3123" y="235"/>
                    </a:lnTo>
                    <a:lnTo>
                      <a:pt x="3148" y="279"/>
                    </a:lnTo>
                    <a:lnTo>
                      <a:pt x="3192" y="297"/>
                    </a:lnTo>
                    <a:lnTo>
                      <a:pt x="3235" y="315"/>
                    </a:lnTo>
                    <a:lnTo>
                      <a:pt x="3281" y="335"/>
                    </a:lnTo>
                    <a:lnTo>
                      <a:pt x="3329" y="342"/>
                    </a:lnTo>
                    <a:lnTo>
                      <a:pt x="3368" y="373"/>
                    </a:lnTo>
                    <a:lnTo>
                      <a:pt x="3407" y="417"/>
                    </a:lnTo>
                    <a:lnTo>
                      <a:pt x="3428" y="471"/>
                    </a:lnTo>
                    <a:lnTo>
                      <a:pt x="3469" y="502"/>
                    </a:lnTo>
                    <a:lnTo>
                      <a:pt x="3517" y="509"/>
                    </a:lnTo>
                    <a:lnTo>
                      <a:pt x="3563" y="514"/>
                    </a:lnTo>
                    <a:lnTo>
                      <a:pt x="3611" y="521"/>
                    </a:lnTo>
                    <a:lnTo>
                      <a:pt x="3662" y="516"/>
                    </a:lnTo>
                    <a:lnTo>
                      <a:pt x="3713" y="497"/>
                    </a:lnTo>
                    <a:lnTo>
                      <a:pt x="3765" y="479"/>
                    </a:lnTo>
                    <a:lnTo>
                      <a:pt x="3820" y="462"/>
                    </a:lnTo>
                    <a:lnTo>
                      <a:pt x="3868" y="455"/>
                    </a:lnTo>
                    <a:lnTo>
                      <a:pt x="3910" y="475"/>
                    </a:lnTo>
                    <a:lnTo>
                      <a:pt x="3953" y="506"/>
                    </a:lnTo>
                    <a:lnTo>
                      <a:pt x="3960" y="545"/>
                    </a:lnTo>
                    <a:lnTo>
                      <a:pt x="3951" y="583"/>
                    </a:lnTo>
                    <a:lnTo>
                      <a:pt x="3944" y="619"/>
                    </a:lnTo>
                    <a:lnTo>
                      <a:pt x="3951" y="658"/>
                    </a:lnTo>
                    <a:lnTo>
                      <a:pt x="3960" y="698"/>
                    </a:lnTo>
                    <a:lnTo>
                      <a:pt x="3949" y="747"/>
                    </a:lnTo>
                    <a:lnTo>
                      <a:pt x="3940" y="785"/>
                    </a:lnTo>
                    <a:lnTo>
                      <a:pt x="3925" y="859"/>
                    </a:lnTo>
                    <a:lnTo>
                      <a:pt x="3898" y="906"/>
                    </a:lnTo>
                    <a:lnTo>
                      <a:pt x="3886" y="955"/>
                    </a:lnTo>
                    <a:lnTo>
                      <a:pt x="3877" y="993"/>
                    </a:lnTo>
                    <a:lnTo>
                      <a:pt x="3870" y="1031"/>
                    </a:lnTo>
                    <a:lnTo>
                      <a:pt x="3861" y="1068"/>
                    </a:lnTo>
                    <a:lnTo>
                      <a:pt x="3850" y="1118"/>
                    </a:lnTo>
                    <a:lnTo>
                      <a:pt x="3875" y="1159"/>
                    </a:lnTo>
                    <a:lnTo>
                      <a:pt x="3914" y="1191"/>
                    </a:lnTo>
                    <a:lnTo>
                      <a:pt x="3937" y="1233"/>
                    </a:lnTo>
                    <a:lnTo>
                      <a:pt x="3960" y="1275"/>
                    </a:lnTo>
                    <a:lnTo>
                      <a:pt x="3953" y="1311"/>
                    </a:lnTo>
                    <a:lnTo>
                      <a:pt x="3900" y="1342"/>
                    </a:lnTo>
                    <a:lnTo>
                      <a:pt x="3875" y="1379"/>
                    </a:lnTo>
                    <a:lnTo>
                      <a:pt x="3829" y="1435"/>
                    </a:lnTo>
                    <a:lnTo>
                      <a:pt x="3790" y="1468"/>
                    </a:lnTo>
                    <a:lnTo>
                      <a:pt x="3745" y="1514"/>
                    </a:lnTo>
                    <a:lnTo>
                      <a:pt x="3671" y="1555"/>
                    </a:lnTo>
                    <a:lnTo>
                      <a:pt x="3632" y="1587"/>
                    </a:lnTo>
                    <a:lnTo>
                      <a:pt x="3625" y="1625"/>
                    </a:lnTo>
                    <a:lnTo>
                      <a:pt x="3616" y="1662"/>
                    </a:lnTo>
                    <a:lnTo>
                      <a:pt x="3623" y="1701"/>
                    </a:lnTo>
                    <a:lnTo>
                      <a:pt x="3614" y="1737"/>
                    </a:lnTo>
                    <a:lnTo>
                      <a:pt x="3573" y="1782"/>
                    </a:lnTo>
                    <a:lnTo>
                      <a:pt x="3520" y="1802"/>
                    </a:lnTo>
                    <a:lnTo>
                      <a:pt x="3476" y="1782"/>
                    </a:lnTo>
                    <a:lnTo>
                      <a:pt x="3396" y="1771"/>
                    </a:lnTo>
                    <a:lnTo>
                      <a:pt x="3346" y="1776"/>
                    </a:lnTo>
                    <a:lnTo>
                      <a:pt x="3295" y="1796"/>
                    </a:lnTo>
                    <a:lnTo>
                      <a:pt x="3254" y="1828"/>
                    </a:lnTo>
                    <a:lnTo>
                      <a:pt x="3164" y="1868"/>
                    </a:lnTo>
                    <a:lnTo>
                      <a:pt x="3112" y="1884"/>
                    </a:lnTo>
                    <a:lnTo>
                      <a:pt x="3072" y="1918"/>
                    </a:lnTo>
                    <a:lnTo>
                      <a:pt x="2993" y="1973"/>
                    </a:lnTo>
                    <a:lnTo>
                      <a:pt x="2917" y="2024"/>
                    </a:lnTo>
                    <a:lnTo>
                      <a:pt x="2864" y="2044"/>
                    </a:lnTo>
                    <a:lnTo>
                      <a:pt x="2841" y="2078"/>
                    </a:lnTo>
                    <a:lnTo>
                      <a:pt x="2788" y="2097"/>
                    </a:lnTo>
                    <a:lnTo>
                      <a:pt x="2727" y="2153"/>
                    </a:lnTo>
                    <a:lnTo>
                      <a:pt x="2665" y="2144"/>
                    </a:lnTo>
                    <a:lnTo>
                      <a:pt x="2618" y="2137"/>
                    </a:lnTo>
                    <a:lnTo>
                      <a:pt x="2570" y="2142"/>
                    </a:lnTo>
                    <a:lnTo>
                      <a:pt x="2500" y="2159"/>
                    </a:lnTo>
                    <a:lnTo>
                      <a:pt x="2433" y="2176"/>
                    </a:lnTo>
                    <a:lnTo>
                      <a:pt x="2327" y="2212"/>
                    </a:lnTo>
                    <a:lnTo>
                      <a:pt x="2273" y="2229"/>
                    </a:lnTo>
                    <a:lnTo>
                      <a:pt x="2227" y="2223"/>
                    </a:lnTo>
                    <a:lnTo>
                      <a:pt x="2180" y="2216"/>
                    </a:lnTo>
                    <a:lnTo>
                      <a:pt x="2135" y="2197"/>
                    </a:lnTo>
                    <a:lnTo>
                      <a:pt x="2073" y="2188"/>
                    </a:lnTo>
                    <a:lnTo>
                      <a:pt x="2029" y="2170"/>
                    </a:lnTo>
                    <a:lnTo>
                      <a:pt x="1979" y="2163"/>
                    </a:lnTo>
                    <a:lnTo>
                      <a:pt x="1917" y="2155"/>
                    </a:lnTo>
                    <a:lnTo>
                      <a:pt x="1857" y="2134"/>
                    </a:lnTo>
                    <a:lnTo>
                      <a:pt x="1811" y="2127"/>
                    </a:lnTo>
                    <a:lnTo>
                      <a:pt x="1763" y="2120"/>
                    </a:lnTo>
                    <a:lnTo>
                      <a:pt x="1699" y="2111"/>
                    </a:lnTo>
                    <a:lnTo>
                      <a:pt x="1610" y="2151"/>
                    </a:lnTo>
                    <a:lnTo>
                      <a:pt x="1557" y="2167"/>
                    </a:lnTo>
                    <a:lnTo>
                      <a:pt x="1488" y="2184"/>
                    </a:lnTo>
                    <a:lnTo>
                      <a:pt x="1442" y="2179"/>
                    </a:lnTo>
                    <a:lnTo>
                      <a:pt x="1380" y="2169"/>
                    </a:lnTo>
                    <a:lnTo>
                      <a:pt x="1332" y="2174"/>
                    </a:lnTo>
                    <a:lnTo>
                      <a:pt x="1280" y="2181"/>
                    </a:lnTo>
                    <a:lnTo>
                      <a:pt x="1236" y="2162"/>
                    </a:lnTo>
                    <a:lnTo>
                      <a:pt x="1190" y="2155"/>
                    </a:lnTo>
                    <a:lnTo>
                      <a:pt x="1133" y="2121"/>
                    </a:lnTo>
                    <a:lnTo>
                      <a:pt x="1087" y="2102"/>
                    </a:lnTo>
                    <a:lnTo>
                      <a:pt x="993" y="2089"/>
                    </a:lnTo>
                    <a:lnTo>
                      <a:pt x="945" y="2082"/>
                    </a:lnTo>
                    <a:lnTo>
                      <a:pt x="874" y="2076"/>
                    </a:lnTo>
                    <a:lnTo>
                      <a:pt x="793" y="2065"/>
                    </a:lnTo>
                    <a:lnTo>
                      <a:pt x="708" y="2052"/>
                    </a:lnTo>
                    <a:lnTo>
                      <a:pt x="686" y="2008"/>
                    </a:lnTo>
                    <a:lnTo>
                      <a:pt x="626" y="1987"/>
                    </a:lnTo>
                    <a:lnTo>
                      <a:pt x="582" y="1968"/>
                    </a:lnTo>
                    <a:lnTo>
                      <a:pt x="509" y="1932"/>
                    </a:lnTo>
                    <a:lnTo>
                      <a:pt x="438" y="1884"/>
                    </a:lnTo>
                    <a:lnTo>
                      <a:pt x="383" y="1837"/>
                    </a:lnTo>
                    <a:lnTo>
                      <a:pt x="339" y="1820"/>
                    </a:lnTo>
                    <a:lnTo>
                      <a:pt x="282" y="1849"/>
                    </a:lnTo>
                    <a:lnTo>
                      <a:pt x="232" y="1856"/>
                    </a:lnTo>
                    <a:lnTo>
                      <a:pt x="186" y="1849"/>
                    </a:lnTo>
                    <a:lnTo>
                      <a:pt x="140" y="1844"/>
                    </a:lnTo>
                    <a:lnTo>
                      <a:pt x="131" y="1802"/>
                    </a:lnTo>
                    <a:lnTo>
                      <a:pt x="126" y="1751"/>
                    </a:lnTo>
                    <a:lnTo>
                      <a:pt x="119" y="1712"/>
                    </a:lnTo>
                    <a:lnTo>
                      <a:pt x="96" y="1670"/>
                    </a:lnTo>
                    <a:lnTo>
                      <a:pt x="74" y="1617"/>
                    </a:lnTo>
                    <a:lnTo>
                      <a:pt x="51" y="1575"/>
                    </a:lnTo>
                    <a:lnTo>
                      <a:pt x="44" y="1536"/>
                    </a:lnTo>
                    <a:lnTo>
                      <a:pt x="37" y="1496"/>
                    </a:lnTo>
                    <a:lnTo>
                      <a:pt x="46" y="1458"/>
                    </a:lnTo>
                    <a:lnTo>
                      <a:pt x="32" y="1380"/>
                    </a:lnTo>
                    <a:lnTo>
                      <a:pt x="16" y="1313"/>
                    </a:lnTo>
                    <a:lnTo>
                      <a:pt x="7" y="1274"/>
                    </a:lnTo>
                    <a:lnTo>
                      <a:pt x="16" y="1275"/>
                    </a:lnTo>
                    <a:lnTo>
                      <a:pt x="0" y="1234"/>
                    </a:lnTo>
                    <a:lnTo>
                      <a:pt x="7" y="1196"/>
                    </a:lnTo>
                    <a:lnTo>
                      <a:pt x="14" y="1160"/>
                    </a:lnTo>
                    <a:lnTo>
                      <a:pt x="11" y="1108"/>
                    </a:lnTo>
                    <a:lnTo>
                      <a:pt x="30" y="1020"/>
                    </a:lnTo>
                    <a:lnTo>
                      <a:pt x="53" y="920"/>
                    </a:lnTo>
                    <a:lnTo>
                      <a:pt x="43" y="817"/>
                    </a:lnTo>
                    <a:lnTo>
                      <a:pt x="43" y="741"/>
                    </a:lnTo>
                    <a:lnTo>
                      <a:pt x="37" y="702"/>
                    </a:lnTo>
                    <a:lnTo>
                      <a:pt x="51" y="640"/>
                    </a:lnTo>
                    <a:lnTo>
                      <a:pt x="59" y="604"/>
                    </a:lnTo>
                    <a:lnTo>
                      <a:pt x="67" y="566"/>
                    </a:lnTo>
                  </a:path>
                </a:pathLst>
              </a:custGeom>
              <a:solidFill>
                <a:srgbClr val="ffd5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626800" y="4070880"/>
              <a:ext cx="1581120" cy="1133640"/>
              <a:chOff x="5626800" y="4070880"/>
              <a:chExt cx="1581120" cy="113364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626800" y="4070880"/>
                <a:ext cx="1581120" cy="1133640"/>
                <a:chOff x="5626800" y="4070880"/>
                <a:chExt cx="1581120" cy="1133640"/>
              </a:xfrm>
            </p:grpSpPr>
            <p:sp>
              <p:nvSpPr>
                <p:cNvPr id="198" name=""/>
                <p:cNvSpPr/>
                <p:nvPr/>
              </p:nvSpPr>
              <p:spPr>
                <a:xfrm rot="600000">
                  <a:off x="6183720" y="4100400"/>
                  <a:ext cx="373320" cy="362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600000">
                  <a:off x="6499080" y="4113720"/>
                  <a:ext cx="303840" cy="2941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600000">
                  <a:off x="6695640" y="4462560"/>
                  <a:ext cx="475560" cy="46116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600000">
                  <a:off x="5779440" y="4519080"/>
                  <a:ext cx="541440" cy="52776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600000">
                  <a:off x="6484680" y="4730040"/>
                  <a:ext cx="403560" cy="37980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600000">
                  <a:off x="5649840" y="4579920"/>
                  <a:ext cx="302040" cy="2923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600000">
                  <a:off x="5659200" y="4344480"/>
                  <a:ext cx="302760" cy="2923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600000">
                  <a:off x="5824440" y="4117680"/>
                  <a:ext cx="477720" cy="4615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600000">
                  <a:off x="6129720" y="4705200"/>
                  <a:ext cx="473760" cy="46152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600000">
                  <a:off x="6805440" y="4303080"/>
                  <a:ext cx="370080" cy="362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600000">
                  <a:off x="6730200" y="4154400"/>
                  <a:ext cx="337680" cy="326880"/>
                </a:xfrm>
                <a:prstGeom prst="ellipse">
                  <a:avLst/>
                </a:prstGeom>
                <a:solidFill>
                  <a:srgbClr val="ffd5a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74040" y="4161240"/>
                  <a:ext cx="1299600" cy="861840"/>
                </a:xfrm>
                <a:custGeom>
                  <a:avLst/>
                  <a:gdLst/>
                  <a:ahLst/>
                  <a:rect l="l" t="t" r="r" b="b"/>
                  <a:pathLst>
                    <a:path w="3961" h="2230">
                      <a:moveTo>
                        <a:pt x="80" y="602"/>
                      </a:moveTo>
                      <a:lnTo>
                        <a:pt x="69" y="553"/>
                      </a:lnTo>
                      <a:lnTo>
                        <a:pt x="156" y="528"/>
                      </a:lnTo>
                      <a:lnTo>
                        <a:pt x="225" y="510"/>
                      </a:lnTo>
                      <a:lnTo>
                        <a:pt x="305" y="509"/>
                      </a:lnTo>
                      <a:lnTo>
                        <a:pt x="356" y="503"/>
                      </a:lnTo>
                      <a:lnTo>
                        <a:pt x="419" y="511"/>
                      </a:lnTo>
                      <a:lnTo>
                        <a:pt x="466" y="518"/>
                      </a:lnTo>
                      <a:lnTo>
                        <a:pt x="534" y="503"/>
                      </a:lnTo>
                      <a:lnTo>
                        <a:pt x="605" y="486"/>
                      </a:lnTo>
                      <a:lnTo>
                        <a:pt x="672" y="471"/>
                      </a:lnTo>
                      <a:lnTo>
                        <a:pt x="727" y="453"/>
                      </a:lnTo>
                      <a:lnTo>
                        <a:pt x="794" y="437"/>
                      </a:lnTo>
                      <a:lnTo>
                        <a:pt x="849" y="405"/>
                      </a:lnTo>
                      <a:lnTo>
                        <a:pt x="903" y="387"/>
                      </a:lnTo>
                      <a:lnTo>
                        <a:pt x="974" y="359"/>
                      </a:lnTo>
                      <a:lnTo>
                        <a:pt x="1027" y="340"/>
                      </a:lnTo>
                      <a:lnTo>
                        <a:pt x="1066" y="307"/>
                      </a:lnTo>
                      <a:lnTo>
                        <a:pt x="1119" y="289"/>
                      </a:lnTo>
                      <a:lnTo>
                        <a:pt x="1178" y="247"/>
                      </a:lnTo>
                      <a:lnTo>
                        <a:pt x="1243" y="231"/>
                      </a:lnTo>
                      <a:lnTo>
                        <a:pt x="1296" y="212"/>
                      </a:lnTo>
                      <a:lnTo>
                        <a:pt x="1335" y="179"/>
                      </a:lnTo>
                      <a:lnTo>
                        <a:pt x="1444" y="130"/>
                      </a:lnTo>
                      <a:lnTo>
                        <a:pt x="1486" y="98"/>
                      </a:lnTo>
                      <a:lnTo>
                        <a:pt x="1527" y="52"/>
                      </a:lnTo>
                      <a:lnTo>
                        <a:pt x="1552" y="15"/>
                      </a:lnTo>
                      <a:lnTo>
                        <a:pt x="1619" y="0"/>
                      </a:lnTo>
                      <a:lnTo>
                        <a:pt x="1683" y="10"/>
                      </a:lnTo>
                      <a:lnTo>
                        <a:pt x="1731" y="15"/>
                      </a:lnTo>
                      <a:lnTo>
                        <a:pt x="1791" y="35"/>
                      </a:lnTo>
                      <a:lnTo>
                        <a:pt x="1853" y="45"/>
                      </a:lnTo>
                      <a:lnTo>
                        <a:pt x="1901" y="52"/>
                      </a:lnTo>
                      <a:lnTo>
                        <a:pt x="1944" y="71"/>
                      </a:lnTo>
                      <a:lnTo>
                        <a:pt x="2009" y="80"/>
                      </a:lnTo>
                      <a:lnTo>
                        <a:pt x="2071" y="88"/>
                      </a:lnTo>
                      <a:lnTo>
                        <a:pt x="2119" y="95"/>
                      </a:lnTo>
                      <a:lnTo>
                        <a:pt x="2181" y="104"/>
                      </a:lnTo>
                      <a:lnTo>
                        <a:pt x="2243" y="112"/>
                      </a:lnTo>
                      <a:lnTo>
                        <a:pt x="2291" y="119"/>
                      </a:lnTo>
                      <a:lnTo>
                        <a:pt x="2339" y="125"/>
                      </a:lnTo>
                      <a:lnTo>
                        <a:pt x="2385" y="132"/>
                      </a:lnTo>
                      <a:lnTo>
                        <a:pt x="2433" y="139"/>
                      </a:lnTo>
                      <a:lnTo>
                        <a:pt x="2481" y="144"/>
                      </a:lnTo>
                      <a:lnTo>
                        <a:pt x="2545" y="142"/>
                      </a:lnTo>
                      <a:lnTo>
                        <a:pt x="2591" y="149"/>
                      </a:lnTo>
                      <a:lnTo>
                        <a:pt x="2639" y="156"/>
                      </a:lnTo>
                      <a:lnTo>
                        <a:pt x="2692" y="137"/>
                      </a:lnTo>
                      <a:lnTo>
                        <a:pt x="2731" y="105"/>
                      </a:lnTo>
                      <a:lnTo>
                        <a:pt x="2782" y="85"/>
                      </a:lnTo>
                      <a:lnTo>
                        <a:pt x="2832" y="92"/>
                      </a:lnTo>
                      <a:lnTo>
                        <a:pt x="2875" y="112"/>
                      </a:lnTo>
                      <a:lnTo>
                        <a:pt x="2923" y="118"/>
                      </a:lnTo>
                      <a:lnTo>
                        <a:pt x="2967" y="137"/>
                      </a:lnTo>
                      <a:lnTo>
                        <a:pt x="3025" y="170"/>
                      </a:lnTo>
                      <a:lnTo>
                        <a:pt x="3082" y="205"/>
                      </a:lnTo>
                      <a:lnTo>
                        <a:pt x="3123" y="235"/>
                      </a:lnTo>
                      <a:lnTo>
                        <a:pt x="3148" y="279"/>
                      </a:lnTo>
                      <a:lnTo>
                        <a:pt x="3192" y="297"/>
                      </a:lnTo>
                      <a:lnTo>
                        <a:pt x="3235" y="315"/>
                      </a:lnTo>
                      <a:lnTo>
                        <a:pt x="3281" y="335"/>
                      </a:lnTo>
                      <a:lnTo>
                        <a:pt x="3329" y="342"/>
                      </a:lnTo>
                      <a:lnTo>
                        <a:pt x="3368" y="373"/>
                      </a:lnTo>
                      <a:lnTo>
                        <a:pt x="3407" y="417"/>
                      </a:lnTo>
                      <a:lnTo>
                        <a:pt x="3428" y="471"/>
                      </a:lnTo>
                      <a:lnTo>
                        <a:pt x="3469" y="502"/>
                      </a:lnTo>
                      <a:lnTo>
                        <a:pt x="3517" y="509"/>
                      </a:lnTo>
                      <a:lnTo>
                        <a:pt x="3563" y="514"/>
                      </a:lnTo>
                      <a:lnTo>
                        <a:pt x="3611" y="521"/>
                      </a:lnTo>
                      <a:lnTo>
                        <a:pt x="3662" y="516"/>
                      </a:lnTo>
                      <a:lnTo>
                        <a:pt x="3713" y="497"/>
                      </a:lnTo>
                      <a:lnTo>
                        <a:pt x="3765" y="479"/>
                      </a:lnTo>
                      <a:lnTo>
                        <a:pt x="3820" y="462"/>
                      </a:lnTo>
                      <a:lnTo>
                        <a:pt x="3868" y="455"/>
                      </a:lnTo>
                      <a:lnTo>
                        <a:pt x="3910" y="475"/>
                      </a:lnTo>
                      <a:lnTo>
                        <a:pt x="3953" y="506"/>
                      </a:lnTo>
                      <a:lnTo>
                        <a:pt x="3960" y="545"/>
                      </a:lnTo>
                      <a:lnTo>
                        <a:pt x="3951" y="583"/>
                      </a:lnTo>
                      <a:lnTo>
                        <a:pt x="3944" y="619"/>
                      </a:lnTo>
                      <a:lnTo>
                        <a:pt x="3951" y="658"/>
                      </a:lnTo>
                      <a:lnTo>
                        <a:pt x="3960" y="698"/>
                      </a:lnTo>
                      <a:lnTo>
                        <a:pt x="3949" y="747"/>
                      </a:lnTo>
                      <a:lnTo>
                        <a:pt x="3940" y="785"/>
                      </a:lnTo>
                      <a:lnTo>
                        <a:pt x="3925" y="859"/>
                      </a:lnTo>
                      <a:lnTo>
                        <a:pt x="3898" y="906"/>
                      </a:lnTo>
                      <a:lnTo>
                        <a:pt x="3886" y="955"/>
                      </a:lnTo>
                      <a:lnTo>
                        <a:pt x="3877" y="993"/>
                      </a:lnTo>
                      <a:lnTo>
                        <a:pt x="3870" y="1031"/>
                      </a:lnTo>
                      <a:lnTo>
                        <a:pt x="3861" y="1068"/>
                      </a:lnTo>
                      <a:lnTo>
                        <a:pt x="3850" y="1118"/>
                      </a:lnTo>
                      <a:lnTo>
                        <a:pt x="3875" y="1159"/>
                      </a:lnTo>
                      <a:lnTo>
                        <a:pt x="3914" y="1191"/>
                      </a:lnTo>
                      <a:lnTo>
                        <a:pt x="3937" y="1233"/>
                      </a:lnTo>
                      <a:lnTo>
                        <a:pt x="3960" y="1275"/>
                      </a:lnTo>
                      <a:lnTo>
                        <a:pt x="3953" y="1311"/>
                      </a:lnTo>
                      <a:lnTo>
                        <a:pt x="3900" y="1342"/>
                      </a:lnTo>
                      <a:lnTo>
                        <a:pt x="3875" y="1379"/>
                      </a:lnTo>
                      <a:lnTo>
                        <a:pt x="3829" y="1435"/>
                      </a:lnTo>
                      <a:lnTo>
                        <a:pt x="3790" y="1468"/>
                      </a:lnTo>
                      <a:lnTo>
                        <a:pt x="3745" y="1514"/>
                      </a:lnTo>
                      <a:lnTo>
                        <a:pt x="3671" y="1555"/>
                      </a:lnTo>
                      <a:lnTo>
                        <a:pt x="3632" y="1587"/>
                      </a:lnTo>
                      <a:lnTo>
                        <a:pt x="3625" y="1625"/>
                      </a:lnTo>
                      <a:lnTo>
                        <a:pt x="3616" y="1662"/>
                      </a:lnTo>
                      <a:lnTo>
                        <a:pt x="3623" y="1701"/>
                      </a:lnTo>
                      <a:lnTo>
                        <a:pt x="3614" y="1737"/>
                      </a:lnTo>
                      <a:lnTo>
                        <a:pt x="3573" y="1782"/>
                      </a:lnTo>
                      <a:lnTo>
                        <a:pt x="3520" y="1802"/>
                      </a:lnTo>
                      <a:lnTo>
                        <a:pt x="3476" y="1782"/>
                      </a:lnTo>
                      <a:lnTo>
                        <a:pt x="3396" y="1771"/>
                      </a:lnTo>
                      <a:lnTo>
                        <a:pt x="3346" y="1776"/>
                      </a:lnTo>
                      <a:lnTo>
                        <a:pt x="3295" y="1796"/>
                      </a:lnTo>
                      <a:lnTo>
                        <a:pt x="3254" y="1828"/>
                      </a:lnTo>
                      <a:lnTo>
                        <a:pt x="3164" y="1868"/>
                      </a:lnTo>
                      <a:lnTo>
                        <a:pt x="3112" y="1884"/>
                      </a:lnTo>
                      <a:lnTo>
                        <a:pt x="3072" y="1918"/>
                      </a:lnTo>
                      <a:lnTo>
                        <a:pt x="2993" y="1973"/>
                      </a:lnTo>
                      <a:lnTo>
                        <a:pt x="2917" y="2024"/>
                      </a:lnTo>
                      <a:lnTo>
                        <a:pt x="2864" y="2044"/>
                      </a:lnTo>
                      <a:lnTo>
                        <a:pt x="2841" y="2078"/>
                      </a:lnTo>
                      <a:lnTo>
                        <a:pt x="2788" y="2097"/>
                      </a:lnTo>
                      <a:lnTo>
                        <a:pt x="2727" y="2153"/>
                      </a:lnTo>
                      <a:lnTo>
                        <a:pt x="2665" y="2144"/>
                      </a:lnTo>
                      <a:lnTo>
                        <a:pt x="2618" y="2137"/>
                      </a:lnTo>
                      <a:lnTo>
                        <a:pt x="2570" y="2142"/>
                      </a:lnTo>
                      <a:lnTo>
                        <a:pt x="2500" y="2159"/>
                      </a:lnTo>
                      <a:lnTo>
                        <a:pt x="2433" y="2176"/>
                      </a:lnTo>
                      <a:lnTo>
                        <a:pt x="2327" y="2212"/>
                      </a:lnTo>
                      <a:lnTo>
                        <a:pt x="2273" y="2229"/>
                      </a:lnTo>
                      <a:lnTo>
                        <a:pt x="2227" y="2223"/>
                      </a:lnTo>
                      <a:lnTo>
                        <a:pt x="2180" y="2216"/>
                      </a:lnTo>
                      <a:lnTo>
                        <a:pt x="2135" y="2197"/>
                      </a:lnTo>
                      <a:lnTo>
                        <a:pt x="2073" y="2188"/>
                      </a:lnTo>
                      <a:lnTo>
                        <a:pt x="2029" y="2170"/>
                      </a:lnTo>
                      <a:lnTo>
                        <a:pt x="1979" y="2163"/>
                      </a:lnTo>
                      <a:lnTo>
                        <a:pt x="1917" y="2155"/>
                      </a:lnTo>
                      <a:lnTo>
                        <a:pt x="1857" y="2134"/>
                      </a:lnTo>
                      <a:lnTo>
                        <a:pt x="1811" y="2127"/>
                      </a:lnTo>
                      <a:lnTo>
                        <a:pt x="1763" y="2120"/>
                      </a:lnTo>
                      <a:lnTo>
                        <a:pt x="1699" y="2111"/>
                      </a:lnTo>
                      <a:lnTo>
                        <a:pt x="1610" y="2151"/>
                      </a:lnTo>
                      <a:lnTo>
                        <a:pt x="1557" y="2167"/>
                      </a:lnTo>
                      <a:lnTo>
                        <a:pt x="1488" y="2184"/>
                      </a:lnTo>
                      <a:lnTo>
                        <a:pt x="1442" y="2179"/>
                      </a:lnTo>
                      <a:lnTo>
                        <a:pt x="1380" y="2169"/>
                      </a:lnTo>
                      <a:lnTo>
                        <a:pt x="1332" y="2174"/>
                      </a:lnTo>
                      <a:lnTo>
                        <a:pt x="1280" y="2181"/>
                      </a:lnTo>
                      <a:lnTo>
                        <a:pt x="1236" y="2162"/>
                      </a:lnTo>
                      <a:lnTo>
                        <a:pt x="1190" y="2155"/>
                      </a:lnTo>
                      <a:lnTo>
                        <a:pt x="1133" y="2121"/>
                      </a:lnTo>
                      <a:lnTo>
                        <a:pt x="1087" y="2102"/>
                      </a:lnTo>
                      <a:lnTo>
                        <a:pt x="993" y="2089"/>
                      </a:lnTo>
                      <a:lnTo>
                        <a:pt x="945" y="2082"/>
                      </a:lnTo>
                      <a:lnTo>
                        <a:pt x="874" y="2076"/>
                      </a:lnTo>
                      <a:lnTo>
                        <a:pt x="793" y="2065"/>
                      </a:lnTo>
                      <a:lnTo>
                        <a:pt x="708" y="2052"/>
                      </a:lnTo>
                      <a:lnTo>
                        <a:pt x="686" y="2008"/>
                      </a:lnTo>
                      <a:lnTo>
                        <a:pt x="626" y="1987"/>
                      </a:lnTo>
                      <a:lnTo>
                        <a:pt x="582" y="1968"/>
                      </a:lnTo>
                      <a:lnTo>
                        <a:pt x="509" y="1932"/>
                      </a:lnTo>
                      <a:lnTo>
                        <a:pt x="438" y="1884"/>
                      </a:lnTo>
                      <a:lnTo>
                        <a:pt x="383" y="1837"/>
                      </a:lnTo>
                      <a:lnTo>
                        <a:pt x="339" y="1820"/>
                      </a:lnTo>
                      <a:lnTo>
                        <a:pt x="282" y="1849"/>
                      </a:lnTo>
                      <a:lnTo>
                        <a:pt x="232" y="1856"/>
                      </a:lnTo>
                      <a:lnTo>
                        <a:pt x="186" y="1849"/>
                      </a:lnTo>
                      <a:lnTo>
                        <a:pt x="140" y="1844"/>
                      </a:lnTo>
                      <a:lnTo>
                        <a:pt x="131" y="1802"/>
                      </a:lnTo>
                      <a:lnTo>
                        <a:pt x="126" y="1751"/>
                      </a:lnTo>
                      <a:lnTo>
                        <a:pt x="119" y="1712"/>
                      </a:lnTo>
                      <a:lnTo>
                        <a:pt x="96" y="1670"/>
                      </a:lnTo>
                      <a:lnTo>
                        <a:pt x="74" y="1617"/>
                      </a:lnTo>
                      <a:lnTo>
                        <a:pt x="51" y="1575"/>
                      </a:lnTo>
                      <a:lnTo>
                        <a:pt x="44" y="1536"/>
                      </a:lnTo>
                      <a:lnTo>
                        <a:pt x="37" y="1496"/>
                      </a:lnTo>
                      <a:lnTo>
                        <a:pt x="46" y="1458"/>
                      </a:lnTo>
                      <a:lnTo>
                        <a:pt x="32" y="1380"/>
                      </a:lnTo>
                      <a:lnTo>
                        <a:pt x="16" y="1313"/>
                      </a:lnTo>
                      <a:lnTo>
                        <a:pt x="7" y="1274"/>
                      </a:lnTo>
                      <a:lnTo>
                        <a:pt x="16" y="1275"/>
                      </a:lnTo>
                      <a:lnTo>
                        <a:pt x="0" y="1234"/>
                      </a:lnTo>
                      <a:lnTo>
                        <a:pt x="7" y="1196"/>
                      </a:lnTo>
                      <a:lnTo>
                        <a:pt x="14" y="1160"/>
                      </a:lnTo>
                      <a:lnTo>
                        <a:pt x="11" y="1108"/>
                      </a:lnTo>
                      <a:lnTo>
                        <a:pt x="30" y="1020"/>
                      </a:lnTo>
                      <a:lnTo>
                        <a:pt x="53" y="920"/>
                      </a:lnTo>
                      <a:lnTo>
                        <a:pt x="43" y="817"/>
                      </a:lnTo>
                      <a:lnTo>
                        <a:pt x="43" y="741"/>
                      </a:lnTo>
                      <a:lnTo>
                        <a:pt x="37" y="702"/>
                      </a:lnTo>
                      <a:lnTo>
                        <a:pt x="51" y="640"/>
                      </a:lnTo>
                      <a:lnTo>
                        <a:pt x="59" y="604"/>
                      </a:lnTo>
                      <a:lnTo>
                        <a:pt x="67" y="566"/>
                      </a:lnTo>
                    </a:path>
                  </a:pathLst>
                </a:custGeom>
                <a:solidFill>
                  <a:srgbClr val="ffd5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5835240" y="4178160"/>
                <a:ext cx="12474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riv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450760" y="2748600"/>
              <a:ext cx="1303560" cy="78264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1600" y="2819880"/>
              <a:ext cx="141300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8920" y="685800"/>
              <a:ext cx="1526040" cy="568800"/>
            </a:xfrm>
            <a:prstGeom prst="rect">
              <a:avLst/>
            </a:prstGeom>
            <a:gradFill rotWithShape="0">
              <a:gsLst>
                <a:gs pos="0">
                  <a:srgbClr val="c19ac1"/>
                </a:gs>
                <a:gs pos="100000">
                  <a:srgbClr val="ffcc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6560" y="756720"/>
              <a:ext cx="138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0280" y="2535120"/>
              <a:ext cx="866520" cy="569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6800" y="2535120"/>
              <a:ext cx="73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0280" y="2037240"/>
              <a:ext cx="862560" cy="35532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1280" y="2037240"/>
              <a:ext cx="83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-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0280" y="3246480"/>
              <a:ext cx="862560" cy="56880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79080" y="3246480"/>
              <a:ext cx="931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m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0280" y="1254600"/>
              <a:ext cx="862560" cy="64008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07880" y="1253160"/>
              <a:ext cx="8305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2120" y="1681560"/>
              <a:ext cx="397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75880" y="2250720"/>
              <a:ext cx="464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9640" y="2819880"/>
              <a:ext cx="530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43040" y="3531240"/>
              <a:ext cx="596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42120" y="1254600"/>
              <a:ext cx="0" cy="426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4240" y="1254600"/>
              <a:ext cx="0" cy="1493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5880" y="1254600"/>
              <a:ext cx="0" cy="996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9640" y="1254600"/>
              <a:ext cx="0" cy="156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3040" y="1254600"/>
              <a:ext cx="0" cy="2276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507800" y="3958200"/>
              <a:ext cx="530640" cy="484200"/>
              <a:chOff x="7507800" y="3958200"/>
              <a:chExt cx="530640" cy="4842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7532280" y="4262040"/>
                <a:ext cx="470880" cy="140400"/>
                <a:chOff x="7532280" y="4262040"/>
                <a:chExt cx="470880" cy="140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532280" y="4262040"/>
                  <a:ext cx="470880" cy="140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00480" y="4288680"/>
                  <a:ext cx="155520" cy="56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507800" y="4343400"/>
                <a:ext cx="530640" cy="99000"/>
                <a:chOff x="7507800" y="4343400"/>
                <a:chExt cx="530640" cy="990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507800" y="4343400"/>
                  <a:ext cx="530640" cy="990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537320" y="4365000"/>
                  <a:ext cx="352800" cy="6192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900200" y="4365000"/>
                  <a:ext cx="106920" cy="6192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598520" y="3958200"/>
                <a:ext cx="33912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21920" y="3984120"/>
                <a:ext cx="293400" cy="237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84000" y="3984120"/>
                <a:ext cx="29520" cy="23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95520" y="3995640"/>
                <a:ext cx="612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96600" y="410544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96600" y="415188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96600" y="419580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6976800" y="4029120"/>
              <a:ext cx="596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6800" y="1254600"/>
              <a:ext cx="0" cy="2916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848560" y="1468080"/>
              <a:ext cx="1526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96720" y="125316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API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29440" y="424116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5320" y="5451840"/>
              <a:ext cx="1446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Home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1867680" y="5025240"/>
            <a:ext cx="496080" cy="47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67680" y="5025240"/>
                      <a:ext cx="496080" cy="4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5" name=""/>
            <p:cNvGrpSpPr/>
            <p:nvPr/>
          </p:nvGrpSpPr>
          <p:grpSpPr>
            <a:xfrm>
              <a:off x="2398680" y="5025240"/>
              <a:ext cx="530640" cy="484200"/>
              <a:chOff x="2398680" y="5025240"/>
              <a:chExt cx="530640" cy="484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2423160" y="5329080"/>
                <a:ext cx="470880" cy="140400"/>
                <a:chOff x="2423160" y="5329080"/>
                <a:chExt cx="470880" cy="1404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423160" y="5329080"/>
                  <a:ext cx="470880" cy="140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691360" y="5355720"/>
                  <a:ext cx="155520" cy="56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2398680" y="5410440"/>
                <a:ext cx="530640" cy="99000"/>
                <a:chOff x="2398680" y="5410440"/>
                <a:chExt cx="530640" cy="9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398680" y="5410440"/>
                  <a:ext cx="530640" cy="990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28200" y="5432040"/>
                  <a:ext cx="352800" cy="6192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791080" y="5432040"/>
                  <a:ext cx="106920" cy="6192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489400" y="5025240"/>
                <a:ext cx="33912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2800" y="5051160"/>
                <a:ext cx="293400" cy="237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74880" y="5051160"/>
                <a:ext cx="29520" cy="23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86400" y="5062680"/>
                <a:ext cx="612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87480" y="517248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7480" y="52189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87480" y="526284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976800" y="4171320"/>
              <a:ext cx="0" cy="71100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796840" y="4882680"/>
              <a:ext cx="574560" cy="355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394080" y="4882680"/>
              <a:ext cx="358272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447920" y="3531240"/>
            <a:ext cx="562320" cy="54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3531240"/>
                      <a:ext cx="562320" cy="54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2774880" y="38869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ublic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21960" y="2748600"/>
              <a:ext cx="1303560" cy="78264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34560" y="2819880"/>
              <a:ext cx="133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570840" y="3531240"/>
              <a:ext cx="1393200" cy="301680"/>
              <a:chOff x="3570840" y="3531240"/>
              <a:chExt cx="1393200" cy="301680"/>
            </a:xfrm>
          </p:grpSpPr>
          <p:sp>
            <p:nvSpPr>
              <p:cNvPr id="279" name=""/>
              <p:cNvSpPr/>
              <p:nvPr/>
            </p:nvSpPr>
            <p:spPr>
              <a:xfrm>
                <a:off x="395928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5052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42120" y="3531240"/>
                <a:ext cx="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87560" y="3531240"/>
                <a:ext cx="9684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44920" y="3601800"/>
                <a:ext cx="228240" cy="2059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53680" y="3601800"/>
                <a:ext cx="227520" cy="12744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36520" y="3601800"/>
                <a:ext cx="227520" cy="2059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62080" y="3601800"/>
                <a:ext cx="227520" cy="2311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716280" y="3531240"/>
                <a:ext cx="145440" cy="14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70840" y="3601800"/>
                <a:ext cx="227520" cy="23112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376360" y="2748600"/>
              <a:ext cx="1194120" cy="782640"/>
            </a:xfrm>
            <a:prstGeom prst="rect">
              <a:avLst/>
            </a:prstGeom>
            <a:gradFill rotWithShape="0">
              <a:gsLst>
                <a:gs pos="0">
                  <a:srgbClr val="00c1c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4560" y="2819880"/>
              <a:ext cx="1383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447920" y="685800"/>
            <a:ext cx="7425360" cy="5199840"/>
            <a:chOff x="1447920" y="685800"/>
            <a:chExt cx="7425360" cy="5199840"/>
          </a:xfrm>
        </p:grpSpPr>
        <p:sp>
          <p:nvSpPr>
            <p:cNvPr id="292" name=""/>
            <p:cNvSpPr/>
            <p:nvPr/>
          </p:nvSpPr>
          <p:spPr>
            <a:xfrm>
              <a:off x="1447920" y="1061280"/>
              <a:ext cx="7283880" cy="27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275200" y="4511520"/>
              <a:ext cx="93348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848680" y="4727880"/>
              <a:ext cx="678960" cy="43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22000" y="2490480"/>
              <a:ext cx="0" cy="43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694760" y="4367160"/>
              <a:ext cx="31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249080" y="4872600"/>
              <a:ext cx="356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7560360" y="4655880"/>
            <a:ext cx="475920" cy="48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60360" y="4655880"/>
                      <a:ext cx="4759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"/>
            <p:cNvSpPr/>
            <p:nvPr/>
          </p:nvSpPr>
          <p:spPr>
            <a:xfrm>
              <a:off x="5968440" y="685800"/>
              <a:ext cx="1464480" cy="577080"/>
            </a:xfrm>
            <a:prstGeom prst="rect">
              <a:avLst/>
            </a:prstGeom>
            <a:gradFill rotWithShape="0">
              <a:gsLst>
                <a:gs pos="0">
                  <a:srgbClr val="c19ac1"/>
                </a:gs>
                <a:gs pos="100000">
                  <a:srgbClr val="ffcc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44040" y="757800"/>
              <a:ext cx="138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5280" y="1262880"/>
              <a:ext cx="0" cy="1154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0760" y="1262880"/>
              <a:ext cx="0" cy="866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41560" y="1262880"/>
              <a:ext cx="0" cy="108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78200" y="1262880"/>
              <a:ext cx="0" cy="101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14480" y="1262880"/>
              <a:ext cx="0" cy="938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560360" y="4006440"/>
              <a:ext cx="509040" cy="491760"/>
              <a:chOff x="7560360" y="4006440"/>
              <a:chExt cx="509040" cy="4917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584120" y="4314600"/>
                <a:ext cx="451800" cy="142560"/>
                <a:chOff x="7584120" y="4314600"/>
                <a:chExt cx="451800" cy="142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584120" y="4314600"/>
                  <a:ext cx="451800" cy="14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841520" y="4341600"/>
                  <a:ext cx="149040" cy="57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560360" y="4397400"/>
                <a:ext cx="509040" cy="100800"/>
                <a:chOff x="7560360" y="4397400"/>
                <a:chExt cx="509040" cy="1008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560360" y="4397400"/>
                  <a:ext cx="509040" cy="1008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588800" y="4419360"/>
                  <a:ext cx="338400" cy="6300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36920" y="4419360"/>
                  <a:ext cx="102600" cy="6300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7647120" y="4006440"/>
                <a:ext cx="325440" cy="28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69800" y="4032720"/>
                <a:ext cx="281160" cy="240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21440" y="4032720"/>
                <a:ext cx="28440" cy="240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32240" y="4044240"/>
                <a:ext cx="576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33320" y="415584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933320" y="4203000"/>
                <a:ext cx="324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33320" y="424764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flipH="1">
              <a:off x="7050960" y="4078440"/>
              <a:ext cx="5727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51320" y="1262880"/>
              <a:ext cx="0" cy="2959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968440" y="1479600"/>
              <a:ext cx="1464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61320" y="126288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Parlay API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4200" y="4294800"/>
              <a:ext cx="82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51320" y="4222800"/>
              <a:ext cx="0" cy="64944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30640" y="1695960"/>
              <a:ext cx="1209600" cy="794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40440" y="1768320"/>
              <a:ext cx="108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440240" y="2129400"/>
              <a:ext cx="1910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439880" y="2201400"/>
              <a:ext cx="1973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440240" y="2273760"/>
              <a:ext cx="2037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440240" y="2345760"/>
              <a:ext cx="21009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440240" y="2418120"/>
              <a:ext cx="21650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548880" y="1262520"/>
              <a:ext cx="2673360" cy="1660320"/>
              <a:chOff x="3548880" y="1262520"/>
              <a:chExt cx="2673360" cy="1660320"/>
            </a:xfrm>
          </p:grpSpPr>
          <p:sp>
            <p:nvSpPr>
              <p:cNvPr id="336" name=""/>
              <p:cNvSpPr/>
              <p:nvPr/>
            </p:nvSpPr>
            <p:spPr>
              <a:xfrm>
                <a:off x="3548880" y="2490120"/>
                <a:ext cx="0" cy="432720"/>
              </a:xfrm>
              <a:prstGeom prst="line">
                <a:avLst/>
              </a:prstGeom>
              <a:ln w="38160">
                <a:solidFill>
                  <a:srgbClr val="331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439520" y="1262520"/>
                <a:ext cx="1782720" cy="739800"/>
                <a:chOff x="4439520" y="1262520"/>
                <a:chExt cx="1782720" cy="739800"/>
              </a:xfrm>
            </p:grpSpPr>
            <p:sp>
              <p:nvSpPr>
                <p:cNvPr id="338" name=""/>
                <p:cNvSpPr/>
                <p:nvPr/>
              </p:nvSpPr>
              <p:spPr>
                <a:xfrm flipH="1">
                  <a:off x="4439520" y="1984320"/>
                  <a:ext cx="1782360" cy="0"/>
                </a:xfrm>
                <a:prstGeom prst="line">
                  <a:avLst/>
                </a:prstGeom>
                <a:ln w="38160">
                  <a:solidFill>
                    <a:srgbClr val="3316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6222240" y="1262520"/>
                  <a:ext cx="0" cy="739800"/>
                </a:xfrm>
                <a:prstGeom prst="line">
                  <a:avLst/>
                </a:prstGeom>
                <a:ln w="38160">
                  <a:solidFill>
                    <a:srgbClr val="3316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4440240" y="1262880"/>
              <a:ext cx="1655280" cy="595800"/>
              <a:chOff x="4440240" y="1262880"/>
              <a:chExt cx="1655280" cy="595800"/>
            </a:xfrm>
          </p:grpSpPr>
          <p:sp>
            <p:nvSpPr>
              <p:cNvPr id="341" name=""/>
              <p:cNvSpPr/>
              <p:nvPr/>
            </p:nvSpPr>
            <p:spPr>
              <a:xfrm>
                <a:off x="6095520" y="1262880"/>
                <a:ext cx="0" cy="59580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440240" y="1840320"/>
                <a:ext cx="1655280" cy="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1872000" y="3934080"/>
              <a:ext cx="95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681640" y="3313080"/>
              <a:ext cx="2367360" cy="1902960"/>
              <a:chOff x="2681640" y="3313080"/>
              <a:chExt cx="2367360" cy="1902960"/>
            </a:xfrm>
          </p:grpSpPr>
          <p:sp>
            <p:nvSpPr>
              <p:cNvPr id="345" name=""/>
              <p:cNvSpPr/>
              <p:nvPr/>
            </p:nvSpPr>
            <p:spPr>
              <a:xfrm rot="600000">
                <a:off x="3516480" y="3356640"/>
                <a:ext cx="555840" cy="613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600000">
                <a:off x="3985560" y="3378960"/>
                <a:ext cx="452160" cy="49752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600000">
                <a:off x="4278240" y="3969720"/>
                <a:ext cx="708120" cy="7797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600000">
                <a:off x="2913480" y="4065120"/>
                <a:ext cx="805680" cy="892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00000">
                <a:off x="3964320" y="4421520"/>
                <a:ext cx="600480" cy="6426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600000">
                <a:off x="2721240" y="4168440"/>
                <a:ext cx="449640" cy="4946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600000">
                <a:off x="2735280" y="3770280"/>
                <a:ext cx="450720" cy="49464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600000">
                <a:off x="2981520" y="3385800"/>
                <a:ext cx="711000" cy="7804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00000">
                <a:off x="3435840" y="4380120"/>
                <a:ext cx="704880" cy="78048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600000">
                <a:off x="4441680" y="3700080"/>
                <a:ext cx="550800" cy="61380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00000">
                <a:off x="4329360" y="3448440"/>
                <a:ext cx="502920" cy="552960"/>
              </a:xfrm>
              <a:prstGeom prst="ellipse">
                <a:avLst/>
              </a:prstGeom>
              <a:solidFill>
                <a:srgbClr val="ffd5a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06280" y="3459960"/>
                <a:ext cx="1934280" cy="1457640"/>
              </a:xfrm>
              <a:custGeom>
                <a:avLst/>
                <a:gdLst/>
                <a:ahLst/>
                <a:rect l="l" t="t" r="r" b="b"/>
                <a:pathLst>
                  <a:path w="3961" h="2230">
                    <a:moveTo>
                      <a:pt x="80" y="602"/>
                    </a:moveTo>
                    <a:lnTo>
                      <a:pt x="69" y="553"/>
                    </a:lnTo>
                    <a:lnTo>
                      <a:pt x="156" y="528"/>
                    </a:lnTo>
                    <a:lnTo>
                      <a:pt x="225" y="510"/>
                    </a:lnTo>
                    <a:lnTo>
                      <a:pt x="305" y="509"/>
                    </a:lnTo>
                    <a:lnTo>
                      <a:pt x="356" y="503"/>
                    </a:lnTo>
                    <a:lnTo>
                      <a:pt x="419" y="511"/>
                    </a:lnTo>
                    <a:lnTo>
                      <a:pt x="466" y="518"/>
                    </a:lnTo>
                    <a:lnTo>
                      <a:pt x="534" y="503"/>
                    </a:lnTo>
                    <a:lnTo>
                      <a:pt x="605" y="486"/>
                    </a:lnTo>
                    <a:lnTo>
                      <a:pt x="672" y="471"/>
                    </a:lnTo>
                    <a:lnTo>
                      <a:pt x="727" y="453"/>
                    </a:lnTo>
                    <a:lnTo>
                      <a:pt x="794" y="437"/>
                    </a:lnTo>
                    <a:lnTo>
                      <a:pt x="849" y="405"/>
                    </a:lnTo>
                    <a:lnTo>
                      <a:pt x="903" y="387"/>
                    </a:lnTo>
                    <a:lnTo>
                      <a:pt x="974" y="359"/>
                    </a:lnTo>
                    <a:lnTo>
                      <a:pt x="1027" y="340"/>
                    </a:lnTo>
                    <a:lnTo>
                      <a:pt x="1066" y="307"/>
                    </a:lnTo>
                    <a:lnTo>
                      <a:pt x="1119" y="289"/>
                    </a:lnTo>
                    <a:lnTo>
                      <a:pt x="1178" y="247"/>
                    </a:lnTo>
                    <a:lnTo>
                      <a:pt x="1243" y="231"/>
                    </a:lnTo>
                    <a:lnTo>
                      <a:pt x="1296" y="212"/>
                    </a:lnTo>
                    <a:lnTo>
                      <a:pt x="1335" y="179"/>
                    </a:lnTo>
                    <a:lnTo>
                      <a:pt x="1444" y="130"/>
                    </a:lnTo>
                    <a:lnTo>
                      <a:pt x="1486" y="98"/>
                    </a:lnTo>
                    <a:lnTo>
                      <a:pt x="1527" y="52"/>
                    </a:lnTo>
                    <a:lnTo>
                      <a:pt x="1552" y="15"/>
                    </a:lnTo>
                    <a:lnTo>
                      <a:pt x="1619" y="0"/>
                    </a:lnTo>
                    <a:lnTo>
                      <a:pt x="1683" y="10"/>
                    </a:lnTo>
                    <a:lnTo>
                      <a:pt x="1731" y="15"/>
                    </a:lnTo>
                    <a:lnTo>
                      <a:pt x="1791" y="35"/>
                    </a:lnTo>
                    <a:lnTo>
                      <a:pt x="1853" y="45"/>
                    </a:lnTo>
                    <a:lnTo>
                      <a:pt x="1901" y="52"/>
                    </a:lnTo>
                    <a:lnTo>
                      <a:pt x="1944" y="71"/>
                    </a:lnTo>
                    <a:lnTo>
                      <a:pt x="2009" y="80"/>
                    </a:lnTo>
                    <a:lnTo>
                      <a:pt x="2071" y="88"/>
                    </a:lnTo>
                    <a:lnTo>
                      <a:pt x="2119" y="95"/>
                    </a:lnTo>
                    <a:lnTo>
                      <a:pt x="2181" y="104"/>
                    </a:lnTo>
                    <a:lnTo>
                      <a:pt x="2243" y="112"/>
                    </a:lnTo>
                    <a:lnTo>
                      <a:pt x="2291" y="119"/>
                    </a:lnTo>
                    <a:lnTo>
                      <a:pt x="2339" y="125"/>
                    </a:lnTo>
                    <a:lnTo>
                      <a:pt x="2385" y="132"/>
                    </a:lnTo>
                    <a:lnTo>
                      <a:pt x="2433" y="139"/>
                    </a:lnTo>
                    <a:lnTo>
                      <a:pt x="2481" y="144"/>
                    </a:lnTo>
                    <a:lnTo>
                      <a:pt x="2545" y="142"/>
                    </a:lnTo>
                    <a:lnTo>
                      <a:pt x="2591" y="149"/>
                    </a:lnTo>
                    <a:lnTo>
                      <a:pt x="2639" y="156"/>
                    </a:lnTo>
                    <a:lnTo>
                      <a:pt x="2692" y="137"/>
                    </a:lnTo>
                    <a:lnTo>
                      <a:pt x="2731" y="105"/>
                    </a:lnTo>
                    <a:lnTo>
                      <a:pt x="2782" y="85"/>
                    </a:lnTo>
                    <a:lnTo>
                      <a:pt x="2832" y="92"/>
                    </a:lnTo>
                    <a:lnTo>
                      <a:pt x="2875" y="112"/>
                    </a:lnTo>
                    <a:lnTo>
                      <a:pt x="2923" y="118"/>
                    </a:lnTo>
                    <a:lnTo>
                      <a:pt x="2967" y="137"/>
                    </a:lnTo>
                    <a:lnTo>
                      <a:pt x="3025" y="170"/>
                    </a:lnTo>
                    <a:lnTo>
                      <a:pt x="3082" y="205"/>
                    </a:lnTo>
                    <a:lnTo>
                      <a:pt x="3123" y="235"/>
                    </a:lnTo>
                    <a:lnTo>
                      <a:pt x="3148" y="279"/>
                    </a:lnTo>
                    <a:lnTo>
                      <a:pt x="3192" y="297"/>
                    </a:lnTo>
                    <a:lnTo>
                      <a:pt x="3235" y="315"/>
                    </a:lnTo>
                    <a:lnTo>
                      <a:pt x="3281" y="335"/>
                    </a:lnTo>
                    <a:lnTo>
                      <a:pt x="3329" y="342"/>
                    </a:lnTo>
                    <a:lnTo>
                      <a:pt x="3368" y="373"/>
                    </a:lnTo>
                    <a:lnTo>
                      <a:pt x="3407" y="417"/>
                    </a:lnTo>
                    <a:lnTo>
                      <a:pt x="3428" y="471"/>
                    </a:lnTo>
                    <a:lnTo>
                      <a:pt x="3469" y="502"/>
                    </a:lnTo>
                    <a:lnTo>
                      <a:pt x="3517" y="509"/>
                    </a:lnTo>
                    <a:lnTo>
                      <a:pt x="3563" y="514"/>
                    </a:lnTo>
                    <a:lnTo>
                      <a:pt x="3611" y="521"/>
                    </a:lnTo>
                    <a:lnTo>
                      <a:pt x="3662" y="516"/>
                    </a:lnTo>
                    <a:lnTo>
                      <a:pt x="3713" y="497"/>
                    </a:lnTo>
                    <a:lnTo>
                      <a:pt x="3765" y="479"/>
                    </a:lnTo>
                    <a:lnTo>
                      <a:pt x="3820" y="462"/>
                    </a:lnTo>
                    <a:lnTo>
                      <a:pt x="3868" y="455"/>
                    </a:lnTo>
                    <a:lnTo>
                      <a:pt x="3910" y="475"/>
                    </a:lnTo>
                    <a:lnTo>
                      <a:pt x="3953" y="506"/>
                    </a:lnTo>
                    <a:lnTo>
                      <a:pt x="3960" y="545"/>
                    </a:lnTo>
                    <a:lnTo>
                      <a:pt x="3951" y="583"/>
                    </a:lnTo>
                    <a:lnTo>
                      <a:pt x="3944" y="619"/>
                    </a:lnTo>
                    <a:lnTo>
                      <a:pt x="3951" y="658"/>
                    </a:lnTo>
                    <a:lnTo>
                      <a:pt x="3960" y="698"/>
                    </a:lnTo>
                    <a:lnTo>
                      <a:pt x="3949" y="747"/>
                    </a:lnTo>
                    <a:lnTo>
                      <a:pt x="3940" y="785"/>
                    </a:lnTo>
                    <a:lnTo>
                      <a:pt x="3925" y="859"/>
                    </a:lnTo>
                    <a:lnTo>
                      <a:pt x="3898" y="906"/>
                    </a:lnTo>
                    <a:lnTo>
                      <a:pt x="3886" y="955"/>
                    </a:lnTo>
                    <a:lnTo>
                      <a:pt x="3877" y="993"/>
                    </a:lnTo>
                    <a:lnTo>
                      <a:pt x="3870" y="1031"/>
                    </a:lnTo>
                    <a:lnTo>
                      <a:pt x="3861" y="1068"/>
                    </a:lnTo>
                    <a:lnTo>
                      <a:pt x="3850" y="1118"/>
                    </a:lnTo>
                    <a:lnTo>
                      <a:pt x="3875" y="1159"/>
                    </a:lnTo>
                    <a:lnTo>
                      <a:pt x="3914" y="1191"/>
                    </a:lnTo>
                    <a:lnTo>
                      <a:pt x="3937" y="1233"/>
                    </a:lnTo>
                    <a:lnTo>
                      <a:pt x="3960" y="1275"/>
                    </a:lnTo>
                    <a:lnTo>
                      <a:pt x="3953" y="1311"/>
                    </a:lnTo>
                    <a:lnTo>
                      <a:pt x="3900" y="1342"/>
                    </a:lnTo>
                    <a:lnTo>
                      <a:pt x="3875" y="1379"/>
                    </a:lnTo>
                    <a:lnTo>
                      <a:pt x="3829" y="1435"/>
                    </a:lnTo>
                    <a:lnTo>
                      <a:pt x="3790" y="1468"/>
                    </a:lnTo>
                    <a:lnTo>
                      <a:pt x="3745" y="1514"/>
                    </a:lnTo>
                    <a:lnTo>
                      <a:pt x="3671" y="1555"/>
                    </a:lnTo>
                    <a:lnTo>
                      <a:pt x="3632" y="1587"/>
                    </a:lnTo>
                    <a:lnTo>
                      <a:pt x="3625" y="1625"/>
                    </a:lnTo>
                    <a:lnTo>
                      <a:pt x="3616" y="1662"/>
                    </a:lnTo>
                    <a:lnTo>
                      <a:pt x="3623" y="1701"/>
                    </a:lnTo>
                    <a:lnTo>
                      <a:pt x="3614" y="1737"/>
                    </a:lnTo>
                    <a:lnTo>
                      <a:pt x="3573" y="1782"/>
                    </a:lnTo>
                    <a:lnTo>
                      <a:pt x="3520" y="1802"/>
                    </a:lnTo>
                    <a:lnTo>
                      <a:pt x="3476" y="1782"/>
                    </a:lnTo>
                    <a:lnTo>
                      <a:pt x="3396" y="1771"/>
                    </a:lnTo>
                    <a:lnTo>
                      <a:pt x="3346" y="1776"/>
                    </a:lnTo>
                    <a:lnTo>
                      <a:pt x="3295" y="1796"/>
                    </a:lnTo>
                    <a:lnTo>
                      <a:pt x="3254" y="1828"/>
                    </a:lnTo>
                    <a:lnTo>
                      <a:pt x="3164" y="1868"/>
                    </a:lnTo>
                    <a:lnTo>
                      <a:pt x="3112" y="1884"/>
                    </a:lnTo>
                    <a:lnTo>
                      <a:pt x="3072" y="1918"/>
                    </a:lnTo>
                    <a:lnTo>
                      <a:pt x="2993" y="1973"/>
                    </a:lnTo>
                    <a:lnTo>
                      <a:pt x="2917" y="2024"/>
                    </a:lnTo>
                    <a:lnTo>
                      <a:pt x="2864" y="2044"/>
                    </a:lnTo>
                    <a:lnTo>
                      <a:pt x="2841" y="2078"/>
                    </a:lnTo>
                    <a:lnTo>
                      <a:pt x="2788" y="2097"/>
                    </a:lnTo>
                    <a:lnTo>
                      <a:pt x="2727" y="2153"/>
                    </a:lnTo>
                    <a:lnTo>
                      <a:pt x="2665" y="2144"/>
                    </a:lnTo>
                    <a:lnTo>
                      <a:pt x="2618" y="2137"/>
                    </a:lnTo>
                    <a:lnTo>
                      <a:pt x="2570" y="2142"/>
                    </a:lnTo>
                    <a:lnTo>
                      <a:pt x="2500" y="2159"/>
                    </a:lnTo>
                    <a:lnTo>
                      <a:pt x="2433" y="2176"/>
                    </a:lnTo>
                    <a:lnTo>
                      <a:pt x="2327" y="2212"/>
                    </a:lnTo>
                    <a:lnTo>
                      <a:pt x="2273" y="2229"/>
                    </a:lnTo>
                    <a:lnTo>
                      <a:pt x="2227" y="2223"/>
                    </a:lnTo>
                    <a:lnTo>
                      <a:pt x="2180" y="2216"/>
                    </a:lnTo>
                    <a:lnTo>
                      <a:pt x="2135" y="2197"/>
                    </a:lnTo>
                    <a:lnTo>
                      <a:pt x="2073" y="2188"/>
                    </a:lnTo>
                    <a:lnTo>
                      <a:pt x="2029" y="2170"/>
                    </a:lnTo>
                    <a:lnTo>
                      <a:pt x="1979" y="2163"/>
                    </a:lnTo>
                    <a:lnTo>
                      <a:pt x="1917" y="2155"/>
                    </a:lnTo>
                    <a:lnTo>
                      <a:pt x="1857" y="2134"/>
                    </a:lnTo>
                    <a:lnTo>
                      <a:pt x="1811" y="2127"/>
                    </a:lnTo>
                    <a:lnTo>
                      <a:pt x="1763" y="2120"/>
                    </a:lnTo>
                    <a:lnTo>
                      <a:pt x="1699" y="2111"/>
                    </a:lnTo>
                    <a:lnTo>
                      <a:pt x="1610" y="2151"/>
                    </a:lnTo>
                    <a:lnTo>
                      <a:pt x="1557" y="2167"/>
                    </a:lnTo>
                    <a:lnTo>
                      <a:pt x="1488" y="2184"/>
                    </a:lnTo>
                    <a:lnTo>
                      <a:pt x="1442" y="2179"/>
                    </a:lnTo>
                    <a:lnTo>
                      <a:pt x="1380" y="2169"/>
                    </a:lnTo>
                    <a:lnTo>
                      <a:pt x="1332" y="2174"/>
                    </a:lnTo>
                    <a:lnTo>
                      <a:pt x="1280" y="2181"/>
                    </a:lnTo>
                    <a:lnTo>
                      <a:pt x="1236" y="2162"/>
                    </a:lnTo>
                    <a:lnTo>
                      <a:pt x="1190" y="2155"/>
                    </a:lnTo>
                    <a:lnTo>
                      <a:pt x="1133" y="2121"/>
                    </a:lnTo>
                    <a:lnTo>
                      <a:pt x="1087" y="2102"/>
                    </a:lnTo>
                    <a:lnTo>
                      <a:pt x="993" y="2089"/>
                    </a:lnTo>
                    <a:lnTo>
                      <a:pt x="945" y="2082"/>
                    </a:lnTo>
                    <a:lnTo>
                      <a:pt x="874" y="2076"/>
                    </a:lnTo>
                    <a:lnTo>
                      <a:pt x="793" y="2065"/>
                    </a:lnTo>
                    <a:lnTo>
                      <a:pt x="708" y="2052"/>
                    </a:lnTo>
                    <a:lnTo>
                      <a:pt x="686" y="2008"/>
                    </a:lnTo>
                    <a:lnTo>
                      <a:pt x="626" y="1987"/>
                    </a:lnTo>
                    <a:lnTo>
                      <a:pt x="582" y="1968"/>
                    </a:lnTo>
                    <a:lnTo>
                      <a:pt x="509" y="1932"/>
                    </a:lnTo>
                    <a:lnTo>
                      <a:pt x="438" y="1884"/>
                    </a:lnTo>
                    <a:lnTo>
                      <a:pt x="383" y="1837"/>
                    </a:lnTo>
                    <a:lnTo>
                      <a:pt x="339" y="1820"/>
                    </a:lnTo>
                    <a:lnTo>
                      <a:pt x="282" y="1849"/>
                    </a:lnTo>
                    <a:lnTo>
                      <a:pt x="232" y="1856"/>
                    </a:lnTo>
                    <a:lnTo>
                      <a:pt x="186" y="1849"/>
                    </a:lnTo>
                    <a:lnTo>
                      <a:pt x="140" y="1844"/>
                    </a:lnTo>
                    <a:lnTo>
                      <a:pt x="131" y="1802"/>
                    </a:lnTo>
                    <a:lnTo>
                      <a:pt x="126" y="1751"/>
                    </a:lnTo>
                    <a:lnTo>
                      <a:pt x="119" y="1712"/>
                    </a:lnTo>
                    <a:lnTo>
                      <a:pt x="96" y="1670"/>
                    </a:lnTo>
                    <a:lnTo>
                      <a:pt x="74" y="1617"/>
                    </a:lnTo>
                    <a:lnTo>
                      <a:pt x="51" y="1575"/>
                    </a:lnTo>
                    <a:lnTo>
                      <a:pt x="44" y="1536"/>
                    </a:lnTo>
                    <a:lnTo>
                      <a:pt x="37" y="1496"/>
                    </a:lnTo>
                    <a:lnTo>
                      <a:pt x="46" y="1458"/>
                    </a:lnTo>
                    <a:lnTo>
                      <a:pt x="32" y="1380"/>
                    </a:lnTo>
                    <a:lnTo>
                      <a:pt x="16" y="1313"/>
                    </a:lnTo>
                    <a:lnTo>
                      <a:pt x="7" y="1274"/>
                    </a:lnTo>
                    <a:lnTo>
                      <a:pt x="16" y="1275"/>
                    </a:lnTo>
                    <a:lnTo>
                      <a:pt x="0" y="1234"/>
                    </a:lnTo>
                    <a:lnTo>
                      <a:pt x="7" y="1196"/>
                    </a:lnTo>
                    <a:lnTo>
                      <a:pt x="14" y="1160"/>
                    </a:lnTo>
                    <a:lnTo>
                      <a:pt x="11" y="1108"/>
                    </a:lnTo>
                    <a:lnTo>
                      <a:pt x="30" y="1020"/>
                    </a:lnTo>
                    <a:lnTo>
                      <a:pt x="53" y="920"/>
                    </a:lnTo>
                    <a:lnTo>
                      <a:pt x="43" y="817"/>
                    </a:lnTo>
                    <a:lnTo>
                      <a:pt x="43" y="741"/>
                    </a:lnTo>
                    <a:lnTo>
                      <a:pt x="37" y="702"/>
                    </a:lnTo>
                    <a:lnTo>
                      <a:pt x="51" y="640"/>
                    </a:lnTo>
                    <a:lnTo>
                      <a:pt x="59" y="604"/>
                    </a:lnTo>
                    <a:lnTo>
                      <a:pt x="67" y="566"/>
                    </a:lnTo>
                  </a:path>
                </a:pathLst>
              </a:custGeom>
              <a:solidFill>
                <a:srgbClr val="ffd5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57" name=""/>
            <p:cNvGraphicFramePr/>
            <p:nvPr/>
          </p:nvGraphicFramePr>
          <p:xfrm>
            <a:off x="1744920" y="3573360"/>
            <a:ext cx="539640" cy="55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44920" y="3573360"/>
                      <a:ext cx="539640" cy="5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3018600" y="39355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ublic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8920" y="4150800"/>
              <a:ext cx="74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31480" y="2778840"/>
              <a:ext cx="1251000" cy="794160"/>
            </a:xfrm>
            <a:prstGeom prst="rect">
              <a:avLst/>
            </a:prstGeom>
            <a:gradFill rotWithShape="0">
              <a:gsLst>
                <a:gs pos="0">
                  <a:srgbClr val="7ac17b"/>
                </a:gs>
                <a:gs pos="100000">
                  <a:srgbClr val="a2ffa3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15640" y="2851200"/>
              <a:ext cx="133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782520" y="3573360"/>
              <a:ext cx="1336680" cy="306000"/>
              <a:chOff x="3782520" y="3573360"/>
              <a:chExt cx="1336680" cy="306000"/>
            </a:xfrm>
          </p:grpSpPr>
          <p:sp>
            <p:nvSpPr>
              <p:cNvPr id="364" name=""/>
              <p:cNvSpPr/>
              <p:nvPr/>
            </p:nvSpPr>
            <p:spPr>
              <a:xfrm>
                <a:off x="415512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3484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14560" y="3573360"/>
                <a:ext cx="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54240" y="3573360"/>
                <a:ext cx="9288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21320" y="3645000"/>
                <a:ext cx="219240" cy="20880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41600" y="3645000"/>
                <a:ext cx="218160" cy="12924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01040" y="3645000"/>
                <a:ext cx="218160" cy="20880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61880" y="3645000"/>
                <a:ext cx="218160" cy="23436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3922200" y="3573360"/>
                <a:ext cx="139680" cy="14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82520" y="3645000"/>
                <a:ext cx="218160" cy="234360"/>
              </a:xfrm>
              <a:prstGeom prst="rect">
                <a:avLst/>
              </a:prstGeom>
              <a:gradFill rotWithShape="0">
                <a:gsLst>
                  <a:gs pos="0">
                    <a:srgbClr val="7ac17b"/>
                  </a:gs>
                  <a:gs pos="100000">
                    <a:srgbClr val="a2ffa3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636280" y="2778840"/>
              <a:ext cx="1145880" cy="794160"/>
            </a:xfrm>
            <a:prstGeom prst="rect">
              <a:avLst/>
            </a:prstGeom>
            <a:gradFill rotWithShape="0">
              <a:gsLst>
                <a:gs pos="0">
                  <a:srgbClr val="00c1c1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0720" y="2851200"/>
              <a:ext cx="1383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612600" y="4944600"/>
              <a:ext cx="343836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63080" y="5522400"/>
              <a:ext cx="1446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Home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8" name=""/>
            <p:cNvGraphicFramePr/>
            <p:nvPr/>
          </p:nvGraphicFramePr>
          <p:xfrm>
            <a:off x="2148120" y="5089320"/>
            <a:ext cx="475920" cy="482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48120" y="5089320"/>
                      <a:ext cx="4759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2657520" y="5089320"/>
              <a:ext cx="509040" cy="491760"/>
              <a:chOff x="2657520" y="5089320"/>
              <a:chExt cx="509040" cy="4917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2681280" y="5397480"/>
                <a:ext cx="451800" cy="142560"/>
                <a:chOff x="2681280" y="5397480"/>
                <a:chExt cx="451800" cy="1425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681280" y="5397480"/>
                  <a:ext cx="451800" cy="14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938680" y="5424480"/>
                  <a:ext cx="149040" cy="57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657520" y="5480280"/>
                <a:ext cx="509040" cy="100800"/>
                <a:chOff x="2657520" y="5480280"/>
                <a:chExt cx="509040" cy="100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657520" y="5480280"/>
                  <a:ext cx="509040" cy="100800"/>
                </a:xfrm>
                <a:custGeom>
                  <a:avLst/>
                  <a:gdLst/>
                  <a:ahLst/>
                  <a:rect l="l" t="t" r="r" b="b"/>
                  <a:pathLst>
                    <a:path w="427" h="77">
                      <a:moveTo>
                        <a:pt x="54" y="0"/>
                      </a:moveTo>
                      <a:lnTo>
                        <a:pt x="374" y="0"/>
                      </a:lnTo>
                      <a:lnTo>
                        <a:pt x="424" y="69"/>
                      </a:lnTo>
                      <a:lnTo>
                        <a:pt x="426" y="72"/>
                      </a:lnTo>
                      <a:lnTo>
                        <a:pt x="424" y="75"/>
                      </a:lnTo>
                      <a:lnTo>
                        <a:pt x="421" y="76"/>
                      </a:lnTo>
                      <a:lnTo>
                        <a:pt x="6" y="76"/>
                      </a:lnTo>
                      <a:lnTo>
                        <a:pt x="2" y="74"/>
                      </a:lnTo>
                      <a:lnTo>
                        <a:pt x="0" y="71"/>
                      </a:lnTo>
                      <a:lnTo>
                        <a:pt x="1" y="67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85960" y="5502240"/>
                  <a:ext cx="338400" cy="63000"/>
                </a:xfrm>
                <a:custGeom>
                  <a:avLst/>
                  <a:gdLst/>
                  <a:ahLst/>
                  <a:rect l="l" t="t" r="r" b="b"/>
                  <a:pathLst>
                    <a:path w="284" h="48">
                      <a:moveTo>
                        <a:pt x="38" y="0"/>
                      </a:moveTo>
                      <a:lnTo>
                        <a:pt x="269" y="0"/>
                      </a:lnTo>
                      <a:lnTo>
                        <a:pt x="283" y="47"/>
                      </a:lnTo>
                      <a:lnTo>
                        <a:pt x="0" y="47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34080" y="5502240"/>
                  <a:ext cx="102600" cy="63000"/>
                </a:xfrm>
                <a:custGeom>
                  <a:avLst/>
                  <a:gdLst/>
                  <a:ahLst/>
                  <a:rect l="l" t="t" r="r" b="b"/>
                  <a:pathLst>
                    <a:path w="86" h="48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85" y="47"/>
                      </a:lnTo>
                      <a:lnTo>
                        <a:pt x="16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2744280" y="5089320"/>
                <a:ext cx="325440" cy="28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66960" y="5115600"/>
                <a:ext cx="281160" cy="2408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18600" y="5115600"/>
                <a:ext cx="28440" cy="240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29400" y="5127120"/>
                <a:ext cx="5760" cy="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30480" y="523872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30480" y="5285880"/>
                <a:ext cx="324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30480" y="5330520"/>
                <a:ext cx="324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H="1">
              <a:off x="3039840" y="4944600"/>
              <a:ext cx="551520" cy="36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24080" y="1371600"/>
            <a:ext cx="5105520" cy="5029200"/>
          </a:xfrm>
          <a:prstGeom prst="ellipse">
            <a:avLst/>
          </a:prstGeom>
          <a:gradFill rotWithShape="0">
            <a:gsLst>
              <a:gs pos="0">
                <a:srgbClr val="336699"/>
              </a:gs>
              <a:gs pos="100000">
                <a:srgbClr val="2143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3581280"/>
            <a:ext cx="1524240" cy="10670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2971800"/>
            <a:ext cx="2286000" cy="14479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1905120"/>
            <a:ext cx="1295280" cy="1295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4876920"/>
            <a:ext cx="1447560" cy="1295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 Opera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wth in use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-use of common service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 the ‘value add’ intermediate market sup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tory pressures and compet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twor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rging &amp;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rvice Provid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marke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an treat networks based upon different technologies in a similar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can be offered on and across networks of different kinds (application port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Inter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 Develop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le range of new business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s up communications service opportunities/possibilities to the majority of software develop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6880" y="1219320"/>
            <a:ext cx="4496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is presentation does not imply any intention on the part of BT to implement the Parlay API or any of the functionality described with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specti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d Custo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integrated with all other software solutions to jointly solve the customer’s real personal and business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sive market growth in new applications/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I Character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2189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 Oriented (O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&amp; technology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523880" y="1143000"/>
          <a:ext cx="213372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2133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7010280" y="1143000"/>
          <a:ext cx="144792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1143000"/>
                    <a:ext cx="144792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343400" y="2895480"/>
          <a:ext cx="150480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895480"/>
                    <a:ext cx="1504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209680" y="5791320"/>
          <a:ext cx="2895840" cy="65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791320"/>
                    <a:ext cx="28958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858000" y="4267080"/>
          <a:ext cx="171468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4267080"/>
                    <a:ext cx="17146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981080" y="4572000"/>
          <a:ext cx="2895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572000"/>
                    <a:ext cx="2895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447920" y="2971800"/>
          <a:ext cx="257148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2971800"/>
                    <a:ext cx="25714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5181480" y="5334120"/>
          <a:ext cx="2286000" cy="61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81480" y="5334120"/>
                    <a:ext cx="22860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962520" y="4038480"/>
          <a:ext cx="259056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4038480"/>
                    <a:ext cx="25905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6172200" y="2971800"/>
          <a:ext cx="270684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72200" y="2971800"/>
                    <a:ext cx="27068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" descr=""/>
          <p:cNvPicPr/>
          <p:nvPr/>
        </p:nvPicPr>
        <p:blipFill>
          <a:blip r:embed="rId21"/>
          <a:stretch/>
        </p:blipFill>
        <p:spPr>
          <a:xfrm>
            <a:off x="4267080" y="114300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Parlay API working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hase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1766880"/>
            <a:ext cx="70866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June 15th, 1999 Parlay Group announces new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Phase 2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iscovery 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v1.1 released, v1.2 Sep’99, v2 Dec’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describes a network API that would open up network capabilities to 3rd par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rlay changes the business model (separates the network operator from the service provider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ises many commercial and technical issues: integrity, security,charging, fraud, QoS &amp; service interwork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75248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6520" y="19807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l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 use one’s talents to achiev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i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make network capabilities available to 3rd party service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enable them to run their services on operators’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arlay Pro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9907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rted March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5 company, cross industry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GM&amp;S Tele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rte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eme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s announcements May 98 and November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d a specification of an open, technology independent, secure, communication services network 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cloud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5791320" cy="28386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146040" y="2344680"/>
            <a:ext cx="4564440" cy="1532880"/>
            <a:chOff x="3146040" y="2344680"/>
            <a:chExt cx="4564440" cy="1532880"/>
          </a:xfrm>
        </p:grpSpPr>
        <p:sp>
          <p:nvSpPr>
            <p:cNvPr id="59" name=""/>
            <p:cNvSpPr/>
            <p:nvPr/>
          </p:nvSpPr>
          <p:spPr>
            <a:xfrm flipV="1">
              <a:off x="3663720" y="2491200"/>
              <a:ext cx="2495880" cy="116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1247200">
              <a:off x="3430440" y="35395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1247200">
              <a:off x="6044400" y="23587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1247200">
              <a:off x="6320520" y="33073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1247200">
              <a:off x="7398720" y="28051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1247200">
              <a:off x="3161520" y="26557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546360" y="3445920"/>
              <a:ext cx="2831040" cy="22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494760" y="3002400"/>
              <a:ext cx="1026000" cy="43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18640" y="2485440"/>
              <a:ext cx="1354320" cy="446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335400" y="2491560"/>
              <a:ext cx="2824200" cy="29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3354840" y="2975760"/>
              <a:ext cx="184320" cy="632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6205320" y="2356560"/>
              <a:ext cx="237240" cy="1147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580560" y="521640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Telco Worl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cloud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5791320" cy="28386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146040" y="2344680"/>
            <a:ext cx="4564440" cy="1532880"/>
            <a:chOff x="3146040" y="2344680"/>
            <a:chExt cx="4564440" cy="1532880"/>
          </a:xfrm>
        </p:grpSpPr>
        <p:sp>
          <p:nvSpPr>
            <p:cNvPr id="75" name=""/>
            <p:cNvSpPr/>
            <p:nvPr/>
          </p:nvSpPr>
          <p:spPr>
            <a:xfrm flipV="1">
              <a:off x="3663720" y="2491200"/>
              <a:ext cx="2495880" cy="116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1247200">
              <a:off x="3430440" y="35395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1247200">
              <a:off x="6044400" y="23587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1247200">
              <a:off x="6320520" y="33073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1247200">
              <a:off x="7398720" y="2805120"/>
              <a:ext cx="29556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1247200">
              <a:off x="3161520" y="2655720"/>
              <a:ext cx="29592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546360" y="3445920"/>
              <a:ext cx="2831040" cy="22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494760" y="3002400"/>
              <a:ext cx="1026000" cy="43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18640" y="2485440"/>
              <a:ext cx="1354320" cy="446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335400" y="2491560"/>
              <a:ext cx="2824200" cy="29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354840" y="2975760"/>
              <a:ext cx="184320" cy="632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6205320" y="2356560"/>
              <a:ext cx="237240" cy="1147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580560" y="5216400"/>
            <a:ext cx="50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he Telco Worl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tworks an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1280" y="1542960"/>
            <a:ext cx="1600200" cy="438120"/>
          </a:xfrm>
          <a:prstGeom prst="rect">
            <a:avLst/>
          </a:prstGeom>
          <a:gradFill rotWithShape="0">
            <a:gsLst>
              <a:gs pos="0">
                <a:srgbClr val="9a9a00"/>
              </a:gs>
              <a:gs pos="50000">
                <a:srgbClr val="ffff00"/>
              </a:gs>
              <a:gs pos="100000">
                <a:srgbClr val="9a9a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1280" y="1981080"/>
            <a:ext cx="1600200" cy="43668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7760" y="901800"/>
            <a:ext cx="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ysic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lco World Tod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038480"/>
            <a:ext cx="5105520" cy="990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ac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DN, PSTN, IP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2895480"/>
            <a:ext cx="510552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thentication, Rout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lling, Storage, Configur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828800"/>
            <a:ext cx="5105520" cy="1066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a6d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800, Personal Numb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oice messagin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86600" y="5410080"/>
            <a:ext cx="838080" cy="76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48006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2940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05320" y="5410080"/>
            <a:ext cx="83808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1:16:42Z</dcterms:created>
  <dc:creator>Steven C Davis</dc:creator>
  <dc:description/>
  <dc:language>en-US</dc:language>
  <cp:lastModifiedBy>BT</cp:lastModifiedBy>
  <cp:lastPrinted>1999-06-30T09:24:55Z</cp:lastPrinted>
  <dcterms:modified xsi:type="dcterms:W3CDTF">1999-09-09T08:15:58Z</dcterms:modified>
  <cp:revision>58</cp:revision>
  <dc:subject/>
  <dc:title>BT Labs December 1998</dc:title>
</cp:coreProperties>
</file>