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37120" y="6453360"/>
            <a:ext cx="3194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S : Lancaster’99    Slide </a:t>
            </a:r>
            <a:fld id="{08E879AE-E54C-44A0-BA58-A0FB52F55A7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2120" y="6477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.magill@eee.strath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i%20Logo%20Background5" descr=""/>
          <p:cNvPicPr/>
          <p:nvPr/>
        </p:nvPicPr>
        <p:blipFill>
          <a:blip r:embed="rId2"/>
          <a:stretch/>
        </p:blipFill>
        <p:spPr>
          <a:xfrm>
            <a:off x="7461360" y="0"/>
            <a:ext cx="167616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822320" y="914400"/>
            <a:ext cx="55627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ni%20Logo%20Background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63880" y="0"/>
            <a:ext cx="708012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1480" y="660240"/>
            <a:ext cx="73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 Interaction Work @ Strathcly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5146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BP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s Engineering for Business Proces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ybrid Techniques For Detecting and Resolving Feature Interactio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Telecommunic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TS - TOSC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 Open Service Creatio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omms.eee.strath.ac.uk/~f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80773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A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extend our transaction based work 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a hybrid approach to detect and resolve            feature interactions.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pply and evaluate the new technique to legac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ftware embedded in a real switching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1200" y="228600"/>
            <a:ext cx="59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ybrid Technique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752480"/>
            <a:ext cx="769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67200" y="22860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posed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905120"/>
          <a:ext cx="98100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9810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477120" y="1981080"/>
            <a:ext cx="121896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1600200"/>
            <a:ext cx="76212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600200"/>
            <a:ext cx="76212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95480" y="3657600"/>
            <a:ext cx="609840" cy="91440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209680"/>
            <a:ext cx="0" cy="838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209680"/>
            <a:ext cx="0" cy="838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0960" y="2590920"/>
            <a:ext cx="685800" cy="5331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971800"/>
            <a:ext cx="35053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atur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191120"/>
            <a:ext cx="281916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4876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629400" y="31240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1240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705720" y="3886200"/>
          <a:ext cx="100332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88620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733920" y="4343400"/>
          <a:ext cx="13716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34340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>
            <a:off x="5867280" y="37339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67280" y="4419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733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447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0"/>
            <a:ext cx="1219320" cy="459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769608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features:      CFU, TCS, OCS, ACB, HL &amp;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st case 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80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lter to remove known pairwise opera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7280" y="7086600"/>
            <a:ext cx="357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0"/>
            <a:ext cx="62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ree-way Feature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06560" y="3049560"/>
            <a:ext cx="6245280" cy="2435400"/>
            <a:chOff x="1906560" y="3049560"/>
            <a:chExt cx="6245280" cy="2435400"/>
          </a:xfrm>
        </p:grpSpPr>
        <p:sp>
          <p:nvSpPr>
            <p:cNvPr id="84" name=""/>
            <p:cNvSpPr/>
            <p:nvPr/>
          </p:nvSpPr>
          <p:spPr>
            <a:xfrm>
              <a:off x="1906560" y="3049560"/>
              <a:ext cx="228276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A (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L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L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40280" y="3049560"/>
              <a:ext cx="220644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B 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CB &amp; 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9960" y="3049560"/>
              <a:ext cx="1901880" cy="24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T-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F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4:25:24Z</dcterms:created>
  <dc:creator>Bob Gardner</dc:creator>
  <dc:description/>
  <dc:language>en-US</dc:language>
  <cp:lastModifiedBy>Comms Division, EEE</cp:lastModifiedBy>
  <cp:lastPrinted>1996-01-15T06:19:28Z</cp:lastPrinted>
  <dcterms:modified xsi:type="dcterms:W3CDTF">1999-09-06T10:33:06Z</dcterms:modified>
  <cp:revision>60</cp:revision>
  <dc:subject/>
  <dc:title>No Slide Title</dc:title>
</cp:coreProperties>
</file>