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15138" cy="9547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4800" cy="954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2720" cy="4777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62440" y="-360"/>
            <a:ext cx="2952720" cy="4777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25640" y="716040"/>
            <a:ext cx="4773600" cy="357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7560" y="4533480"/>
            <a:ext cx="4999320" cy="4295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067680"/>
            <a:ext cx="2952720" cy="47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62440" y="9067680"/>
            <a:ext cx="2952720" cy="47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848443FD-64EB-4B35-BD58-071B89959F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025640" y="71604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7560" y="4533480"/>
            <a:ext cx="4999320" cy="4295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k originated in GPT with a grant from the Royal Commission for the Exhibition of 1851 at University of Strathcly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inued at CIT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of the ideas in the work are now in use in an operational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ature Interaction is the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hange in operation in one Feature which can be attributed to the presence of another Feature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025640" y="71604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7560" y="4533480"/>
            <a:ext cx="4999320" cy="4295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ically this would be a pre-existent PABX or other swit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en around for a very long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gile code. Often using legacy langu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se things exist - often the ‘cash cows’ for a bus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’t predict operation because mathematically rigid system definitions are not available - often not even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the only way to figure out what the system will do in a given situation. is to try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A254-7CF3-43EB-A765-7FD3A68E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A2A-25E4-4EED-B805-663FBAC3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116-AA8B-4B87-B87D-956CAA37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87CB-DA9E-4D9E-9EA8-0BB30A39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0AED-F29A-4B3F-900D-CD084EC5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105C-A283-4607-8B8B-F6A4806C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DAF9-E16B-433E-85EB-D991CC28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9314-73AA-496B-AB6E-2F46A8F2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EA2A-FD93-4C4A-970D-04CEA578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B29F-36E4-416F-BBC5-15BA23C9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831C-F99A-4989-8C17-2CED6A6A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DDB-12E1-4323-B0F6-0192C7BD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E8D6-8148-4B6E-B1F3-CF3576E5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E974-9E5C-47DA-B809-6D09A7DA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F926-54F8-4409-90FE-53321158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FCBB-7093-4A8F-A544-784F12EC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C7AB-FF10-49EB-9448-35245BB8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2BC0-A83D-4681-8DE7-E2DD1BCC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B40-30D2-471E-82FB-401A96D8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5AD-177C-4BAA-97C1-3F384EB0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B2F-D8DA-4C3D-B25D-CC75DD11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63D-30BC-4D49-8C76-18178665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D3C1-2E5A-4104-85BA-2278760B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896-D37F-4575-AA39-404E7DA9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ccec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4031-89F4-4DD2-BB91-71A3B4582847}" type="slidenum">
              <a:rPr b="1" lang="en-US" sz="1000" spc="-1" strike="noStrike">
                <a:solidFill>
                  <a:srgbClr val="ccecff"/>
                </a:solidFill>
                <a:latin typeface="Tahoma"/>
              </a:rPr>
              <a:t>&lt;number&gt;</a:t>
            </a:fld>
            <a:r>
              <a:rPr b="1" lang="en-US" sz="1000" spc="-1" strike="noStrike">
                <a:solidFill>
                  <a:srgbClr val="ccecff"/>
                </a:solidFill>
                <a:latin typeface="Tahoma"/>
              </a:rPr>
              <a:t>/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57FB-8326-4464-88F7-3038A18555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304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The Use of Rollback to Prevent Incorrect Operation of Features in Intelligent Network Based Systems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3880" y="51055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015560" y="5029200"/>
            <a:ext cx="31158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Tahoma"/>
              </a:rPr>
              <a:t>Dave Marples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CITEL Technologies Lt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Dave.Marples@citel.co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04360" y="5029200"/>
            <a:ext cx="32500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Tahoma"/>
              </a:rPr>
              <a:t>Evan Magill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University of Strathclyd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E.Magill@eee.strath.ac.u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3" name="bigcrest" descr=""/>
          <p:cNvPicPr/>
          <p:nvPr/>
        </p:nvPicPr>
        <p:blipFill>
          <a:blip r:embed="rId1"/>
          <a:stretch/>
        </p:blipFill>
        <p:spPr>
          <a:xfrm>
            <a:off x="5943600" y="3524400"/>
            <a:ext cx="1285920" cy="140940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2055240" y="3524400"/>
            <a:ext cx="1090440" cy="1447560"/>
            <a:chOff x="2055240" y="3524400"/>
            <a:chExt cx="1090440" cy="1447560"/>
          </a:xfrm>
        </p:grpSpPr>
        <p:sp>
          <p:nvSpPr>
            <p:cNvPr id="95" name=""/>
            <p:cNvSpPr/>
            <p:nvPr/>
          </p:nvSpPr>
          <p:spPr>
            <a:xfrm>
              <a:off x="2057400" y="3524400"/>
              <a:ext cx="1066680" cy="1447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09680" y="360036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55240" y="4438800"/>
              <a:ext cx="109044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66"/>
                  </a:solidFill>
                  <a:latin typeface="Arial"/>
                </a:rPr>
                <a:t>CITEL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66"/>
                  </a:solidFill>
                  <a:latin typeface="Arial"/>
                </a:rPr>
                <a:t>Technologies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0720" y="26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Outp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20720" y="162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Graph of transitions in response to initial triggering event.  (Action Trac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utomated resolution by rules (Feature x takes precedence over Feature y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Manual Resolution by Operator Intervention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utomated ‘learned’ resolutions based on past experience (under development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179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181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84" name="bigcrest" descr=""/>
            <p:cNvPicPr/>
            <p:nvPr/>
          </p:nvPicPr>
          <p:blipFill>
            <a:blip r:embed="rId1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"/>
          <p:cNvSpPr/>
          <p:nvPr/>
        </p:nvSpPr>
        <p:spPr>
          <a:xfrm>
            <a:off x="1962720" y="228600"/>
            <a:ext cx="70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lgorithms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Implementation * Results 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C89E-62EA-4336-B07E-4F19BCE53679}" type="slidenum">
              <a:t>10</a:t>
            </a:fld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Implementation of Syste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Based around eight IN-style Features implemented as separate processes in a UNIX environment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Whole system runs under DESK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Runs on a Pentium II 233 system under Linux with the Hardware Subsystem in a DOS window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962720" y="228600"/>
            <a:ext cx="70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Algorithms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Implementation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Results 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190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192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95" name="bigcrest" descr=""/>
            <p:cNvPicPr/>
            <p:nvPr/>
          </p:nvPicPr>
          <p:blipFill>
            <a:blip r:embed="rId1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8F8-5B96-4487-A99F-A4AEE691BD1F}" type="slidenum">
              <a:t>11</a:t>
            </a:fld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76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Sample Outp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97" name="dnd" descr=""/>
          <p:cNvPicPr/>
          <p:nvPr/>
        </p:nvPicPr>
        <p:blipFill>
          <a:blip r:embed="rId1"/>
          <a:stretch/>
        </p:blipFill>
        <p:spPr>
          <a:xfrm>
            <a:off x="228600" y="190440"/>
            <a:ext cx="4976640" cy="64389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5245200" y="1676520"/>
            <a:ext cx="311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Basic Call togeth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with Do Not Disturb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26200" y="228600"/>
            <a:ext cx="360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Algorithms *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Implementation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Results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201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203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206" name="bigcrest" descr=""/>
            <p:cNvPicPr/>
            <p:nvPr/>
          </p:nvPicPr>
          <p:blipFill>
            <a:blip r:embed="rId2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A37D-D009-4AD7-BDD7-49E6C5CD6BB2}" type="slidenum">
              <a:t>12</a:t>
            </a:fld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BCM with DND and CF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914400"/>
          <a:ext cx="7621560" cy="57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621560" cy="5716440"/>
                  </a:xfrm>
                  <a:prstGeom prst="rect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B69E-635A-4E64-8EE7-D52FF324BE8C}" type="slidenum">
              <a:t>13</a:t>
            </a:fld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19720" y="990360"/>
            <a:ext cx="5486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Sample Outp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11" name="p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916520" cy="636264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212" name=""/>
          <p:cNvSpPr/>
          <p:nvPr/>
        </p:nvSpPr>
        <p:spPr>
          <a:xfrm>
            <a:off x="5252400" y="205740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BCM with CFU Loo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49880" y="304920"/>
            <a:ext cx="360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Algorithms *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Implementation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Results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215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217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220" name="bigcrest" descr=""/>
            <p:cNvPicPr/>
            <p:nvPr/>
          </p:nvPicPr>
          <p:blipFill>
            <a:blip r:embed="rId2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2372-6CB8-4339-B8DD-0261DC5A9ED1}" type="slidenum">
              <a:t>14</a:t>
            </a:fld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371600" y="1447920"/>
          <a:ext cx="6743880" cy="521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674388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962720" y="228600"/>
            <a:ext cx="70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Algorithms * Implementation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Results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34D9-5C0D-481F-A147-0FC21DC6CD39}" type="slidenum">
              <a:t>15</a:t>
            </a:fld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8360" y="29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Analysis of Resul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7360" y="1595160"/>
            <a:ext cx="795492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e technique does not generate false positive or negative results. It detects interaction</a:t>
            </a:r>
            <a:r>
              <a:rPr b="0" lang="en-GB" sz="2000" spc="-1" strike="noStrike" baseline="30000">
                <a:solidFill>
                  <a:srgbClr val="ffff00"/>
                </a:solidFill>
                <a:latin typeface="Tahoma"/>
              </a:rPr>
              <a:t>*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in every case when the interaction occurs between two stable system stat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It is not possible to automatically resolve intention interactions using this, or any other, automatic system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Missed trigger points are not detected using the technique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e action trace is a useful facility for seeing what features acted on a call to allow further analysi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1962720" y="228600"/>
            <a:ext cx="702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Algorithms * Implementation * Results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229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231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234" name="bigcrest" descr=""/>
            <p:cNvPicPr/>
            <p:nvPr/>
          </p:nvPicPr>
          <p:blipFill>
            <a:blip r:embed="rId1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370-D267-483A-B652-B57941D78438}" type="slidenum">
              <a:t>16</a:t>
            </a:fld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38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03440" y="1751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e use of RollBack opens up new techniques for the co-operative existence of multiple featur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Information about the internal architecture of Features is not required for the correct operation of the techniqu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e technique works with existing feature sets. </a:t>
            </a:r>
            <a:r>
              <a:rPr b="0" i="1" lang="en-GB" sz="2400" spc="-1" strike="noStrike">
                <a:solidFill>
                  <a:srgbClr val="ffff00"/>
                </a:solidFill>
                <a:latin typeface="Tahoma"/>
              </a:rPr>
              <a:t>Legacy Compatibl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e communication and signalling used by the features is arbitrary - it doesn’t need to be IN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962720" y="228600"/>
            <a:ext cx="702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Algorithms * Implementation * Results *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239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241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244" name="bigcrest" descr=""/>
            <p:cNvPicPr/>
            <p:nvPr/>
          </p:nvPicPr>
          <p:blipFill>
            <a:blip r:embed="rId1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F293-67B7-4911-AEF8-C3A2A2F66813}" type="slidenum">
              <a:t>17</a:t>
            </a:fld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93440" y="1962000"/>
            <a:ext cx="789156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Investigation of n-Feature Scenario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Investigation of long-lived Featur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Analysis of performance and scalability concern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Implementation of the technique in a real switching environment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Exploration of hybrid approaches to FI using more formal specification and design-time techniques to supplement the runtime capabilities presented her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1962720" y="228600"/>
            <a:ext cx="702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Algorithms * Implementation * Results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249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251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254" name="bigcrest" descr=""/>
            <p:cNvPicPr/>
            <p:nvPr/>
          </p:nvPicPr>
          <p:blipFill>
            <a:blip r:embed="rId1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4FE6-CFE8-41A1-997A-FB214DB5AB97}" type="slidenum">
              <a:t>18</a:t>
            </a:fld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Structure of Present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Target Syste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System Imple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Resul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962720" y="228600"/>
            <a:ext cx="702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tructure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Target System * Algorithms * Implementation * Results 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102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104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07" name="bigcrest" descr=""/>
            <p:cNvPicPr/>
            <p:nvPr/>
          </p:nvPicPr>
          <p:blipFill>
            <a:blip r:embed="rId1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3A37-8E9E-44E5-900C-6F994CC7069D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Target Syste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 pre-existent switching system that requires new features to be added, potentially by multiple independent agenci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 system that is difficult or impossible to predict based on the information that is availabl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962720" y="228600"/>
            <a:ext cx="70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Target System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Algorithms * Implementation * Results 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112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114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17" name="bigcrest" descr=""/>
            <p:cNvPicPr/>
            <p:nvPr/>
          </p:nvPicPr>
          <p:blipFill>
            <a:blip r:embed="rId1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3E88-0318-4420-A01C-159F3BC67529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The Overall Syste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62720" y="228600"/>
            <a:ext cx="70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lgorithms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Implementation * Results 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371600"/>
          <a:ext cx="90486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90486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123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125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28" name="bigcrest" descr=""/>
            <p:cNvPicPr/>
            <p:nvPr/>
          </p:nvPicPr>
          <p:blipFill>
            <a:blip r:embed="rId3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287-0BE4-43D6-B4C6-646EB18EEC42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A Typical Featu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581280" y="1828800"/>
          <a:ext cx="24559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828800"/>
                    <a:ext cx="24559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133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135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38" name="bigcrest" descr=""/>
            <p:cNvPicPr/>
            <p:nvPr/>
          </p:nvPicPr>
          <p:blipFill>
            <a:blip r:embed="rId3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1962720" y="228600"/>
            <a:ext cx="70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lgorithms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Implementation * Results 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D255-0795-4A00-B239-DF36B3D556ED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The Feature Controll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Behaves like the switching system from the perspective of the featur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s capable of rolling back the feature to some previous defined stat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Performs other arbitrary management functions on behalf of the system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an be ‘retrofitted’ to legacy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eatures and Clump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143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145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48" name="bigcrest" descr=""/>
            <p:cNvPicPr/>
            <p:nvPr/>
          </p:nvPicPr>
          <p:blipFill>
            <a:blip r:embed="rId1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"/>
          <p:cNvSpPr/>
          <p:nvPr/>
        </p:nvSpPr>
        <p:spPr>
          <a:xfrm>
            <a:off x="1962720" y="228600"/>
            <a:ext cx="70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lgorithms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Implementation * Results 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70F-4776-4E78-89C9-338C40CD8387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41240" y="1198440"/>
            <a:ext cx="3546720" cy="5432400"/>
          </a:xfrm>
          <a:prstGeom prst="rect">
            <a:avLst/>
          </a:prstGeom>
          <a:solidFill>
            <a:srgbClr val="cc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Feature Ope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62720" y="228600"/>
            <a:ext cx="70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lgorithms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Implementation * Results 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41400" y="1805040"/>
          <a:ext cx="3181320" cy="46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1805040"/>
                    <a:ext cx="31813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449360" y="12556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mit Ca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8EF-4930-4368-9C3C-BEA05B343CB6}" type="slidenum">
              <a:t>7</a:t>
            </a:fld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41240" y="1198440"/>
            <a:ext cx="3546720" cy="5432400"/>
          </a:xfrm>
          <a:prstGeom prst="rect">
            <a:avLst/>
          </a:prstGeom>
          <a:solidFill>
            <a:srgbClr val="cc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Feature Ope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962720" y="228600"/>
            <a:ext cx="70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lgorithms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Implementation * Results 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41400" y="1805040"/>
          <a:ext cx="3181320" cy="46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1805040"/>
                    <a:ext cx="31813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4859280" y="1201680"/>
            <a:ext cx="3546360" cy="5432400"/>
          </a:xfrm>
          <a:prstGeom prst="rect">
            <a:avLst/>
          </a:prstGeom>
          <a:solidFill>
            <a:srgbClr val="cc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048280" y="1833480"/>
          <a:ext cx="3171960" cy="454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48280" y="1833480"/>
                    <a:ext cx="317196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449360" y="12556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mit Ca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08880" y="1249200"/>
            <a:ext cx="1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bort Ca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97B-4828-4F04-8162-7C6DB0B7D1B0}" type="slidenum">
              <a:t>8</a:t>
            </a:fld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Feature Manag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ontrols the rollback of the features and caches their respons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Uses the responses to detect the interaction between featur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pplies appropriate resolutions if one can be foun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lerts the system operator if no suitable resolution is availabl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962720" y="228600"/>
            <a:ext cx="70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lgorithms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Implementation * Results 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170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172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75" name="bigcrest" descr=""/>
            <p:cNvPicPr/>
            <p:nvPr/>
          </p:nvPicPr>
          <p:blipFill>
            <a:blip r:embed="rId1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9F17-19BA-4E2D-A290-2F5BBE703BAC}" type="slidenum">
              <a:t>9</a:t>
            </a:fld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7T17:07:43Z</dcterms:created>
  <dc:creator>Dave Marples</dc:creator>
  <dc:description/>
  <dc:language>en-US</dc:language>
  <cp:lastModifiedBy>Comms Division, EEE</cp:lastModifiedBy>
  <cp:lastPrinted>1998-09-27T19:51:50Z</cp:lastPrinted>
  <dcterms:modified xsi:type="dcterms:W3CDTF">1999-09-03T10:45:40Z</dcterms:modified>
  <cp:revision>8</cp:revision>
  <dc:subject/>
  <dc:title>The Use of Rollback to Prevent Incorrect Operation of Features in Intelligent Network Based Systems </dc:title>
</cp:coreProperties>
</file>