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57440" y="14400"/>
            <a:ext cx="7480080" cy="6843600"/>
          </a:xfrm>
          <a:custGeom>
            <a:avLst/>
            <a:gdLst/>
            <a:ahLst/>
            <a:rect l="l" t="t" r="r" b="b"/>
            <a:pathLst>
              <a:path w="4712" h="4311">
                <a:moveTo>
                  <a:pt x="1463" y="0"/>
                </a:moveTo>
                <a:lnTo>
                  <a:pt x="0" y="1467"/>
                </a:lnTo>
                <a:lnTo>
                  <a:pt x="2845" y="4311"/>
                </a:lnTo>
                <a:lnTo>
                  <a:pt x="4712" y="2433"/>
                </a:lnTo>
                <a:lnTo>
                  <a:pt x="4712" y="467"/>
                </a:lnTo>
                <a:lnTo>
                  <a:pt x="4245" y="0"/>
                </a:lnTo>
                <a:lnTo>
                  <a:pt x="1463" y="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ecfe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867280" y="6453360"/>
            <a:ext cx="32641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TINA conference, Hawaii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822320" y="914400"/>
            <a:ext cx="556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Uni%20Logo%20Background5" descr=""/>
          <p:cNvPicPr/>
          <p:nvPr/>
        </p:nvPicPr>
        <p:blipFill>
          <a:blip r:embed="rId2"/>
          <a:stretch/>
        </p:blipFill>
        <p:spPr>
          <a:xfrm>
            <a:off x="7461360" y="0"/>
            <a:ext cx="1676160" cy="152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package" Target="../embeddings/oleObject1.docx"/><Relationship Id="rId11" Type="http://schemas.openxmlformats.org/officeDocument/2006/relationships/image" Target="../media/image12.wmf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657440" y="14400"/>
            <a:ext cx="7480080" cy="6843600"/>
          </a:xfrm>
          <a:custGeom>
            <a:avLst/>
            <a:gdLst/>
            <a:ahLst/>
            <a:rect l="l" t="t" r="r" b="b"/>
            <a:pathLst>
              <a:path w="4712" h="4311">
                <a:moveTo>
                  <a:pt x="1463" y="0"/>
                </a:moveTo>
                <a:lnTo>
                  <a:pt x="0" y="1467"/>
                </a:lnTo>
                <a:lnTo>
                  <a:pt x="2845" y="4311"/>
                </a:lnTo>
                <a:lnTo>
                  <a:pt x="4712" y="2433"/>
                </a:lnTo>
                <a:lnTo>
                  <a:pt x="4712" y="467"/>
                </a:lnTo>
                <a:lnTo>
                  <a:pt x="4245" y="0"/>
                </a:lnTo>
                <a:lnTo>
                  <a:pt x="1463" y="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ecfe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Uni%20Logo%20Background5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063880" y="0"/>
            <a:ext cx="7080120" cy="6458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59440" y="1219320"/>
            <a:ext cx="84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ngineering of Interworking TINA-based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elecommunications 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06760" y="299736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rio Kolbe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09920" y="3886200"/>
            <a:ext cx="440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versity of Strathclyd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lasgow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93920" y="228600"/>
            <a:ext cx="466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DL for USM mana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1905120"/>
            <a:ext cx="7620120" cy="37515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terface i_UFSmgr : i_CO_life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oid suspendSessionRequest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oid terminateSessionRequest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oid requestObject(inout NamedObject ob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neway void ufsstar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neway void ufsstop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neway void ufssuspend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neway void ufsresume();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369160" y="228600"/>
            <a:ext cx="451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DL to SDL ma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762120" y="1765440"/>
          <a:ext cx="9753480" cy="509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65440"/>
                    <a:ext cx="9753480" cy="50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141280" y="22860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xample of the ma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380880" y="1635120"/>
          <a:ext cx="8458200" cy="450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380880" y="1635120"/>
                    <a:ext cx="845820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941560" y="228600"/>
            <a:ext cx="336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DL frame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533520" y="1676520"/>
          <a:ext cx="8001000" cy="44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533520" y="1676520"/>
                    <a:ext cx="8001000" cy="44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904840" y="228600"/>
            <a:ext cx="344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ervice Cre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143000" y="1600200"/>
          <a:ext cx="6934320" cy="476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00200"/>
                    <a:ext cx="6934320" cy="47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676240" y="228600"/>
            <a:ext cx="389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ervice Creation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228600" y="1905120"/>
          <a:ext cx="8686800" cy="347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05120"/>
                    <a:ext cx="868680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676240" y="228600"/>
            <a:ext cx="389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ervice Creation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609480" y="1676520"/>
          <a:ext cx="8001000" cy="460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8001000" cy="46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676240" y="228600"/>
            <a:ext cx="389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ervice Creation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685800" y="1676520"/>
          <a:ext cx="7848720" cy="45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848720" cy="45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824480" y="228600"/>
            <a:ext cx="560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xample of specialised SD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609480" y="1600200"/>
          <a:ext cx="79264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609480" y="1600200"/>
                    <a:ext cx="79264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431520" y="304920"/>
            <a:ext cx="231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Fede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6520" y="1371600"/>
            <a:ext cx="817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domain federation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  - provides an environment for two or more providers to transparently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    offer a service across their domains by setting up an access session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  - is basis for and govern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8680" y="2743200"/>
            <a:ext cx="766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ervice federation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  - establishes a service session across two or more retailer dom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219320" y="3581280"/>
          <a:ext cx="6629400" cy="26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581280"/>
                    <a:ext cx="6629400" cy="26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8160" y="1828800"/>
            <a:ext cx="62809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TOSCA consort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TOSCA approach to service cre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 example of service cre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rvice Federation in TOS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95480" y="70866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8360" y="228600"/>
            <a:ext cx="513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verview of 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914400" y="1600200"/>
            <a:ext cx="7238880" cy="43149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913400" y="304920"/>
            <a:ext cx="53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asic Design of PeerUS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2079000" y="228600"/>
            <a:ext cx="509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xperienced Intera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1680" y="3429000"/>
            <a:ext cx="8436240" cy="21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sues related to a federation of slightly different servic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- role cardinal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- implemented policies like: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 ‘When chairman goes, the session goes.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2400" y="1371600"/>
            <a:ext cx="7328160" cy="20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sue related to a federation of the same servic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- clash between the role specified in the invitation 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the role assigned to the initial user (Board-Meeting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Videophone Servic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3760" y="228600"/>
            <a:ext cx="254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352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rameworks allow semantics to be captured AND re-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aradigm tools allow for rapid service 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on´t need to know framework specialisation det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on´t need to know programming languages to develop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DL models of services allow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imation (look and feel of the servi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st case generation and execution against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ervice Interworking causes service 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ederation contract, When are two services compati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ttp://www.teltec.dcu.ie/tos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4038480" y="266688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570120" y="228600"/>
            <a:ext cx="211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365480" y="228600"/>
            <a:ext cx="652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Relation between TINA Se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066680" y="1600200"/>
          <a:ext cx="7086600" cy="39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1066680" y="1600200"/>
                    <a:ext cx="7086600" cy="39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8120" y="304920"/>
            <a:ext cx="508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he TOSCA Consort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29200" y="1533600"/>
            <a:ext cx="1300320" cy="687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488280" y="2629080"/>
            <a:ext cx="1820520" cy="344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" y="2362320"/>
            <a:ext cx="2263680" cy="534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048120" y="1295280"/>
            <a:ext cx="1098360" cy="995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6462720" y="4389480"/>
            <a:ext cx="919080" cy="1101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2895480" y="5486400"/>
            <a:ext cx="905040" cy="885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1600200" y="4724280"/>
            <a:ext cx="684360" cy="595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387360" y="3448080"/>
            <a:ext cx="2017800" cy="504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6581880" y="3500280"/>
            <a:ext cx="1974600" cy="459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124080" y="2743200"/>
            <a:ext cx="2667240" cy="2514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124080" y="3048120"/>
          <a:ext cx="2730600" cy="304776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124080" y="3048120"/>
                    <a:ext cx="273060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strath-trans" descr=""/>
          <p:cNvPicPr/>
          <p:nvPr/>
        </p:nvPicPr>
        <p:blipFill>
          <a:blip r:embed="rId12"/>
          <a:stretch/>
        </p:blipFill>
        <p:spPr>
          <a:xfrm>
            <a:off x="4952880" y="5181480"/>
            <a:ext cx="138600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820240" y="228600"/>
            <a:ext cx="361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hat is TOSC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4120" y="1828800"/>
            <a:ext cx="7831080" cy="37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is developing new methods and tools for the creation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 of distributed multimedia services based on the TINA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 architecture (concentrating on the TINA service session)</a:t>
            </a:r>
            <a:br>
              <a:rPr sz="2600"/>
            </a:b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In doing so TOSCA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is addressing industrial requirements for the fast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 and cost-effective creation and deployment of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 validated servic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812240" y="228600"/>
            <a:ext cx="562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ervice Creation in TOS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Support for rapid service creation by business-oriented developer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potentially non-technical peop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Created services should be valida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in iso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when interwork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Approach taken based upon </a:t>
            </a:r>
            <a:r>
              <a:rPr b="0" i="1" lang="de-DE" sz="2600" spc="-1" strike="noStrike">
                <a:solidFill>
                  <a:srgbClr val="000000"/>
                </a:solidFill>
                <a:latin typeface="Times New Roman"/>
              </a:rPr>
              <a:t>frameworks</a:t>
            </a: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de-DE" sz="2600" spc="-1" strike="noStrike">
                <a:solidFill>
                  <a:srgbClr val="000000"/>
                </a:solidFill>
                <a:latin typeface="Times New Roman"/>
              </a:rPr>
              <a:t>paradigm</a:t>
            </a: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685520" y="228600"/>
            <a:ext cx="588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bject-oriented Frame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160020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Mostly completed models of servi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includes semantics!!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developed around TINA ODL/IDL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Have predefined holes where service creators can add/refine behaviou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start, stop, suspend, resume of user sess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start, stop, suspend, resume service sess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887480" y="228600"/>
            <a:ext cx="547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aradigm Tools in TOS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1828800"/>
            <a:ext cx="77724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Graphical (and intuitive) tools for creating services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by specialising framewor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complexity of frameworks and specialisation process is hidden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Two paradigm tools develop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functional block paradig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movies paradig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73760" y="228600"/>
            <a:ext cx="470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he TOSCA 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08000" y="1409760"/>
            <a:ext cx="1188720" cy="1414440"/>
            <a:chOff x="108000" y="1409760"/>
            <a:chExt cx="1188720" cy="1414440"/>
          </a:xfrm>
        </p:grpSpPr>
        <p:grpSp>
          <p:nvGrpSpPr>
            <p:cNvPr id="72" name=""/>
            <p:cNvGrpSpPr/>
            <p:nvPr/>
          </p:nvGrpSpPr>
          <p:grpSpPr>
            <a:xfrm>
              <a:off x="199800" y="1409760"/>
              <a:ext cx="1096920" cy="1414440"/>
              <a:chOff x="199800" y="1409760"/>
              <a:chExt cx="1096920" cy="141444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241200" y="1409760"/>
                <a:ext cx="272880" cy="298440"/>
                <a:chOff x="241200" y="1409760"/>
                <a:chExt cx="272880" cy="29844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260280" y="1428840"/>
                  <a:ext cx="253800" cy="279360"/>
                </a:xfrm>
                <a:custGeom>
                  <a:avLst/>
                  <a:gdLst/>
                  <a:ahLst/>
                  <a:rect l="l" t="t" r="r" b="b"/>
                  <a:pathLst>
                    <a:path w="160" h="176">
                      <a:moveTo>
                        <a:pt x="123" y="16"/>
                      </a:moveTo>
                      <a:lnTo>
                        <a:pt x="136" y="30"/>
                      </a:lnTo>
                      <a:lnTo>
                        <a:pt x="142" y="41"/>
                      </a:lnTo>
                      <a:lnTo>
                        <a:pt x="146" y="49"/>
                      </a:lnTo>
                      <a:lnTo>
                        <a:pt x="149" y="54"/>
                      </a:lnTo>
                      <a:lnTo>
                        <a:pt x="146" y="60"/>
                      </a:lnTo>
                      <a:lnTo>
                        <a:pt x="142" y="62"/>
                      </a:lnTo>
                      <a:lnTo>
                        <a:pt x="142" y="68"/>
                      </a:lnTo>
                      <a:lnTo>
                        <a:pt x="146" y="73"/>
                      </a:lnTo>
                      <a:lnTo>
                        <a:pt x="149" y="79"/>
                      </a:lnTo>
                      <a:lnTo>
                        <a:pt x="155" y="87"/>
                      </a:lnTo>
                      <a:lnTo>
                        <a:pt x="159" y="92"/>
                      </a:lnTo>
                      <a:lnTo>
                        <a:pt x="155" y="95"/>
                      </a:lnTo>
                      <a:lnTo>
                        <a:pt x="152" y="95"/>
                      </a:lnTo>
                      <a:lnTo>
                        <a:pt x="149" y="98"/>
                      </a:lnTo>
                      <a:lnTo>
                        <a:pt x="149" y="109"/>
                      </a:lnTo>
                      <a:lnTo>
                        <a:pt x="136" y="109"/>
                      </a:lnTo>
                      <a:lnTo>
                        <a:pt x="146" y="114"/>
                      </a:lnTo>
                      <a:lnTo>
                        <a:pt x="149" y="117"/>
                      </a:lnTo>
                      <a:lnTo>
                        <a:pt x="149" y="120"/>
                      </a:lnTo>
                      <a:lnTo>
                        <a:pt x="146" y="120"/>
                      </a:lnTo>
                      <a:lnTo>
                        <a:pt x="146" y="125"/>
                      </a:lnTo>
                      <a:lnTo>
                        <a:pt x="149" y="131"/>
                      </a:lnTo>
                      <a:lnTo>
                        <a:pt x="149" y="136"/>
                      </a:lnTo>
                      <a:lnTo>
                        <a:pt x="149" y="139"/>
                      </a:lnTo>
                      <a:lnTo>
                        <a:pt x="146" y="144"/>
                      </a:lnTo>
                      <a:lnTo>
                        <a:pt x="139" y="147"/>
                      </a:lnTo>
                      <a:lnTo>
                        <a:pt x="133" y="147"/>
                      </a:lnTo>
                      <a:lnTo>
                        <a:pt x="123" y="147"/>
                      </a:lnTo>
                      <a:lnTo>
                        <a:pt x="113" y="144"/>
                      </a:lnTo>
                      <a:lnTo>
                        <a:pt x="107" y="155"/>
                      </a:lnTo>
                      <a:lnTo>
                        <a:pt x="97" y="175"/>
                      </a:lnTo>
                      <a:lnTo>
                        <a:pt x="12" y="147"/>
                      </a:lnTo>
                      <a:lnTo>
                        <a:pt x="16" y="128"/>
                      </a:lnTo>
                      <a:lnTo>
                        <a:pt x="6" y="106"/>
                      </a:lnTo>
                      <a:lnTo>
                        <a:pt x="0" y="87"/>
                      </a:lnTo>
                      <a:lnTo>
                        <a:pt x="0" y="68"/>
                      </a:lnTo>
                      <a:lnTo>
                        <a:pt x="3" y="49"/>
                      </a:lnTo>
                      <a:lnTo>
                        <a:pt x="12" y="30"/>
                      </a:lnTo>
                      <a:lnTo>
                        <a:pt x="25" y="16"/>
                      </a:lnTo>
                      <a:lnTo>
                        <a:pt x="38" y="5"/>
                      </a:lnTo>
                      <a:lnTo>
                        <a:pt x="58" y="0"/>
                      </a:lnTo>
                      <a:lnTo>
                        <a:pt x="74" y="0"/>
                      </a:lnTo>
                      <a:lnTo>
                        <a:pt x="94" y="2"/>
                      </a:lnTo>
                      <a:lnTo>
                        <a:pt x="110" y="8"/>
                      </a:lnTo>
                      <a:lnTo>
                        <a:pt x="123" y="16"/>
                      </a:lnTo>
                    </a:path>
                  </a:pathLst>
                </a:custGeom>
                <a:solidFill>
                  <a:srgbClr val="ffc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241200" y="1409760"/>
                  <a:ext cx="233280" cy="220680"/>
                </a:xfrm>
                <a:custGeom>
                  <a:avLst/>
                  <a:gdLst/>
                  <a:ahLst/>
                  <a:rect l="l" t="t" r="r" b="b"/>
                  <a:pathLst>
                    <a:path w="147" h="139">
                      <a:moveTo>
                        <a:pt x="142" y="51"/>
                      </a:moveTo>
                      <a:lnTo>
                        <a:pt x="146" y="43"/>
                      </a:lnTo>
                      <a:lnTo>
                        <a:pt x="146" y="35"/>
                      </a:lnTo>
                      <a:lnTo>
                        <a:pt x="146" y="27"/>
                      </a:lnTo>
                      <a:lnTo>
                        <a:pt x="142" y="21"/>
                      </a:lnTo>
                      <a:lnTo>
                        <a:pt x="139" y="18"/>
                      </a:lnTo>
                      <a:lnTo>
                        <a:pt x="133" y="16"/>
                      </a:lnTo>
                      <a:lnTo>
                        <a:pt x="126" y="13"/>
                      </a:lnTo>
                      <a:lnTo>
                        <a:pt x="120" y="10"/>
                      </a:lnTo>
                      <a:lnTo>
                        <a:pt x="116" y="10"/>
                      </a:lnTo>
                      <a:lnTo>
                        <a:pt x="113" y="10"/>
                      </a:lnTo>
                      <a:lnTo>
                        <a:pt x="110" y="8"/>
                      </a:lnTo>
                      <a:lnTo>
                        <a:pt x="103" y="8"/>
                      </a:lnTo>
                      <a:lnTo>
                        <a:pt x="97" y="8"/>
                      </a:lnTo>
                      <a:lnTo>
                        <a:pt x="94" y="8"/>
                      </a:lnTo>
                      <a:lnTo>
                        <a:pt x="87" y="8"/>
                      </a:lnTo>
                      <a:lnTo>
                        <a:pt x="81" y="5"/>
                      </a:lnTo>
                      <a:lnTo>
                        <a:pt x="77" y="5"/>
                      </a:lnTo>
                      <a:lnTo>
                        <a:pt x="71" y="0"/>
                      </a:lnTo>
                      <a:lnTo>
                        <a:pt x="64" y="0"/>
                      </a:lnTo>
                      <a:lnTo>
                        <a:pt x="58" y="0"/>
                      </a:lnTo>
                      <a:lnTo>
                        <a:pt x="48" y="2"/>
                      </a:lnTo>
                      <a:lnTo>
                        <a:pt x="38" y="5"/>
                      </a:lnTo>
                      <a:lnTo>
                        <a:pt x="35" y="10"/>
                      </a:lnTo>
                      <a:lnTo>
                        <a:pt x="32" y="16"/>
                      </a:lnTo>
                      <a:lnTo>
                        <a:pt x="29" y="18"/>
                      </a:lnTo>
                      <a:lnTo>
                        <a:pt x="22" y="21"/>
                      </a:lnTo>
                      <a:lnTo>
                        <a:pt x="16" y="27"/>
                      </a:lnTo>
                      <a:lnTo>
                        <a:pt x="9" y="37"/>
                      </a:lnTo>
                      <a:lnTo>
                        <a:pt x="6" y="46"/>
                      </a:lnTo>
                      <a:lnTo>
                        <a:pt x="6" y="54"/>
                      </a:lnTo>
                      <a:lnTo>
                        <a:pt x="9" y="59"/>
                      </a:lnTo>
                      <a:lnTo>
                        <a:pt x="6" y="64"/>
                      </a:lnTo>
                      <a:lnTo>
                        <a:pt x="3" y="73"/>
                      </a:lnTo>
                      <a:lnTo>
                        <a:pt x="0" y="83"/>
                      </a:lnTo>
                      <a:lnTo>
                        <a:pt x="0" y="92"/>
                      </a:lnTo>
                      <a:lnTo>
                        <a:pt x="0" y="100"/>
                      </a:lnTo>
                      <a:lnTo>
                        <a:pt x="3" y="105"/>
                      </a:lnTo>
                      <a:lnTo>
                        <a:pt x="9" y="113"/>
                      </a:lnTo>
                      <a:lnTo>
                        <a:pt x="16" y="124"/>
                      </a:lnTo>
                      <a:lnTo>
                        <a:pt x="19" y="132"/>
                      </a:lnTo>
                      <a:lnTo>
                        <a:pt x="22" y="138"/>
                      </a:lnTo>
                      <a:lnTo>
                        <a:pt x="29" y="138"/>
                      </a:lnTo>
                      <a:lnTo>
                        <a:pt x="32" y="132"/>
                      </a:lnTo>
                      <a:lnTo>
                        <a:pt x="38" y="129"/>
                      </a:lnTo>
                      <a:lnTo>
                        <a:pt x="42" y="121"/>
                      </a:lnTo>
                      <a:lnTo>
                        <a:pt x="45" y="110"/>
                      </a:lnTo>
                      <a:lnTo>
                        <a:pt x="48" y="102"/>
                      </a:lnTo>
                      <a:lnTo>
                        <a:pt x="48" y="94"/>
                      </a:lnTo>
                      <a:lnTo>
                        <a:pt x="48" y="92"/>
                      </a:lnTo>
                      <a:lnTo>
                        <a:pt x="58" y="86"/>
                      </a:lnTo>
                      <a:lnTo>
                        <a:pt x="64" y="89"/>
                      </a:lnTo>
                      <a:lnTo>
                        <a:pt x="68" y="97"/>
                      </a:lnTo>
                      <a:lnTo>
                        <a:pt x="74" y="102"/>
                      </a:lnTo>
                      <a:lnTo>
                        <a:pt x="84" y="100"/>
                      </a:lnTo>
                      <a:lnTo>
                        <a:pt x="84" y="89"/>
                      </a:lnTo>
                      <a:lnTo>
                        <a:pt x="87" y="81"/>
                      </a:lnTo>
                      <a:lnTo>
                        <a:pt x="90" y="75"/>
                      </a:lnTo>
                      <a:lnTo>
                        <a:pt x="97" y="73"/>
                      </a:lnTo>
                      <a:lnTo>
                        <a:pt x="103" y="75"/>
                      </a:lnTo>
                      <a:lnTo>
                        <a:pt x="110" y="73"/>
                      </a:lnTo>
                      <a:lnTo>
                        <a:pt x="116" y="67"/>
                      </a:lnTo>
                      <a:lnTo>
                        <a:pt x="123" y="59"/>
                      </a:lnTo>
                      <a:lnTo>
                        <a:pt x="133" y="54"/>
                      </a:lnTo>
                      <a:lnTo>
                        <a:pt x="142" y="51"/>
                      </a:lnTo>
                    </a:path>
                  </a:pathLst>
                </a:custGeom>
                <a:solidFill>
                  <a:srgbClr val="c08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199800" y="1662120"/>
                <a:ext cx="762120" cy="731880"/>
                <a:chOff x="199800" y="1662120"/>
                <a:chExt cx="762120" cy="7318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264960" y="1662120"/>
                  <a:ext cx="179280" cy="149040"/>
                </a:xfrm>
                <a:custGeom>
                  <a:avLst/>
                  <a:gdLst/>
                  <a:ahLst/>
                  <a:rect l="l" t="t" r="r" b="b"/>
                  <a:pathLst>
                    <a:path w="113" h="94">
                      <a:moveTo>
                        <a:pt x="6" y="0"/>
                      </a:moveTo>
                      <a:lnTo>
                        <a:pt x="95" y="30"/>
                      </a:lnTo>
                      <a:lnTo>
                        <a:pt x="92" y="46"/>
                      </a:lnTo>
                      <a:lnTo>
                        <a:pt x="112" y="54"/>
                      </a:lnTo>
                      <a:lnTo>
                        <a:pt x="112" y="93"/>
                      </a:lnTo>
                      <a:lnTo>
                        <a:pt x="82" y="73"/>
                      </a:lnTo>
                      <a:lnTo>
                        <a:pt x="56" y="43"/>
                      </a:lnTo>
                      <a:lnTo>
                        <a:pt x="0" y="10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c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14360" y="1706400"/>
                  <a:ext cx="83880" cy="171720"/>
                </a:xfrm>
                <a:custGeom>
                  <a:avLst/>
                  <a:gdLst/>
                  <a:ahLst/>
                  <a:rect l="l" t="t" r="r" b="b"/>
                  <a:pathLst>
                    <a:path w="53" h="108">
                      <a:moveTo>
                        <a:pt x="6" y="0"/>
                      </a:moveTo>
                      <a:lnTo>
                        <a:pt x="3" y="2"/>
                      </a:lnTo>
                      <a:lnTo>
                        <a:pt x="0" y="19"/>
                      </a:lnTo>
                      <a:lnTo>
                        <a:pt x="17" y="27"/>
                      </a:lnTo>
                      <a:lnTo>
                        <a:pt x="17" y="60"/>
                      </a:lnTo>
                      <a:lnTo>
                        <a:pt x="41" y="107"/>
                      </a:lnTo>
                      <a:lnTo>
                        <a:pt x="52" y="104"/>
                      </a:lnTo>
                      <a:lnTo>
                        <a:pt x="52" y="96"/>
                      </a:lnTo>
                      <a:lnTo>
                        <a:pt x="52" y="87"/>
                      </a:lnTo>
                      <a:lnTo>
                        <a:pt x="48" y="74"/>
                      </a:lnTo>
                      <a:lnTo>
                        <a:pt x="45" y="60"/>
                      </a:lnTo>
                      <a:lnTo>
                        <a:pt x="38" y="46"/>
                      </a:lnTo>
                      <a:lnTo>
                        <a:pt x="31" y="30"/>
                      </a:lnTo>
                      <a:lnTo>
                        <a:pt x="24" y="21"/>
                      </a:lnTo>
                      <a:lnTo>
                        <a:pt x="20" y="8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ffa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720720" y="1866960"/>
                  <a:ext cx="241200" cy="160200"/>
                </a:xfrm>
                <a:custGeom>
                  <a:avLst/>
                  <a:gdLst/>
                  <a:ahLst/>
                  <a:rect l="l" t="t" r="r" b="b"/>
                  <a:pathLst>
                    <a:path w="152" h="101">
                      <a:moveTo>
                        <a:pt x="0" y="51"/>
                      </a:moveTo>
                      <a:lnTo>
                        <a:pt x="9" y="45"/>
                      </a:lnTo>
                      <a:lnTo>
                        <a:pt x="16" y="43"/>
                      </a:lnTo>
                      <a:lnTo>
                        <a:pt x="22" y="37"/>
                      </a:lnTo>
                      <a:lnTo>
                        <a:pt x="28" y="35"/>
                      </a:lnTo>
                      <a:lnTo>
                        <a:pt x="32" y="27"/>
                      </a:lnTo>
                      <a:lnTo>
                        <a:pt x="35" y="21"/>
                      </a:lnTo>
                      <a:lnTo>
                        <a:pt x="41" y="13"/>
                      </a:lnTo>
                      <a:lnTo>
                        <a:pt x="44" y="10"/>
                      </a:lnTo>
                      <a:lnTo>
                        <a:pt x="51" y="8"/>
                      </a:lnTo>
                      <a:lnTo>
                        <a:pt x="57" y="5"/>
                      </a:lnTo>
                      <a:lnTo>
                        <a:pt x="64" y="5"/>
                      </a:lnTo>
                      <a:lnTo>
                        <a:pt x="70" y="5"/>
                      </a:lnTo>
                      <a:lnTo>
                        <a:pt x="77" y="5"/>
                      </a:lnTo>
                      <a:lnTo>
                        <a:pt x="83" y="5"/>
                      </a:lnTo>
                      <a:lnTo>
                        <a:pt x="89" y="5"/>
                      </a:lnTo>
                      <a:lnTo>
                        <a:pt x="96" y="2"/>
                      </a:lnTo>
                      <a:lnTo>
                        <a:pt x="99" y="0"/>
                      </a:lnTo>
                      <a:lnTo>
                        <a:pt x="106" y="2"/>
                      </a:lnTo>
                      <a:lnTo>
                        <a:pt x="106" y="5"/>
                      </a:lnTo>
                      <a:lnTo>
                        <a:pt x="106" y="10"/>
                      </a:lnTo>
                      <a:lnTo>
                        <a:pt x="102" y="13"/>
                      </a:lnTo>
                      <a:lnTo>
                        <a:pt x="99" y="16"/>
                      </a:lnTo>
                      <a:lnTo>
                        <a:pt x="96" y="18"/>
                      </a:lnTo>
                      <a:lnTo>
                        <a:pt x="89" y="21"/>
                      </a:lnTo>
                      <a:lnTo>
                        <a:pt x="86" y="21"/>
                      </a:lnTo>
                      <a:lnTo>
                        <a:pt x="93" y="21"/>
                      </a:lnTo>
                      <a:lnTo>
                        <a:pt x="99" y="24"/>
                      </a:lnTo>
                      <a:lnTo>
                        <a:pt x="102" y="24"/>
                      </a:lnTo>
                      <a:lnTo>
                        <a:pt x="106" y="24"/>
                      </a:lnTo>
                      <a:lnTo>
                        <a:pt x="115" y="21"/>
                      </a:lnTo>
                      <a:lnTo>
                        <a:pt x="125" y="16"/>
                      </a:lnTo>
                      <a:lnTo>
                        <a:pt x="134" y="10"/>
                      </a:lnTo>
                      <a:lnTo>
                        <a:pt x="138" y="5"/>
                      </a:lnTo>
                      <a:lnTo>
                        <a:pt x="141" y="2"/>
                      </a:lnTo>
                      <a:lnTo>
                        <a:pt x="144" y="2"/>
                      </a:lnTo>
                      <a:lnTo>
                        <a:pt x="147" y="2"/>
                      </a:lnTo>
                      <a:lnTo>
                        <a:pt x="151" y="5"/>
                      </a:lnTo>
                      <a:lnTo>
                        <a:pt x="151" y="8"/>
                      </a:lnTo>
                      <a:lnTo>
                        <a:pt x="151" y="13"/>
                      </a:lnTo>
                      <a:lnTo>
                        <a:pt x="147" y="16"/>
                      </a:lnTo>
                      <a:lnTo>
                        <a:pt x="141" y="27"/>
                      </a:lnTo>
                      <a:lnTo>
                        <a:pt x="134" y="32"/>
                      </a:lnTo>
                      <a:lnTo>
                        <a:pt x="134" y="35"/>
                      </a:lnTo>
                      <a:lnTo>
                        <a:pt x="138" y="37"/>
                      </a:lnTo>
                      <a:lnTo>
                        <a:pt x="138" y="40"/>
                      </a:lnTo>
                      <a:lnTo>
                        <a:pt x="138" y="45"/>
                      </a:lnTo>
                      <a:lnTo>
                        <a:pt x="134" y="51"/>
                      </a:lnTo>
                      <a:lnTo>
                        <a:pt x="131" y="56"/>
                      </a:lnTo>
                      <a:lnTo>
                        <a:pt x="128" y="56"/>
                      </a:lnTo>
                      <a:lnTo>
                        <a:pt x="131" y="59"/>
                      </a:lnTo>
                      <a:lnTo>
                        <a:pt x="131" y="64"/>
                      </a:lnTo>
                      <a:lnTo>
                        <a:pt x="128" y="67"/>
                      </a:lnTo>
                      <a:lnTo>
                        <a:pt x="125" y="70"/>
                      </a:lnTo>
                      <a:lnTo>
                        <a:pt x="122" y="72"/>
                      </a:lnTo>
                      <a:lnTo>
                        <a:pt x="118" y="78"/>
                      </a:lnTo>
                      <a:lnTo>
                        <a:pt x="115" y="81"/>
                      </a:lnTo>
                      <a:lnTo>
                        <a:pt x="112" y="83"/>
                      </a:lnTo>
                      <a:lnTo>
                        <a:pt x="102" y="86"/>
                      </a:lnTo>
                      <a:lnTo>
                        <a:pt x="89" y="89"/>
                      </a:lnTo>
                      <a:lnTo>
                        <a:pt x="73" y="94"/>
                      </a:lnTo>
                      <a:lnTo>
                        <a:pt x="61" y="94"/>
                      </a:lnTo>
                      <a:lnTo>
                        <a:pt x="38" y="97"/>
                      </a:lnTo>
                      <a:lnTo>
                        <a:pt x="12" y="100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ffc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199800" y="1676520"/>
                  <a:ext cx="552600" cy="717480"/>
                  <a:chOff x="199800" y="1676520"/>
                  <a:chExt cx="552600" cy="717480"/>
                </a:xfrm>
              </p:grpSpPr>
              <p:grpSp>
                <p:nvGrpSpPr>
                  <p:cNvPr id="81" name=""/>
                  <p:cNvGrpSpPr/>
                  <p:nvPr/>
                </p:nvGrpSpPr>
                <p:grpSpPr>
                  <a:xfrm>
                    <a:off x="199800" y="1676520"/>
                    <a:ext cx="552600" cy="717480"/>
                    <a:chOff x="199800" y="1676520"/>
                    <a:chExt cx="552600" cy="717480"/>
                  </a:xfrm>
                </p:grpSpPr>
                <p:sp>
                  <p:nvSpPr>
                    <p:cNvPr id="82" name=""/>
                    <p:cNvSpPr/>
                    <p:nvPr/>
                  </p:nvSpPr>
                  <p:spPr>
                    <a:xfrm>
                      <a:off x="199800" y="1676520"/>
                      <a:ext cx="552600" cy="71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8" h="452">
                          <a:moveTo>
                            <a:pt x="42" y="0"/>
                          </a:moveTo>
                          <a:lnTo>
                            <a:pt x="64" y="10"/>
                          </a:lnTo>
                          <a:lnTo>
                            <a:pt x="100" y="29"/>
                          </a:lnTo>
                          <a:lnTo>
                            <a:pt x="116" y="46"/>
                          </a:lnTo>
                          <a:lnTo>
                            <a:pt x="129" y="62"/>
                          </a:lnTo>
                          <a:lnTo>
                            <a:pt x="165" y="86"/>
                          </a:lnTo>
                          <a:lnTo>
                            <a:pt x="168" y="97"/>
                          </a:lnTo>
                          <a:lnTo>
                            <a:pt x="175" y="105"/>
                          </a:lnTo>
                          <a:lnTo>
                            <a:pt x="181" y="111"/>
                          </a:lnTo>
                          <a:lnTo>
                            <a:pt x="178" y="119"/>
                          </a:lnTo>
                          <a:lnTo>
                            <a:pt x="188" y="124"/>
                          </a:lnTo>
                          <a:lnTo>
                            <a:pt x="188" y="133"/>
                          </a:lnTo>
                          <a:lnTo>
                            <a:pt x="191" y="154"/>
                          </a:lnTo>
                          <a:lnTo>
                            <a:pt x="223" y="168"/>
                          </a:lnTo>
                          <a:lnTo>
                            <a:pt x="243" y="165"/>
                          </a:lnTo>
                          <a:lnTo>
                            <a:pt x="259" y="173"/>
                          </a:lnTo>
                          <a:lnTo>
                            <a:pt x="282" y="173"/>
                          </a:lnTo>
                          <a:lnTo>
                            <a:pt x="301" y="163"/>
                          </a:lnTo>
                          <a:lnTo>
                            <a:pt x="321" y="157"/>
                          </a:lnTo>
                          <a:lnTo>
                            <a:pt x="334" y="171"/>
                          </a:lnTo>
                          <a:lnTo>
                            <a:pt x="347" y="222"/>
                          </a:lnTo>
                          <a:lnTo>
                            <a:pt x="347" y="233"/>
                          </a:lnTo>
                          <a:lnTo>
                            <a:pt x="291" y="249"/>
                          </a:lnTo>
                          <a:lnTo>
                            <a:pt x="256" y="255"/>
                          </a:lnTo>
                          <a:lnTo>
                            <a:pt x="278" y="260"/>
                          </a:lnTo>
                          <a:lnTo>
                            <a:pt x="317" y="258"/>
                          </a:lnTo>
                          <a:lnTo>
                            <a:pt x="311" y="290"/>
                          </a:lnTo>
                          <a:lnTo>
                            <a:pt x="295" y="320"/>
                          </a:lnTo>
                          <a:lnTo>
                            <a:pt x="272" y="336"/>
                          </a:lnTo>
                          <a:lnTo>
                            <a:pt x="249" y="345"/>
                          </a:lnTo>
                          <a:lnTo>
                            <a:pt x="233" y="347"/>
                          </a:lnTo>
                          <a:lnTo>
                            <a:pt x="217" y="361"/>
                          </a:lnTo>
                          <a:lnTo>
                            <a:pt x="197" y="391"/>
                          </a:lnTo>
                          <a:lnTo>
                            <a:pt x="188" y="407"/>
                          </a:lnTo>
                          <a:lnTo>
                            <a:pt x="162" y="415"/>
                          </a:lnTo>
                          <a:lnTo>
                            <a:pt x="145" y="426"/>
                          </a:lnTo>
                          <a:lnTo>
                            <a:pt x="132" y="437"/>
                          </a:lnTo>
                          <a:lnTo>
                            <a:pt x="123" y="451"/>
                          </a:lnTo>
                          <a:lnTo>
                            <a:pt x="97" y="451"/>
                          </a:lnTo>
                          <a:lnTo>
                            <a:pt x="71" y="426"/>
                          </a:lnTo>
                          <a:lnTo>
                            <a:pt x="55" y="380"/>
                          </a:lnTo>
                          <a:lnTo>
                            <a:pt x="42" y="309"/>
                          </a:lnTo>
                          <a:lnTo>
                            <a:pt x="19" y="230"/>
                          </a:lnTo>
                          <a:lnTo>
                            <a:pt x="9" y="179"/>
                          </a:lnTo>
                          <a:lnTo>
                            <a:pt x="3" y="146"/>
                          </a:lnTo>
                          <a:lnTo>
                            <a:pt x="0" y="119"/>
                          </a:lnTo>
                          <a:lnTo>
                            <a:pt x="0" y="86"/>
                          </a:lnTo>
                          <a:lnTo>
                            <a:pt x="3" y="62"/>
                          </a:lnTo>
                          <a:lnTo>
                            <a:pt x="9" y="46"/>
                          </a:lnTo>
                          <a:lnTo>
                            <a:pt x="16" y="35"/>
                          </a:lnTo>
                          <a:lnTo>
                            <a:pt x="32" y="24"/>
                          </a:lnTo>
                          <a:lnTo>
                            <a:pt x="35" y="10"/>
                          </a:lnTo>
                          <a:lnTo>
                            <a:pt x="42" y="0"/>
                          </a:lnTo>
                        </a:path>
                      </a:pathLst>
                    </a:custGeom>
                    <a:solidFill>
                      <a:srgbClr val="0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457200" y="2066760"/>
                      <a:ext cx="141120" cy="6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9" h="42">
                          <a:moveTo>
                            <a:pt x="88" y="41"/>
                          </a:moveTo>
                          <a:lnTo>
                            <a:pt x="55" y="32"/>
                          </a:lnTo>
                          <a:lnTo>
                            <a:pt x="26" y="1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606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160" bIns="20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>
                      <a:off x="507960" y="2206800"/>
                      <a:ext cx="85680" cy="7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45">
                          <a:moveTo>
                            <a:pt x="53" y="44"/>
                          </a:moveTo>
                          <a:lnTo>
                            <a:pt x="39" y="44"/>
                          </a:lnTo>
                          <a:lnTo>
                            <a:pt x="22" y="36"/>
                          </a:lnTo>
                          <a:lnTo>
                            <a:pt x="13" y="2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606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480" bIns="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5" name=""/>
                  <p:cNvSpPr/>
                  <p:nvPr/>
                </p:nvSpPr>
                <p:spPr>
                  <a:xfrm>
                    <a:off x="257040" y="1766880"/>
                    <a:ext cx="23328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100">
                        <a:moveTo>
                          <a:pt x="0" y="13"/>
                        </a:moveTo>
                        <a:lnTo>
                          <a:pt x="9" y="8"/>
                        </a:lnTo>
                        <a:lnTo>
                          <a:pt x="19" y="2"/>
                        </a:lnTo>
                        <a:lnTo>
                          <a:pt x="35" y="0"/>
                        </a:lnTo>
                        <a:lnTo>
                          <a:pt x="48" y="2"/>
                        </a:lnTo>
                        <a:lnTo>
                          <a:pt x="58" y="5"/>
                        </a:lnTo>
                        <a:lnTo>
                          <a:pt x="71" y="13"/>
                        </a:lnTo>
                        <a:lnTo>
                          <a:pt x="94" y="41"/>
                        </a:lnTo>
                        <a:lnTo>
                          <a:pt x="120" y="74"/>
                        </a:lnTo>
                        <a:lnTo>
                          <a:pt x="146" y="9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606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492120" y="1949400"/>
                    <a:ext cx="856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43">
                        <a:moveTo>
                          <a:pt x="0" y="42"/>
                        </a:moveTo>
                        <a:lnTo>
                          <a:pt x="15" y="33"/>
                        </a:lnTo>
                        <a:lnTo>
                          <a:pt x="22" y="21"/>
                        </a:lnTo>
                        <a:lnTo>
                          <a:pt x="34" y="8"/>
                        </a:lnTo>
                        <a:lnTo>
                          <a:pt x="45" y="0"/>
                        </a:lnTo>
                        <a:lnTo>
                          <a:pt x="49" y="12"/>
                        </a:lnTo>
                        <a:lnTo>
                          <a:pt x="53" y="2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606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447480" y="2232000"/>
                    <a:ext cx="14616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70">
                        <a:moveTo>
                          <a:pt x="91" y="0"/>
                        </a:moveTo>
                        <a:lnTo>
                          <a:pt x="81" y="2"/>
                        </a:lnTo>
                        <a:lnTo>
                          <a:pt x="68" y="10"/>
                        </a:lnTo>
                        <a:lnTo>
                          <a:pt x="65" y="15"/>
                        </a:lnTo>
                        <a:lnTo>
                          <a:pt x="55" y="23"/>
                        </a:lnTo>
                        <a:lnTo>
                          <a:pt x="48" y="37"/>
                        </a:lnTo>
                        <a:lnTo>
                          <a:pt x="42" y="50"/>
                        </a:lnTo>
                        <a:lnTo>
                          <a:pt x="32" y="58"/>
                        </a:lnTo>
                        <a:lnTo>
                          <a:pt x="16" y="63"/>
                        </a:lnTo>
                        <a:lnTo>
                          <a:pt x="0" y="6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606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8" name=""/>
              <p:cNvGrpSpPr/>
              <p:nvPr/>
            </p:nvGrpSpPr>
            <p:grpSpPr>
              <a:xfrm>
                <a:off x="323640" y="2073240"/>
                <a:ext cx="973080" cy="750960"/>
                <a:chOff x="323640" y="2073240"/>
                <a:chExt cx="973080" cy="750960"/>
              </a:xfrm>
            </p:grpSpPr>
            <p:grpSp>
              <p:nvGrpSpPr>
                <p:cNvPr id="89" name=""/>
                <p:cNvGrpSpPr/>
                <p:nvPr/>
              </p:nvGrpSpPr>
              <p:grpSpPr>
                <a:xfrm>
                  <a:off x="853920" y="2489040"/>
                  <a:ext cx="442800" cy="335160"/>
                  <a:chOff x="853920" y="2489040"/>
                  <a:chExt cx="442800" cy="3351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>
                    <a:off x="853920" y="2738520"/>
                    <a:ext cx="2840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9" h="54">
                        <a:moveTo>
                          <a:pt x="0" y="27"/>
                        </a:moveTo>
                        <a:lnTo>
                          <a:pt x="3" y="39"/>
                        </a:lnTo>
                        <a:lnTo>
                          <a:pt x="6" y="47"/>
                        </a:lnTo>
                        <a:lnTo>
                          <a:pt x="12" y="53"/>
                        </a:lnTo>
                        <a:lnTo>
                          <a:pt x="64" y="53"/>
                        </a:lnTo>
                        <a:lnTo>
                          <a:pt x="67" y="41"/>
                        </a:lnTo>
                        <a:lnTo>
                          <a:pt x="90" y="47"/>
                        </a:lnTo>
                        <a:lnTo>
                          <a:pt x="110" y="44"/>
                        </a:lnTo>
                        <a:lnTo>
                          <a:pt x="142" y="39"/>
                        </a:lnTo>
                        <a:lnTo>
                          <a:pt x="158" y="36"/>
                        </a:lnTo>
                        <a:lnTo>
                          <a:pt x="171" y="30"/>
                        </a:lnTo>
                        <a:lnTo>
                          <a:pt x="178" y="22"/>
                        </a:lnTo>
                        <a:lnTo>
                          <a:pt x="174" y="16"/>
                        </a:lnTo>
                        <a:lnTo>
                          <a:pt x="158" y="13"/>
                        </a:lnTo>
                        <a:lnTo>
                          <a:pt x="142" y="13"/>
                        </a:lnTo>
                        <a:lnTo>
                          <a:pt x="116" y="11"/>
                        </a:lnTo>
                        <a:lnTo>
                          <a:pt x="93" y="5"/>
                        </a:lnTo>
                        <a:lnTo>
                          <a:pt x="77" y="0"/>
                        </a:lnTo>
                        <a:lnTo>
                          <a:pt x="80" y="8"/>
                        </a:lnTo>
                        <a:lnTo>
                          <a:pt x="61" y="11"/>
                        </a:lnTo>
                        <a:lnTo>
                          <a:pt x="32" y="13"/>
                        </a:lnTo>
                        <a:lnTo>
                          <a:pt x="9" y="11"/>
                        </a:lnTo>
                        <a:lnTo>
                          <a:pt x="3" y="16"/>
                        </a:lnTo>
                        <a:lnTo>
                          <a:pt x="0" y="2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1027080" y="2489040"/>
                    <a:ext cx="26964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0">
                        <a:moveTo>
                          <a:pt x="52" y="0"/>
                        </a:moveTo>
                        <a:lnTo>
                          <a:pt x="87" y="22"/>
                        </a:lnTo>
                        <a:lnTo>
                          <a:pt x="110" y="22"/>
                        </a:lnTo>
                        <a:lnTo>
                          <a:pt x="139" y="27"/>
                        </a:lnTo>
                        <a:lnTo>
                          <a:pt x="162" y="30"/>
                        </a:lnTo>
                        <a:lnTo>
                          <a:pt x="169" y="41"/>
                        </a:lnTo>
                        <a:lnTo>
                          <a:pt x="165" y="50"/>
                        </a:lnTo>
                        <a:lnTo>
                          <a:pt x="117" y="66"/>
                        </a:lnTo>
                        <a:lnTo>
                          <a:pt x="81" y="69"/>
                        </a:lnTo>
                        <a:lnTo>
                          <a:pt x="61" y="66"/>
                        </a:lnTo>
                        <a:lnTo>
                          <a:pt x="42" y="72"/>
                        </a:lnTo>
                        <a:lnTo>
                          <a:pt x="42" y="80"/>
                        </a:lnTo>
                        <a:lnTo>
                          <a:pt x="3" y="89"/>
                        </a:lnTo>
                        <a:lnTo>
                          <a:pt x="0" y="77"/>
                        </a:lnTo>
                        <a:lnTo>
                          <a:pt x="9" y="47"/>
                        </a:lnTo>
                        <a:lnTo>
                          <a:pt x="52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323640" y="2073240"/>
                  <a:ext cx="838440" cy="701640"/>
                  <a:chOff x="323640" y="2073240"/>
                  <a:chExt cx="838440" cy="70164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>
                    <a:off x="842760" y="2232000"/>
                    <a:ext cx="201600" cy="54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342">
                        <a:moveTo>
                          <a:pt x="0" y="38"/>
                        </a:moveTo>
                        <a:lnTo>
                          <a:pt x="0" y="150"/>
                        </a:lnTo>
                        <a:lnTo>
                          <a:pt x="6" y="264"/>
                        </a:lnTo>
                        <a:lnTo>
                          <a:pt x="3" y="341"/>
                        </a:lnTo>
                        <a:lnTo>
                          <a:pt x="45" y="338"/>
                        </a:lnTo>
                        <a:lnTo>
                          <a:pt x="77" y="338"/>
                        </a:lnTo>
                        <a:lnTo>
                          <a:pt x="109" y="332"/>
                        </a:lnTo>
                        <a:lnTo>
                          <a:pt x="126" y="321"/>
                        </a:lnTo>
                        <a:lnTo>
                          <a:pt x="122" y="267"/>
                        </a:lnTo>
                        <a:lnTo>
                          <a:pt x="119" y="210"/>
                        </a:lnTo>
                        <a:lnTo>
                          <a:pt x="106" y="150"/>
                        </a:lnTo>
                        <a:lnTo>
                          <a:pt x="109" y="100"/>
                        </a:lnTo>
                        <a:lnTo>
                          <a:pt x="106" y="62"/>
                        </a:lnTo>
                        <a:lnTo>
                          <a:pt x="96" y="21"/>
                        </a:lnTo>
                        <a:lnTo>
                          <a:pt x="84" y="10"/>
                        </a:lnTo>
                        <a:lnTo>
                          <a:pt x="58" y="0"/>
                        </a:lnTo>
                        <a:lnTo>
                          <a:pt x="16" y="5"/>
                        </a:lnTo>
                        <a:lnTo>
                          <a:pt x="0" y="38"/>
                        </a:lnTo>
                      </a:path>
                    </a:pathLst>
                  </a:custGeom>
                  <a:solidFill>
                    <a:srgbClr val="0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853920" y="2308320"/>
                    <a:ext cx="17460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222">
                        <a:moveTo>
                          <a:pt x="0" y="5"/>
                        </a:moveTo>
                        <a:lnTo>
                          <a:pt x="6" y="43"/>
                        </a:lnTo>
                        <a:lnTo>
                          <a:pt x="9" y="68"/>
                        </a:lnTo>
                        <a:lnTo>
                          <a:pt x="22" y="87"/>
                        </a:lnTo>
                        <a:lnTo>
                          <a:pt x="32" y="100"/>
                        </a:lnTo>
                        <a:lnTo>
                          <a:pt x="35" y="114"/>
                        </a:lnTo>
                        <a:lnTo>
                          <a:pt x="44" y="122"/>
                        </a:lnTo>
                        <a:lnTo>
                          <a:pt x="44" y="128"/>
                        </a:lnTo>
                        <a:lnTo>
                          <a:pt x="54" y="139"/>
                        </a:lnTo>
                        <a:lnTo>
                          <a:pt x="67" y="155"/>
                        </a:lnTo>
                        <a:lnTo>
                          <a:pt x="76" y="171"/>
                        </a:lnTo>
                        <a:lnTo>
                          <a:pt x="76" y="196"/>
                        </a:lnTo>
                        <a:lnTo>
                          <a:pt x="83" y="207"/>
                        </a:lnTo>
                        <a:lnTo>
                          <a:pt x="92" y="221"/>
                        </a:lnTo>
                        <a:lnTo>
                          <a:pt x="96" y="207"/>
                        </a:lnTo>
                        <a:lnTo>
                          <a:pt x="105" y="201"/>
                        </a:lnTo>
                        <a:lnTo>
                          <a:pt x="109" y="185"/>
                        </a:lnTo>
                        <a:lnTo>
                          <a:pt x="9" y="0"/>
                        </a:lnTo>
                        <a:lnTo>
                          <a:pt x="0" y="5"/>
                        </a:lnTo>
                      </a:path>
                    </a:pathLst>
                  </a:custGeom>
                  <a:solidFill>
                    <a:srgbClr val="0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323640" y="2073240"/>
                    <a:ext cx="838440" cy="554040"/>
                  </a:xfrm>
                  <a:custGeom>
                    <a:avLst/>
                    <a:gdLst/>
                    <a:ahLst/>
                    <a:rect l="l" t="t" r="r" b="b"/>
                    <a:pathLst>
                      <a:path w="528" h="349">
                        <a:moveTo>
                          <a:pt x="171" y="16"/>
                        </a:moveTo>
                        <a:lnTo>
                          <a:pt x="206" y="10"/>
                        </a:lnTo>
                        <a:lnTo>
                          <a:pt x="261" y="5"/>
                        </a:lnTo>
                        <a:lnTo>
                          <a:pt x="323" y="0"/>
                        </a:lnTo>
                        <a:lnTo>
                          <a:pt x="365" y="0"/>
                        </a:lnTo>
                        <a:lnTo>
                          <a:pt x="384" y="5"/>
                        </a:lnTo>
                        <a:lnTo>
                          <a:pt x="394" y="19"/>
                        </a:lnTo>
                        <a:lnTo>
                          <a:pt x="404" y="38"/>
                        </a:lnTo>
                        <a:lnTo>
                          <a:pt x="426" y="89"/>
                        </a:lnTo>
                        <a:lnTo>
                          <a:pt x="452" y="149"/>
                        </a:lnTo>
                        <a:lnTo>
                          <a:pt x="465" y="176"/>
                        </a:lnTo>
                        <a:lnTo>
                          <a:pt x="527" y="258"/>
                        </a:lnTo>
                        <a:lnTo>
                          <a:pt x="501" y="274"/>
                        </a:lnTo>
                        <a:lnTo>
                          <a:pt x="455" y="315"/>
                        </a:lnTo>
                        <a:lnTo>
                          <a:pt x="442" y="348"/>
                        </a:lnTo>
                        <a:lnTo>
                          <a:pt x="423" y="312"/>
                        </a:lnTo>
                        <a:lnTo>
                          <a:pt x="400" y="277"/>
                        </a:lnTo>
                        <a:lnTo>
                          <a:pt x="375" y="239"/>
                        </a:lnTo>
                        <a:lnTo>
                          <a:pt x="352" y="212"/>
                        </a:lnTo>
                        <a:lnTo>
                          <a:pt x="342" y="174"/>
                        </a:lnTo>
                        <a:lnTo>
                          <a:pt x="339" y="144"/>
                        </a:lnTo>
                        <a:lnTo>
                          <a:pt x="271" y="179"/>
                        </a:lnTo>
                        <a:lnTo>
                          <a:pt x="229" y="190"/>
                        </a:lnTo>
                        <a:lnTo>
                          <a:pt x="171" y="195"/>
                        </a:lnTo>
                        <a:lnTo>
                          <a:pt x="126" y="195"/>
                        </a:lnTo>
                        <a:lnTo>
                          <a:pt x="93" y="193"/>
                        </a:lnTo>
                        <a:lnTo>
                          <a:pt x="48" y="182"/>
                        </a:lnTo>
                        <a:lnTo>
                          <a:pt x="22" y="163"/>
                        </a:lnTo>
                        <a:lnTo>
                          <a:pt x="6" y="138"/>
                        </a:lnTo>
                        <a:lnTo>
                          <a:pt x="0" y="114"/>
                        </a:lnTo>
                        <a:lnTo>
                          <a:pt x="171" y="16"/>
                        </a:lnTo>
                      </a:path>
                    </a:pathLst>
                  </a:custGeom>
                  <a:solidFill>
                    <a:srgbClr val="00c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982440" y="2335320"/>
                    <a:ext cx="968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6">
                        <a:moveTo>
                          <a:pt x="0" y="0"/>
                        </a:moveTo>
                        <a:lnTo>
                          <a:pt x="18" y="4"/>
                        </a:lnTo>
                        <a:lnTo>
                          <a:pt x="34" y="18"/>
                        </a:lnTo>
                        <a:lnTo>
                          <a:pt x="47" y="27"/>
                        </a:lnTo>
                        <a:lnTo>
                          <a:pt x="60" y="4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606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853920" y="2232000"/>
                    <a:ext cx="8100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49">
                        <a:moveTo>
                          <a:pt x="0" y="48"/>
                        </a:moveTo>
                        <a:lnTo>
                          <a:pt x="0" y="29"/>
                        </a:lnTo>
                        <a:lnTo>
                          <a:pt x="12" y="18"/>
                        </a:lnTo>
                        <a:lnTo>
                          <a:pt x="50" y="13"/>
                        </a:lnTo>
                        <a:lnTo>
                          <a:pt x="2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606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853920" y="2292480"/>
                    <a:ext cx="8100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46">
                        <a:moveTo>
                          <a:pt x="0" y="45"/>
                        </a:moveTo>
                        <a:lnTo>
                          <a:pt x="12" y="11"/>
                        </a:lnTo>
                        <a:lnTo>
                          <a:pt x="29" y="0"/>
                        </a:lnTo>
                        <a:lnTo>
                          <a:pt x="37" y="0"/>
                        </a:lnTo>
                        <a:lnTo>
                          <a:pt x="50" y="22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006060"/>
                  </a:solidFill>
                  <a:ln cap="rnd" w="12600">
                    <a:solidFill>
                      <a:srgbClr val="00606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971280" y="2449440"/>
                    <a:ext cx="828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59">
                        <a:moveTo>
                          <a:pt x="17" y="58"/>
                        </a:moveTo>
                        <a:lnTo>
                          <a:pt x="51" y="36"/>
                        </a:lnTo>
                        <a:lnTo>
                          <a:pt x="51" y="2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606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863640" y="2616120"/>
                    <a:ext cx="8244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73">
                        <a:moveTo>
                          <a:pt x="0" y="0"/>
                        </a:moveTo>
                        <a:lnTo>
                          <a:pt x="18" y="30"/>
                        </a:lnTo>
                        <a:lnTo>
                          <a:pt x="32" y="52"/>
                        </a:lnTo>
                        <a:lnTo>
                          <a:pt x="51" y="7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6060"/>
                  </a:solidFill>
                  <a:ln cap="rnd" w="12600">
                    <a:solidFill>
                      <a:srgbClr val="006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01" name=""/>
            <p:cNvGrpSpPr/>
            <p:nvPr/>
          </p:nvGrpSpPr>
          <p:grpSpPr>
            <a:xfrm>
              <a:off x="108000" y="1809720"/>
              <a:ext cx="704520" cy="1000080"/>
              <a:chOff x="108000" y="1809720"/>
              <a:chExt cx="704520" cy="1000080"/>
            </a:xfrm>
          </p:grpSpPr>
          <p:sp>
            <p:nvSpPr>
              <p:cNvPr id="102" name=""/>
              <p:cNvSpPr/>
              <p:nvPr/>
            </p:nvSpPr>
            <p:spPr>
              <a:xfrm>
                <a:off x="166680" y="2465280"/>
                <a:ext cx="645840" cy="344520"/>
              </a:xfrm>
              <a:custGeom>
                <a:avLst/>
                <a:gdLst/>
                <a:ahLst/>
                <a:rect l="l" t="t" r="r" b="b"/>
                <a:pathLst>
                  <a:path w="407" h="217">
                    <a:moveTo>
                      <a:pt x="406" y="216"/>
                    </a:moveTo>
                    <a:lnTo>
                      <a:pt x="357" y="0"/>
                    </a:lnTo>
                    <a:lnTo>
                      <a:pt x="58" y="0"/>
                    </a:lnTo>
                    <a:lnTo>
                      <a:pt x="0" y="216"/>
                    </a:lnTo>
                    <a:lnTo>
                      <a:pt x="16" y="216"/>
                    </a:lnTo>
                    <a:lnTo>
                      <a:pt x="81" y="21"/>
                    </a:lnTo>
                    <a:lnTo>
                      <a:pt x="87" y="13"/>
                    </a:lnTo>
                    <a:lnTo>
                      <a:pt x="97" y="8"/>
                    </a:lnTo>
                    <a:lnTo>
                      <a:pt x="107" y="5"/>
                    </a:lnTo>
                    <a:lnTo>
                      <a:pt x="123" y="2"/>
                    </a:lnTo>
                    <a:lnTo>
                      <a:pt x="282" y="2"/>
                    </a:lnTo>
                    <a:lnTo>
                      <a:pt x="295" y="5"/>
                    </a:lnTo>
                    <a:lnTo>
                      <a:pt x="308" y="10"/>
                    </a:lnTo>
                    <a:lnTo>
                      <a:pt x="318" y="16"/>
                    </a:lnTo>
                    <a:lnTo>
                      <a:pt x="328" y="27"/>
                    </a:lnTo>
                    <a:lnTo>
                      <a:pt x="331" y="35"/>
                    </a:lnTo>
                    <a:lnTo>
                      <a:pt x="386" y="216"/>
                    </a:lnTo>
                    <a:lnTo>
                      <a:pt x="406" y="2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08000" y="1809720"/>
                <a:ext cx="658800" cy="657360"/>
              </a:xfrm>
              <a:custGeom>
                <a:avLst/>
                <a:gdLst/>
                <a:ahLst/>
                <a:rect l="l" t="t" r="r" b="b"/>
                <a:pathLst>
                  <a:path w="415" h="414">
                    <a:moveTo>
                      <a:pt x="0" y="0"/>
                    </a:moveTo>
                    <a:lnTo>
                      <a:pt x="16" y="2"/>
                    </a:lnTo>
                    <a:lnTo>
                      <a:pt x="32" y="8"/>
                    </a:lnTo>
                    <a:lnTo>
                      <a:pt x="45" y="13"/>
                    </a:lnTo>
                    <a:lnTo>
                      <a:pt x="64" y="29"/>
                    </a:lnTo>
                    <a:lnTo>
                      <a:pt x="77" y="48"/>
                    </a:lnTo>
                    <a:lnTo>
                      <a:pt x="100" y="86"/>
                    </a:lnTo>
                    <a:lnTo>
                      <a:pt x="113" y="127"/>
                    </a:lnTo>
                    <a:lnTo>
                      <a:pt x="174" y="345"/>
                    </a:lnTo>
                    <a:lnTo>
                      <a:pt x="407" y="345"/>
                    </a:lnTo>
                    <a:lnTo>
                      <a:pt x="410" y="358"/>
                    </a:lnTo>
                    <a:lnTo>
                      <a:pt x="414" y="372"/>
                    </a:lnTo>
                    <a:lnTo>
                      <a:pt x="414" y="380"/>
                    </a:lnTo>
                    <a:lnTo>
                      <a:pt x="410" y="391"/>
                    </a:lnTo>
                    <a:lnTo>
                      <a:pt x="404" y="402"/>
                    </a:lnTo>
                    <a:lnTo>
                      <a:pt x="394" y="410"/>
                    </a:lnTo>
                    <a:lnTo>
                      <a:pt x="100" y="413"/>
                    </a:lnTo>
                    <a:lnTo>
                      <a:pt x="93" y="40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7800" y="2149560"/>
                <a:ext cx="380880" cy="228600"/>
              </a:xfrm>
              <a:custGeom>
                <a:avLst/>
                <a:gdLst/>
                <a:ahLst/>
                <a:rect l="l" t="t" r="r" b="b"/>
                <a:pathLst>
                  <a:path w="240" h="144">
                    <a:moveTo>
                      <a:pt x="0" y="0"/>
                    </a:moveTo>
                    <a:lnTo>
                      <a:pt x="239" y="0"/>
                    </a:lnTo>
                    <a:lnTo>
                      <a:pt x="239" y="13"/>
                    </a:lnTo>
                    <a:lnTo>
                      <a:pt x="200" y="27"/>
                    </a:lnTo>
                    <a:lnTo>
                      <a:pt x="200" y="143"/>
                    </a:lnTo>
                    <a:lnTo>
                      <a:pt x="177" y="143"/>
                    </a:lnTo>
                    <a:lnTo>
                      <a:pt x="177" y="24"/>
                    </a:lnTo>
                    <a:lnTo>
                      <a:pt x="9" y="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166680" y="2513160"/>
              <a:ext cx="361800" cy="299880"/>
              <a:chOff x="166680" y="2513160"/>
              <a:chExt cx="361800" cy="299880"/>
            </a:xfrm>
          </p:grpSpPr>
          <p:sp>
            <p:nvSpPr>
              <p:cNvPr id="106" name=""/>
              <p:cNvSpPr/>
              <p:nvPr/>
            </p:nvSpPr>
            <p:spPr>
              <a:xfrm>
                <a:off x="166680" y="2541600"/>
                <a:ext cx="361800" cy="271440"/>
              </a:xfrm>
              <a:prstGeom prst="roundRect">
                <a:avLst>
                  <a:gd name="adj" fmla="val 12532"/>
                </a:avLst>
              </a:prstGeom>
              <a:solidFill>
                <a:srgbClr val="604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85480" y="2513160"/>
                <a:ext cx="125640" cy="71280"/>
              </a:xfrm>
              <a:custGeom>
                <a:avLst/>
                <a:gdLst/>
                <a:ahLst/>
                <a:rect l="l" t="t" r="r" b="b"/>
                <a:pathLst>
                  <a:path w="79" h="45">
                    <a:moveTo>
                      <a:pt x="78" y="44"/>
                    </a:moveTo>
                    <a:lnTo>
                      <a:pt x="71" y="0"/>
                    </a:lnTo>
                    <a:lnTo>
                      <a:pt x="9" y="0"/>
                    </a:lnTo>
                    <a:lnTo>
                      <a:pt x="0" y="44"/>
                    </a:lnTo>
                    <a:lnTo>
                      <a:pt x="9" y="44"/>
                    </a:lnTo>
                    <a:lnTo>
                      <a:pt x="19" y="13"/>
                    </a:lnTo>
                    <a:lnTo>
                      <a:pt x="61" y="13"/>
                    </a:lnTo>
                    <a:lnTo>
                      <a:pt x="68" y="44"/>
                    </a:lnTo>
                    <a:lnTo>
                      <a:pt x="78" y="4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" name=""/>
          <p:cNvGrpSpPr/>
          <p:nvPr/>
        </p:nvGrpSpPr>
        <p:grpSpPr>
          <a:xfrm>
            <a:off x="5334120" y="1523880"/>
            <a:ext cx="3124080" cy="1600200"/>
            <a:chOff x="5334120" y="1523880"/>
            <a:chExt cx="3124080" cy="1600200"/>
          </a:xfrm>
        </p:grpSpPr>
        <p:sp>
          <p:nvSpPr>
            <p:cNvPr id="109" name=""/>
            <p:cNvSpPr/>
            <p:nvPr/>
          </p:nvSpPr>
          <p:spPr>
            <a:xfrm>
              <a:off x="5334120" y="1523880"/>
              <a:ext cx="3124080" cy="1600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11880" y="2765520"/>
              <a:ext cx="1419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FRAME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5435640" y="1588680"/>
              <a:ext cx="2893320" cy="1100520"/>
              <a:chOff x="5435640" y="1588680"/>
              <a:chExt cx="2893320" cy="1100520"/>
            </a:xfrm>
          </p:grpSpPr>
          <p:grpSp>
            <p:nvGrpSpPr>
              <p:cNvPr id="112" name=""/>
              <p:cNvGrpSpPr/>
              <p:nvPr/>
            </p:nvGrpSpPr>
            <p:grpSpPr>
              <a:xfrm>
                <a:off x="5435640" y="1588680"/>
                <a:ext cx="2693880" cy="1100520"/>
                <a:chOff x="5435640" y="1588680"/>
                <a:chExt cx="2693880" cy="110052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7001640" y="2187720"/>
                  <a:ext cx="930600" cy="501480"/>
                  <a:chOff x="7001640" y="2187720"/>
                  <a:chExt cx="930600" cy="50148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rot="19800000">
                    <a:off x="7053120" y="2274480"/>
                    <a:ext cx="434880" cy="322560"/>
                  </a:xfrm>
                  <a:prstGeom prst="hexagon">
                    <a:avLst>
                      <a:gd name="adj" fmla="val 33699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4b0000"/>
                      </a:gs>
                      <a:gs pos="50000">
                        <a:srgbClr val="ff0000"/>
                      </a:gs>
                      <a:gs pos="100000">
                        <a:srgbClr val="4b0000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19800000">
                    <a:off x="7446600" y="2282760"/>
                    <a:ext cx="434880" cy="318960"/>
                  </a:xfrm>
                  <a:prstGeom prst="hexagon">
                    <a:avLst>
                      <a:gd name="adj" fmla="val 34079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4b0000"/>
                      </a:gs>
                      <a:gs pos="50000">
                        <a:srgbClr val="ff0000"/>
                      </a:gs>
                      <a:gs pos="100000">
                        <a:srgbClr val="4b0000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5435640" y="1588680"/>
                  <a:ext cx="2693880" cy="1088640"/>
                  <a:chOff x="5435640" y="1588680"/>
                  <a:chExt cx="2693880" cy="1088640"/>
                </a:xfrm>
              </p:grpSpPr>
              <p:grpSp>
                <p:nvGrpSpPr>
                  <p:cNvPr id="117" name=""/>
                  <p:cNvGrpSpPr/>
                  <p:nvPr/>
                </p:nvGrpSpPr>
                <p:grpSpPr>
                  <a:xfrm>
                    <a:off x="5435640" y="2162160"/>
                    <a:ext cx="931320" cy="500400"/>
                    <a:chOff x="5435640" y="2162160"/>
                    <a:chExt cx="931320" cy="500400"/>
                  </a:xfrm>
                </p:grpSpPr>
                <p:sp>
                  <p:nvSpPr>
                    <p:cNvPr id="118" name=""/>
                    <p:cNvSpPr/>
                    <p:nvPr/>
                  </p:nvSpPr>
                  <p:spPr>
                    <a:xfrm rot="19800000">
                      <a:off x="5486400" y="2249640"/>
                      <a:ext cx="436320" cy="320760"/>
                    </a:xfrm>
                    <a:prstGeom prst="hexagon">
                      <a:avLst>
                        <a:gd name="adj" fmla="val 34000"/>
                        <a:gd name="vf" fmla="val 115470"/>
                      </a:avLst>
                    </a:prstGeom>
                    <a:gradFill rotWithShape="0">
                      <a:gsLst>
                        <a:gs pos="0">
                          <a:srgbClr val="4b0000"/>
                        </a:gs>
                        <a:gs pos="50000">
                          <a:srgbClr val="ff0000"/>
                        </a:gs>
                        <a:gs pos="100000">
                          <a:srgbClr val="4b0000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 rot="19800000">
                      <a:off x="5879880" y="2255760"/>
                      <a:ext cx="436680" cy="318960"/>
                    </a:xfrm>
                    <a:prstGeom prst="hexagon">
                      <a:avLst>
                        <a:gd name="adj" fmla="val 34220"/>
                        <a:gd name="vf" fmla="val 115470"/>
                      </a:avLst>
                    </a:prstGeom>
                    <a:gradFill rotWithShape="0">
                      <a:gsLst>
                        <a:gs pos="0">
                          <a:srgbClr val="4b0000"/>
                        </a:gs>
                        <a:gs pos="50000">
                          <a:srgbClr val="ff0000"/>
                        </a:gs>
                        <a:gs pos="100000">
                          <a:srgbClr val="4b0000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0" name=""/>
                  <p:cNvGrpSpPr/>
                  <p:nvPr/>
                </p:nvGrpSpPr>
                <p:grpSpPr>
                  <a:xfrm>
                    <a:off x="6224400" y="2174400"/>
                    <a:ext cx="932400" cy="502920"/>
                    <a:chOff x="6224400" y="2174400"/>
                    <a:chExt cx="932400" cy="502920"/>
                  </a:xfrm>
                </p:grpSpPr>
                <p:sp>
                  <p:nvSpPr>
                    <p:cNvPr id="121" name=""/>
                    <p:cNvSpPr/>
                    <p:nvPr/>
                  </p:nvSpPr>
                  <p:spPr>
                    <a:xfrm rot="19800000">
                      <a:off x="6275160" y="2262240"/>
                      <a:ext cx="438120" cy="320760"/>
                    </a:xfrm>
                    <a:prstGeom prst="hexagon">
                      <a:avLst>
                        <a:gd name="adj" fmla="val 34141"/>
                        <a:gd name="vf" fmla="val 115470"/>
                      </a:avLst>
                    </a:prstGeom>
                    <a:gradFill rotWithShape="0">
                      <a:gsLst>
                        <a:gs pos="0">
                          <a:srgbClr val="4b0000"/>
                        </a:gs>
                        <a:gs pos="50000">
                          <a:srgbClr val="ff0000"/>
                        </a:gs>
                        <a:gs pos="100000">
                          <a:srgbClr val="4b0000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 rot="19800000">
                      <a:off x="6669000" y="2268720"/>
                      <a:ext cx="436680" cy="320760"/>
                    </a:xfrm>
                    <a:prstGeom prst="hexagon">
                      <a:avLst>
                        <a:gd name="adj" fmla="val 34028"/>
                        <a:gd name="vf" fmla="val 115470"/>
                      </a:avLst>
                    </a:prstGeom>
                    <a:gradFill rotWithShape="0">
                      <a:gsLst>
                        <a:gs pos="0">
                          <a:srgbClr val="4b0000"/>
                        </a:gs>
                        <a:gs pos="50000">
                          <a:srgbClr val="ff0000"/>
                        </a:gs>
                        <a:gs pos="100000">
                          <a:srgbClr val="4b0000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3" name=""/>
                  <p:cNvSpPr/>
                  <p:nvPr/>
                </p:nvSpPr>
                <p:spPr>
                  <a:xfrm rot="19800000">
                    <a:off x="7253280" y="1998360"/>
                    <a:ext cx="434880" cy="324000"/>
                  </a:xfrm>
                  <a:prstGeom prst="hexagon">
                    <a:avLst>
                      <a:gd name="adj" fmla="val 33549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3f3f3f"/>
                      </a:gs>
                      <a:gs pos="50000">
                        <a:srgbClr val="808080"/>
                      </a:gs>
                      <a:gs pos="100000">
                        <a:srgbClr val="3f3f3f"/>
                      </a:gs>
                    </a:gsLst>
                    <a:lin ang="108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4" name=""/>
                  <p:cNvGrpSpPr/>
                  <p:nvPr/>
                </p:nvGrpSpPr>
                <p:grpSpPr>
                  <a:xfrm>
                    <a:off x="6415920" y="1894320"/>
                    <a:ext cx="931680" cy="502560"/>
                    <a:chOff x="6415920" y="1894320"/>
                    <a:chExt cx="931680" cy="502560"/>
                  </a:xfrm>
                </p:grpSpPr>
                <p:sp>
                  <p:nvSpPr>
                    <p:cNvPr id="125" name=""/>
                    <p:cNvSpPr/>
                    <p:nvPr/>
                  </p:nvSpPr>
                  <p:spPr>
                    <a:xfrm rot="19800000">
                      <a:off x="6467040" y="1981440"/>
                      <a:ext cx="434880" cy="322200"/>
                    </a:xfrm>
                    <a:prstGeom prst="hexagon">
                      <a:avLst>
                        <a:gd name="adj" fmla="val 33737"/>
                        <a:gd name="vf" fmla="val 115470"/>
                      </a:avLst>
                    </a:prstGeom>
                    <a:gradFill rotWithShape="0">
                      <a:gsLst>
                        <a:gs pos="0">
                          <a:srgbClr val="3f3f3f"/>
                        </a:gs>
                        <a:gs pos="50000">
                          <a:srgbClr val="808080"/>
                        </a:gs>
                        <a:gs pos="100000">
                          <a:srgbClr val="3f3f3f"/>
                        </a:gs>
                      </a:gsLst>
                      <a:lin ang="108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 rot="19800000">
                      <a:off x="6860520" y="1987200"/>
                      <a:ext cx="435240" cy="322200"/>
                    </a:xfrm>
                    <a:prstGeom prst="hexagon">
                      <a:avLst>
                        <a:gd name="adj" fmla="val 33764"/>
                        <a:gd name="vf" fmla="val 115470"/>
                      </a:avLst>
                    </a:prstGeom>
                    <a:gradFill rotWithShape="0">
                      <a:gsLst>
                        <a:gs pos="0">
                          <a:srgbClr val="3f3f3f"/>
                        </a:gs>
                        <a:gs pos="50000">
                          <a:srgbClr val="808080"/>
                        </a:gs>
                        <a:gs pos="100000">
                          <a:srgbClr val="3f3f3f"/>
                        </a:gs>
                      </a:gsLst>
                      <a:lin ang="108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7" name=""/>
                  <p:cNvGrpSpPr/>
                  <p:nvPr/>
                </p:nvGrpSpPr>
                <p:grpSpPr>
                  <a:xfrm>
                    <a:off x="5632200" y="1878120"/>
                    <a:ext cx="931320" cy="501480"/>
                    <a:chOff x="5632200" y="1878120"/>
                    <a:chExt cx="931320" cy="501480"/>
                  </a:xfrm>
                </p:grpSpPr>
                <p:sp>
                  <p:nvSpPr>
                    <p:cNvPr id="128" name=""/>
                    <p:cNvSpPr/>
                    <p:nvPr/>
                  </p:nvSpPr>
                  <p:spPr>
                    <a:xfrm rot="19800000">
                      <a:off x="5682600" y="1965240"/>
                      <a:ext cx="435240" cy="318960"/>
                    </a:xfrm>
                    <a:prstGeom prst="hexagon">
                      <a:avLst>
                        <a:gd name="adj" fmla="val 34107"/>
                        <a:gd name="vf" fmla="val 115470"/>
                      </a:avLst>
                    </a:prstGeom>
                    <a:gradFill rotWithShape="0">
                      <a:gsLst>
                        <a:gs pos="0">
                          <a:srgbClr val="4b0000"/>
                        </a:gs>
                        <a:gs pos="50000">
                          <a:srgbClr val="ff0000"/>
                        </a:gs>
                        <a:gs pos="100000">
                          <a:srgbClr val="4b0000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 rot="19800000">
                      <a:off x="6075000" y="1968120"/>
                      <a:ext cx="436320" cy="324000"/>
                    </a:xfrm>
                    <a:prstGeom prst="hexagon">
                      <a:avLst>
                        <a:gd name="adj" fmla="val 33660"/>
                        <a:gd name="vf" fmla="val 115470"/>
                      </a:avLst>
                    </a:prstGeom>
                    <a:gradFill rotWithShape="0">
                      <a:gsLst>
                        <a:gs pos="0">
                          <a:srgbClr val="4b0000"/>
                        </a:gs>
                        <a:gs pos="50000">
                          <a:srgbClr val="ff0000"/>
                        </a:gs>
                        <a:gs pos="100000">
                          <a:srgbClr val="4b0000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0" name=""/>
                  <p:cNvSpPr/>
                  <p:nvPr/>
                </p:nvSpPr>
                <p:spPr>
                  <a:xfrm rot="19800000">
                    <a:off x="7640640" y="2006640"/>
                    <a:ext cx="438120" cy="320760"/>
                  </a:xfrm>
                  <a:prstGeom prst="hexagon">
                    <a:avLst>
                      <a:gd name="adj" fmla="val 34141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4b0000"/>
                      </a:gs>
                      <a:gs pos="50000">
                        <a:srgbClr val="ff0000"/>
                      </a:gs>
                      <a:gs pos="100000">
                        <a:srgbClr val="4b0000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1" name=""/>
                  <p:cNvGrpSpPr/>
                  <p:nvPr/>
                </p:nvGrpSpPr>
                <p:grpSpPr>
                  <a:xfrm>
                    <a:off x="5436000" y="1588680"/>
                    <a:ext cx="932040" cy="502200"/>
                    <a:chOff x="5436000" y="1588680"/>
                    <a:chExt cx="932040" cy="502200"/>
                  </a:xfrm>
                </p:grpSpPr>
                <p:sp>
                  <p:nvSpPr>
                    <p:cNvPr id="132" name=""/>
                    <p:cNvSpPr/>
                    <p:nvPr/>
                  </p:nvSpPr>
                  <p:spPr>
                    <a:xfrm rot="19800000">
                      <a:off x="5486400" y="1676160"/>
                      <a:ext cx="436320" cy="318960"/>
                    </a:xfrm>
                    <a:prstGeom prst="hexagon">
                      <a:avLst>
                        <a:gd name="adj" fmla="val 34192"/>
                        <a:gd name="vf" fmla="val 115470"/>
                      </a:avLst>
                    </a:prstGeom>
                    <a:gradFill rotWithShape="0">
                      <a:gsLst>
                        <a:gs pos="0">
                          <a:srgbClr val="3f3f3f"/>
                        </a:gs>
                        <a:gs pos="50000">
                          <a:srgbClr val="808080"/>
                        </a:gs>
                        <a:gs pos="100000">
                          <a:srgbClr val="3f3f3f"/>
                        </a:gs>
                      </a:gsLst>
                      <a:lin ang="108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 rot="19800000">
                      <a:off x="5879880" y="1680840"/>
                      <a:ext cx="436680" cy="322200"/>
                    </a:xfrm>
                    <a:prstGeom prst="hexagon">
                      <a:avLst>
                        <a:gd name="adj" fmla="val 33876"/>
                        <a:gd name="vf" fmla="val 115470"/>
                      </a:avLst>
                    </a:prstGeom>
                    <a:gradFill rotWithShape="0">
                      <a:gsLst>
                        <a:gs pos="0">
                          <a:srgbClr val="3f3f3f"/>
                        </a:gs>
                        <a:gs pos="50000">
                          <a:srgbClr val="808080"/>
                        </a:gs>
                        <a:gs pos="100000">
                          <a:srgbClr val="3f3f3f"/>
                        </a:gs>
                      </a:gsLst>
                      <a:lin ang="108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4" name=""/>
                  <p:cNvGrpSpPr/>
                  <p:nvPr/>
                </p:nvGrpSpPr>
                <p:grpSpPr>
                  <a:xfrm>
                    <a:off x="6222600" y="1593720"/>
                    <a:ext cx="932400" cy="502560"/>
                    <a:chOff x="6222600" y="1593720"/>
                    <a:chExt cx="932400" cy="502560"/>
                  </a:xfrm>
                </p:grpSpPr>
                <p:sp>
                  <p:nvSpPr>
                    <p:cNvPr id="135" name=""/>
                    <p:cNvSpPr/>
                    <p:nvPr/>
                  </p:nvSpPr>
                  <p:spPr>
                    <a:xfrm rot="19800000">
                      <a:off x="6273720" y="1680840"/>
                      <a:ext cx="436680" cy="322200"/>
                    </a:xfrm>
                    <a:prstGeom prst="hexagon">
                      <a:avLst>
                        <a:gd name="adj" fmla="val 33876"/>
                        <a:gd name="vf" fmla="val 115470"/>
                      </a:avLst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 rot="19800000">
                      <a:off x="6667200" y="1687680"/>
                      <a:ext cx="436680" cy="320760"/>
                    </a:xfrm>
                    <a:prstGeom prst="hexagon">
                      <a:avLst>
                        <a:gd name="adj" fmla="val 34028"/>
                        <a:gd name="vf" fmla="val 115470"/>
                      </a:avLst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009200" y="1618560"/>
                    <a:ext cx="929160" cy="501120"/>
                    <a:chOff x="7009200" y="1618560"/>
                    <a:chExt cx="929160" cy="50112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 rot="19800000">
                      <a:off x="7060680" y="1704600"/>
                      <a:ext cx="432000" cy="322560"/>
                    </a:xfrm>
                    <a:prstGeom prst="hexagon">
                      <a:avLst>
                        <a:gd name="adj" fmla="val 33476"/>
                        <a:gd name="vf" fmla="val 115470"/>
                      </a:avLst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 rot="19800000">
                      <a:off x="7454880" y="1711080"/>
                      <a:ext cx="431640" cy="322200"/>
                    </a:xfrm>
                    <a:prstGeom prst="hexagon">
                      <a:avLst>
                        <a:gd name="adj" fmla="val 33485"/>
                        <a:gd name="vf" fmla="val 115470"/>
                      </a:avLst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40" name=""/>
              <p:cNvSpPr/>
              <p:nvPr/>
            </p:nvSpPr>
            <p:spPr>
              <a:xfrm rot="19800000">
                <a:off x="7843320" y="1728720"/>
                <a:ext cx="434880" cy="318960"/>
              </a:xfrm>
              <a:prstGeom prst="hexagon">
                <a:avLst>
                  <a:gd name="adj" fmla="val 34079"/>
                  <a:gd name="vf" fmla="val 115470"/>
                </a:avLst>
              </a:prstGeom>
              <a:gradFill rotWithShape="0">
                <a:gsLst>
                  <a:gs pos="0">
                    <a:srgbClr val="4b0000"/>
                  </a:gs>
                  <a:gs pos="50000">
                    <a:srgbClr val="ff0000"/>
                  </a:gs>
                  <a:gs pos="100000">
                    <a:srgbClr val="4b0000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1" name=""/>
          <p:cNvGrpSpPr/>
          <p:nvPr/>
        </p:nvGrpSpPr>
        <p:grpSpPr>
          <a:xfrm>
            <a:off x="5410080" y="4267080"/>
            <a:ext cx="3200400" cy="1524600"/>
            <a:chOff x="5410080" y="4267080"/>
            <a:chExt cx="3200400" cy="1524600"/>
          </a:xfrm>
        </p:grpSpPr>
        <p:sp>
          <p:nvSpPr>
            <p:cNvPr id="142" name=""/>
            <p:cNvSpPr/>
            <p:nvPr/>
          </p:nvSpPr>
          <p:spPr>
            <a:xfrm>
              <a:off x="5410080" y="4267080"/>
              <a:ext cx="3200400" cy="1523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97360" y="5486040"/>
              <a:ext cx="975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5663880" y="4331520"/>
              <a:ext cx="2895120" cy="1100880"/>
              <a:chOff x="5663880" y="4331520"/>
              <a:chExt cx="2895120" cy="110088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5663880" y="4331520"/>
                <a:ext cx="2693880" cy="1100880"/>
                <a:chOff x="5663880" y="4331520"/>
                <a:chExt cx="2693880" cy="1100880"/>
              </a:xfrm>
            </p:grpSpPr>
            <p:grpSp>
              <p:nvGrpSpPr>
                <p:cNvPr id="146" name=""/>
                <p:cNvGrpSpPr/>
                <p:nvPr/>
              </p:nvGrpSpPr>
              <p:grpSpPr>
                <a:xfrm>
                  <a:off x="7230240" y="4930560"/>
                  <a:ext cx="932040" cy="501840"/>
                  <a:chOff x="7230240" y="4930560"/>
                  <a:chExt cx="932040" cy="50184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 rot="19800000">
                    <a:off x="7281360" y="5017680"/>
                    <a:ext cx="436680" cy="322200"/>
                  </a:xfrm>
                  <a:prstGeom prst="hexagon">
                    <a:avLst>
                      <a:gd name="adj" fmla="val 33876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ff0033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rot="19800000">
                    <a:off x="7675200" y="5025600"/>
                    <a:ext cx="436320" cy="318960"/>
                  </a:xfrm>
                  <a:prstGeom prst="hexagon">
                    <a:avLst>
                      <a:gd name="adj" fmla="val 34192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ff0033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9" name=""/>
                <p:cNvGrpSpPr/>
                <p:nvPr/>
              </p:nvGrpSpPr>
              <p:grpSpPr>
                <a:xfrm>
                  <a:off x="5663880" y="4331520"/>
                  <a:ext cx="2693880" cy="1088280"/>
                  <a:chOff x="5663880" y="4331520"/>
                  <a:chExt cx="2693880" cy="1088280"/>
                </a:xfrm>
              </p:grpSpPr>
              <p:grpSp>
                <p:nvGrpSpPr>
                  <p:cNvPr id="150" name=""/>
                  <p:cNvGrpSpPr/>
                  <p:nvPr/>
                </p:nvGrpSpPr>
                <p:grpSpPr>
                  <a:xfrm>
                    <a:off x="5663880" y="4905000"/>
                    <a:ext cx="931320" cy="500400"/>
                    <a:chOff x="5663880" y="4905000"/>
                    <a:chExt cx="931320" cy="500400"/>
                  </a:xfrm>
                </p:grpSpPr>
                <p:sp>
                  <p:nvSpPr>
                    <p:cNvPr id="151" name=""/>
                    <p:cNvSpPr/>
                    <p:nvPr/>
                  </p:nvSpPr>
                  <p:spPr>
                    <a:xfrm rot="19800000">
                      <a:off x="5714640" y="4992480"/>
                      <a:ext cx="436320" cy="320760"/>
                    </a:xfrm>
                    <a:prstGeom prst="hexagon">
                      <a:avLst>
                        <a:gd name="adj" fmla="val 34000"/>
                        <a:gd name="vf" fmla="val 115470"/>
                      </a:avLst>
                    </a:pr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ff0033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 rot="19800000">
                      <a:off x="6108120" y="4998600"/>
                      <a:ext cx="436680" cy="318960"/>
                    </a:xfrm>
                    <a:prstGeom prst="hexagon">
                      <a:avLst>
                        <a:gd name="adj" fmla="val 34220"/>
                        <a:gd name="vf" fmla="val 115470"/>
                      </a:avLst>
                    </a:pr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ff0033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3" name=""/>
                  <p:cNvGrpSpPr/>
                  <p:nvPr/>
                </p:nvGrpSpPr>
                <p:grpSpPr>
                  <a:xfrm>
                    <a:off x="6454440" y="4917600"/>
                    <a:ext cx="930600" cy="502200"/>
                    <a:chOff x="6454440" y="4917600"/>
                    <a:chExt cx="930600" cy="502200"/>
                  </a:xfrm>
                </p:grpSpPr>
                <p:sp>
                  <p:nvSpPr>
                    <p:cNvPr id="154" name=""/>
                    <p:cNvSpPr/>
                    <p:nvPr/>
                  </p:nvSpPr>
                  <p:spPr>
                    <a:xfrm rot="19800000">
                      <a:off x="6505200" y="5005080"/>
                      <a:ext cx="436320" cy="320760"/>
                    </a:xfrm>
                    <a:prstGeom prst="hexagon">
                      <a:avLst>
                        <a:gd name="adj" fmla="val 34000"/>
                        <a:gd name="vf" fmla="val 115470"/>
                      </a:avLst>
                    </a:pr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ff0033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 rot="19800000">
                      <a:off x="6898320" y="5011560"/>
                      <a:ext cx="435240" cy="320760"/>
                    </a:xfrm>
                    <a:prstGeom prst="hexagon">
                      <a:avLst>
                        <a:gd name="adj" fmla="val 33916"/>
                        <a:gd name="vf" fmla="val 115470"/>
                      </a:avLst>
                    </a:pr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ff0033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6" name=""/>
                  <p:cNvSpPr/>
                  <p:nvPr/>
                </p:nvSpPr>
                <p:spPr>
                  <a:xfrm rot="19800000">
                    <a:off x="7482960" y="4741200"/>
                    <a:ext cx="433440" cy="324000"/>
                  </a:xfrm>
                  <a:prstGeom prst="hexagon">
                    <a:avLst>
                      <a:gd name="adj" fmla="val 33438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ff0033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7" name=""/>
                  <p:cNvGrpSpPr/>
                  <p:nvPr/>
                </p:nvGrpSpPr>
                <p:grpSpPr>
                  <a:xfrm>
                    <a:off x="6645600" y="4637520"/>
                    <a:ext cx="930600" cy="502200"/>
                    <a:chOff x="6645600" y="4637520"/>
                    <a:chExt cx="930600" cy="502200"/>
                  </a:xfrm>
                </p:grpSpPr>
                <p:sp>
                  <p:nvSpPr>
                    <p:cNvPr id="158" name=""/>
                    <p:cNvSpPr/>
                    <p:nvPr/>
                  </p:nvSpPr>
                  <p:spPr>
                    <a:xfrm rot="19800000">
                      <a:off x="6697080" y="4724280"/>
                      <a:ext cx="433440" cy="322200"/>
                    </a:xfrm>
                    <a:prstGeom prst="hexagon">
                      <a:avLst>
                        <a:gd name="adj" fmla="val 33625"/>
                        <a:gd name="vf" fmla="val 115470"/>
                      </a:avLst>
                    </a:pr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ff0033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 rot="19800000">
                      <a:off x="7090920" y="4730040"/>
                      <a:ext cx="433440" cy="322560"/>
                    </a:xfrm>
                    <a:prstGeom prst="hexagon">
                      <a:avLst>
                        <a:gd name="adj" fmla="val 33587"/>
                        <a:gd name="vf" fmla="val 115470"/>
                      </a:avLst>
                    </a:pr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ff0033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0" name=""/>
                  <p:cNvGrpSpPr/>
                  <p:nvPr/>
                </p:nvGrpSpPr>
                <p:grpSpPr>
                  <a:xfrm>
                    <a:off x="5862240" y="4620960"/>
                    <a:ext cx="930960" cy="501480"/>
                    <a:chOff x="5862240" y="4620960"/>
                    <a:chExt cx="930960" cy="501480"/>
                  </a:xfrm>
                </p:grpSpPr>
                <p:sp>
                  <p:nvSpPr>
                    <p:cNvPr id="161" name=""/>
                    <p:cNvSpPr/>
                    <p:nvPr/>
                  </p:nvSpPr>
                  <p:spPr>
                    <a:xfrm rot="19800000">
                      <a:off x="5912640" y="4708080"/>
                      <a:ext cx="434880" cy="318960"/>
                    </a:xfrm>
                    <a:prstGeom prst="hexagon">
                      <a:avLst>
                        <a:gd name="adj" fmla="val 34079"/>
                        <a:gd name="vf" fmla="val 115470"/>
                      </a:avLst>
                    </a:pr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ff0033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 rot="19800000">
                      <a:off x="6304680" y="4710960"/>
                      <a:ext cx="436680" cy="324000"/>
                    </a:xfrm>
                    <a:prstGeom prst="hexagon">
                      <a:avLst>
                        <a:gd name="adj" fmla="val 33688"/>
                        <a:gd name="vf" fmla="val 115470"/>
                      </a:avLst>
                    </a:pr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ff0033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3" name=""/>
                  <p:cNvSpPr/>
                  <p:nvPr/>
                </p:nvSpPr>
                <p:spPr>
                  <a:xfrm rot="19800000">
                    <a:off x="7868880" y="4749480"/>
                    <a:ext cx="438120" cy="320760"/>
                  </a:xfrm>
                  <a:prstGeom prst="hexagon">
                    <a:avLst>
                      <a:gd name="adj" fmla="val 34141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ff0033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4" name=""/>
                  <p:cNvGrpSpPr/>
                  <p:nvPr/>
                </p:nvGrpSpPr>
                <p:grpSpPr>
                  <a:xfrm>
                    <a:off x="5664240" y="4331520"/>
                    <a:ext cx="932040" cy="502200"/>
                    <a:chOff x="5664240" y="4331520"/>
                    <a:chExt cx="932040" cy="502200"/>
                  </a:xfrm>
                </p:grpSpPr>
                <p:sp>
                  <p:nvSpPr>
                    <p:cNvPr id="165" name=""/>
                    <p:cNvSpPr/>
                    <p:nvPr/>
                  </p:nvSpPr>
                  <p:spPr>
                    <a:xfrm rot="19800000">
                      <a:off x="5714640" y="4419000"/>
                      <a:ext cx="436320" cy="318960"/>
                    </a:xfrm>
                    <a:prstGeom prst="hexagon">
                      <a:avLst>
                        <a:gd name="adj" fmla="val 34192"/>
                        <a:gd name="vf" fmla="val 115470"/>
                      </a:avLst>
                    </a:pr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ff0033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" name=""/>
                    <p:cNvSpPr/>
                    <p:nvPr/>
                  </p:nvSpPr>
                  <p:spPr>
                    <a:xfrm rot="19800000">
                      <a:off x="6108120" y="4423680"/>
                      <a:ext cx="436680" cy="322200"/>
                    </a:xfrm>
                    <a:prstGeom prst="hexagon">
                      <a:avLst>
                        <a:gd name="adj" fmla="val 33876"/>
                        <a:gd name="vf" fmla="val 115470"/>
                      </a:avLst>
                    </a:pr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ff0033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7" name=""/>
                  <p:cNvGrpSpPr/>
                  <p:nvPr/>
                </p:nvGrpSpPr>
                <p:grpSpPr>
                  <a:xfrm>
                    <a:off x="6450840" y="4336560"/>
                    <a:ext cx="932400" cy="502560"/>
                    <a:chOff x="6450840" y="4336560"/>
                    <a:chExt cx="932400" cy="502560"/>
                  </a:xfrm>
                </p:grpSpPr>
                <p:sp>
                  <p:nvSpPr>
                    <p:cNvPr id="168" name=""/>
                    <p:cNvSpPr/>
                    <p:nvPr/>
                  </p:nvSpPr>
                  <p:spPr>
                    <a:xfrm rot="19800000">
                      <a:off x="6501960" y="4423680"/>
                      <a:ext cx="436680" cy="322200"/>
                    </a:xfrm>
                    <a:prstGeom prst="hexagon">
                      <a:avLst>
                        <a:gd name="adj" fmla="val 33876"/>
                        <a:gd name="vf" fmla="val 115470"/>
                      </a:avLst>
                    </a:pr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ff0033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 rot="19800000">
                      <a:off x="6895800" y="4430520"/>
                      <a:ext cx="436320" cy="320760"/>
                    </a:xfrm>
                    <a:prstGeom prst="hexagon">
                      <a:avLst>
                        <a:gd name="adj" fmla="val 34000"/>
                        <a:gd name="vf" fmla="val 115470"/>
                      </a:avLst>
                    </a:pr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ff0033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0" name=""/>
                  <p:cNvGrpSpPr/>
                  <p:nvPr/>
                </p:nvGrpSpPr>
                <p:grpSpPr>
                  <a:xfrm>
                    <a:off x="7237800" y="4361040"/>
                    <a:ext cx="930240" cy="502200"/>
                    <a:chOff x="7237800" y="4361040"/>
                    <a:chExt cx="930240" cy="502200"/>
                  </a:xfrm>
                </p:grpSpPr>
                <p:sp>
                  <p:nvSpPr>
                    <p:cNvPr id="171" name=""/>
                    <p:cNvSpPr/>
                    <p:nvPr/>
                  </p:nvSpPr>
                  <p:spPr>
                    <a:xfrm rot="19800000">
                      <a:off x="7289280" y="4447440"/>
                      <a:ext cx="433440" cy="322560"/>
                    </a:xfrm>
                    <a:prstGeom prst="hexagon">
                      <a:avLst>
                        <a:gd name="adj" fmla="val 33587"/>
                        <a:gd name="vf" fmla="val 115470"/>
                      </a:avLst>
                    </a:pr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ff0033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 rot="19800000">
                      <a:off x="7683120" y="4454280"/>
                      <a:ext cx="433440" cy="322200"/>
                    </a:xfrm>
                    <a:prstGeom prst="hexagon">
                      <a:avLst>
                        <a:gd name="adj" fmla="val 33625"/>
                        <a:gd name="vf" fmla="val 115470"/>
                      </a:avLst>
                    </a:pr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ff0033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73" name=""/>
              <p:cNvSpPr/>
              <p:nvPr/>
            </p:nvSpPr>
            <p:spPr>
              <a:xfrm rot="19800000">
                <a:off x="8071920" y="4471560"/>
                <a:ext cx="436680" cy="318960"/>
              </a:xfrm>
              <a:prstGeom prst="hexagon">
                <a:avLst>
                  <a:gd name="adj" fmla="val 34220"/>
                  <a:gd name="vf" fmla="val 115470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0033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4" name=""/>
          <p:cNvSpPr/>
          <p:nvPr/>
        </p:nvSpPr>
        <p:spPr>
          <a:xfrm>
            <a:off x="4200480" y="2317680"/>
            <a:ext cx="1057320" cy="639720"/>
          </a:xfrm>
          <a:prstGeom prst="rightArrow">
            <a:avLst>
              <a:gd name="adj1" fmla="val 50000"/>
              <a:gd name="adj2" fmla="val 8264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05720" y="3352680"/>
            <a:ext cx="738000" cy="758880"/>
          </a:xfrm>
          <a:prstGeom prst="downArrow">
            <a:avLst>
              <a:gd name="adj1" fmla="val 50000"/>
              <a:gd name="adj2" fmla="val 51419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206720" y="1447920"/>
            <a:ext cx="2887920" cy="1676160"/>
            <a:chOff x="1206720" y="1447920"/>
            <a:chExt cx="2887920" cy="1676160"/>
          </a:xfrm>
        </p:grpSpPr>
        <p:sp>
          <p:nvSpPr>
            <p:cNvPr id="177" name=""/>
            <p:cNvSpPr/>
            <p:nvPr/>
          </p:nvSpPr>
          <p:spPr>
            <a:xfrm>
              <a:off x="1371600" y="1447920"/>
              <a:ext cx="2563920" cy="1676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28440" y="2743200"/>
              <a:ext cx="1756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PARADIGM-TO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06720" y="1562040"/>
              <a:ext cx="731160" cy="66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00" y="808"/>
                  </a:moveTo>
                  <a:arcTo wR="10800" hR="10800" stAng="-6738541" swAng="6722018"/>
                  <a:lnTo>
                    <a:pt x="10800" y="10800"/>
                  </a:lnTo>
                  <a:close/>
                </a:path>
                <a:path fill="none" w="21600" h="21600">
                  <a:moveTo>
                    <a:pt x="6700" y="808"/>
                  </a:moveTo>
                  <a:arcTo wR="10800" hR="10800" stAng="-6738541" swAng="6722018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84360" y="1917720"/>
              <a:ext cx="179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801800" y="1797120"/>
              <a:ext cx="811080" cy="8460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60600" y="1606680"/>
              <a:ext cx="734040" cy="662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8"/>
                  </a:moveTo>
                  <a:arcTo wR="10800" hR="10800" stAng="-10783512" swAng="670571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8"/>
                  </a:moveTo>
                  <a:arcTo wR="10800" hR="10800" stAng="-10783512" swAng="6705719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2641680" y="1922400"/>
              <a:ext cx="172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89200" y="1800360"/>
              <a:ext cx="811080" cy="8460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79560" y="1930320"/>
              <a:ext cx="677880" cy="5749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001960" y="1996920"/>
              <a:ext cx="68040" cy="1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43080" y="2057400"/>
              <a:ext cx="320760" cy="73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143080" y="2170080"/>
              <a:ext cx="316080" cy="745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43080" y="2284560"/>
              <a:ext cx="189000" cy="72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60720" y="2071800"/>
              <a:ext cx="276120" cy="50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1000" y="2182680"/>
              <a:ext cx="298440" cy="54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60720" y="2292480"/>
              <a:ext cx="150840" cy="42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51200" y="2108160"/>
              <a:ext cx="110880" cy="2844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87720" y="2398680"/>
              <a:ext cx="112680" cy="3024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68560" y="2122560"/>
              <a:ext cx="5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1720" y="213660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41720" y="225108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41720" y="236376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085480" y="2087640"/>
              <a:ext cx="1850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73320" y="2062080"/>
              <a:ext cx="2700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49560" y="2085840"/>
              <a:ext cx="69840" cy="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58920" y="2171880"/>
              <a:ext cx="6840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43080" y="2293920"/>
              <a:ext cx="15408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779560" y="1927080"/>
              <a:ext cx="649440" cy="56844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79640" y="2192400"/>
              <a:ext cx="68400" cy="2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914560" y="2222640"/>
              <a:ext cx="0" cy="10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2847960" y="2255400"/>
              <a:ext cx="131400" cy="34920"/>
              <a:chOff x="2847960" y="2255400"/>
              <a:chExt cx="131400" cy="34920"/>
            </a:xfrm>
          </p:grpSpPr>
          <p:sp>
            <p:nvSpPr>
              <p:cNvPr id="208" name=""/>
              <p:cNvSpPr/>
              <p:nvPr/>
            </p:nvSpPr>
            <p:spPr>
              <a:xfrm flipV="1">
                <a:off x="2847960" y="2255400"/>
                <a:ext cx="66600" cy="3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 flipV="1">
                <a:off x="2912760" y="2255400"/>
                <a:ext cx="66600" cy="3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3094200" y="2178000"/>
              <a:ext cx="133200" cy="82440"/>
              <a:chOff x="3094200" y="2178000"/>
              <a:chExt cx="133200" cy="82440"/>
            </a:xfrm>
          </p:grpSpPr>
          <p:sp>
            <p:nvSpPr>
              <p:cNvPr id="211" name=""/>
              <p:cNvSpPr/>
              <p:nvPr/>
            </p:nvSpPr>
            <p:spPr>
              <a:xfrm>
                <a:off x="3141720" y="2223720"/>
                <a:ext cx="34560" cy="270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0" y="16"/>
                    </a:lnTo>
                    <a:lnTo>
                      <a:pt x="21" y="16"/>
                    </a:lnTo>
                    <a:lnTo>
                      <a:pt x="2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141720" y="2223720"/>
                <a:ext cx="34560" cy="270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0"/>
                    </a:moveTo>
                    <a:lnTo>
                      <a:pt x="0" y="16"/>
                    </a:lnTo>
                    <a:lnTo>
                      <a:pt x="21" y="16"/>
                    </a:lnTo>
                    <a:lnTo>
                      <a:pt x="2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100320" y="2178000"/>
                <a:ext cx="118800" cy="39600"/>
              </a:xfrm>
              <a:prstGeom prst="rect">
                <a:avLst/>
              </a:prstGeom>
              <a:solidFill>
                <a:srgbClr val="9f9f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116160" y="2185920"/>
                <a:ext cx="85320" cy="2376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094200" y="2233440"/>
                <a:ext cx="133200" cy="27000"/>
              </a:xfrm>
              <a:custGeom>
                <a:avLst/>
                <a:gdLst/>
                <a:ahLst/>
                <a:rect l="l" t="t" r="r" b="b"/>
                <a:pathLst>
                  <a:path w="84" h="17">
                    <a:moveTo>
                      <a:pt x="31" y="0"/>
                    </a:moveTo>
                    <a:lnTo>
                      <a:pt x="0" y="16"/>
                    </a:lnTo>
                    <a:lnTo>
                      <a:pt x="83" y="16"/>
                    </a:lnTo>
                    <a:lnTo>
                      <a:pt x="51" y="0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094200" y="2233440"/>
                <a:ext cx="133200" cy="27000"/>
              </a:xfrm>
              <a:custGeom>
                <a:avLst/>
                <a:gdLst/>
                <a:ahLst/>
                <a:rect l="l" t="t" r="r" b="b"/>
                <a:pathLst>
                  <a:path w="84" h="17">
                    <a:moveTo>
                      <a:pt x="31" y="0"/>
                    </a:moveTo>
                    <a:lnTo>
                      <a:pt x="0" y="16"/>
                    </a:lnTo>
                    <a:lnTo>
                      <a:pt x="83" y="16"/>
                    </a:lnTo>
                    <a:lnTo>
                      <a:pt x="5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3078000" y="2368440"/>
              <a:ext cx="130320" cy="65160"/>
              <a:chOff x="3078000" y="2368440"/>
              <a:chExt cx="130320" cy="65160"/>
            </a:xfrm>
          </p:grpSpPr>
          <p:sp>
            <p:nvSpPr>
              <p:cNvPr id="218" name=""/>
              <p:cNvSpPr/>
              <p:nvPr/>
            </p:nvSpPr>
            <p:spPr>
              <a:xfrm>
                <a:off x="3097080" y="2385720"/>
                <a:ext cx="69840" cy="14400"/>
              </a:xfrm>
              <a:prstGeom prst="rect">
                <a:avLst/>
              </a:prstGeom>
              <a:solidFill>
                <a:srgbClr val="dfdfd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078000" y="2368440"/>
                <a:ext cx="38160" cy="12600"/>
              </a:xfrm>
              <a:prstGeom prst="ellipse">
                <a:avLst/>
              </a:prstGeom>
              <a:solidFill>
                <a:srgbClr val="9f9f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146400" y="2368440"/>
                <a:ext cx="36360" cy="12600"/>
              </a:xfrm>
              <a:prstGeom prst="ellipse">
                <a:avLst/>
              </a:prstGeom>
              <a:solidFill>
                <a:srgbClr val="9f9f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173400" y="2379600"/>
                <a:ext cx="34920" cy="2844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0" y="5"/>
                    </a:moveTo>
                    <a:lnTo>
                      <a:pt x="21" y="0"/>
                    </a:lnTo>
                    <a:lnTo>
                      <a:pt x="21" y="17"/>
                    </a:lnTo>
                    <a:lnTo>
                      <a:pt x="0" y="11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173400" y="2379600"/>
                <a:ext cx="34920" cy="2844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0" y="5"/>
                    </a:moveTo>
                    <a:lnTo>
                      <a:pt x="21" y="0"/>
                    </a:lnTo>
                    <a:lnTo>
                      <a:pt x="21" y="17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139920" y="240660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10" y="0"/>
                    </a:moveTo>
                    <a:lnTo>
                      <a:pt x="21" y="16"/>
                    </a:lnTo>
                    <a:lnTo>
                      <a:pt x="10" y="16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139920" y="240660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10" y="0"/>
                    </a:moveTo>
                    <a:lnTo>
                      <a:pt x="21" y="16"/>
                    </a:lnTo>
                    <a:lnTo>
                      <a:pt x="10" y="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 flipV="1">
              <a:off x="2928960" y="2103120"/>
              <a:ext cx="11124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2955960" y="2204640"/>
              <a:ext cx="115920" cy="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55960" y="2308320"/>
              <a:ext cx="104760" cy="6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36960" y="2019240"/>
              <a:ext cx="268200" cy="10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67200" y="2001960"/>
              <a:ext cx="182520" cy="108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095640" y="1971720"/>
              <a:ext cx="125280" cy="17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3013200" y="2027160"/>
              <a:ext cx="41040" cy="58680"/>
              <a:chOff x="3013200" y="2027160"/>
              <a:chExt cx="41040" cy="58680"/>
            </a:xfrm>
          </p:grpSpPr>
          <p:sp>
            <p:nvSpPr>
              <p:cNvPr id="232" name=""/>
              <p:cNvSpPr/>
              <p:nvPr/>
            </p:nvSpPr>
            <p:spPr>
              <a:xfrm>
                <a:off x="3025800" y="2068200"/>
                <a:ext cx="15480" cy="12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025800" y="2038320"/>
                <a:ext cx="15480" cy="126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013200" y="2027160"/>
                <a:ext cx="41040" cy="58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3262320" y="2027160"/>
              <a:ext cx="42840" cy="58680"/>
              <a:chOff x="3262320" y="2027160"/>
              <a:chExt cx="42840" cy="58680"/>
            </a:xfrm>
          </p:grpSpPr>
          <p:sp>
            <p:nvSpPr>
              <p:cNvPr id="236" name=""/>
              <p:cNvSpPr/>
              <p:nvPr/>
            </p:nvSpPr>
            <p:spPr>
              <a:xfrm>
                <a:off x="3274920" y="2038320"/>
                <a:ext cx="15840" cy="12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274920" y="2068200"/>
                <a:ext cx="15840" cy="12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262320" y="2027160"/>
                <a:ext cx="42840" cy="58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a2bc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153520" y="228600"/>
            <a:ext cx="494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he TOSCA Tool Ch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80880" y="1523880"/>
          <a:ext cx="8305920" cy="457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380880" y="1523880"/>
                    <a:ext cx="8305920" cy="45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9T14:25:24Z</dcterms:created>
  <dc:creator>Bob Gardner</dc:creator>
  <dc:description/>
  <dc:language>en-US</dc:language>
  <cp:lastModifiedBy>Comms Division, EEE</cp:lastModifiedBy>
  <cp:lastPrinted>1999-04-01T08:18:41Z</cp:lastPrinted>
  <dcterms:modified xsi:type="dcterms:W3CDTF">1999-10-01T07:35:50Z</dcterms:modified>
  <cp:revision>50</cp:revision>
  <dc:subject/>
  <dc:title>No Slide Title</dc:title>
</cp:coreProperties>
</file>