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A3B-7677-409F-A30F-D4561C3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B18-5DB9-498A-ADF8-D7C71F1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54D-1070-4E62-86FE-9DC5E7C6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779-F0D6-4C68-9181-CA7A36FD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9AF-C240-4571-A136-6C71D225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8B04-75C4-419C-90EF-BF2A128E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872C-A1D6-4E77-83BB-69F2AD3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FE7F-7168-4B24-B37E-0181A651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F1A1-CEE9-4399-9FFC-8F19617E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37B9-F212-443F-BAE3-7354EB1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5D2-09B0-4BAF-8054-A66C06E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B5D-7CEC-4862-B9F3-AAE0A0C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3924-7E74-4F4E-9CF4-498B26B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AE79-3E93-4E5C-A7BA-1D92AAC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DEC-6BA3-466C-88FD-00A66E8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023-8727-4763-AF35-B509684E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7A6-2E8E-44E5-8E9F-723D5F29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5C3-42BE-46C8-8B60-8D5F4FF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99A-AA0D-484F-BEC0-0960FA95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848-F36F-4100-B7A6-44FD04C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023-2DF0-4F62-8D15-AF7F5DB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3B4-24C8-4417-B694-6700F67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291-8CDA-4C7F-9799-E39B997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8BB-576E-47CD-AF23-6A431A61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2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762120" y="609480"/>
            <a:ext cx="838044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4960" y="117360"/>
            <a:ext cx="66600" cy="669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4960" y="347760"/>
            <a:ext cx="6660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420-CD23-46B0-8E79-F17072C0AAD4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31120"/>
            <a:ext cx="3505320" cy="326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990720"/>
            <a:ext cx="8456760" cy="2211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119160"/>
            <a:ext cx="66960" cy="666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349200"/>
            <a:ext cx="6696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576360"/>
            <a:ext cx="6696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38520" y="6672240"/>
            <a:ext cx="4332600" cy="64800"/>
            <a:chOff x="4538520" y="6672240"/>
            <a:chExt cx="4332600" cy="64800"/>
          </a:xfrm>
        </p:grpSpPr>
        <p:sp>
          <p:nvSpPr>
            <p:cNvPr id="60" name=""/>
            <p:cNvSpPr/>
            <p:nvPr/>
          </p:nvSpPr>
          <p:spPr>
            <a:xfrm>
              <a:off x="4538520" y="6672240"/>
              <a:ext cx="669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4836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5784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6732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716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8664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96120" y="6672240"/>
              <a:ext cx="669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596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80920" y="806400"/>
            <a:ext cx="66960" cy="637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2BD7-228E-4BC2-A7DB-85179BB74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19160" y="35809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ephan Reif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iversity of Glasgow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ttp://www.dcs.gla.ac.uk/~sreiff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reiff@dcs.gla.ac.uk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1" name="shield2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1457280" cy="1724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Modelling a Telecommunications Switch with a Feature Mana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CM: Extract in Promel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447920"/>
            <a:ext cx="87631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s code still uses state information ..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= {offhook, onhook, dial,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dial_tone, ring_tone,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line_error_tone, no_outgoing_calls_tone};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roc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s(byte id)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BC_IDLE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sin[id]?m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assert(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= Fre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);   assert(m.ev != onhook);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m.ev == offhook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 Busy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OFFHOOK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m.ev == i_alert_reque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 Busy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artner = m.param;  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bcs_send_msg(alert, 0, sout[id]);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ALERTED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m.ev == i_connect_request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IDLE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}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S: Promel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447920"/>
            <a:ext cx="89913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s code does not uses state information..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roc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s(byte id)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TCS_1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nempty(tcsin[id]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in[id]?m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m.ev == o_free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=m.to;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2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els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TCS_2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(a == screened1) || (a == screened2)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send_msg(o_inform_screened, id, a, 0, tcsout[id]);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els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}}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ulation: a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676520"/>
            <a:ext cx="0" cy="4647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8" name="msc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029120" cy="4876560"/>
          </a:xfrm>
          <a:prstGeom prst="rect">
            <a:avLst/>
          </a:prstGeom>
          <a:ln w="0">
            <a:noFill/>
          </a:ln>
        </p:spPr>
      </p:pic>
      <p:pic>
        <p:nvPicPr>
          <p:cNvPr id="139" name="msc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4029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availability of state information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 without state information need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ssible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s and the legacy software respond to messag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haviour can be described as event sequences and these can be combined to tre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y of interactions needed that provides detection and resolution mechanisms which operate on these tre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haviour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 Behaviour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638680" y="2286000"/>
          <a:ext cx="301464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0"/>
                    <a:ext cx="301464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33520" y="2286000"/>
          <a:ext cx="4800600" cy="38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48006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715000" y="1905120"/>
            <a:ext cx="0" cy="4038480"/>
          </a:xfrm>
          <a:prstGeom prst="line">
            <a:avLst/>
          </a:prstGeom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565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asic Call Mod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erminating Call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 and 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hievement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 of telephone system develop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for theory of interactions identifi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xt Step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theory of interac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algorithms for feature manag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s pruning of behaviour tree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s choice of best resolu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905120" y="3047760"/>
            <a:ext cx="5790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of 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oint work with Prof. Muffy Calde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: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ybrid Techniques for Detecting and Resolving Feature Interactions in Telecommunication Serv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ners: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versity of Strathclyd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tel (industria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tel (industria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dcs.gla.ac.uk/research/hfig/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of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ature Manage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Why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Mod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 Tre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targ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Interaction - well known proble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Approaches do not take into account specific problems of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yste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nreliable document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mounts of fragile co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yste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working is to be kept secre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detection and resolution mechanism of Marples and Magil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eature Mana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actional na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cepts messages between users and featur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messages are farmed out to all features in parall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messages are only passed to the user once interactions have been resolv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s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olves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ed on theoretical framework: off-line analysis and theory of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05120" y="1600200"/>
          <a:ext cx="563868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63868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ling - Wh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523880"/>
          <a:ext cx="6672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672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3880" y="1523880"/>
          <a:ext cx="6672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672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itial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523880"/>
          <a:ext cx="861048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5T12:12:26Z</dcterms:created>
  <dc:creator>sreiff</dc:creator>
  <dc:description/>
  <dc:language>en-US</dc:language>
  <cp:lastModifiedBy>sreiff</cp:lastModifiedBy>
  <cp:lastPrinted>1999-09-03T12:07:30Z</cp:lastPrinted>
  <dcterms:modified xsi:type="dcterms:W3CDTF">1999-09-03T12:24:18Z</dcterms:modified>
  <cp:revision>35</cp:revision>
  <dc:subject/>
  <dc:title>Modelling a telecommunications Switch with a Feature Manager</dc:title>
</cp:coreProperties>
</file>